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23B6-A609-4BDD-8D65-7EB726E5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0121-1FF0-4074-A776-288AFC15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FE62-30C2-4B00-9F6F-630E2590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1628-E214-4BC2-A4A5-89CBD396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62B7-F83C-4F66-8D22-5DC5AB70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B75D-9FB9-4925-9F94-04351F3E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9381-E229-4318-AECB-09F62B03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51C3-3C2F-482E-99E2-6FD84544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7317-23EC-4F46-AFCF-CC9FC65B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D6BA-CCE4-4ADF-A193-2494E3AE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1050-7297-423D-8AFD-206FFC80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BCD6-3605-4678-AE0D-8E2561A3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A3E6-91AF-429D-BD71-8607319E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AE9F-EDFC-4A8F-BD40-DD97B0D6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53CA-B566-4725-BE39-4C60C865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F90E-0B6A-4AE2-9B80-E482961C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41D3-581B-4E01-A2B4-A2988601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5FD0-C05F-4C8F-90F2-B23BB0E4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674D-A586-4021-BC00-F47FD010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59C-9D62-40C7-8DB9-3251CE39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157-CC64-4CC4-A3C4-A3A90D1B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6D34-41D4-4D04-9688-9D4CF60C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55A2-B00D-4EB5-8ED0-95658BFF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7066-B1B6-48CC-A4BA-B643DDFC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5728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5728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7956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7956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064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49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2398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B0CB-51C0-4C05-B28E-B2F728F617E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0F71-43BA-4ABB-93ED-F844D3EA51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4588-B07A-4C14-AC01-A7CAD2332ED0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AC23-98BB-4037-9046-0F9CC04493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um Cryptogra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din L Cla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E 597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December 20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suring Polar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1600200"/>
            <a:ext cx="438300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phenomenon produces some interesting behavior for cryp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(P) + Prob(-P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2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  Prob(P) = Prob(-P) = 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18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    Prob(P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44560" y="241452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073160" y="26431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216160" y="1956960"/>
            <a:ext cx="0" cy="358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835280" y="2643120"/>
            <a:ext cx="761760" cy="2286000"/>
          </a:xfrm>
          <a:prstGeom prst="line">
            <a:avLst/>
          </a:prstGeom>
          <a:ln w="12600">
            <a:solidFill>
              <a:srgbClr val="ff9900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52760" y="2376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21280" y="47196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8640" y="3919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3920" y="477684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66760" y="160020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3680" y="379080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36960" y="3510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00240" y="4095720"/>
            <a:ext cx="46080" cy="4608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77B1-A14A-49DA-A923-E1E216598E9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EFF9E-1689-46FF-9BD5-868B4FCEC3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ies for Cryptogra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2 conjugate bases, a photon polarized with respect to one and measured in another reveals zero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ac: this loss is permanent; the system “jumps” to a state of the measurement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measurement in the original basis reveals the actual st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374-122F-4D32-A1A5-765D6422A4F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1FFE3-AF9E-4483-84D1-9825F2905B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44560" y="234468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Quantum Cryptogra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600200"/>
            <a:ext cx="438300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bit string composed from 2 distinct quantum alphab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mpossible to retrieve the entire string without knowing the correct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om measurements by an intruder will necessarily alter polarization resulting in err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1160" y="4191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073160" y="25909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216160" y="190512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3680" y="373392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53920" y="47242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36960" y="34606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70000" y="15908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15200" y="39862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,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5720" y="27352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-1,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3728880"/>
            <a:ext cx="2746440" cy="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5400" y="3379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13800" y="20494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3960" y="505296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,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1280" y="33796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-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52680" y="4343400"/>
            <a:ext cx="46080" cy="4608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28880" y="3067200"/>
            <a:ext cx="46080" cy="4572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7080" y="2933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70080" y="1981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79440" y="5000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0320" y="5057640"/>
            <a:ext cx="46080" cy="46080"/>
          </a:xfrm>
          <a:prstGeom prst="ellipse">
            <a:avLst/>
          </a:prstGeom>
          <a:solidFill>
            <a:srgbClr val="ffcf01"/>
          </a:solidFill>
          <a:ln w="3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1760" y="2324160"/>
            <a:ext cx="46080" cy="46080"/>
          </a:xfrm>
          <a:prstGeom prst="ellipse">
            <a:avLst/>
          </a:prstGeom>
          <a:solidFill>
            <a:srgbClr val="ffcf01"/>
          </a:solidFill>
          <a:ln w="3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F401-4E88-4E55-B5F8-940FA24C27D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A5122-10A2-4952-9F0C-3DF7C99077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njugate Cod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tephen Wiesner (late 60’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O ’82: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Quantum Cryptography, or unforgeable subway tok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les H. Bennett, Gilles Brassard: use photons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ansm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stead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193-4402-4BE9-AA7D-5820FA5BF8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3A271-3A30-4674-B40E-086AF55868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um Key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perimental Quantum Cryptograph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Bennett, Bessette, Brassard, Salvail, Smolin (199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Ali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o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gree on a secure random key of arbitrary length potentially for use in a one-time p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AFD4-90CB-4AA6-8CFB-D7CC3A931A8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C6B8E-0AC1-46CF-B3AF-C9AA596C98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 over the Quantum Cha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Reconcil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cy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9AE-2810-4B1A-8C18-E77C3A8D140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0E5AB-D7CD-4808-A003-520369BE9A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Quantum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3276720"/>
            <a:ext cx="304920" cy="30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162240"/>
            <a:ext cx="76320" cy="533520"/>
          </a:xfrm>
          <a:custGeom>
            <a:avLst/>
            <a:gdLst>
              <a:gd name="textAreaLeft" fmla="*/ 9000 w 76320"/>
              <a:gd name="textAreaRight" fmla="*/ 67320 w 76320"/>
              <a:gd name="textAreaTop" fmla="*/ 9000 h 533520"/>
              <a:gd name="textAreaBottom" fmla="*/ 524520 h 533520"/>
            </a:gdLst>
            <a:ahLst/>
            <a:rect l="textAreaLeft" t="textAreaTop" r="textAreaRight" b="textAreaBottom"/>
            <a:pathLst>
              <a:path w="21600" h="150389">
                <a:moveTo>
                  <a:pt x="3600" y="0"/>
                </a:moveTo>
                <a:arcTo wR="3600" hR="3600" stAng="0" swAng="5400000"/>
                <a:lnTo>
                  <a:pt x="0" y="146789"/>
                </a:lnTo>
                <a:arcTo wR="3600" hR="3600" stAng="16200000" swAng="5400000"/>
                <a:lnTo>
                  <a:pt x="18000" y="15038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90920" y="3162240"/>
            <a:ext cx="2286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3162240"/>
            <a:ext cx="2286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0" idx="6"/>
            <a:endCxn id="215" idx="1"/>
          </p:cNvCxnSpPr>
          <p:nvPr/>
        </p:nvCxnSpPr>
        <p:spPr>
          <a:xfrm>
            <a:off x="761760" y="34286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1" idx="3"/>
            <a:endCxn id="212" idx="1"/>
          </p:cNvCxnSpPr>
          <p:nvPr/>
        </p:nvCxnSpPr>
        <p:spPr>
          <a:xfrm>
            <a:off x="2057400" y="34286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2" idx="3"/>
            <a:endCxn id="213" idx="1"/>
          </p:cNvCxnSpPr>
          <p:nvPr/>
        </p:nvCxnSpPr>
        <p:spPr>
          <a:xfrm>
            <a:off x="2819160" y="34286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6705720" y="3200400"/>
            <a:ext cx="676080" cy="457200"/>
          </a:xfrm>
          <a:prstGeom prst="triangle">
            <a:avLst>
              <a:gd name="adj" fmla="val 50000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5"/>
            <a:endCxn id="220" idx="2"/>
          </p:cNvCxnSpPr>
          <p:nvPr/>
        </p:nvCxnSpPr>
        <p:spPr>
          <a:xfrm flipV="1">
            <a:off x="7213680" y="2895120"/>
            <a:ext cx="1016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8" idx="5"/>
            <a:endCxn id="222" idx="2"/>
          </p:cNvCxnSpPr>
          <p:nvPr/>
        </p:nvCxnSpPr>
        <p:spPr>
          <a:xfrm>
            <a:off x="7213680" y="3429000"/>
            <a:ext cx="1016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1523880" y="3162240"/>
            <a:ext cx="304920" cy="5335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3162240"/>
            <a:ext cx="76320" cy="533520"/>
          </a:xfrm>
          <a:custGeom>
            <a:avLst/>
            <a:gdLst>
              <a:gd name="textAreaLeft" fmla="*/ 9000 w 76320"/>
              <a:gd name="textAreaRight" fmla="*/ 67320 w 76320"/>
              <a:gd name="textAreaTop" fmla="*/ 9000 h 533520"/>
              <a:gd name="textAreaBottom" fmla="*/ 524520 h 533520"/>
            </a:gdLst>
            <a:ahLst/>
            <a:rect l="textAreaLeft" t="textAreaTop" r="textAreaRight" b="textAreaBottom"/>
            <a:pathLst>
              <a:path w="21600" h="150389">
                <a:moveTo>
                  <a:pt x="3600" y="0"/>
                </a:moveTo>
                <a:arcTo wR="3600" hR="3600" stAng="0" swAng="5400000"/>
                <a:lnTo>
                  <a:pt x="0" y="146789"/>
                </a:lnTo>
                <a:arcTo wR="3600" hR="3600" stAng="16200000" swAng="5400000"/>
                <a:lnTo>
                  <a:pt x="18000" y="15038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5" idx="3"/>
            <a:endCxn id="223" idx="1"/>
          </p:cNvCxnSpPr>
          <p:nvPr/>
        </p:nvCxnSpPr>
        <p:spPr>
          <a:xfrm>
            <a:off x="1371240" y="342864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3" idx="3"/>
            <a:endCxn id="211" idx="1"/>
          </p:cNvCxnSpPr>
          <p:nvPr/>
        </p:nvCxnSpPr>
        <p:spPr>
          <a:xfrm>
            <a:off x="1828440" y="342864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27" idx="3"/>
            <a:endCxn id="218" idx="1"/>
          </p:cNvCxnSpPr>
          <p:nvPr/>
        </p:nvCxnSpPr>
        <p:spPr>
          <a:xfrm>
            <a:off x="6019560" y="3428640"/>
            <a:ext cx="856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4076640" y="3276720"/>
            <a:ext cx="990720" cy="304560"/>
          </a:xfrm>
          <a:prstGeom prst="flowChartMagneticDrum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3162240"/>
            <a:ext cx="2286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4"/>
            <a:endCxn id="227" idx="1"/>
          </p:cNvCxnSpPr>
          <p:nvPr/>
        </p:nvCxnSpPr>
        <p:spPr>
          <a:xfrm>
            <a:off x="5067000" y="3428640"/>
            <a:ext cx="724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13" idx="3"/>
            <a:endCxn id="228" idx="1"/>
          </p:cNvCxnSpPr>
          <p:nvPr/>
        </p:nvCxnSpPr>
        <p:spPr>
          <a:xfrm>
            <a:off x="3276720" y="3428640"/>
            <a:ext cx="800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8229600" y="2590920"/>
            <a:ext cx="304920" cy="60948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9600" y="3657600"/>
            <a:ext cx="304920" cy="60948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2720" y="4800600"/>
            <a:ext cx="107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ck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2971440" y="380952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029200" y="3809520"/>
            <a:ext cx="8380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2360" y="2422440"/>
            <a:ext cx="196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 air opt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h (~32c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08440" y="249876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lla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72560" y="4267080"/>
            <a:ext cx="204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tomultip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360" y="356544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52520" y="21337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51460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838080" y="38095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2057400" y="38095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2920" y="4556160"/>
            <a:ext cx="10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n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43560" y="4556160"/>
            <a:ext cx="164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145-B8BE-4AE0-9F17-FB92B3D117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AD3D7-EEEB-4586-999D-7E93B65DD3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sends random sequence of 4 types of polarized photons over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uantum chan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horizontal, vertical, right-circular, left-circu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b measures each in a random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full sequence, Bob tells Alice the bases he used over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ublic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informs Bob which bases were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and Bob discard the data from incorrectly measured phot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larization data is converted to a bit string      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 = ↶ = 0 and ↕ = ↷ =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DC8B-3FC7-48D2-9224-191A0DD649F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71C4C-3439-41D2-99BE-CB1FA2D6F7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Protoco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1727280"/>
            <a:ext cx="8458200" cy="398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↶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2413080"/>
            <a:ext cx="8458200" cy="3988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3098880"/>
            <a:ext cx="8458200" cy="3988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↶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3809880"/>
            <a:ext cx="8458200" cy="3988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4495680"/>
            <a:ext cx="8458200" cy="398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5181480"/>
            <a:ext cx="845820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2CB-354B-4E74-A73B-E55636C9400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DB2EE-5D79-4050-A211-56B7D9518D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Reconcili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is compared and errors eliminated by performing parity checks over the public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om string permutations are partitioned into blocks believed to contain 1 error or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sective search is performed on blocks with incorrect parity to eliminate th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ast bit of each block whose parity was exposed is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process is repeated with larger and larger block siz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ends when a number of parity checks of random subsets of the entire string ag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65D0-E2E9-4EE0-8074-239266DC5E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8C1D7-3DC8-47E8-9F39-78B05C47F4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092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s for Quantum Cryptograp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tum Key Distribution (QK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acks on QK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ABF6-2D8D-40CA-A560-EB5F45E53A7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7CEB5-D0E0-43ED-B124-6AFC720BB0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ash func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following class is randomly and publicly chos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its where Eve’s expected deterministic information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its, and an arbitrary security paramet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’s expected information 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be less th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be the final shared key between Alice and B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vacy Ampl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035160" y="2438280"/>
                <a:ext cx="3073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226040" y="4343400"/>
                <a:ext cx="690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B80D-5F08-4782-8260-0755C26AE29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E5165-9F3C-4760-9103-DB7DD93922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acking QK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cept/Resend 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amsplitting 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ing Eve’s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FBE1-250E-4DF0-A85D-A4D77D865F9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B15D7-DAA8-4134-A8A9-8FCDC1B3F7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Eve to determine the value of each bit with probabi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25% of intercepted pulses will generate errors when read by B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rrors are assumed to be the result of intercept/re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nce, a conservative estimate of Eve’s information on the raw quantum transmission (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tected errors)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cept/Resend Att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124080" y="2009880"/>
                <a:ext cx="457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352680" y="5562720"/>
                <a:ext cx="2438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t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B6C-A411-4788-B750-3A7467D5FEE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A844F-BD58-47FE-AA14-75D635A347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rors with Intercept/Res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09480" y="1457280"/>
          <a:ext cx="7925040" cy="486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57280"/>
                    <a:ext cx="792504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E336-8AC6-4EFD-A5C5-0B5E85218E2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69462-6693-4BF6-97E2-ADF7555130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amsplitting Att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lly, each pulse sent by Alice would consist of exactly 1 phot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expected photons per pulse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 is able to learn a constant fraction of the bits by splitting a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ulses, the number of bits lost to Eve through beamsplitting is estimated to be less th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429000" y="4546440"/>
                <a:ext cx="2286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μ</m:t>
                    </m:r>
                    <m:r>
                      <m:t xml:space="preserve">+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μ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0E4-C273-43F0-A95D-1B4A95E97D5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29F28-DFC7-453A-9C8D-458E467BD4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imating Eve’s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bit error ra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pulse intenst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 is expected to learn a fraction of the raw ke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and Bob can estimate the number of leaked bits and use this to eliminate Eve’s information in the privacy amplification s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772080" y="2438280"/>
                <a:ext cx="1600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33720" y="4572000"/>
                <a:ext cx="4876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Nρ</m:t>
                    </m:r>
                    <m:r>
                      <m:t xml:space="preserve">+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C01-1F45-4D5F-BD47-02A83DC705D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3BA84-9786-4B40-8292-A188D7022E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rotoc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tum Oblivious 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tein-Podolsky-Rosen (EPR) eff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19B-D2E2-488C-8E34-9151F29B5BF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F2A32-5D25-44BD-81F7-0AFC2EA8BB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re for privacy in the face of unlimited computing po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cryptographic schemes based on unproven mathematical principles like the existence of a practical trapdoor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’s quantum factoring algorithm could break RSA in polynomi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um cryptography realizable with current technolog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6959-2275-4EDF-AF59-97F18B7CE4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D53D0-13D3-4D5A-8296-ABA869272B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ot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tons are the discrete bundles of energy that make up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electromagnetic waves with electric and magnetic fields represented by vectors perpendicular both to each other and the direction of tra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ehavior of the electric field vector determines the polarization of a phot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2C5-67CE-4F09-8FC5-43B0F180A9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E7F8F-7641-4BFE-B85F-1F78A202D3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ariz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ine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arization is always parallel to a fixed line, e.g.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ctiline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iag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ar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ircul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arization creates a circle around the axis of tra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lliptic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arizations exist in betwe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CA7-A60C-4F5D-B5C1-28F7B816F1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6328B-B4A6-4841-9EED-11239926CF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oinca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Sphe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43830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resting on the surface of the unit sphere represents a valid polarization state for a phot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x, y, and z axes represent the rectilinear, diagonal, and circular polarizations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028880" y="5765760"/>
                <a:ext cx="2361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844560" y="234468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073160" y="25909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216160" y="190512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3680" y="373392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53920" y="47242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36960" y="34606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70000" y="15908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595520" y="3093840"/>
            <a:ext cx="1262160" cy="12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15200" y="39862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,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5720" y="27352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-1,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728880"/>
            <a:ext cx="2746440" cy="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85400" y="3379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212920" y="2360520"/>
            <a:ext cx="324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13800" y="20494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3960" y="505296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,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1280" y="33796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-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795-7C8E-4CD9-A73A-EBA85E0BB8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8EA47-E10A-4BE5-930F-22197F7106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43830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metrically opposed points on the surface of the sphere form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, {P,-P} and {Q,-Q} represent b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s correspond to measurable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jug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ases are separated by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4560" y="241452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073160" y="26431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216160" y="1956960"/>
            <a:ext cx="0" cy="358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15880" y="3443400"/>
            <a:ext cx="1600200" cy="685800"/>
          </a:xfrm>
          <a:prstGeom prst="line">
            <a:avLst/>
          </a:prstGeom>
          <a:ln w="12600">
            <a:solidFill>
              <a:srgbClr val="ff0000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35280" y="2643120"/>
            <a:ext cx="761760" cy="2286000"/>
          </a:xfrm>
          <a:prstGeom prst="line">
            <a:avLst/>
          </a:prstGeom>
          <a:ln w="12600">
            <a:solidFill>
              <a:srgbClr val="ff9900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2760" y="2376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1280" y="47196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8640" y="3919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56520" y="3186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53920" y="477684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66760" y="160020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3680" y="379080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36960" y="3510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0BB8-1105-456B-8973-1BBAE90A13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D7E44-7CD1-4A42-89C6-D6E233FE98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um Uncertain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um mechanics is simply the study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mall th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isenburg’s uncertainty principle places limits on the certainty of measurements on quantum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herent uncertainties are expressed as prob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8C9-DCEA-42F1-AF91-9D9ACB05AD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D192F-B9E8-4D9E-BA86-F67C2470DB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suring Polar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844560" y="241452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073160" y="26431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216160" y="1956960"/>
            <a:ext cx="0" cy="358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35280" y="2643120"/>
            <a:ext cx="761760" cy="2286000"/>
          </a:xfrm>
          <a:prstGeom prst="line">
            <a:avLst/>
          </a:prstGeom>
          <a:ln w="12600">
            <a:solidFill>
              <a:srgbClr val="ff9900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52760" y="2376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21280" y="47196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8640" y="3919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3920" y="477684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66760" y="160020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3680" y="379080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6960" y="3510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600200"/>
            <a:ext cx="4572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photon in state Q, measured by {P,-P}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angle between P and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behaves as P with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86400" y="5519880"/>
                <a:ext cx="253836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486400" y="3657600"/>
                <a:ext cx="25909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4572000" y="4648320"/>
            <a:ext cx="4381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behaves as -P with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00240" y="4095720"/>
            <a:ext cx="46080" cy="4608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399-AE86-4148-BCFC-9C4EDE18605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0E0B3-76E7-4D1C-9C94-E9CF093027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18:11:32Z</dcterms:created>
  <dc:creator>lorax</dc:creator>
  <dc:description/>
  <dc:language>en-US</dc:language>
  <cp:lastModifiedBy>lorax</cp:lastModifiedBy>
  <dcterms:modified xsi:type="dcterms:W3CDTF">2001-12-03T17:29:23Z</dcterms:modified>
  <cp:revision>21</cp:revision>
  <dc:subject/>
  <dc:title>PowerPoint Presentation</dc:title>
</cp:coreProperties>
</file>