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64F-339F-4E13-B838-EAF04AD3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C3F-482B-4783-A205-701708A8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C53-A4B5-4FAD-A606-30BD0AB0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5F7-9F53-49AC-801F-2F8B8BC7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3213-03E6-4837-8DDD-48A6184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325F-65EE-4EA2-A73F-42B8DC14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1ED-CF1E-4468-8F02-441EE515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C92-BEBD-42C4-8F43-9D93D0F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EA7F-BC54-42D1-A96E-A214B9D2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34CC-B0B5-4F2D-8DD4-857A683D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2A5A-A350-4EC6-806F-13CCD16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926-C667-4A59-A332-2F647F2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88BD-1C55-4BA4-984C-861B3B0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96C-61C9-48B9-B1D0-082B6EB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E96-A065-40DC-884C-BA657C8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8AF8-65A7-48CB-8E01-DBB9CAA5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F51B-24E1-442E-AD24-52F71ECF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DB8-AE4D-4F2F-AA19-615F108E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6EE-A2F7-43F8-8B0E-A84A68A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330-06B7-4B27-925D-5FBADE5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049-4EF5-4D6E-AA86-072DFD0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6F9-777B-4887-AFEE-786FA3D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70C-69F5-4217-964D-3C12821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3F6-4A92-415D-B2B1-AB88E0F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7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7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79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79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6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49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39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ACA8-5D6D-4045-8D35-C5A02CB3A04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B5B5-0599-42D8-95E1-B7E984EB07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0390-683E-4785-96A0-3D06A8C47317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5FC-2862-4CE2-BC85-178EEC0539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din L Cl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E 597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ecember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henomenon produces some interesting behavior for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(P) + Prob(-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2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Prob(P) = Prob(-P) =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  Prob(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8CB-1879-41C0-AA77-630EF26C63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EC2CA-B16A-4874-867D-8B4814EB5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for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2 conjugate bases, a photon polarized with respect to one and measured in another reveals zero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ac: this loss is permanent; the system “jumps” to a state of the measurement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measurement in the original basis reveals the actual st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CC4-4D61-473A-9320-C7B1BEA25C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10649-F66D-42BB-A466-F31F9F901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bit string composed from 2 distinct quantum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retrieve the entire string without knowing the correct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measurements by an intruder will necessarily alter polarization resulting in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116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434340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3067200"/>
            <a:ext cx="46080" cy="457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7080" y="29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008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94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0320" y="505764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1760" y="232416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20D-8638-455E-A926-A894563406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AF8F4-8761-4AF4-873A-8BBA8669B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jugate 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ephen Wiesner (late 60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O ’82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ntum Cryptography, or unforgeable subway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s H. Bennett, Gilles Brassard: use photon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8A0-625A-4F8A-955E-CC7A7D1465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A6AAF-4987-492C-B7BA-F3E60CF4F6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Key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mental Quantum Cryptograph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ennett, Bessette, Brassard, Salvail, Smolin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l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gree on a secure random key of arbitrary length potentially for use in a one-time p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1BD-AB00-4939-B3FC-166F353E3A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82527-AA39-4603-8576-62E153750A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over the Quantum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Reconcil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145-6E21-4FC9-8919-63523F97F4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D0826-4B5C-45EC-B2F2-FB1D53A6C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antum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767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6"/>
            <a:endCxn id="215" idx="1"/>
          </p:cNvCxnSpPr>
          <p:nvPr/>
        </p:nvCxnSpPr>
        <p:spPr>
          <a:xfrm>
            <a:off x="761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2057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281916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705720" y="3200400"/>
            <a:ext cx="676080" cy="457200"/>
          </a:xfrm>
          <a:prstGeom prst="triangle">
            <a:avLst>
              <a:gd name="adj" fmla="val 50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5"/>
            <a:endCxn id="220" idx="2"/>
          </p:cNvCxnSpPr>
          <p:nvPr/>
        </p:nvCxnSpPr>
        <p:spPr>
          <a:xfrm flipV="1">
            <a:off x="7213680" y="289512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8" idx="5"/>
            <a:endCxn id="222" idx="2"/>
          </p:cNvCxnSpPr>
          <p:nvPr/>
        </p:nvCxnSpPr>
        <p:spPr>
          <a:xfrm>
            <a:off x="7213680" y="342900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523880" y="3162240"/>
            <a:ext cx="304920" cy="533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3"/>
            <a:endCxn id="223" idx="1"/>
          </p:cNvCxnSpPr>
          <p:nvPr/>
        </p:nvCxnSpPr>
        <p:spPr>
          <a:xfrm>
            <a:off x="13712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1" idx="1"/>
          </p:cNvCxnSpPr>
          <p:nvPr/>
        </p:nvCxnSpPr>
        <p:spPr>
          <a:xfrm>
            <a:off x="18284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7" idx="3"/>
            <a:endCxn id="218" idx="1"/>
          </p:cNvCxnSpPr>
          <p:nvPr/>
        </p:nvCxnSpPr>
        <p:spPr>
          <a:xfrm>
            <a:off x="6019560" y="3428640"/>
            <a:ext cx="85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076640" y="3276720"/>
            <a:ext cx="990720" cy="3045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4"/>
            <a:endCxn id="227" idx="1"/>
          </p:cNvCxnSpPr>
          <p:nvPr/>
        </p:nvCxnSpPr>
        <p:spPr>
          <a:xfrm>
            <a:off x="5067000" y="342864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8" idx="1"/>
          </p:cNvCxnSpPr>
          <p:nvPr/>
        </p:nvCxnSpPr>
        <p:spPr>
          <a:xfrm>
            <a:off x="3276720" y="3428640"/>
            <a:ext cx="80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29600" y="259092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365760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720" y="4800600"/>
            <a:ext cx="10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971440" y="3809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29200" y="38095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2360" y="242244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air op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(~32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8440" y="24987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lla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72560" y="42670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" y="356544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52520" y="21337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5146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574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920" y="45561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3560" y="455616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D0F-8EA6-4B3C-8CC3-A510640BAD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DF0B2-D9FE-45F2-8D22-08A9E1EA96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sends random sequence of 4 types of polarized photons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chan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orizontal, vertical, right-circular, left-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measures each in a random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ull sequence, Bob tells Alice the bases he used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informs Bob which bases were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discard the data from incorrectly measured pho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larization data is converted to a bit string      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 = ↶ = 0 and ↕ = ↷ 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C38-B575-4E69-9A66-CD6487E810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28728-88F4-449F-AD2D-88766379D9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7272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130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98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9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4956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F3D-E1F0-4D4F-A344-1E9AD94F34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4AFE4-85D6-46F5-8758-EF83A28E1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Reconcil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s compared and errors eliminated by performing parity checks over the 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string permutations are partitioned into blocks believed to contain 1 error or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sective search is performed on blocks with incorrect parity to eliminate th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st bit of each block whose parity was exposed is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ocess is repeated with larger and larger block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ends when a number of parity checks of random subsets of the entire string ag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565-690E-4538-A289-FAC94A0E92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94806-2D4A-4483-8115-7B4DB5B1F7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0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 for Quantum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Key Distribution (QK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s on QK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8CA-376D-49A0-BEE9-0DC0198AB6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324F4-C933-409B-BCA0-5174868A04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following class is randomly and publicly chos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 where Eve’s expected deterministic information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, and an arbitrary securit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’s expected information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less t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the final shared key between Alice and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vacy A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35160" y="2438280"/>
                <a:ext cx="307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26040" y="4343400"/>
                <a:ext cx="69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E95-6172-4CEA-A9F9-B3CA3166A4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18410-8D29-4693-8017-760C9E3C3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ing QK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/Resend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splitt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Eve’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360-4C6A-4AC8-AE8A-1C7521382BE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194C-0AE3-4899-872C-469A51A45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ve to determine the value of each bit with prob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25% of intercepted pulses will generate errors when read by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rrors are assumed to be the result of intercept/re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a conservative estimate of Eve’s information on the raw quantum transmission (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cted errors)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cept/Resend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200988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2680" y="5562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191-C490-45A8-99DB-A46A7E755B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D76F6-CA7D-4FB4-ACDC-1DB6654072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s with Intercept/Res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457280"/>
          <a:ext cx="792504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7280"/>
                    <a:ext cx="79250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C9F-6C70-4901-AA62-6BC804C26C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0B1A6-0A71-42A0-A135-8622B0D1A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msplit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, each pulse sent by Alice would consist of exactly 1 ph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expected photons per pulse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 is able to learn a constant fraction of the bits by splitting a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lses, the number of bits lost to Eve through beamsplitting is estimated to be less th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429000" y="454644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μ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8F0-EAD0-4686-9054-A85981782A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8D195-3FA7-4E2F-85CE-D4F8F22313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Eve’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bit error ra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pulse intenst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 is expected to learn a fraction of the raw ke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can estimate the number of leaked bits and use this to eliminate Eve’s information in the privacy amplification s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72080" y="2438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572000"/>
                <a:ext cx="487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ρ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1A1-C6CB-40BE-9D36-33C100B3E4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8A170-1F4A-4FF4-86B8-45D61A47C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Oblivious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tein-Podolsky-Rosen (EPR)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8E7-D62E-4F32-A1EA-828B17AADC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5915C-79D2-4540-91D7-D0900BEF9C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 for privacy in the face of unlimited compu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cryptographic schemes based on unproven mathematical principles like the existence of a practical trapdoo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’s quantum factoring algorithm could break RSA in polynomi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cryptography realizable with current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E93-C2EC-4316-922C-C0AD7BED3D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FA968-EBBF-4FB8-A94A-5DF3B40C5B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ns are the discrete bundles of energy that make up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electromagnetic waves with electric and magnetic fields represented by vectors perpendicular both to each other and the direction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havior of the electric field vector determines the polarization of a phot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04F-FD53-4D5F-A40F-5F179C1B13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70272-CEC0-4AA4-89C9-C64CECE0A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is always parallel to a fixed line, e.g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ti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creates a circle around the axis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 exist in betw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488-CFF6-4178-A843-0124ABFCAA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C60C9-F55C-4CB2-B5CC-08BD6D1189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ca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p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resting on the surface of the unit sphere represents a valid polarization state for a phot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x, y, and z axes represent the rectilinear, diagonal, and circular polarization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28880" y="5765760"/>
                <a:ext cx="2361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95520" y="3093840"/>
            <a:ext cx="1262160" cy="12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12920" y="2360520"/>
            <a:ext cx="324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7E4-2B0A-4720-B493-9C9A616F6C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ED1A9-2EE7-49FE-8A49-0780671BD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metrically opposed points on the surface of the sphere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, {P,-P} and {Q,-Q} represent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correspond to measur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jug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s are separated by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3443400"/>
            <a:ext cx="1600200" cy="6858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6520" y="3186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736-1D7D-4D6E-B83F-9303ED277C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C715C-CFFF-4558-B582-D65901004F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mechanics is simply the stud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senburg’s uncertainty principle places limits on the certainty of measurements on quantum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ent uncertainties are expressed as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79D-B73D-44C5-950E-B3AF3DC45F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71716-B567-4242-98C0-712BD3E07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photon in state Q, measured by {P,-P}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ngle between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6400" y="5519880"/>
                <a:ext cx="2538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86400" y="3657600"/>
                <a:ext cx="2590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0" y="4648320"/>
            <a:ext cx="43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-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C89-15AD-4EC9-ADBB-E4756FF143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95514-7761-4629-AB77-0AF0FDD08F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8:11:32Z</dcterms:created>
  <dc:creator>lorax</dc:creator>
  <dc:description/>
  <dc:language>en-US</dc:language>
  <cp:lastModifiedBy>lorax</cp:lastModifiedBy>
  <dcterms:modified xsi:type="dcterms:W3CDTF">2001-12-03T17:29:23Z</dcterms:modified>
  <cp:revision>21</cp:revision>
  <dc:subject/>
  <dc:title>PowerPoint Presentation</dc:title>
</cp:coreProperties>
</file>