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8DE-2A55-4438-ABBB-16CAC400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A2E-5ED6-40B5-BBF0-10A07176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AE8-08E2-4A57-8479-78C67B17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FB5-F37B-4EB0-AE73-5327B998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AC30-1A7D-4CD9-9D3A-66722F96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D0DC-6C17-4732-91FB-74C848DC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79AE-4CB2-4FA4-86A9-D9CC6FCC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B845-3B10-4242-A2F3-1FE0B74E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E6FA-61FB-4A1D-AD77-A5721FA2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BC14-FA4F-4039-A4A4-9838CED3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66C5-DF14-47A2-A113-319229BB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2E2-A7A8-4BDA-8CAE-9CB005BC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58A0-F8EF-45B7-A673-0AE4A410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1A78-3C1D-4741-A875-462E9504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963C-B901-44DB-9FCD-CB456634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E7CE-FB5A-43C0-9943-64D32EB2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3C73-EAC2-4A4D-B383-ABC63399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99D-F708-4D08-817B-0112DD74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91B-4447-4977-A799-4B2B194F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9E3-EBF6-4EC2-952D-752E0E01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905-7D21-4158-A599-59C2AADC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9A8-23BB-4D44-A324-30DA179F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F6D-8E51-46AA-BA5A-27DB47D0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8CD7-CC03-4EBE-8939-F47C38E8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5728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5728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7956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7956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06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49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398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704B-CBF1-46C2-960E-E128AA62DDB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10DD-9435-4E58-B7DF-524A79BEE9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4456-8723-4903-83AD-7EB35441CE6C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F6C1-36DA-4D60-A891-6480416C09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din L Cl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E 597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December 2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suring Polar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phenomenon produces some interesting behavior for cryp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(P) + Prob(-P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2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  Prob(P) = Prob(-P) = 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    Prob(P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00240" y="409572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A4D-FB85-42A3-BA8E-DF12875C4E2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BFC58-E482-48E0-860C-79FA1356CB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for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2 conjugate bases, a photon polarized with respect to one and measured in another reveals zero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ac: this loss is permanent; the system “jumps” to a state of the measurement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measurement in the original basis reveals the actual st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93E-3AD3-4AC8-8FCB-AF14B8187D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E28DC-E1F3-470F-BAAC-CAD50D192B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44560" y="234468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Quantum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bit string composed from 2 distinct quantum alphab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mpossible to retrieve the entire string without knowing the correct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measurements by an intruder will necessarily alter polarization resulting in err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1160" y="4191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073160" y="25909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16160" y="190512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3680" y="373392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3920" y="4724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36960" y="34606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70000" y="15908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15200" y="39862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5720" y="27352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-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3728880"/>
            <a:ext cx="274644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5400" y="3379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13800" y="20494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3960" y="5052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1280" y="33796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-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52680" y="434340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28880" y="3067200"/>
            <a:ext cx="46080" cy="4572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7080" y="2933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70080" y="198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79440" y="5000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0320" y="5057640"/>
            <a:ext cx="46080" cy="46080"/>
          </a:xfrm>
          <a:prstGeom prst="ellipse">
            <a:avLst/>
          </a:prstGeom>
          <a:solidFill>
            <a:srgbClr val="ffcf01"/>
          </a:solidFill>
          <a:ln w="3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1760" y="2324160"/>
            <a:ext cx="46080" cy="46080"/>
          </a:xfrm>
          <a:prstGeom prst="ellipse">
            <a:avLst/>
          </a:prstGeom>
          <a:solidFill>
            <a:srgbClr val="ffcf01"/>
          </a:solidFill>
          <a:ln w="3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807-1489-4661-9A02-EA4D4D246EE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4E352-7AAD-4128-972B-5955A89B00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jugate Cod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tephen Wiesner (late 60’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O ’82: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antum Cryptography, or unforgeable subway to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les H. Bennett, Gilles Brassard: use photons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ansm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tead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A3D-E980-4B0D-BEEF-59E24A05F1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6DD2E-B153-48D7-A613-7A99A17496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Key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erimental Quantum Cryptograph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Bennett, Bessette, Brassard, Salvail, Smolin (199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Al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o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gree on a secure random key of arbitrary length potentially for use in a one-time p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FEA9-85AB-4E17-9E23-7C7AC6694E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10CD4-9E15-468C-8971-3EDE604D24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over the Quantum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Reconcil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cy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9DC-34DC-419C-AEA1-F391A2B945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4C67A-3187-4407-A0FC-16FCAA538E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Quantum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276720"/>
            <a:ext cx="30492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162240"/>
            <a:ext cx="76320" cy="533520"/>
          </a:xfrm>
          <a:custGeom>
            <a:avLst/>
            <a:gdLst>
              <a:gd name="textAreaLeft" fmla="*/ 9000 w 76320"/>
              <a:gd name="textAreaRight" fmla="*/ 67320 w 76320"/>
              <a:gd name="textAreaTop" fmla="*/ 9000 h 533520"/>
              <a:gd name="textAreaBottom" fmla="*/ 524520 h 533520"/>
            </a:gdLst>
            <a:ahLst/>
            <a:rect l="textAreaLeft" t="textAreaTop" r="textAreaRight" b="textAreaBottom"/>
            <a:pathLst>
              <a:path w="21600" h="150389">
                <a:moveTo>
                  <a:pt x="3600" y="0"/>
                </a:moveTo>
                <a:arcTo wR="3600" hR="3600" stAng="0" swAng="5400000"/>
                <a:lnTo>
                  <a:pt x="0" y="146789"/>
                </a:lnTo>
                <a:arcTo wR="3600" hR="3600" stAng="16200000" swAng="5400000"/>
                <a:lnTo>
                  <a:pt x="18000" y="1503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0" idx="6"/>
            <a:endCxn id="215" idx="1"/>
          </p:cNvCxnSpPr>
          <p:nvPr/>
        </p:nvCxnSpPr>
        <p:spPr>
          <a:xfrm>
            <a:off x="761760" y="34286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1" idx="3"/>
            <a:endCxn id="212" idx="1"/>
          </p:cNvCxnSpPr>
          <p:nvPr/>
        </p:nvCxnSpPr>
        <p:spPr>
          <a:xfrm>
            <a:off x="2057400" y="34286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2" idx="3"/>
            <a:endCxn id="213" idx="1"/>
          </p:cNvCxnSpPr>
          <p:nvPr/>
        </p:nvCxnSpPr>
        <p:spPr>
          <a:xfrm>
            <a:off x="2819160" y="34286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6705720" y="3200400"/>
            <a:ext cx="676080" cy="457200"/>
          </a:xfrm>
          <a:prstGeom prst="triangle">
            <a:avLst>
              <a:gd name="adj" fmla="val 5000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5"/>
            <a:endCxn id="220" idx="2"/>
          </p:cNvCxnSpPr>
          <p:nvPr/>
        </p:nvCxnSpPr>
        <p:spPr>
          <a:xfrm flipV="1">
            <a:off x="7213680" y="2895120"/>
            <a:ext cx="101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8" idx="5"/>
            <a:endCxn id="222" idx="2"/>
          </p:cNvCxnSpPr>
          <p:nvPr/>
        </p:nvCxnSpPr>
        <p:spPr>
          <a:xfrm>
            <a:off x="7213680" y="3429000"/>
            <a:ext cx="101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1523880" y="3162240"/>
            <a:ext cx="304920" cy="5335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3162240"/>
            <a:ext cx="76320" cy="533520"/>
          </a:xfrm>
          <a:custGeom>
            <a:avLst/>
            <a:gdLst>
              <a:gd name="textAreaLeft" fmla="*/ 9000 w 76320"/>
              <a:gd name="textAreaRight" fmla="*/ 67320 w 76320"/>
              <a:gd name="textAreaTop" fmla="*/ 9000 h 533520"/>
              <a:gd name="textAreaBottom" fmla="*/ 524520 h 533520"/>
            </a:gdLst>
            <a:ahLst/>
            <a:rect l="textAreaLeft" t="textAreaTop" r="textAreaRight" b="textAreaBottom"/>
            <a:pathLst>
              <a:path w="21600" h="150389">
                <a:moveTo>
                  <a:pt x="3600" y="0"/>
                </a:moveTo>
                <a:arcTo wR="3600" hR="3600" stAng="0" swAng="5400000"/>
                <a:lnTo>
                  <a:pt x="0" y="146789"/>
                </a:lnTo>
                <a:arcTo wR="3600" hR="3600" stAng="16200000" swAng="5400000"/>
                <a:lnTo>
                  <a:pt x="18000" y="1503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5" idx="3"/>
            <a:endCxn id="223" idx="1"/>
          </p:cNvCxnSpPr>
          <p:nvPr/>
        </p:nvCxnSpPr>
        <p:spPr>
          <a:xfrm>
            <a:off x="1371240" y="34286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3" idx="3"/>
            <a:endCxn id="211" idx="1"/>
          </p:cNvCxnSpPr>
          <p:nvPr/>
        </p:nvCxnSpPr>
        <p:spPr>
          <a:xfrm>
            <a:off x="1828440" y="34286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7" idx="3"/>
            <a:endCxn id="218" idx="1"/>
          </p:cNvCxnSpPr>
          <p:nvPr/>
        </p:nvCxnSpPr>
        <p:spPr>
          <a:xfrm>
            <a:off x="6019560" y="3428640"/>
            <a:ext cx="856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4076640" y="3276720"/>
            <a:ext cx="990720" cy="304560"/>
          </a:xfrm>
          <a:prstGeom prst="flowChartMagneticDrum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4"/>
            <a:endCxn id="227" idx="1"/>
          </p:cNvCxnSpPr>
          <p:nvPr/>
        </p:nvCxnSpPr>
        <p:spPr>
          <a:xfrm>
            <a:off x="5067000" y="3428640"/>
            <a:ext cx="724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3" idx="3"/>
            <a:endCxn id="228" idx="1"/>
          </p:cNvCxnSpPr>
          <p:nvPr/>
        </p:nvCxnSpPr>
        <p:spPr>
          <a:xfrm>
            <a:off x="3276720" y="3428640"/>
            <a:ext cx="800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8229600" y="2590920"/>
            <a:ext cx="304920" cy="60948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3657600"/>
            <a:ext cx="304920" cy="60948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2720" y="4800600"/>
            <a:ext cx="10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c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971440" y="380952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029200" y="38095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2360" y="2422440"/>
            <a:ext cx="196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air opt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h (~32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08440" y="249876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lla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72560" y="4267080"/>
            <a:ext cx="204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tomulti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360" y="356544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52520" y="21337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5146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83808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05740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2920" y="455616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n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43560" y="4556160"/>
            <a:ext cx="16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DD6-7199-44A0-B04F-FBB8D5970E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C23D9-C087-4248-827A-F31447E841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sends random sequence of 4 types of polarized photons over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uantum chan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horizontal, vertical, right-circular, left-circ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b measures each in a random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ull sequence, Bob tells Alice the bases he used over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ublic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informs Bob which bases were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and Bob discard the data from incorrectly measured phot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larization data is converted to a bit string      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 = ↶ = 0 and ↕ = ↷ =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E32-CBE3-4E0F-B6A8-0E09610A42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63A7D-E220-4D32-93FF-78D17F9ED0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Protoco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727280"/>
            <a:ext cx="845820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24130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30988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8098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4495680"/>
            <a:ext cx="845820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5181480"/>
            <a:ext cx="845820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422-3155-49BC-97C6-07953A5CAA0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4BC60-026D-4F59-8F5C-AF825D355A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Reconcili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s compared and errors eliminated by performing parity checks over the public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string permutations are partitioned into blocks believed to contain 1 error or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sective search is performed on blocks with incorrect parity to eliminate th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ast bit of each block whose parity was exposed is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process is repeated with larger and larger block si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ends when a number of parity checks of random subsets of the entire string ag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1F2-3A89-42C6-ABFA-177B52A65A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063A6-D050-45A5-B01C-1B1B9314FA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092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s for Quantum Crypt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um Key Distribution (QK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acks on QK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BB5-70D9-474B-8769-DBA73401BB9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2CC3C-1AAE-4A53-9019-62AE2BE4B9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func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following class is randomly and publicly chos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s where Eve’s expected deterministic information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s, and an arbitrary security paramet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’s expected information 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be less th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be the final shared key between Alice and B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vacy Ampl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035160" y="2438280"/>
                <a:ext cx="3073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226040" y="4343400"/>
                <a:ext cx="69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4EF-A8DE-4939-8298-B92BE1AC53A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603B1-2BE5-4D62-AA98-6EF813EE5A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acking QK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cept/Resend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splitting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ing Eve’s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661-A3A9-49C4-9350-2613538EF8E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8FA5E-87E6-47B8-937E-9FFE4B3F6A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Eve to determine the value of each bit with proba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25% of intercepted pulses will generate errors when read by B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rrors are assumed to be the result of intercept/re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, a conservative estimate of Eve’s information on the raw quantum transmission (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tected errors)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cept/Resend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124080" y="2009880"/>
                <a:ext cx="4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352680" y="5562720"/>
                <a:ext cx="2438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t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9A3-C9B2-47E3-A52C-6F6B8ECEC3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D90ED-AB77-4997-B8D2-F1C2D3BB6A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rors with Intercept/Res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9480" y="1457280"/>
          <a:ext cx="7925040" cy="486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57280"/>
                    <a:ext cx="792504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C52-9435-4B18-92A2-8C7D0379F22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7E847-EC35-4A2D-B616-38CA4FB374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amsplitting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lly, each pulse sent by Alice would consist of exactly 1 pho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expected photons per pulse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 is able to learn a constant fraction of the bits by splitting a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lses, the number of bits lost to Eve through beamsplitting is estimated to be less th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429000" y="4546440"/>
                <a:ext cx="2286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μ</m:t>
                    </m:r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9C8-4D9D-435E-B267-82816B6A75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F19D6-4E61-46DA-A2E5-06B7DF8C46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imating Eve’s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bit error ra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pulse intenst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 is expected to learn a fraction of the raw ke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and Bob can estimate the number of leaked bits and use this to eliminate Eve’s information in the privacy amplification s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72080" y="2438280"/>
                <a:ext cx="1600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33720" y="4572000"/>
                <a:ext cx="4876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Nρ</m:t>
                    </m:r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A3F-68C6-4EB9-B178-46816593FC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BFB86-51BF-4742-96D2-37CF9B503E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rotoc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um Oblivious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tein-Podolsky-Rosen (EPR) eff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94C-AD56-4BAB-A554-23753962177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DFFB4-4D22-4B67-B0B2-5E0155010E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re for privacy in the face of unlimited computing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cryptographic schemes based on unproven mathematical principles like the existence of a practical trapdoor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’s quantum factoring algorithm could break RSA in polynomi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um cryptography realizable with current technolog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46D-2CB1-461E-A642-D1B96ACD8F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738D4-E2E5-49D7-A729-F3D60E547C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ot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tons are the discrete bundles of energy that make up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electromagnetic waves with electric and magnetic fields represented by vectors perpendicular both to each other and the direction of tra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ehavior of the electric field vector determines the polarization of a phot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7AC-0960-44C2-BCC1-26CE92532E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C5F63-DCD3-4826-AC4C-418E8514D7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riz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ine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 is always parallel to a fixed line, e.g.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tiline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ag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ircul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 creates a circle around the axis of tra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llipt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s exist in betw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424-ABE3-4402-B3C6-5CCD45D79C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4F6B9-21CA-4A2E-8FDA-31BA324799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oinca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ph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resting on the surface of the unit sphere represents a valid polarization state for a phot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x, y, and z axes represent the rectilinear, diagonal, and circular polarizations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28880" y="5765760"/>
                <a:ext cx="2361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844560" y="234468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073160" y="25909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16160" y="190512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3680" y="373392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3920" y="4724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36960" y="34606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0000" y="15908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595520" y="3093840"/>
            <a:ext cx="1262160" cy="12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15200" y="39862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5720" y="27352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-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728880"/>
            <a:ext cx="274644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85400" y="3379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12920" y="2360520"/>
            <a:ext cx="324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13800" y="20494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3960" y="5052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1280" y="33796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-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1AE-970E-4505-9A86-38D6D0CDF7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5E005-BE04-4937-A280-77EECE03B4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metrically opposed points on the surface of the sphere form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, {P,-P} and {Q,-Q} represent 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s correspond to measurable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jug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ses are separated by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15880" y="3443400"/>
            <a:ext cx="1600200" cy="68580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56520" y="3186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EF2-67C3-41E9-93C5-9ECB764025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9BAA7-8A91-4198-9D28-8004ED1A9F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Uncertain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um mechanics is simply the study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mall th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isenburg’s uncertainty principle places limits on the certainty of measurements on quantum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herent uncertainties are expressed as prob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292-3899-4A7D-A6AB-A3C77ADA57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E4026-C844-42FC-8BD9-80514464E6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suring Polar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600200"/>
            <a:ext cx="4572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photon in state Q, measured by {P,-P}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angle between P and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behaves as P wit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86400" y="5519880"/>
                <a:ext cx="253836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486400" y="3657600"/>
                <a:ext cx="25909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572000" y="4648320"/>
            <a:ext cx="4381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behaves as -P wit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00240" y="409572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D06-BB4E-4138-A715-550A4169C81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C51F4-FF19-4D5C-B35E-A3AF031611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18:11:32Z</dcterms:created>
  <dc:creator>lorax</dc:creator>
  <dc:description/>
  <dc:language>en-US</dc:language>
  <cp:lastModifiedBy>lorax</cp:lastModifiedBy>
  <dcterms:modified xsi:type="dcterms:W3CDTF">2001-12-03T17:29:23Z</dcterms:modified>
  <cp:revision>21</cp:revision>
  <dc:subject/>
  <dc:title>PowerPoint Presentation</dc:title>
</cp:coreProperties>
</file>