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8006B-CA2C-4688-AE5F-EE90F30BC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DC69-FCF2-4463-BE7E-2AB4E119D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4363A-4CBD-476A-82A7-6DBB8CF64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C431C-8F09-44DB-BD83-EBB77A7B8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E3976-0838-4815-A9B3-42648987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D6C5-EE9C-449E-906F-BB291D938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D8011-6C44-4C60-B480-C417D586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27EB-5EC2-469C-B15A-581260480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C580-E507-4F06-A354-A39EAC548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7285-0D45-405C-B6A9-48C37281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6541-E9BB-47C3-BCA3-574BC3C6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5FB3-0485-4FA7-9A4E-86C7BD9B3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8B4E-5311-4C06-8F58-3E114A591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 Random and Random Number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vek Bhatnagar and              Chaitanya Cheruv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y</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s that are computationally Indistinguishable from a uniform ensemble are called pseudorand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finition of Pseudorandom numb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terministic polynomial time algorithm which satisfies the following 2 condi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1430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s that are computationally Indistinguishable from a uniform ensemble are called pseudorand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finition of Pseudorandom numb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polynomial time algorithm which satisfies the following 2 condi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sion: for every s E {0,1}* , |G(s)|  &gt; |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udo randomness: the ensemble { G(s) } is pseudorandom</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 of Pseudorandom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amplifiers/expanders of random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ery little randomness (a randomly chosen seed) they produce very long sequences which look random to any efficient ob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random generators allow to produce high quality random sequences at low costs making them very useful in cryptograp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duce unpredictable sequences i.e. no efficient algorithm can guess its next bit given a prefix of the sequ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way functions and Pseudorandom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one is necessary and sufficient condition for the existence of the oth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ne-way func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 Loga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actical constructions based on collections of permu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the Discrete Logarithm Problem : based on the fact that it is hard to predict, given a prime P, a primitive element G, and an element Y of the group, whether there exists 0 &lt; x &lt; P/2 such that Y = G^x mod 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iculty of inverting RSA : based on the fact that the least significant bit constitutes a hard-core for the RSA col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Factoring Blum Integers: based on the fact that the least significant bit constitutes a hard-core for the Rabin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gin by discussing the linear congruential generator - the one most commonly used for generating random integ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nerate the next random integer   using the previous random integer , the integer constants, and the integer modul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started, the algorithm requires an initial ``seed'', which must be provided by some me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e sequence generated 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pearance of randomness is provided by performing modulo arithmetic or remaind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next result,  , depends upon only the previous integer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characteristic of linear, congruential generators which minimizes storage requirements, but at the same time, imposes restrictions on the period. </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066680" y="2133720"/>
            <a:ext cx="6207120" cy="277560"/>
          </a:xfrm>
          <a:prstGeom prst="rect">
            <a:avLst/>
          </a:prstGeom>
          <a:ln w="0">
            <a:noFill/>
          </a:ln>
        </p:spPr>
      </p:pic>
      <p:pic>
        <p:nvPicPr>
          <p:cNvPr id="72" name="" descr=""/>
          <p:cNvPicPr/>
          <p:nvPr/>
        </p:nvPicPr>
        <p:blipFill>
          <a:blip r:embed="rId2"/>
          <a:stretch/>
        </p:blipFill>
        <p:spPr>
          <a:xfrm>
            <a:off x="4038480" y="4952880"/>
            <a:ext cx="1749600" cy="2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lang="en-US" sz="2800" spc="-1" strike="noStrike">
                <a:solidFill>
                  <a:srgbClr val="000000"/>
                </a:solidFill>
                <a:latin typeface="Times New Roman"/>
              </a:rPr>
              <a:t>X</a:t>
            </a:r>
            <a:r>
              <a:rPr b="0" lang="en-US" sz="2000" spc="-1" strike="noStrike">
                <a:solidFill>
                  <a:srgbClr val="000000"/>
                </a:solidFill>
                <a:latin typeface="Times New Roman"/>
              </a:rPr>
              <a:t>n</a:t>
            </a:r>
            <a:r>
              <a:rPr b="0" lang="en-US" sz="2400" spc="-1" strike="noStrike">
                <a:solidFill>
                  <a:srgbClr val="000000"/>
                </a:solidFill>
                <a:latin typeface="Times New Roman"/>
              </a:rPr>
              <a:t>   determined, we generate a corresponding real number as fol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viding by m </a:t>
            </a:r>
            <a:r>
              <a:rPr b="0" lang="en-US" sz="2800" spc="-1" strike="noStrike">
                <a:solidFill>
                  <a:srgbClr val="000000"/>
                </a:solidFill>
                <a:latin typeface="Times New Roman"/>
              </a:rPr>
              <a:t>R</a:t>
            </a:r>
            <a:r>
              <a:rPr b="0" lang="en-US" sz="2400" spc="-1" strike="noStrike">
                <a:solidFill>
                  <a:srgbClr val="000000"/>
                </a:solidFill>
                <a:latin typeface="Times New Roman"/>
              </a:rPr>
              <a:t>n , the   values are then distributed on [0,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uniformity, where any particular  </a:t>
            </a:r>
            <a:r>
              <a:rPr b="0" lang="en-US" sz="2800" spc="-1" strike="noStrike">
                <a:solidFill>
                  <a:srgbClr val="000000"/>
                </a:solidFill>
                <a:latin typeface="Times New Roman"/>
              </a:rPr>
              <a:t>R</a:t>
            </a:r>
            <a:r>
              <a:rPr b="0" lang="en-US" sz="2400" spc="-1" strike="noStrike">
                <a:solidFill>
                  <a:srgbClr val="000000"/>
                </a:solidFill>
                <a:latin typeface="Times New Roman"/>
              </a:rPr>
              <a:t>n is just as likely to appear as any other </a:t>
            </a:r>
            <a:r>
              <a:rPr b="0" lang="en-US" sz="2800" spc="-1" strike="noStrike">
                <a:solidFill>
                  <a:srgbClr val="000000"/>
                </a:solidFill>
                <a:latin typeface="Times New Roman"/>
              </a:rPr>
              <a:t>R</a:t>
            </a:r>
            <a:r>
              <a:rPr b="0" lang="en-US" sz="2400" spc="-1" strike="noStrike">
                <a:solidFill>
                  <a:srgbClr val="000000"/>
                </a:solidFill>
                <a:latin typeface="Times New Roman"/>
              </a:rPr>
              <a:t>n , and the average of the </a:t>
            </a:r>
            <a:r>
              <a:rPr b="0" lang="en-US" sz="2800" spc="-1" strike="noStrike">
                <a:solidFill>
                  <a:srgbClr val="000000"/>
                </a:solidFill>
                <a:latin typeface="Times New Roman"/>
              </a:rPr>
              <a:t>R</a:t>
            </a:r>
            <a:r>
              <a:rPr b="0" lang="en-US" sz="2400" spc="-1" strike="noStrike">
                <a:solidFill>
                  <a:srgbClr val="000000"/>
                </a:solidFill>
                <a:latin typeface="Times New Roman"/>
              </a:rPr>
              <a:t>n is very close to 0.5.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143000" y="2895480"/>
            <a:ext cx="684684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1 LCG (5, 1, 16,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simple example with a= 5,  c=1, m=16, and      X0 =1. The sequence of pseudorandom integers generated by this algorithm i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5,12,13,2,11,8,9,14,7,4,5,10,3,0,1,6,15,12,13,2,11,8,9,14, ..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2514600" y="38862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8288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iod (the number of integers before the sequence repeats) P is 16 - exactly equal to the modulus, m. Thus, for m=16 , this sequence is of long period (the longest possible), and uniform (it completely fills the space of integers from 0-1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exhibits throughout its period the pattern of alternating odd and even intege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dily apparent that the sequence is serially correlated. Due to this lack of randomness, the   values should not be used as random digits. The real numbers generated from the integer sequence are generally sufficiently random in the higher order (most significant) bits to be used in many application codes. </a:t>
            </a:r>
            <a:endParaRPr b="0" lang="en-US" sz="20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71880" y="1219320"/>
            <a:ext cx="4800600" cy="5410080"/>
          </a:xfrm>
          <a:prstGeom prst="rect">
            <a:avLst/>
          </a:prstGeom>
          <a:ln w="0">
            <a:noFill/>
          </a:ln>
        </p:spPr>
      </p:pic>
      <p:sp>
        <p:nvSpPr>
          <p:cNvPr id="82" name=""/>
          <p:cNvSpPr/>
          <p:nvPr/>
        </p:nvSpPr>
        <p:spPr>
          <a:xfrm>
            <a:off x="685800" y="3049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Behind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seudorandom Number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 on Pseudo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for pseudorandom function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 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we infer the following. Because each random integer results from the previous integer alone, selecting any initial seed from 0 to 15 would just cyclically shift the above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ll that a different choice of the initial seed does is shift the starting point in the sequence already determined by a, c an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note that the average of the real numbers is 0.4688 and the variance is  0.0830. The departure of these values from the ideal ones of 1/2 and  1/12 is due to the short period of this sequence and the rather coarse resolution of the generated real numbers. These conditions of average and variance approaching the theoretical values are necessary but not sufficient conditions for a good random number generator. </a:t>
            </a:r>
            <a:endParaRPr b="0" lang="en-US" sz="2000" spc="-1" strike="noStrike">
              <a:solidFill>
                <a:srgbClr val="000000"/>
              </a:solidFill>
              <a:latin typeface="Times New Roman"/>
            </a:endParaRPr>
          </a:p>
        </p:txBody>
      </p:sp>
      <p:sp>
        <p:nvSpPr>
          <p:cNvPr id="84" name="PlaceHolder 2"/>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2 LCG (5, 0, 16, 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take the case of c = 0 . This is termed a </a:t>
            </a:r>
            <a:r>
              <a:rPr b="0" i="1" lang="en-US" sz="2400" spc="-1" strike="noStrike">
                <a:solidFill>
                  <a:srgbClr val="000000"/>
                </a:solidFill>
                <a:latin typeface="Times New Roman"/>
              </a:rPr>
              <a:t>multiplicative congruential</a:t>
            </a:r>
            <a:r>
              <a:rPr b="0" lang="en-US" sz="2400" spc="-1" strike="noStrike">
                <a:solidFill>
                  <a:srgbClr val="000000"/>
                </a:solidFill>
                <a:latin typeface="Times New Roman"/>
              </a:rPr>
              <a:t> random number generat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1143000" y="4191120"/>
            <a:ext cx="5638680" cy="260280"/>
          </a:xfrm>
          <a:prstGeom prst="rect">
            <a:avLst/>
          </a:prstGeom>
          <a:ln w="0">
            <a:noFill/>
          </a:ln>
        </p:spPr>
      </p:pic>
      <p:pic>
        <p:nvPicPr>
          <p:cNvPr id="87" name="" descr=""/>
          <p:cNvPicPr/>
          <p:nvPr/>
        </p:nvPicPr>
        <p:blipFill>
          <a:blip r:embed="rId2"/>
          <a:stretch/>
        </p:blipFill>
        <p:spPr>
          <a:xfrm>
            <a:off x="5438880" y="2286000"/>
            <a:ext cx="3705120" cy="3151080"/>
          </a:xfrm>
          <a:prstGeom prst="rect">
            <a:avLst/>
          </a:prstGeom>
          <a:ln w="0">
            <a:noFill/>
          </a:ln>
        </p:spPr>
      </p:pic>
      <p:sp>
        <p:nvSpPr>
          <p:cNvPr id="8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05120" y="1219320"/>
            <a:ext cx="5790960" cy="4267080"/>
          </a:xfrm>
          <a:prstGeom prst="rect">
            <a:avLst/>
          </a:prstGeom>
          <a:ln w="0">
            <a:noFill/>
          </a:ln>
        </p:spPr>
      </p:pic>
      <p:sp>
        <p:nvSpPr>
          <p:cNvPr id="90" name=""/>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 order bits are not rando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is correlated, as all successive integers differ by 4 from their predecess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coarse granularity, the sequence is uniform. For example, if we divide [0,1) equally into quarter segments, then exactly one random number falls into each segment: [0, 0.25), [0.25, 0.5), [0.5, 0.75) and [0.75,1). However, at finer granularity, this uniformity breaks down - consider dividing up the domain into 8 equal segments, for examp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eparate issues to consider her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ite precision existing in all computers, which results in a round-off error to the precision with which integers can be represented, or with which the floating point divide is accomplishe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raction of the sequence of random numbers produced by our generator with our application. This is  particularly troublesome when an application requires n-tuples of random numbers, instead of just one random number at a time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238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ebugging, it is important to implement the algorithm to reproduce the same stream of random numbers on successive ru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seed should be set to a ``random'' odd value Eg.</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3962520"/>
            <a:ext cx="7315200" cy="457200"/>
          </a:xfrm>
          <a:prstGeom prst="rect">
            <a:avLst/>
          </a:prstGeom>
          <a:ln w="0">
            <a:noFill/>
          </a:ln>
        </p:spPr>
      </p:pic>
      <p:pic>
        <p:nvPicPr>
          <p:cNvPr id="95" name="" descr=""/>
          <p:cNvPicPr/>
          <p:nvPr/>
        </p:nvPicPr>
        <p:blipFill>
          <a:blip r:embed="rId2"/>
          <a:stretch/>
        </p:blipFill>
        <p:spPr>
          <a:xfrm>
            <a:off x="1143000" y="4876920"/>
            <a:ext cx="7315200" cy="484200"/>
          </a:xfrm>
          <a:prstGeom prst="rect">
            <a:avLst/>
          </a:prstGeom>
          <a:ln w="0">
            <a:noFill/>
          </a:ln>
        </p:spPr>
      </p:pic>
      <p:sp>
        <p:nvSpPr>
          <p:cNvPr id="96"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of good LCGs Pseudo random number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a is desirable to provide sufficient randomn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m is also desired, so that the period is kept l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the salient features and the recommend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ve, congruential generators are adequate to good for many applications. They are not acceptable... for high-dimensional 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very good if speed is a major consideration. Prime modulo are best. However, modulo of the form   are faster on binary compu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250</a:t>
            </a:r>
            <a:endParaRPr b="0" lang="en-US" sz="4000" spc="-1" strike="noStrike">
              <a:solidFill>
                <a:srgbClr val="000000"/>
              </a:solidFill>
              <a:latin typeface="Times New Roman"/>
            </a:endParaRPr>
          </a:p>
        </p:txBody>
      </p:sp>
      <p:sp>
        <p:nvSpPr>
          <p:cNvPr id="100" name="PlaceHolder 2"/>
          <p:cNvSpPr>
            <a:spLocks noGrp="1"/>
          </p:cNvSpPr>
          <p:nvPr>
            <p:ph/>
          </p:nvPr>
        </p:nvSpPr>
        <p:spPr>
          <a:xfrm>
            <a:off x="380520" y="914400"/>
            <a:ext cx="815364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hift register sequenc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everal advantages over a linear congruential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period 2^2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does not depend upon the number of bits used in the random number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uch faster than an LCM imple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is built from a one bit random generator based on the following equ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 period is 2^(p-1). We will use the value of p =250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295280" y="3809880"/>
            <a:ext cx="571500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a:t>
            </a:r>
            <a:endParaRPr b="0" lang="en-US" sz="3200" spc="-1" strike="noStrike">
              <a:solidFill>
                <a:srgbClr val="000000"/>
              </a:solidFill>
              <a:latin typeface="Times New Roman"/>
            </a:endParaRPr>
          </a:p>
        </p:txBody>
      </p:sp>
      <p:sp>
        <p:nvSpPr>
          <p:cNvPr id="1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ing most of the ci terms to be 0 we get the equ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hoose q = 103 then the number generated is got by adding the previously calculated 10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bit and 25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i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a random number of 16 or 32 bit s. This can be done by doing the above 1 bit addition for each bit in the desired random numb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xclusive-or is the same as bitwise addition all the bit operations can be don in parallel. This gives the speed advantag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3880" y="2514600"/>
            <a:ext cx="480060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ffling Number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it is desirable to randomize a small set of numbers so that a non-repeating sequence is obtained.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ographic RAFOS flo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not to repeat numbers. Taking the modulus of a generator like r250 will not work as the numbers could rep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o do this would be to put the value to be shuffled into an array and to use a random number generator to generate indices into the array to actually shuffle the numbers. The array is then accessed sequenti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 Random Numbe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applications pseudo random numbers are a little too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s of the domain are relatively under sampled and other portions are over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 Random number generators  maintain a uniform density of coverage over the entire domain by giving up serial independence of subsequenctly generated value in order to obtain a uniform coverage of the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uly random</a:t>
            </a:r>
            <a:r>
              <a:rPr b="0" lang="en-US" sz="2400" spc="-1" strike="noStrike">
                <a:solidFill>
                  <a:srgbClr val="000000"/>
                </a:solidFill>
                <a:latin typeface="Times New Roman"/>
              </a:rPr>
              <a:t> - is defined as exhibiting ``true'' randomness, such as the time between ``tics'' from a Geiger counter exposed to a radioactive elemen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random</a:t>
            </a:r>
            <a:r>
              <a:rPr b="0" lang="en-US" sz="2400" spc="-1" strike="noStrike">
                <a:solidFill>
                  <a:srgbClr val="000000"/>
                </a:solidFill>
                <a:latin typeface="Times New Roman"/>
              </a:rPr>
              <a:t> - is defined as having the </a:t>
            </a:r>
            <a:r>
              <a:rPr b="0" i="1" lang="en-US" sz="2400" spc="-1" strike="noStrike">
                <a:solidFill>
                  <a:srgbClr val="000000"/>
                </a:solidFill>
                <a:latin typeface="Times New Roman"/>
              </a:rPr>
              <a:t>appearance</a:t>
            </a:r>
            <a:r>
              <a:rPr b="0" lang="en-US" sz="2400" spc="-1" strike="noStrike">
                <a:solidFill>
                  <a:srgbClr val="000000"/>
                </a:solidFill>
                <a:latin typeface="Times New Roman"/>
              </a:rPr>
              <a:t> of randomness, but nevertheless exhibiting a specific, repeatable patter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calculated by a computer through a deterministic process, cannot, by definition, be rand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tic Attacks on Random Number Generator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random parameters in cryptography:</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key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to be hashed with passwor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digital signatur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es</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 are approximated using PRNG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ue randomnes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ise in electrical circui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decay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of Attacks on PRNGs:</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ryptanalytic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directly distinguish between PRNG numbers and random numbers (cryptanalyze the PR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Based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is able to use knowledge and control of PRNG inputs to  cryptanalyze the PRNG.</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Compromise Extension Atta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guess some information due to an earlier breach of security. The advantage of a previous attack is exte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ryptanalytic Attacks:</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ttacker can directly cryptanalyze the PR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ble to most PRNG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pplicable when the attacker is not able to directly see the output of the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 PRNG used to generate triple-DES keys. Here the output of the PRNG is never directly seen by an attack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ased Attacks:</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attacker used knowledge or control of the inputs to cyptanalyze the PRNG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inputs to the PRNG, that are designed to be difficult for a user to guess, turn out to be easily deducible. Eg disk latency time. When the user is accessing a network disk, the attacker can observe the latency tim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ctical against smartcards, applications that feed incoming messages (username/password etc) to the PRNG as entropy samp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yed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chosen input, except it requires less sophistication on the part of the attacker.</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extend the advantages of a temporary security br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breaches can b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dvertent lea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cryptographic succ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tack is successful wh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learns the internal state of the system at state S and 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le to recover unknown PRNG outputs from before S was compromised.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 outputs from after a PRNG has collected a sequence of inputs that an attacker cannot otherwise gu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usually succeed when the system is started in guessable state (due to lack of entro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 (cont):</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are classifi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track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compromise of PRNG state S to learn about all previous PRNG outpu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anent compromise attack</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S has been compromised, all future and past outputs of the PRNG are vulnera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ve guess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knowledge of state S that was compromised at time t and the intervening PRNG outputs to guess the state S’ at time t+</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the-middle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ation of iterative guessing and backtrac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9.17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only to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AREF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for Randomness in Random Numbers:</a:t>
            </a:r>
            <a:endParaRPr b="0" lang="en-US" sz="28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nt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tes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gged Correlatio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atter Plot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ot pairs of random numb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lumps of numbers, gaps and patterns are easily visi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andom Walk</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Χ</a:t>
            </a:r>
            <a:r>
              <a:rPr b="0" lang="en-US" sz="2800" spc="-1" strike="noStrike" baseline="30000">
                <a:solidFill>
                  <a:srgbClr val="000000"/>
                </a:solidFill>
                <a:latin typeface="Times New Roman"/>
                <a:ea typeface="Arial"/>
              </a:rPr>
              <a:t>2 </a:t>
            </a:r>
            <a:r>
              <a:rPr b="0" lang="en-US" sz="2800" spc="-1" strike="noStrike">
                <a:solidFill>
                  <a:srgbClr val="000000"/>
                </a:solidFill>
                <a:latin typeface="Times New Roman"/>
                <a:ea typeface="Arial"/>
              </a:rPr>
              <a:t>tests:</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how well the presumed distribution (usually uniform) is represente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for the test:</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whole interval, within which the random number would be into finite number of bins (class intervals). Assume they have same size.</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the number of random numbers within each interval and calculate the “expected” number of observations [(number of random numbers used) / (number of class intervals) for uniform interval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rPr>
              <a:t>= </a:t>
            </a:r>
            <a:r>
              <a:rPr b="0" lang="el-GR" sz="1800" spc="-1" strike="noStrike">
                <a:solidFill>
                  <a:srgbClr val="000000"/>
                </a:solidFill>
                <a:latin typeface="Times New Roman"/>
                <a:ea typeface="Arial"/>
              </a:rPr>
              <a:t>Σ</a:t>
            </a:r>
            <a:r>
              <a:rPr b="0" lang="en-US" sz="1800" spc="-1" strike="noStrike">
                <a:solidFill>
                  <a:srgbClr val="000000"/>
                </a:solidFill>
                <a:latin typeface="Times New Roman"/>
                <a:ea typeface="Arial"/>
              </a:rPr>
              <a:t>(i=1,m)</a:t>
            </a:r>
            <a:r>
              <a:rPr b="0" lang="en-US" sz="1800" spc="-1" strike="noStrike">
                <a:solidFill>
                  <a:srgbClr val="000000"/>
                </a:solidFill>
                <a:latin typeface="Times New Roman"/>
              </a:rPr>
              <a:t>(observ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determines if the numbers generated represent a chosen distribution, by looking up in a table, some critical values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Lagged Correlation:</a:t>
            </a: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st reveals the relationship between the numbers at one time and at another (autocorre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als trends and periodicity of nu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an ideal random number gener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1; for lag (</a:t>
            </a:r>
            <a:r>
              <a:rPr b="0" lang="el-GR" sz="1800" spc="-1" strike="noStrike">
                <a:solidFill>
                  <a:srgbClr val="000000"/>
                </a:solidFill>
                <a:latin typeface="Times New Roman"/>
                <a:ea typeface="Arial"/>
              </a:rPr>
              <a:t>τ</a:t>
            </a:r>
            <a:r>
              <a:rPr b="0" lang="en-US" sz="1800" spc="-1" strike="noStrike">
                <a:solidFill>
                  <a:srgbClr val="000000"/>
                </a:solidFill>
                <a:latin typeface="Times New Roman"/>
              </a:rPr>
              <a:t>)=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0; for any other value of </a:t>
            </a:r>
            <a:r>
              <a:rPr b="0" lang="el-GR" sz="1800" spc="-1" strike="noStrike">
                <a:solidFill>
                  <a:srgbClr val="000000"/>
                </a:solidFill>
                <a:latin typeface="Times New Roman"/>
                <a:ea typeface="Arial"/>
              </a:rPr>
              <a:t>τ</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f the autocorrelation values slowly drop to 0 as </a:t>
            </a:r>
            <a:r>
              <a:rPr b="0" lang="en-US" sz="1600" spc="-1" strike="noStrike">
                <a:solidFill>
                  <a:srgbClr val="000000"/>
                </a:solidFill>
                <a:latin typeface="Times New Roman"/>
              </a:rPr>
              <a:t> </a:t>
            </a:r>
            <a:r>
              <a:rPr b="0" lang="el-GR" sz="1600" spc="-1" strike="noStrike">
                <a:solidFill>
                  <a:srgbClr val="000000"/>
                </a:solidFill>
                <a:latin typeface="Times New Roman"/>
                <a:ea typeface="Arial"/>
              </a:rPr>
              <a:t>τ</a:t>
            </a:r>
            <a:r>
              <a:rPr b="0" lang="en-US" sz="1600" spc="-1" strike="noStrike">
                <a:solidFill>
                  <a:srgbClr val="000000"/>
                </a:solidFill>
                <a:latin typeface="Times New Roman"/>
                <a:ea typeface="Arial"/>
              </a:rPr>
              <a:t> increases, then the random numbers generated are not very independent of each 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knowledge of the algorithm used to create the numbers and its internal state (i.e. seed), you can predict all the numbers returned by subsequent calls to the algorithm, whereas with genuinely random numbers, knowledge of one number or an arbitrarily long sequence of numbers is of no use whatsoever in predicting the next number to be gener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generated "random" numbers are more properly referred to as </a:t>
            </a:r>
            <a:r>
              <a:rPr b="0" i="1" lang="en-US" sz="2400" spc="-1" strike="noStrike">
                <a:solidFill>
                  <a:srgbClr val="000000"/>
                </a:solidFill>
                <a:latin typeface="Times New Roman"/>
              </a:rPr>
              <a:t>pseudorandom numbers</a:t>
            </a:r>
            <a:r>
              <a:rPr b="0" lang="en-US" sz="2400" spc="-1" strike="noStrike">
                <a:solidFill>
                  <a:srgbClr val="000000"/>
                </a:solidFill>
                <a:latin typeface="Times New Roman"/>
              </a:rPr>
              <a:t>, and </a:t>
            </a:r>
            <a:r>
              <a:rPr b="0" i="1" lang="en-US" sz="2400" spc="-1" strike="noStrike">
                <a:solidFill>
                  <a:srgbClr val="000000"/>
                </a:solidFill>
                <a:latin typeface="Times New Roman"/>
              </a:rPr>
              <a:t>pseudorandom sequences</a:t>
            </a:r>
            <a:r>
              <a:rPr b="0" lang="en-US" sz="2400" spc="-1" strike="noStrike">
                <a:solidFill>
                  <a:srgbClr val="000000"/>
                </a:solidFill>
                <a:latin typeface="Times New Roman"/>
              </a:rPr>
              <a:t> of such nu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tter Plots:</a:t>
            </a:r>
            <a:endParaRPr b="0" lang="en-US" sz="2800" spc="-1" strike="noStrike">
              <a:solidFill>
                <a:srgbClr val="000000"/>
              </a:solidFill>
              <a:latin typeface="Times New Roman"/>
            </a:endParaRPr>
          </a:p>
        </p:txBody>
      </p:sp>
      <p:grpSp>
        <p:nvGrpSpPr>
          <p:cNvPr id="130" name=""/>
          <p:cNvGrpSpPr/>
          <p:nvPr/>
        </p:nvGrpSpPr>
        <p:grpSpPr>
          <a:xfrm>
            <a:off x="152280" y="1600200"/>
            <a:ext cx="8991720" cy="4944960"/>
            <a:chOff x="152280" y="1600200"/>
            <a:chExt cx="8991720" cy="4944960"/>
          </a:xfrm>
        </p:grpSpPr>
        <p:pic>
          <p:nvPicPr>
            <p:cNvPr id="131" name="" descr=""/>
            <p:cNvPicPr/>
            <p:nvPr/>
          </p:nvPicPr>
          <p:blipFill>
            <a:blip r:embed="rId1"/>
            <a:stretch/>
          </p:blipFill>
          <p:spPr>
            <a:xfrm>
              <a:off x="152280" y="1600200"/>
              <a:ext cx="8991720" cy="4944960"/>
            </a:xfrm>
            <a:prstGeom prst="rect">
              <a:avLst/>
            </a:prstGeom>
            <a:ln w="0">
              <a:noFill/>
            </a:ln>
          </p:spPr>
        </p:pic>
        <p:sp>
          <p:nvSpPr>
            <p:cNvPr id="132" name=""/>
            <p:cNvSpPr txBox="1"/>
            <p:nvPr/>
          </p:nvSpPr>
          <p:spPr>
            <a:xfrm>
              <a:off x="152280" y="1600200"/>
              <a:ext cx="8991720" cy="49449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Walk</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range of the random number generator into equal interval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into 4 intervals for a random walk in two dimens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a number, if the number falls in:</a:t>
            </a:r>
            <a:endParaRPr b="0" lang="en-US" sz="18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interval, in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interval, increment Y</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interval, de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interval, decrement Y</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t steps for a random walk for n walk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means squared distance reach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is distance against ti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ot for several values of t and distance should roughly be linea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 the random numbers are not correctly distributed.</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Random Numbers:</a:t>
            </a:r>
            <a:endParaRPr b="0" lang="en-US" sz="28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ly on external physical quant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s require special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computers have access to this kind of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ensors (heat/pressure) et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ness without relying on external da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way to measure internal activity of the computer such that the activity is quantifiable and genuinely rando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Timing of keystrokes as a user enters a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hysical quantities used in real world for true random number generat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keystrokes when a user enters a passwor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air turbulence due to the movement of hard drive hea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s of memory accesses under artificially induced thrashing condition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measurement of current leakage from a CPU or any other system componen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timing skew between two systems timer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ardware timer</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oftware ti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are the basis for many cryptographic application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reliable “independent” function to generate random number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day computers can only approximate random numbers, using pseudo-random numbers generated by Pseudo Random Number Generators (PRNG)s.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s on many cryptographic applications are possible by attacks on PRNG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pplications are increasingly turning towards using physical data (external/internal) for getting truly random 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network security protocols rely on the randomness of certain 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ce  - used to avoid re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parameters in digital signatur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te Carlo Simulation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mathematical technique for numerically solving differential equations. Randomly generates scenarios for collecting 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990360"/>
            <a:ext cx="7772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roperties of Pseudorandom Numb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rrelated Sequences - </a:t>
            </a:r>
            <a:r>
              <a:rPr b="0" lang="en-US" sz="2400" spc="-1" strike="noStrike">
                <a:solidFill>
                  <a:srgbClr val="000000"/>
                </a:solidFill>
                <a:latin typeface="Times New Roman"/>
              </a:rPr>
              <a:t>The sequences of random numbers should be serially </a:t>
            </a:r>
            <a:r>
              <a:rPr b="0" i="1" lang="en-US" sz="2400" spc="-1" strike="noStrike">
                <a:solidFill>
                  <a:srgbClr val="000000"/>
                </a:solidFill>
                <a:latin typeface="Times New Roman"/>
              </a:rPr>
              <a:t>uncorrelat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Period</a:t>
            </a:r>
            <a:r>
              <a:rPr b="0" lang="en-US" sz="2400" spc="-1" strike="noStrike">
                <a:solidFill>
                  <a:srgbClr val="000000"/>
                </a:solidFill>
                <a:latin typeface="Times New Roman"/>
              </a:rPr>
              <a:t> - The generator should be of </a:t>
            </a:r>
            <a:r>
              <a:rPr b="0" i="1" lang="en-US" sz="2400" spc="-1" strike="noStrike">
                <a:solidFill>
                  <a:srgbClr val="000000"/>
                </a:solidFill>
                <a:latin typeface="Times New Roman"/>
              </a:rPr>
              <a:t>long period</a:t>
            </a:r>
            <a:r>
              <a:rPr b="0" lang="en-US" sz="2400" spc="-1" strike="noStrike">
                <a:solidFill>
                  <a:srgbClr val="000000"/>
                </a:solidFill>
                <a:latin typeface="Times New Roman"/>
              </a:rPr>
              <a:t> (ideally, the generator should not repeat; practically, the repetition should occur only after the generation of a very large set of random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ormity</a:t>
            </a:r>
            <a:r>
              <a:rPr b="0" lang="en-US" sz="2400" spc="-1" strike="noStrike">
                <a:solidFill>
                  <a:srgbClr val="000000"/>
                </a:solidFill>
                <a:latin typeface="Times New Roman"/>
              </a:rPr>
              <a:t> - The sequence of random numbers should be uniform, and unbiased. That is, equal fractions of random numbers should fall into equal ``areas'' in space. Eg. if random numbers on [0,1) are to be generated, it would be poor practice were more than half to fall into [0, 0.1), presuming the sample size is sufficiently lar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a:t>
            </a:r>
            <a:r>
              <a:rPr b="0" lang="en-US" sz="2400" spc="-1" strike="noStrike">
                <a:solidFill>
                  <a:srgbClr val="000000"/>
                </a:solidFill>
                <a:latin typeface="Times New Roman"/>
              </a:rPr>
              <a:t> - The generator should be efficient. Low overhead  for massively parallel compu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ndom Number Cycle</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random number generators have as their basis a sequence of pseudorandom integ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s or ``fixed point'' numbers are manipulated arithmetically to yield floating point or ``real'' numb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ture of the cycl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equence has a finite number of intege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gets traversed in a particular ord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repeats if the period of the generator is excee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gers need not be distinct; that is, they may repe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4724280" y="1981080"/>
            <a:ext cx="42674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Pseudorandom gener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algorithms have been developed which generate sequences of numbers which pass every statistical test used to distinguish random sequences from those containing some pattern or intern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to check the different properties discusses abov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clude mean and variance checks. Mean should be close to 0.5 and variance 1/12 = 0.08 for uniformly distributed pseudorandom numb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y of Pseudorandom Nu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8:32:42Z</dcterms:created>
  <dc:creator>cheruvu</dc:creator>
  <dc:description/>
  <dc:language>en-US</dc:language>
  <cp:lastModifiedBy>Chaitanya Cheruvu</cp:lastModifiedBy>
  <dcterms:modified xsi:type="dcterms:W3CDTF">2001-11-06T06:13:20Z</dcterms:modified>
  <cp:revision>90</cp:revision>
  <dc:subject/>
  <dc:title>PseudoRandom and Random Numbers</dc:title>
</cp:coreProperties>
</file>