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565-B700-40AD-B4E3-9C219822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95F-83C7-4544-A20F-545004BE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568-0B7E-4B46-834D-4AA7D602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5D0-EC06-4418-A9E7-494450B6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3A3-C5F1-4493-9B0A-EDC678B6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A90-E52F-40C4-B309-6B78DB0D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85C-C307-4A97-A376-DBD8B88A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CEB-2359-4A1A-AD7C-38C0ADDB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2A1-0674-44D4-AFEF-B8AE58F5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CC1-FDD7-4FE0-954F-B355F174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B52-937B-417D-806A-C0CE1131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CBD-8A5D-438E-B876-D36D31FA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0E38-9FA2-4546-B74D-4C50E8462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i Calcu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lculus for Cryptographic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esh Yechangu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btain the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it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, for all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’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F(M) ≃ F(M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all M,M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xample with key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the Wide Mouthed Frog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S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data under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74320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3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352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toco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can express it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).case z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w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F(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A(M)|S|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with a fl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system with a server and n other principals. Each principal has an input channel which is public, name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1, C2,…,Cn and 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server shares a pair of keys with each other principa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tend the previous example to this n+1 princip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,{B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A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A,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8153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protocol is determined by a choice of parties and by the message sent i.e. an instance I is the triple (i,j,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–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- destinatio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 instance (i,j,M), the following process corresponds to role of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process corresponds to the role of 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S is the same for all insta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the k-way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…|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we define a whole system, parameterized on a list of instances of the 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467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, the protocol is vulnerable to a replay attack that invalidates the authenticity. An attacker can replay messages of one instance and get them mistaken for messages of the oth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pai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vious protocol is improved by adding nonce handshakes as protection against replay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protocol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A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S: A,{A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4  S→B: *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5  B→S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6  S→B: {S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7  A→B: A,{M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                                   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i calculus, nonces are represented as newly create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*›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S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w).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S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Martin Abadi and Andrew D.Gordon at the Systems Research Center, it is an extension of the Pi Calculus with cryptographic primitives designed for describing and analyzing cryptographic protoc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henticity property is obtain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instanc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olds good because of the no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ach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,… 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stinguishable.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er to write protocols but very det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advantage is its formal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be a good tool for finding flaws but yields more convincing proofs of corre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 prone to attacks are developed without explicit specifications for an attacker. Such precise treatments have not been done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nce on the powerful scoping constructs of the pi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cal definition of the environment as an arbitrary spi calculu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of security properties, both integrity and secrecy, as equival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s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ed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only certain processes may communicate on them. (Similar to C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ope of the restriction may change during computation. This is term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ope extrus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fferent from the earlier process calcu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656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put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ā‹N›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output on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,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put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x)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input from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 in whi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N/x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|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haves as proces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unning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rocess that makes a new, private na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n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ir split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,y) = M in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[N/x][L/y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N,L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spi calculus introduces primitives for shared-key cryp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the ciphertext obtained by encryp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er the k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 L of {x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empts to decrypt the term L with the key N. If L is a ciphertext of the 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process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M/x]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irst cryptographic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principals A and B that share a key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public channel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ocol is simply that A sends a message M unde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, 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A(M)|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properties are expressed as equivalences. We use the following specif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A(M)|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23:34:46Z</dcterms:created>
  <dc:creator>EEIL</dc:creator>
  <dc:description/>
  <dc:language>en-US</dc:language>
  <cp:lastModifiedBy>EEIL</cp:lastModifiedBy>
  <dcterms:modified xsi:type="dcterms:W3CDTF">2001-11-27T03:11:46Z</dcterms:modified>
  <cp:revision>6</cp:revision>
  <dc:subject/>
  <dc:title>The Spi Calculus</dc:title>
</cp:coreProperties>
</file>