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0F1F-A3F5-44D6-80D9-B9F2B352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F231-A353-4234-A160-3EE6626E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E700-4F22-4689-96B9-0C2E8ADF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223-04AD-4385-9398-01DDD58E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4071-C732-4A5B-9BD1-238D1911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FC4-751B-4472-9782-9303EF4B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CBA-A1AD-47F5-9078-11102A81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CE5-E021-4F03-BC42-5BCB507A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0291-53B8-4930-B6C6-F4A89616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174-D052-43BB-A962-37C39DAE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15F3-DD53-43C9-B9BA-FA1F9558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579-95F9-461A-B7D9-03C93964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8F94-209C-4D50-94B1-430D7845B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pi Calcul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lculus for Cryptographic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esh Yechangu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btain the prope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ity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≃ Ins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M), for all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crecy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(M’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f F(M) ≃ F(M’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r all M,M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example with key establis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nsider the Wide Mouthed Frog protoc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New key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nder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S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New key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nder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data under new key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274320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449568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449568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43200" y="33523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4876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335268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tocol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1  A→S: {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2  S→B: {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3  A→B: {M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spi calculus, we can express it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(M)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(vK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(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M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).case x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y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y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).case x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y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z).case z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w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 F(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st(M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(v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(v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( A(M)|S|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omplete authentication 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 with a fla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 system with a server and n other principals. Each principal has an input channel which is public, namel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1, C2,…,Cn and 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server shares a pair of keys with each other principal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tend the previous example to this n+1 princip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1  A→S: A,{B,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2  S→B: {A,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3  A→B: A,{M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80880"/>
            <a:ext cx="8153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protocol is determined by a choice of parties and by the message sent i.e. an instance I is the triple (i,j,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– sourc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 - destination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n instance (i,j,M), the following process corresponds to role of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nd(i,j,M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(vK)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{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)›|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{M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process corresponds to the role of 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v(j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case 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e 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f  {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F(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45684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rver S is the same for all instan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 case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 {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iS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 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the k-way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…|P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we define a whole system, parameterized on a list of instances of the protoc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s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(v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(v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Send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|…| Send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Recv(1) |…| !Recv(n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4674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fortunately, the protocol is vulnerable to a replay attack that invalidates the authenticity. An attacker can replay messages of one instance and get them mistaken for messages of the other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omplete authentication 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epair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vious protocol is improved by adding nonce handshakes as protection against replay att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w protocol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1  A→S: A               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2  S→A: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3  A→S: A,{A,A,B,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4  S→B: *                 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5  B→S: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6  S→B: {S,A,B,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7  A→B: A,{M 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                                                    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pi calculus, nonces are represented as newly created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nd(i,j,M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›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vK)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{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)›|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{M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 (v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›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’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[x’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e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 {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iS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*›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S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 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 rot="10800000">
            <a:off x="685800" y="53244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v(j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w). (v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›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e 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 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S]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[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e 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f  {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F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s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(v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(v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Send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|…| Send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Recv(1) |…| !Recv(n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by Martin Abadi and Andrew D.Gordon at the Systems Research Center, it is an extension of the Pi Calculus with cryptographic primitives designed for describing and analyzing cryptographic protoc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uthenticity property is obtain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s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instance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holds good because of the no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cy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s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ach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,… 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stinguishable.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er to write protocols but very det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advantage is its formal pr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ot be a good tool for finding flaws but yields more convincing proofs of correc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s prone to attacks are developed without explicit specifications for an attacker. Such precise treatments have not been done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ance on the powerful scoping constructs of the pi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cal definition of the environment as an arbitrary spi calculus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of security properties, both integrity and secrecy, as equival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nels may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tricted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at only certain processes may communicate on them. (Similar to C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ope of the restriction may change during computation. This is term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ope extrus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Different from the earlier process calcul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656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utput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ā‹N›.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ready to output on channe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f an interaction occurs,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mmunicat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n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put proc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(x).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ready to input from channe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f an interaction occurs in whi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mmunicat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[N/x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|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haves as proces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running in parall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tri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rocess that makes a new, private na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then behaves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ir splitt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,y) = M in 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es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P[N/x][L/y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N,L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therwise, the process is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ddition spi calculus introduces primitives for shared-key crypt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M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the ciphertext obtained by encrypt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der the ke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se L of {x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tempts to decrypt the term L with the key N. If L is a ciphertext of the fo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M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the process behaves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[M/x]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therwise, the process is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first cryptographic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wo principals A and B that share a key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 public channel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tocol is simply that A sends a message M under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, 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1 A→B: {M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spi calculus, we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(M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M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).case x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y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n F(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(vK)(A(M)|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properties are expressed as equivalences. We use the following specifi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32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‹{M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).case x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y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n F(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(vK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(A(M)|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M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5T23:34:46Z</dcterms:created>
  <dc:creator>EEIL</dc:creator>
  <dc:description/>
  <dc:language>en-US</dc:language>
  <cp:lastModifiedBy>EEIL</cp:lastModifiedBy>
  <dcterms:modified xsi:type="dcterms:W3CDTF">2001-11-27T03:11:46Z</dcterms:modified>
  <cp:revision>6</cp:revision>
  <dc:subject/>
  <dc:title>The Spi Calculus</dc:title>
</cp:coreProperties>
</file>