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1525-D639-4F2C-BE3E-D2A6766A6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9CEB-4B84-4536-88A0-1851C53DA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9602-A6E9-402F-9F98-C581496D7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09A0-5C93-4CC3-9CF2-C0E527378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F202C-A4CF-44A6-9430-67ED8211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07F64-0F5B-4E69-A51E-7BCB72C1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50183-069C-406F-9BA6-45BA02BD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D6EDA-1583-4E95-A2D3-8C2EF1D4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947E-212D-4123-81D0-842A7850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67B42-B4C1-48EC-ACCC-5D0FCB78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6C9E0-A83B-49CC-B918-D2D9170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A090-A4EB-4A23-9CF8-AD95F4164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BD5A8-EAE9-48BF-879F-61996754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68777-7EE0-4DEC-BD1F-B59A734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77917-57B8-4CCA-B8B7-27CA590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CEDCC-5326-4FEB-94B6-7D75F2E9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88328-275B-4F68-92FE-F4E16748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AA61-F4B7-4860-A5ED-2B8617E64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8CF2-0A52-46A6-99CE-6AF74907A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0FD1-BB8C-4F50-917B-907FE25AE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222F-F8AE-4AFA-9E73-5884DB3F7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47AE-BF02-488D-892E-35324099F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C62B-5746-4569-85DC-F3E53F3F6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D87D-FBDD-4012-87C3-499E22A80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AE7D-25EC-441B-B6A4-A9B7C0818C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D85-34C2-4F87-B4B1-CFC2008CD7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tools for verification of Sec Pro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the l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Caspe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finement checking and F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Theorem pro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Safe simplifying trans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F530-A931-4419-BFB5-A764B7E7F4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 checking ba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e security property we want to verify is expressed as a temporal logic formula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protocol is expressed as a system S of processes (the processes involved with the protocol and, possibly, the intru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S is represented as a labeled transition system T, which is seen as an interpretation of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Model checking consists in showing that T is a model of F, namely that T validates 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ways possible with 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so possible for some restricted cases of In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F99A-2C63-4A75-9C3C-B9B913947A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  =  a -&gt; b -&gt;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B  =  c -&gt; d -&gt; B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S  =   A |||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ral operato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: fore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: eventua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me formul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(a or c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 F (a or 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219320"/>
            <a:ext cx="4267080" cy="2481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  =  a -&gt; A1     A1  =  b -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  =  c -&gt; B1      B1  =  d -&gt; B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   =   A ||| B    S1  = A 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2 =  A1 ||| B    S3 = A1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8098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8" idx="6"/>
            <a:endCxn id="200" idx="4"/>
          </p:cNvCxnSpPr>
          <p:nvPr/>
        </p:nvCxnSpPr>
        <p:spPr>
          <a:xfrm flipV="1">
            <a:off x="6629040" y="5409720"/>
            <a:ext cx="118188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0"/>
            <a:endCxn id="199" idx="2"/>
          </p:cNvCxnSpPr>
          <p:nvPr/>
        </p:nvCxnSpPr>
        <p:spPr>
          <a:xfrm flipH="1" flipV="1" rot="5400000">
            <a:off x="5029200" y="3809520"/>
            <a:ext cx="57204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7" idx="4"/>
            <a:endCxn id="198" idx="2"/>
          </p:cNvCxnSpPr>
          <p:nvPr/>
        </p:nvCxnSpPr>
        <p:spPr>
          <a:xfrm flipH="1" rot="16200000">
            <a:off x="5029200" y="5067000"/>
            <a:ext cx="57240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6"/>
            <a:endCxn id="200" idx="0"/>
          </p:cNvCxnSpPr>
          <p:nvPr/>
        </p:nvCxnSpPr>
        <p:spPr>
          <a:xfrm>
            <a:off x="6629040" y="4152600"/>
            <a:ext cx="118188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095440" y="38275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446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76800" y="59436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4200" y="38862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0" idx="2"/>
            <a:endCxn id="199" idx="4"/>
          </p:cNvCxnSpPr>
          <p:nvPr/>
        </p:nvCxnSpPr>
        <p:spPr>
          <a:xfrm rot="10800000">
            <a:off x="6285960" y="4494960"/>
            <a:ext cx="118152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2"/>
            <a:endCxn id="198" idx="0"/>
          </p:cNvCxnSpPr>
          <p:nvPr/>
        </p:nvCxnSpPr>
        <p:spPr>
          <a:xfrm flipV="1" rot="10800000">
            <a:off x="6285960" y="5066280"/>
            <a:ext cx="118152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8" idx="0"/>
            <a:endCxn id="197" idx="6"/>
          </p:cNvCxnSpPr>
          <p:nvPr/>
        </p:nvCxnSpPr>
        <p:spPr>
          <a:xfrm flipV="1" rot="16200000">
            <a:off x="5371560" y="4723560"/>
            <a:ext cx="57204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9" idx="4"/>
            <a:endCxn id="197" idx="6"/>
          </p:cNvCxnSpPr>
          <p:nvPr/>
        </p:nvCxnSpPr>
        <p:spPr>
          <a:xfrm rot="5400000">
            <a:off x="5371200" y="4152600"/>
            <a:ext cx="57240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5560560" y="4495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4280" y="45720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1280" y="51814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3560" y="525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7000" y="51814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02680" y="5486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2680" y="5867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E070-F440-4FD5-A15E-8554A5B889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orem prov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a set of inference rules that model a satisfiability relation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S sat P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 parallel r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all  i.  (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at (R precedes T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|||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sat (R precedes 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ties of the inferenc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emiautomatic (invariant needed for recursive defini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Sound and relatively comp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the properties of the Yahalom protocol seen in previous lecture can be easily verified using this system (see proofs in the book of Ryan and Schneid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352680"/>
            <a:ext cx="5181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1045-EEEB-4A18-A8CB-FB021C2AD2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Casper interface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per is essentially a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905120"/>
            <a:ext cx="152388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505320"/>
            <a:ext cx="1676520" cy="761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952880"/>
            <a:ext cx="1523880" cy="9144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5960" y="36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0160" y="37036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9718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419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0480" y="2133720"/>
            <a:ext cx="32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Language similar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one used to de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the protocols seen so f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1"/>
            <a:endCxn id="101" idx="6"/>
          </p:cNvCxnSpPr>
          <p:nvPr/>
        </p:nvCxnSpPr>
        <p:spPr>
          <a:xfrm rot="10800000">
            <a:off x="3885480" y="2361600"/>
            <a:ext cx="1372320" cy="275400"/>
          </a:xfrm>
          <a:prstGeom prst="curvedConnector5">
            <a:avLst>
              <a:gd name="adj1" fmla="val 47677"/>
              <a:gd name="adj2" fmla="val 50000"/>
              <a:gd name="adj3" fmla="val 47677"/>
            </a:avLst>
          </a:prstGeom>
          <a:ln w="9360">
            <a:solidFill>
              <a:srgbClr val="006600"/>
            </a:solidFill>
            <a:prstDash val="dash"/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343400" y="5029200"/>
            <a:ext cx="1523880" cy="76212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3" idx="6"/>
            <a:endCxn id="110" idx="1"/>
          </p:cNvCxnSpPr>
          <p:nvPr/>
        </p:nvCxnSpPr>
        <p:spPr>
          <a:xfrm>
            <a:off x="3886200" y="540972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447920" y="4495680"/>
            <a:ext cx="5333760" cy="1600200"/>
          </a:xfrm>
          <a:prstGeom prst="ellipse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4480" y="4648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60880" y="3429000"/>
            <a:ext cx="405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Written in th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Programming language Haskell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02" idx="3"/>
          </p:cNvCxnSpPr>
          <p:nvPr/>
        </p:nvCxnSpPr>
        <p:spPr>
          <a:xfrm flipV="1" rot="10800000">
            <a:off x="3961800" y="3809880"/>
            <a:ext cx="1219680" cy="7668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66ff"/>
            </a:solidFill>
            <a:prstDash val="dash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4443-B258-4E56-B0F1-B5B48C5D5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523880"/>
            <a:ext cx="1981080" cy="1219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343400"/>
            <a:ext cx="1600200" cy="121932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4240" y="3352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5238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2952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Comic Sans MS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bstract description of the protoc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properties are easy to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819520"/>
            <a:ext cx="5029200" cy="23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ransformation preserving the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ly this means that the implementation must be 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less nondeterminis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n the specific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uestion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54100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76b5"/>
                </a:solidFill>
                <a:latin typeface="Comic Sans MS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formal description of the real system and it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5640" y="4648320"/>
            <a:ext cx="47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Answer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the properties usually are univers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ey must be valid in al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043D-6B6F-4ABF-98D7-162039122C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otion of refin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mplementation should be 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efinemen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 the specification, in the sense of preserving its properties. Hence, less 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42bf"/>
                </a:solidFill>
                <a:latin typeface="Comic Sans MS"/>
              </a:rPr>
              <a:t>Refinement checking:</a:t>
            </a:r>
            <a:r>
              <a:rPr b="0" lang="en-US" sz="2400" spc="-1" strike="noStrike">
                <a:solidFill>
                  <a:srgbClr val="d842bf"/>
                </a:solidFill>
                <a:latin typeface="Comic Sans MS"/>
              </a:rPr>
              <a:t> checking that the implementation is indeed a refinement of the spec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Obviously, the notion of refinement depends on the </a:t>
            </a:r>
            <a:r>
              <a:rPr b="1" lang="en-US" sz="2400" spc="-1" strike="noStrike">
                <a:solidFill>
                  <a:srgbClr val="00be8c"/>
                </a:solidFill>
                <a:latin typeface="Comic Sans MS"/>
              </a:rPr>
              <a:t>intended semantic</a:t>
            </a: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. In CSP traditionally we consider 3 kinds of seman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and Diverg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B70A-79ED-456B-8632-9D11E4DC7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s of visible actions in all possible r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  =   a -&gt; b -&gt; c -&gt; Stop [] b -&gt; c -&gt; a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A)  =  { a.b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  =   a -&gt; Stop ||| b -&gt; c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  =  { a.b.c, b.a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less nondeterministic than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only a subset of the possible runs of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A091-ADA3-4CCB-878F-B4FF4C3DD9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81480" y="4267080"/>
            <a:ext cx="1905120" cy="1447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define formally the notion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fin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t trace semantics, in such a way that it captures the concept of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ss 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 what should be the formal definition of “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is a refinement of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” in terms of their trac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04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4640" y="3048120"/>
            <a:ext cx="53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subset of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B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144756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5562720"/>
            <a:ext cx="1170000" cy="60948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906800"/>
            <a:ext cx="355680" cy="489240"/>
          </a:xfrm>
          <a:prstGeom prst="downArrow">
            <a:avLst>
              <a:gd name="adj1" fmla="val 50000"/>
              <a:gd name="adj2" fmla="val 34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8640" y="49528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00600"/>
            <a:ext cx="1143000" cy="6858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1720" y="434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E82A-4A83-4B3C-B5BD-B5838BB85D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943600" y="411480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of trace semantic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t is </a:t>
            </a:r>
            <a:r>
              <a:rPr b="1" lang="en-US" sz="2000" spc="-1" strike="noStrike">
                <a:solidFill>
                  <a:srgbClr val="008080"/>
                </a:solidFill>
                <a:latin typeface="Comic Sans MS"/>
              </a:rPr>
              <a:t>not compositional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 Namely, trace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s not preserved under contex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is means that the analysis based on traces cann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be performed modularly: it must be performed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e whole system at o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 = a -&gt; (b -&gt; Stop [] c -&gt; Sto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  =  a -&gt; Stop [] a -&gt; c -&gt;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54864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2352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19520" y="5486400"/>
            <a:ext cx="30456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4864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3360" y="5504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68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4200" y="5915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204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220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3160" y="5943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4760" y="59436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5199120"/>
            <a:ext cx="127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a.b, a.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191120"/>
            <a:ext cx="266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  =  a -&gt; b  -&gt;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C || A)  =  {a.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C || B)  =  {a.b , a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9480" y="49528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0720" y="4952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7FA7-CF81-49A5-A101-025A73172A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Failur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semantics encodes the brancing structure of a process by representing, after each partial trace, the set of actions that are not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tion of refinement is defined in such a way that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refinement of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not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is notion of refinement is preserved under closure on possible contex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35640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72880" y="40212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78160" y="4021200"/>
            <a:ext cx="30456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36816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7344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836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6852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2720" y="3581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6200" y="39448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43560" y="3992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104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1156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2520" y="4021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84120" y="40212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59840" y="3276720"/>
            <a:ext cx="41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F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=  { &lt;a, {a}&gt;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F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=  { &lt;a, {a,b}&gt;, &lt;a, {a,c}&gt; 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8480" y="3030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0080" y="30304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01B2-40E2-4D1A-8969-1BC4FCF19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Failures and Divergences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emantics encodes all the information of Failure semantics, plus additional information about divergences (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veloc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As such, it is suitable also for the analysi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live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perties (not only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considered the standard model of C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DR</a:t>
            </a: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ailure and Divergences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utomatic refinement check for finite state systems (they can have infinite computations, but the number of states is fini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352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800" y="3733920"/>
            <a:ext cx="533520" cy="45720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581280"/>
            <a:ext cx="0" cy="152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08280" y="359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3720" y="3436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25720" y="3639960"/>
            <a:ext cx="53352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5200" y="3505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6160" y="3124080"/>
            <a:ext cx="319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These two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Have the same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but different diver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2321-6DE3-4422-8461-197A1BE0E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10T10:50:05Z</dcterms:modified>
  <cp:revision>127</cp:revision>
  <dc:subject/>
  <dc:title>PowerPoint Presentation</dc:title>
</cp:coreProperties>
</file>