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00C4-D273-479E-979F-7268C0BD3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B92C-275C-4FE3-B8AD-F0BBA6F00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A1E9-052C-49D0-BCFA-16B4C1FDA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E9D1-8A38-49A1-A5AC-2A0124905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E06BD-0EEC-4837-92C1-13D8F775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698FB-9188-4B24-B26E-123C0E51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61D3C-1644-460B-B898-4FD63FA2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EC89E-99C3-4BE0-AED5-389F0080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E0FCC-BB25-473A-8017-B4F6F72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7B8CB-4977-403B-A7F4-0958CF9D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CDD62-EAE5-4E26-B2C8-6DD2F471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E115-E57F-48F7-BF22-CB888406B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AC68-1AF2-40ED-8AA5-F37FD6EB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DCF76-2D1B-402C-888F-BA2CA7CC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34EE9-0121-4DB0-9792-546396E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30C4-827B-4DCE-A678-E7954744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A64E5-0DC9-4471-AA17-A07ED31F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2F00-57F0-494B-BDB1-8A778F130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3954-3A34-4E4D-B79A-ECD2171E5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CE91-CC8B-4C8D-80B1-A100760A5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BE61-F21B-4FB7-8BCA-E5FCCF745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3D76-E820-4E08-B044-38CA07F12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88C1-A033-45C6-9582-97F95A7CA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AA30-F345-4D72-BA28-2B4D3853E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78AB-8ECC-4D64-8821-7FBAD653EF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F59-3B00-4D16-A894-0CD151603B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pressing Security Properties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roperties: the goals that a protocol is meant to satisfy, relatively to specific kinds and levels of threat – the intruders and their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consider the following security propert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Secre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formation leak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falsification of ide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Non-repu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idence of the involvement of the other par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ing the identity of agents wrt particular ev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CD98-DE20-4E8A-8C02-63B4B86F7E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Signal.Claim_Secret.a.b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Wingdings 3"/>
                <a:ea typeface="Wingdings 3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not(leak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s usual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C08A-9CC7-44EC-8D0A-202F0D2DE4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8600" y="1006560"/>
            <a:ext cx="85964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omic Sans MS"/>
              </a:rPr>
              <a:t>The CSP approach is based on inserting sign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executing a protocol run apparently with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completed a protocol run apparently with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hentication is achiev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ways precedes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traces of th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er or stronger forms of authentication can be achieved by variations of the parameters of these signals and the constraints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9945-745F-4DD1-A64A-63BF2A62FD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 in the Yahalom Pr.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Yahalom Protocol aims at providing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uthentication of both parties 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uthentication of the initiator to the responder, and viceve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analyze the two authentication properties separ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two separate  enhancements of 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0093-9323-4AA2-A145-C462BED3F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Running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Commit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6317-511B-4ECD-9BBD-76F90BFEED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86048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9916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6019920"/>
            <a:ext cx="15228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2720" y="489096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720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168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504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952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58912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6520" y="306864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2352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31800" y="532620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2240" y="5872320"/>
            <a:ext cx="2273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Com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56600" y="47750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59040" y="29876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345924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4428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8960" y="57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9040" y="57452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8768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D009-F6D1-4E1F-9030-D030C71D94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088B-EF38-45B5-AFB7-146BDD1EFC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67DB-FA70-448E-8DB8-8E8CDFEF32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16540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408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00348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1800" y="573084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212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5660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60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1444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19240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8200" y="331308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808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8400" y="457992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440" y="2854440"/>
            <a:ext cx="1965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61520" y="55976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3840" y="262260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9840" y="371808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4920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03880" y="571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3840" y="508968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53B9-BF59-49AB-BA1E-BC7FE3CD23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BA85-54C1-48FB-B1E2-AAC05F9B3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vide the parties of an interaction with evidence so that later they cannot deny having particip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 Zhou-Gollmann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1   a -&gt; b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2   b -&gt; a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3   a 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4   b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5   a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(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re m is the message to be transmit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e the parties, j is the trusted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c. are flags identifying the steps.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a no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tc. are signature keys known only to their ow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FA50-96A1-46B3-8E10-59828AF073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 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both safety properties: </a:t>
            </a:r>
            <a:r>
              <a:rPr b="0" i="1" lang="en-US" sz="2400" spc="-1" strike="noStrike">
                <a:solidFill>
                  <a:srgbClr val="008080"/>
                </a:solidFill>
                <a:latin typeface="Comic Sans MS"/>
              </a:rPr>
              <a:t>a certain bad thing should no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Explicit ann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 the CSP approach, these properties ar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by “enhancing” the code of the processes with explicit signal claiming the success of the protocol wrt the  intended proper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laim_secret.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not become known to the intru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hent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un with A ,  Commit with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atching of these two events guarrantees the identitie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6DDD-FD42-477F-AD5D-64F0F5EDFE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sen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1AB1-D0CC-4BDF-B2F2-7D3BA0C2D9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analysis of 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hou-Gollmann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send.a.b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 receive.a.b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ftp.a.Jeeves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evidence.a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Close(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present the capability of inferring new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erver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ceive.a.Jeeves?.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-&gt; Server(S U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ftp.a.Jeeves.m -&gt; Server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44C4-1ED0-49AC-BA37-4EB7F8A8D4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505320" y="4800600"/>
            <a:ext cx="2117520" cy="82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048120"/>
            <a:ext cx="641520" cy="6699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47" idx="1"/>
          </p:cNvCxnSpPr>
          <p:nvPr/>
        </p:nvCxnSpPr>
        <p:spPr>
          <a:xfrm flipH="1" rot="16200000">
            <a:off x="2031120" y="3738960"/>
            <a:ext cx="2661480" cy="288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0" idx="5"/>
            <a:endCxn id="247" idx="3"/>
          </p:cNvCxnSpPr>
          <p:nvPr/>
        </p:nvCxnSpPr>
        <p:spPr>
          <a:xfrm rot="5400000">
            <a:off x="4459320" y="3715200"/>
            <a:ext cx="2661480" cy="335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1"/>
            <a:endCxn id="249" idx="2"/>
          </p:cNvCxnSpPr>
          <p:nvPr/>
        </p:nvCxnSpPr>
        <p:spPr>
          <a:xfrm rot="10800000">
            <a:off x="3123360" y="2315520"/>
            <a:ext cx="381960" cy="2898000"/>
          </a:xfrm>
          <a:prstGeom prst="curvedConnector5">
            <a:avLst>
              <a:gd name="adj1" fmla="val 160000"/>
              <a:gd name="adj2" fmla="val 49993"/>
              <a:gd name="adj3" fmla="val 1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7" idx="3"/>
            <a:endCxn id="250" idx="6"/>
          </p:cNvCxnSpPr>
          <p:nvPr/>
        </p:nvCxnSpPr>
        <p:spPr>
          <a:xfrm flipV="1">
            <a:off x="5622480" y="2315880"/>
            <a:ext cx="429480" cy="2898000"/>
          </a:xfrm>
          <a:prstGeom prst="curvedConnector5">
            <a:avLst>
              <a:gd name="adj1" fmla="val 153271"/>
              <a:gd name="adj2" fmla="val 49993"/>
              <a:gd name="adj3" fmla="val 153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8" idx="3"/>
            <a:endCxn id="247" idx="0"/>
          </p:cNvCxnSpPr>
          <p:nvPr/>
        </p:nvCxnSpPr>
        <p:spPr>
          <a:xfrm flipH="1" rot="16200000">
            <a:off x="3871800" y="4107960"/>
            <a:ext cx="1181880" cy="203760"/>
          </a:xfrm>
          <a:prstGeom prst="curvedConnector5">
            <a:avLst>
              <a:gd name="adj1" fmla="val 54143"/>
              <a:gd name="adj2" fmla="val 49911"/>
              <a:gd name="adj3" fmla="val 541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7" idx="0"/>
            <a:endCxn id="248" idx="5"/>
          </p:cNvCxnSpPr>
          <p:nvPr/>
        </p:nvCxnSpPr>
        <p:spPr>
          <a:xfrm flipH="1" flipV="1" rot="5400000">
            <a:off x="4098600" y="4083840"/>
            <a:ext cx="1181880" cy="251640"/>
          </a:xfrm>
          <a:prstGeom prst="curvedConnector5">
            <a:avLst>
              <a:gd name="adj1" fmla="val 45825"/>
              <a:gd name="adj2" fmla="val 50000"/>
              <a:gd name="adj3" fmla="val 45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8" idx="7"/>
            <a:endCxn id="250" idx="3"/>
          </p:cNvCxnSpPr>
          <p:nvPr/>
        </p:nvCxnSpPr>
        <p:spPr>
          <a:xfrm flipH="1" flipV="1" rot="5400000">
            <a:off x="4862520" y="250452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48" idx="1"/>
            <a:endCxn id="249" idx="5"/>
          </p:cNvCxnSpPr>
          <p:nvPr/>
        </p:nvCxnSpPr>
        <p:spPr>
          <a:xfrm flipV="1" rot="16200000">
            <a:off x="3719160" y="250416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9" name=""/>
          <p:cNvCxnSpPr>
            <a:stCxn id="250" idx="0"/>
          </p:cNvCxnSpPr>
          <p:nvPr/>
        </p:nvCxnSpPr>
        <p:spPr>
          <a:xfrm flipH="1" flipV="1" rot="5400000">
            <a:off x="5532120" y="1569240"/>
            <a:ext cx="610200" cy="213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4004640" y="500220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78480" y="35053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3886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8480" y="3581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2960" y="40384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82080" y="27432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360" y="28195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2"/>
          </p:cNvCxnSpPr>
          <p:nvPr/>
        </p:nvCxnSpPr>
        <p:spPr>
          <a:xfrm flipH="1" rot="16200000">
            <a:off x="2540880" y="2768400"/>
            <a:ext cx="167040" cy="1000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8" name=""/>
          <p:cNvCxnSpPr>
            <a:stCxn id="265" idx="2"/>
          </p:cNvCxnSpPr>
          <p:nvPr/>
        </p:nvCxnSpPr>
        <p:spPr>
          <a:xfrm rot="5400000">
            <a:off x="6390000" y="2738880"/>
            <a:ext cx="167040" cy="90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799800" y="2514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000" y="25146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9" idx="0"/>
          </p:cNvCxnSpPr>
          <p:nvPr/>
        </p:nvCxnSpPr>
        <p:spPr>
          <a:xfrm flipV="1" rot="16200000">
            <a:off x="3017160" y="1553400"/>
            <a:ext cx="610200" cy="244800"/>
          </a:xfrm>
          <a:prstGeom prst="curvedConnector5">
            <a:avLst>
              <a:gd name="adj1" fmla="val 50000"/>
              <a:gd name="adj2" fmla="val 499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026080" y="16002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3080" y="1600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Zhou-Gollmann protocol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7625-09F5-4264-8FA7-D471EC575F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nalysis of 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eive.a.j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342"/>
                </a:solidFill>
                <a:latin typeface="Comic Sans MS"/>
              </a:rPr>
              <a:t>Again, these properties on traces can be proven automat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019D-DF36-4DB6-AA5A-F71925F4F3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543640" y="2590920"/>
            <a:ext cx="1523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2590920"/>
            <a:ext cx="1524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33066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90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5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82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9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9332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8560" y="1557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98160" y="15699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8000" y="1606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0" y="16178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3968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7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372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796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100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81952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3720" y="3048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9400" y="2819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5400" y="304812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46520" y="5037840"/>
            <a:ext cx="118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58680" y="35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880" y="332424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0" y="391464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6560" y="5270400"/>
            <a:ext cx="9180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46320" y="513396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960" y="4995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im_Secret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6240" y="51325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it with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50240" y="3809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F5AC-C81A-42B6-B911-8568FF55F8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ample: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83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1   a -&gt; b : 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2   b -&gt; s : b.{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3   s -&gt; a : {b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4   a -&gt; b : 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uthentication of the particip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should remain secr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e may require secrecy also on n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6D08-B9C8-40BD-8D2F-0698E0AD87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74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two parties - Orig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8581-DE3A-4A01-BC29-020F29ABD6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B553-5A69-457C-AE9B-04AF4F20CD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b.J.b .{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,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Agent 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J.a. 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{a.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erver(J)   =  ||| Server(J,k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        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Keys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917A-CDEE-4EEE-A92C-FC2925BDA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intru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 = learn?m: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close(X U {m}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ay!m: X /\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ose(X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esents all the possible information that the attacker can infer fro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we assu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k,m}  |-  encript(k,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encript(k,m), k</a:t>
            </a:r>
            <a:r>
              <a:rPr b="0" lang="en-US" sz="1600" spc="-1" strike="noStrike" baseline="30000">
                <a:solidFill>
                  <a:srgbClr val="009900"/>
                </a:solidFill>
                <a:latin typeface="Comic Sans MS"/>
              </a:rPr>
              <a:t>-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|- 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752F-762D-4A0B-9516-FF08F72B52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3160" y="2828880"/>
            <a:ext cx="1908360" cy="17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1400">
            <a:off x="3323880" y="5023800"/>
            <a:ext cx="2884320" cy="1500120"/>
          </a:xfrm>
          <a:custGeom>
            <a:avLst/>
            <a:gdLst>
              <a:gd name="textAreaLeft" fmla="*/ 634320 w 2884320"/>
              <a:gd name="textAreaRight" fmla="*/ 2250000 w 2884320"/>
              <a:gd name="textAreaTop" fmla="*/ 329760 h 1500120"/>
              <a:gd name="textAreaBottom" fmla="*/ 1170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692520" y="2538360"/>
            <a:ext cx="2233440" cy="17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5360" y="2889360"/>
            <a:ext cx="1847880" cy="17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0040" y="3282840"/>
            <a:ext cx="762120" cy="762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6280" y="3354480"/>
            <a:ext cx="761760" cy="761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9880" y="2936880"/>
            <a:ext cx="91440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091000">
            <a:off x="4319280" y="5713200"/>
            <a:ext cx="914400" cy="914400"/>
          </a:xfrm>
          <a:prstGeom prst="rtTriangle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49600" y="578160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7840" y="5375160"/>
            <a:ext cx="98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ke.Anne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9040" y="519912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ke.x.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7920" y="3079800"/>
            <a:ext cx="50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1760" y="3772080"/>
            <a:ext cx="6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920" y="54500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00920" y="547704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1160" y="300024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11720" y="42148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1520" y="3881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9200" y="4141800"/>
            <a:ext cx="5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520" y="1221840"/>
            <a:ext cx="9144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or’(Anne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Responder(Bob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Server(Jeeves)S  |||  Intruder’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= [fake,take/receive,send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’ = [take.x.y/learn][fake.x.y, leak/say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54" idx="1"/>
            <a:endCxn id="147" idx="2"/>
          </p:cNvCxnSpPr>
          <p:nvPr/>
        </p:nvCxnSpPr>
        <p:spPr>
          <a:xfrm flipV="1">
            <a:off x="5098680" y="5778000"/>
            <a:ext cx="749880" cy="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47" idx="0"/>
            <a:endCxn id="154" idx="3"/>
          </p:cNvCxnSpPr>
          <p:nvPr/>
        </p:nvCxnSpPr>
        <p:spPr>
          <a:xfrm>
            <a:off x="3686040" y="5771880"/>
            <a:ext cx="7660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1"/>
            <a:endCxn id="149" idx="1"/>
          </p:cNvCxnSpPr>
          <p:nvPr/>
        </p:nvCxnSpPr>
        <p:spPr>
          <a:xfrm flipH="1">
            <a:off x="3692160" y="3394080"/>
            <a:ext cx="6580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9" idx="3"/>
            <a:endCxn id="153" idx="3"/>
          </p:cNvCxnSpPr>
          <p:nvPr/>
        </p:nvCxnSpPr>
        <p:spPr>
          <a:xfrm flipH="1" flipV="1">
            <a:off x="5263920" y="3393720"/>
            <a:ext cx="662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6" idx="5"/>
            <a:endCxn id="151" idx="5"/>
          </p:cNvCxnSpPr>
          <p:nvPr/>
        </p:nvCxnSpPr>
        <p:spPr>
          <a:xfrm flipH="1" flipV="1">
            <a:off x="2050200" y="3933360"/>
            <a:ext cx="381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4"/>
            <a:endCxn id="146" idx="4"/>
          </p:cNvCxnSpPr>
          <p:nvPr/>
        </p:nvCxnSpPr>
        <p:spPr>
          <a:xfrm flipH="1">
            <a:off x="1757160" y="4044960"/>
            <a:ext cx="244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2" idx="3"/>
            <a:endCxn id="150" idx="3"/>
          </p:cNvCxnSpPr>
          <p:nvPr/>
        </p:nvCxnSpPr>
        <p:spPr>
          <a:xfrm flipH="1">
            <a:off x="7244640" y="4005360"/>
            <a:ext cx="3625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0" idx="4"/>
            <a:endCxn id="152" idx="4"/>
          </p:cNvCxnSpPr>
          <p:nvPr/>
        </p:nvCxnSpPr>
        <p:spPr>
          <a:xfrm flipH="1" flipV="1">
            <a:off x="7876800" y="4115880"/>
            <a:ext cx="230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6" idx="4"/>
            <a:endCxn id="147" idx="0"/>
          </p:cNvCxnSpPr>
          <p:nvPr/>
        </p:nvCxnSpPr>
        <p:spPr>
          <a:xfrm flipH="1" rot="16200000">
            <a:off x="2132640" y="4219560"/>
            <a:ext cx="1177200" cy="192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7" idx="2"/>
            <a:endCxn id="146" idx="5"/>
          </p:cNvCxnSpPr>
          <p:nvPr/>
        </p:nvCxnSpPr>
        <p:spPr>
          <a:xfrm flipH="1" flipV="1">
            <a:off x="2431440" y="4336560"/>
            <a:ext cx="3416760" cy="1442160"/>
          </a:xfrm>
          <a:prstGeom prst="curvedConnector5">
            <a:avLst>
              <a:gd name="adj1" fmla="val -17281"/>
              <a:gd name="adj2" fmla="val 33682"/>
              <a:gd name="adj3" fmla="val -172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9" idx="1"/>
            <a:endCxn id="147" idx="0"/>
          </p:cNvCxnSpPr>
          <p:nvPr/>
        </p:nvCxnSpPr>
        <p:spPr>
          <a:xfrm flipV="1" rot="10800000">
            <a:off x="3685320" y="3409560"/>
            <a:ext cx="7200" cy="2363040"/>
          </a:xfrm>
          <a:prstGeom prst="curvedConnector5">
            <a:avLst>
              <a:gd name="adj1" fmla="val 9447368"/>
              <a:gd name="adj2" fmla="val 49992"/>
              <a:gd name="adj3" fmla="val 944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47" idx="2"/>
            <a:endCxn id="149" idx="3"/>
          </p:cNvCxnSpPr>
          <p:nvPr/>
        </p:nvCxnSpPr>
        <p:spPr>
          <a:xfrm flipV="1">
            <a:off x="5848200" y="3409200"/>
            <a:ext cx="78480" cy="2369160"/>
          </a:xfrm>
          <a:prstGeom prst="curvedConnector5">
            <a:avLst>
              <a:gd name="adj1" fmla="val 758986"/>
              <a:gd name="adj2" fmla="val 50000"/>
              <a:gd name="adj3" fmla="val 758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0" idx="3"/>
            <a:endCxn id="147" idx="0"/>
          </p:cNvCxnSpPr>
          <p:nvPr/>
        </p:nvCxnSpPr>
        <p:spPr>
          <a:xfrm rot="5400000">
            <a:off x="4752000" y="3279600"/>
            <a:ext cx="1426320" cy="3560040"/>
          </a:xfrm>
          <a:prstGeom prst="curvedConnector5">
            <a:avLst>
              <a:gd name="adj1" fmla="val 32289"/>
              <a:gd name="adj2" fmla="val 58333"/>
              <a:gd name="adj3" fmla="val 322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7" idx="2"/>
            <a:endCxn id="150" idx="4"/>
          </p:cNvCxnSpPr>
          <p:nvPr/>
        </p:nvCxnSpPr>
        <p:spPr>
          <a:xfrm flipV="1">
            <a:off x="5848200" y="4595040"/>
            <a:ext cx="2052000" cy="118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47" idx="2"/>
          </p:cNvCxnSpPr>
          <p:nvPr/>
        </p:nvCxnSpPr>
        <p:spPr>
          <a:xfrm>
            <a:off x="5848200" y="5778000"/>
            <a:ext cx="1666080" cy="607320"/>
          </a:xfrm>
          <a:prstGeom prst="curvedConnector5">
            <a:avLst>
              <a:gd name="adj1" fmla="val 60816"/>
              <a:gd name="adj2" fmla="val 50000"/>
              <a:gd name="adj3" fmla="val 608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7244640" y="58881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F1CC-3185-4000-9552-77F96EBD82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03T11:07:46Z</dcterms:modified>
  <cp:revision>97</cp:revision>
  <dc:subject/>
  <dc:title>PowerPoint Presentation</dc:title>
</cp:coreProperties>
</file>