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C76F-62A7-4803-BCAC-C74F9CE5F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D33C-39F7-4C5B-A4D8-2A1A97F39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84248-9341-48B8-9C22-02B40AD33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9F17-4740-40AA-B068-3231F1C82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C24F4-6DB8-40E2-AA0B-E4D3F242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5B13E-E45E-4FA1-9138-D992C415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28F77-54E3-4FE4-8DFD-BFAB1FEE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ED9C5-EA04-4969-BF10-78E93F13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1AA6E-D87A-4964-B73F-2D837226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65229-DF88-42E1-8B96-68D9F20F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DF56D-9D7F-41B6-9C14-489D2577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877F4-08AD-4FB3-AFAC-91763CBC4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E22B4-008F-4528-A72C-3607409B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E08CD-F77C-4A07-8456-3ED97B2C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79745-AE65-49B0-B602-A3694ECE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CF308-F258-4231-94CC-8753DFC2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DBFFC-7B26-469C-A980-25FD56CA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70E8-7552-4D04-9CEC-BB6DCB508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6D290-1BF0-4E01-9776-8782EFF78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D4833-975C-498A-9E40-1A67E1895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B2728-FD46-4F99-BE0E-08DEE0E3B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F0BF8-EF92-45CF-AE26-186633F3E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2E31-8694-43CE-A673-9D84DA5E3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04CC6-BA19-4B96-8F7D-3C7584DB7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68580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ctu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2CBD-DFFD-4875-83E8-937445DBAF7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F03C-A509-4D34-A7CF-3885A92CDD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pressing Security Properties in CSP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properties: the goals that a protocol is meant to satisfy, relatively to specific kinds and levels of threat – the intruders and their capabi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consider the following security properti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Secrec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information leak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falsification of ide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Non-repudi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idence of the involvement of the other par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Anonym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ing the identity of agents wrt particular even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4BB58-A954-40A6-A9EF-B8A13FE89C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Signal.Claim_Secret.a.b.m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Traces(System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Wingdings 3"/>
                <a:ea typeface="Wingdings 3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not(leak.m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Traces(System)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As usual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B629-7305-4780-A0FD-A30453AE8C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uthentic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18600" y="1006560"/>
            <a:ext cx="859644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Comic Sans MS"/>
              </a:rPr>
              <a:t>The CSP approach is based on inserting signal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Running.a.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in 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s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nt 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executing a protocol run apparently with 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ommit.b.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in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s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nt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completed a protocol run apparently with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uthentication is achiev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f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Running.a.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ways precedes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ommit.b.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the traces of the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aker or stronger forms of authentication can be achieved by variations of the parameters of these signals and the constraints on th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75935-9D26-44C0-BB6B-80F58B3B10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uthentication in the Yahalom Pr.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Yahalom Protocol aims at providing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authentication of both parties 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uthentication of the initiator to the responder, and vicever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ill analyze the two authentication properties separate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requires two separate  enhancements of the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762F-C2A4-4C53-9276-73DE7146A4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Running_Initiator.a.b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 Commit_Responder.b.a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648F8-AF46-40AA-BFFD-8D364E76AC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860480" y="219384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213372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99160" y="211788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6019920"/>
            <a:ext cx="15228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82720" y="489096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7200" y="1649520"/>
            <a:ext cx="122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51680" y="1646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5040" y="16160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09520" y="2622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2589120"/>
            <a:ext cx="1428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6520" y="3068640"/>
            <a:ext cx="2276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.{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23520" y="3828960"/>
            <a:ext cx="369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b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31800" y="5326200"/>
            <a:ext cx="25369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32240" y="5872320"/>
            <a:ext cx="2273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Com_Resp.b.a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56600" y="4775040"/>
            <a:ext cx="2096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Init.a.b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59040" y="298764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3459240"/>
            <a:ext cx="24224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844280" y="4251240"/>
            <a:ext cx="475452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98960" y="571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9040" y="574524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87680" y="573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40364-5C0F-4B3D-885D-906D8F7292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 Running_Initiator.a.b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e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Commit_Responder.b.a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ll the Traces(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gain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7303-4885-4E1E-8DFB-81CBA77FF5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ommit_Initiator.a.b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 Running_Responder.b.a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88EF5-E1BF-4CE1-AC89-A3B3FE7F96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165400" y="219384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213372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04080" y="211788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300348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71800" y="573084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2120" y="1649520"/>
            <a:ext cx="122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56600" y="1646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29600" y="16160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14440" y="2622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192400"/>
            <a:ext cx="1428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28200" y="3313080"/>
            <a:ext cx="2276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.{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28080" y="3828960"/>
            <a:ext cx="369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b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68400" y="4579920"/>
            <a:ext cx="25369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6440" y="2854440"/>
            <a:ext cx="1965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Resp.b.a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61520" y="5597640"/>
            <a:ext cx="2096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Init.a.b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93840" y="262260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79840" y="3718080"/>
            <a:ext cx="24224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49200" y="4251240"/>
            <a:ext cx="475452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03880" y="571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93840" y="508968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92600" y="573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5500-ACAE-465E-813C-C2EBCEF156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 Running_Responder.b.a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e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Commit_Initiator.a.b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ll the Traces(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gain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E89EC-824D-4340-91D5-184703F4ED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on-repudi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vide the parties of an interaction with evidence so that later they cannot deny having particip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 Zhou-Gollmann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1   a -&gt; b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2   b -&gt; a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3   a 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4   b &lt;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5   a &lt;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k(m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where m is the message to be transmit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re the parties, j is the trusted 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R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c. are flags identifying the steps.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s a no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 S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tc. are signature keys known only to their own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got the message by present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B4DEC-F09A-42E3-8008-F632A5B348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recy and authentication 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both safety properties: </a:t>
            </a:r>
            <a:r>
              <a:rPr b="0" i="1" lang="en-US" sz="2400" spc="-1" strike="noStrike">
                <a:solidFill>
                  <a:srgbClr val="008080"/>
                </a:solidFill>
                <a:latin typeface="Comic Sans MS"/>
              </a:rPr>
              <a:t>a certain bad thing should not happ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Explicit annot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 the CSP approach, these properties are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d by “enhancing” the code of the processes with explicit signal claiming the success of the protocol wrt the  intended proper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crec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laim_secret.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not become known to the intru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uthentica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un with A ,  Commit with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atching of these two events guarrantees the identities of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EA1F-2897-4901-9259-C3C75924C1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The Zhou-Gollmann protocol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Non-Repudiation of Recipient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got the message by present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Non-Repudiation of Origin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sent the message by present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a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EC79-26A3-427B-8856-C69F7BFEAD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SP analysis of Non-Repudi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ation of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hou-Gollmann protoc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C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Agent, 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send.a.b.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 receive.a.b?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close(S U {m}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ftp.a.Jeeves?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close(S U {m}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evidence.a.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Close(S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epresent the capability of inferring new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erver(S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receive.a.Jeeves?. {f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.b.l.k}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-&gt; Server(S U {f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a50021"/>
                </a:solidFill>
                <a:latin typeface="Comic Sans MS"/>
              </a:rPr>
              <a:t>j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 Agent, m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ftp.a.Jeeves.m -&gt; Server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EA7C6-2630-45CA-8B0B-E596DFD166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505320" y="4800600"/>
            <a:ext cx="2117520" cy="824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3048120"/>
            <a:ext cx="641520" cy="6699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1981080"/>
            <a:ext cx="641520" cy="669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1981080"/>
            <a:ext cx="641520" cy="669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3"/>
            <a:endCxn id="247" idx="1"/>
          </p:cNvCxnSpPr>
          <p:nvPr/>
        </p:nvCxnSpPr>
        <p:spPr>
          <a:xfrm flipH="1" rot="16200000">
            <a:off x="2031120" y="3738960"/>
            <a:ext cx="2661480" cy="288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50" idx="5"/>
            <a:endCxn id="247" idx="3"/>
          </p:cNvCxnSpPr>
          <p:nvPr/>
        </p:nvCxnSpPr>
        <p:spPr>
          <a:xfrm rot="5400000">
            <a:off x="4459320" y="3715200"/>
            <a:ext cx="2661480" cy="335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7" idx="1"/>
            <a:endCxn id="249" idx="2"/>
          </p:cNvCxnSpPr>
          <p:nvPr/>
        </p:nvCxnSpPr>
        <p:spPr>
          <a:xfrm rot="10800000">
            <a:off x="3123360" y="2315520"/>
            <a:ext cx="381960" cy="2898000"/>
          </a:xfrm>
          <a:prstGeom prst="curvedConnector5">
            <a:avLst>
              <a:gd name="adj1" fmla="val 160000"/>
              <a:gd name="adj2" fmla="val 49993"/>
              <a:gd name="adj3" fmla="val 16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7" idx="3"/>
            <a:endCxn id="250" idx="6"/>
          </p:cNvCxnSpPr>
          <p:nvPr/>
        </p:nvCxnSpPr>
        <p:spPr>
          <a:xfrm flipV="1">
            <a:off x="5622480" y="2315880"/>
            <a:ext cx="429480" cy="2898000"/>
          </a:xfrm>
          <a:prstGeom prst="curvedConnector5">
            <a:avLst>
              <a:gd name="adj1" fmla="val 153271"/>
              <a:gd name="adj2" fmla="val 49993"/>
              <a:gd name="adj3" fmla="val 153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8" idx="3"/>
            <a:endCxn id="247" idx="0"/>
          </p:cNvCxnSpPr>
          <p:nvPr/>
        </p:nvCxnSpPr>
        <p:spPr>
          <a:xfrm flipH="1" rot="16200000">
            <a:off x="3871800" y="4107960"/>
            <a:ext cx="1181880" cy="203760"/>
          </a:xfrm>
          <a:prstGeom prst="curvedConnector5">
            <a:avLst>
              <a:gd name="adj1" fmla="val 54143"/>
              <a:gd name="adj2" fmla="val 49911"/>
              <a:gd name="adj3" fmla="val 541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7" idx="0"/>
            <a:endCxn id="248" idx="5"/>
          </p:cNvCxnSpPr>
          <p:nvPr/>
        </p:nvCxnSpPr>
        <p:spPr>
          <a:xfrm flipH="1" flipV="1" rot="5400000">
            <a:off x="4098600" y="4083840"/>
            <a:ext cx="1181880" cy="251640"/>
          </a:xfrm>
          <a:prstGeom prst="curvedConnector5">
            <a:avLst>
              <a:gd name="adj1" fmla="val 45825"/>
              <a:gd name="adj2" fmla="val 50000"/>
              <a:gd name="adj3" fmla="val 458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48" idx="7"/>
            <a:endCxn id="250" idx="3"/>
          </p:cNvCxnSpPr>
          <p:nvPr/>
        </p:nvCxnSpPr>
        <p:spPr>
          <a:xfrm flipH="1" flipV="1" rot="5400000">
            <a:off x="4862520" y="2504520"/>
            <a:ext cx="594360" cy="68976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"/>
          <p:cNvCxnSpPr>
            <a:stCxn id="248" idx="1"/>
            <a:endCxn id="249" idx="5"/>
          </p:cNvCxnSpPr>
          <p:nvPr/>
        </p:nvCxnSpPr>
        <p:spPr>
          <a:xfrm flipV="1" rot="16200000">
            <a:off x="3719160" y="2504160"/>
            <a:ext cx="594360" cy="68976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9" name=""/>
          <p:cNvCxnSpPr>
            <a:stCxn id="250" idx="0"/>
          </p:cNvCxnSpPr>
          <p:nvPr/>
        </p:nvCxnSpPr>
        <p:spPr>
          <a:xfrm flipH="1" flipV="1" rot="5400000">
            <a:off x="5532120" y="1569240"/>
            <a:ext cx="610200" cy="213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4004640" y="500220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78480" y="35053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360" y="38862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28480" y="35812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32960" y="403848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82080" y="274320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84360" y="281952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6" idx="2"/>
          </p:cNvCxnSpPr>
          <p:nvPr/>
        </p:nvCxnSpPr>
        <p:spPr>
          <a:xfrm flipH="1" rot="16200000">
            <a:off x="2540880" y="2768400"/>
            <a:ext cx="167040" cy="1000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68" name=""/>
          <p:cNvCxnSpPr>
            <a:stCxn id="265" idx="2"/>
          </p:cNvCxnSpPr>
          <p:nvPr/>
        </p:nvCxnSpPr>
        <p:spPr>
          <a:xfrm rot="5400000">
            <a:off x="6390000" y="2738880"/>
            <a:ext cx="167040" cy="9086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799800" y="25146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tp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35000" y="251460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tp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49" idx="0"/>
          </p:cNvCxnSpPr>
          <p:nvPr/>
        </p:nvCxnSpPr>
        <p:spPr>
          <a:xfrm flipV="1" rot="16200000">
            <a:off x="3017160" y="1553400"/>
            <a:ext cx="610200" cy="244800"/>
          </a:xfrm>
          <a:prstGeom prst="curvedConnector5">
            <a:avLst>
              <a:gd name="adj1" fmla="val 50000"/>
              <a:gd name="adj2" fmla="val 4992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026080" y="160020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idence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33080" y="1600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idence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Zhou-Gollmann protocol in CSP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5E41-3053-48EB-8E7B-6DEFA60834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nalysis of the Zhou-Gollmann protocol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Non-Repudiation of Recipien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a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a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ceive.a.j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Non-Repudiation of Origin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b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b.l.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b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b.l.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342"/>
                </a:solidFill>
                <a:latin typeface="Comic Sans MS"/>
              </a:rPr>
              <a:t>Again, these properties on traces can be proven automatic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5D6E-CCD6-4FEE-8FE2-8E65C7B6CD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543640" y="2590920"/>
            <a:ext cx="1523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96920" y="2590920"/>
            <a:ext cx="15242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recy and authentic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33066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590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054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882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294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93320" y="1569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48560" y="1557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98160" y="15699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48000" y="16066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94000" y="161784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39680" y="1569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5916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5748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63720" y="3276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7960" y="3292560"/>
            <a:ext cx="0" cy="1203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31000" y="3292560"/>
            <a:ext cx="0" cy="1203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2819520"/>
            <a:ext cx="56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63720" y="3048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9400" y="28195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05400" y="304812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63720" y="5181480"/>
            <a:ext cx="29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63720" y="5181480"/>
            <a:ext cx="2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846520" y="5037840"/>
            <a:ext cx="118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58680" y="353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9880" y="3324240"/>
            <a:ext cx="118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0" y="3914640"/>
            <a:ext cx="9216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86560" y="5270400"/>
            <a:ext cx="9180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46320" y="5133960"/>
            <a:ext cx="9216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5960" y="49957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im_Secret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6240" y="51325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mit with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50240" y="38098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29EC7-AA90-4004-9348-0AE4902964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ample: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83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1   a -&gt; b : a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2   b -&gt; s : b.{a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3   s -&gt; a : {b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4   a -&gt; b : {a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uthentication of the particip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008080"/>
                </a:solidFill>
                <a:latin typeface="Comic Sans MS"/>
              </a:rPr>
              <a:t>ab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should remain secr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e may require secrecy also on n</a:t>
            </a:r>
            <a:r>
              <a:rPr b="0" lang="en-US" sz="2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0421A-A8D0-4D84-8AF3-F85102F4AE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747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P description of the two parties - Orig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Key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Nonce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F81C-B83A-47D1-A525-8439C86B92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laim_Secret.a.b. 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laim_Secret.a.b. 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BCAD-4ED0-46BB-975C-79F5D4E66A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P description of the ser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er(J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receive.b.J.b .{a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,B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Agent 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J.a. {b. 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{a.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Nonce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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er(J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erver(J)   =  ||| Server(J,k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)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               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 Keys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B165-EEE9-4C0F-ADFE-06234E238A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intru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X) = learn?m: messages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close(X U {m}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ay!m: X /\ messages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X)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lose(X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esents all the possible information that the attacker can infer from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ically we assu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k,m}  |-  encript(k,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encript(k,m), k</a:t>
            </a:r>
            <a:r>
              <a:rPr b="0" lang="en-US" sz="1600" spc="-1" strike="noStrike" baseline="30000">
                <a:solidFill>
                  <a:srgbClr val="009900"/>
                </a:solidFill>
                <a:latin typeface="Comic Sans MS"/>
              </a:rPr>
              <a:t>-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}  |-  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Sq&lt;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&gt;} |- 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}  |-  Sq&lt;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&gt;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0767-1E17-4CC7-96E7-6EAB14C3CB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03160" y="2828880"/>
            <a:ext cx="1908360" cy="17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11400">
            <a:off x="3323880" y="5023800"/>
            <a:ext cx="2884320" cy="1500120"/>
          </a:xfrm>
          <a:custGeom>
            <a:avLst/>
            <a:gdLst>
              <a:gd name="textAreaLeft" fmla="*/ 634320 w 2884320"/>
              <a:gd name="textAreaRight" fmla="*/ 2250000 w 2884320"/>
              <a:gd name="textAreaTop" fmla="*/ 329760 h 1500120"/>
              <a:gd name="textAreaBottom" fmla="*/ 11703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3692520" y="2538360"/>
            <a:ext cx="2233440" cy="17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75360" y="2889360"/>
            <a:ext cx="1847880" cy="17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00040" y="3282840"/>
            <a:ext cx="762120" cy="7621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96280" y="3354480"/>
            <a:ext cx="761760" cy="7617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9880" y="2936880"/>
            <a:ext cx="914400" cy="914400"/>
          </a:xfrm>
          <a:prstGeom prst="rect">
            <a:avLst/>
          </a:prstGeom>
          <a:solidFill>
            <a:srgbClr val="66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e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8091000">
            <a:off x="4319280" y="5713200"/>
            <a:ext cx="914400" cy="914400"/>
          </a:xfrm>
          <a:prstGeom prst="rtTriangle">
            <a:avLst/>
          </a:prstGeom>
          <a:solidFill>
            <a:srgbClr val="ff7c8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49600" y="5781600"/>
            <a:ext cx="6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17840" y="5375160"/>
            <a:ext cx="98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ake.Anne.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39040" y="519912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ke.x.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7920" y="3079800"/>
            <a:ext cx="50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1760" y="3772080"/>
            <a:ext cx="6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920" y="545004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00920" y="547704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1160" y="300024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11720" y="421488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31520" y="38815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49200" y="4141800"/>
            <a:ext cx="5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520" y="1221840"/>
            <a:ext cx="9144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or’(Anne,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  |||  Responder(Bob,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  |||  Server(Jeeves)S  |||  Intruder’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= [fake,take/receive,send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’ = [take.x.y/learn][fake.x.y, leak/say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7" name=""/>
          <p:cNvCxnSpPr>
            <a:stCxn id="154" idx="1"/>
            <a:endCxn id="147" idx="2"/>
          </p:cNvCxnSpPr>
          <p:nvPr/>
        </p:nvCxnSpPr>
        <p:spPr>
          <a:xfrm flipV="1">
            <a:off x="5098680" y="5778000"/>
            <a:ext cx="749880" cy="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47" idx="0"/>
            <a:endCxn id="154" idx="3"/>
          </p:cNvCxnSpPr>
          <p:nvPr/>
        </p:nvCxnSpPr>
        <p:spPr>
          <a:xfrm>
            <a:off x="3686040" y="5771880"/>
            <a:ext cx="7660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1"/>
            <a:endCxn id="149" idx="1"/>
          </p:cNvCxnSpPr>
          <p:nvPr/>
        </p:nvCxnSpPr>
        <p:spPr>
          <a:xfrm flipH="1">
            <a:off x="3692160" y="3394080"/>
            <a:ext cx="6580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9" idx="3"/>
            <a:endCxn id="153" idx="3"/>
          </p:cNvCxnSpPr>
          <p:nvPr/>
        </p:nvCxnSpPr>
        <p:spPr>
          <a:xfrm flipH="1" flipV="1">
            <a:off x="5263920" y="3393720"/>
            <a:ext cx="66240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46" idx="5"/>
            <a:endCxn id="151" idx="5"/>
          </p:cNvCxnSpPr>
          <p:nvPr/>
        </p:nvCxnSpPr>
        <p:spPr>
          <a:xfrm flipH="1" flipV="1">
            <a:off x="2050200" y="3933360"/>
            <a:ext cx="3819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4"/>
            <a:endCxn id="146" idx="4"/>
          </p:cNvCxnSpPr>
          <p:nvPr/>
        </p:nvCxnSpPr>
        <p:spPr>
          <a:xfrm flipH="1">
            <a:off x="1757160" y="4044960"/>
            <a:ext cx="2448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2" idx="3"/>
            <a:endCxn id="150" idx="3"/>
          </p:cNvCxnSpPr>
          <p:nvPr/>
        </p:nvCxnSpPr>
        <p:spPr>
          <a:xfrm flipH="1">
            <a:off x="7244640" y="4005360"/>
            <a:ext cx="3625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50" idx="4"/>
            <a:endCxn id="152" idx="4"/>
          </p:cNvCxnSpPr>
          <p:nvPr/>
        </p:nvCxnSpPr>
        <p:spPr>
          <a:xfrm flipH="1" flipV="1">
            <a:off x="7876800" y="4115880"/>
            <a:ext cx="230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6" idx="4"/>
            <a:endCxn id="147" idx="0"/>
          </p:cNvCxnSpPr>
          <p:nvPr/>
        </p:nvCxnSpPr>
        <p:spPr>
          <a:xfrm flipH="1" rot="16200000">
            <a:off x="2132640" y="4219560"/>
            <a:ext cx="1177200" cy="192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47" idx="2"/>
            <a:endCxn id="146" idx="5"/>
          </p:cNvCxnSpPr>
          <p:nvPr/>
        </p:nvCxnSpPr>
        <p:spPr>
          <a:xfrm flipH="1" flipV="1">
            <a:off x="2431440" y="4336560"/>
            <a:ext cx="3416760" cy="1442160"/>
          </a:xfrm>
          <a:prstGeom prst="curvedConnector5">
            <a:avLst>
              <a:gd name="adj1" fmla="val -17281"/>
              <a:gd name="adj2" fmla="val 33682"/>
              <a:gd name="adj3" fmla="val -172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9" idx="1"/>
            <a:endCxn id="147" idx="0"/>
          </p:cNvCxnSpPr>
          <p:nvPr/>
        </p:nvCxnSpPr>
        <p:spPr>
          <a:xfrm flipV="1" rot="10800000">
            <a:off x="3685320" y="3409560"/>
            <a:ext cx="7200" cy="2363040"/>
          </a:xfrm>
          <a:prstGeom prst="curvedConnector5">
            <a:avLst>
              <a:gd name="adj1" fmla="val 9447368"/>
              <a:gd name="adj2" fmla="val 49992"/>
              <a:gd name="adj3" fmla="val 9447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47" idx="2"/>
            <a:endCxn id="149" idx="3"/>
          </p:cNvCxnSpPr>
          <p:nvPr/>
        </p:nvCxnSpPr>
        <p:spPr>
          <a:xfrm flipV="1">
            <a:off x="5848200" y="3409200"/>
            <a:ext cx="78480" cy="2369160"/>
          </a:xfrm>
          <a:prstGeom prst="curvedConnector5">
            <a:avLst>
              <a:gd name="adj1" fmla="val 758986"/>
              <a:gd name="adj2" fmla="val 50000"/>
              <a:gd name="adj3" fmla="val 758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50" idx="3"/>
            <a:endCxn id="147" idx="0"/>
          </p:cNvCxnSpPr>
          <p:nvPr/>
        </p:nvCxnSpPr>
        <p:spPr>
          <a:xfrm rot="5400000">
            <a:off x="4752000" y="3279600"/>
            <a:ext cx="1426320" cy="3560040"/>
          </a:xfrm>
          <a:prstGeom prst="curvedConnector5">
            <a:avLst>
              <a:gd name="adj1" fmla="val 32289"/>
              <a:gd name="adj2" fmla="val 58333"/>
              <a:gd name="adj3" fmla="val 322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47" idx="2"/>
            <a:endCxn id="150" idx="4"/>
          </p:cNvCxnSpPr>
          <p:nvPr/>
        </p:nvCxnSpPr>
        <p:spPr>
          <a:xfrm flipV="1">
            <a:off x="5848200" y="4595040"/>
            <a:ext cx="2052000" cy="1183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47" idx="2"/>
          </p:cNvCxnSpPr>
          <p:nvPr/>
        </p:nvCxnSpPr>
        <p:spPr>
          <a:xfrm>
            <a:off x="5848200" y="5778000"/>
            <a:ext cx="1666080" cy="607320"/>
          </a:xfrm>
          <a:prstGeom prst="curvedConnector5">
            <a:avLst>
              <a:gd name="adj1" fmla="val 60816"/>
              <a:gd name="adj2" fmla="val 50000"/>
              <a:gd name="adj3" fmla="val 608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7244640" y="58881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0A34-4F13-4ABD-AFC6-FC75885698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9:27:11Z</dcterms:created>
  <dc:creator>Catuscia Palamidessi</dc:creator>
  <dc:description/>
  <dc:language>en-US</dc:language>
  <cp:lastModifiedBy>Catuscia Palamidessi</cp:lastModifiedBy>
  <dcterms:modified xsi:type="dcterms:W3CDTF">2001-10-03T11:07:46Z</dcterms:modified>
  <cp:revision>97</cp:revision>
  <dc:subject/>
  <dc:title>PowerPoint Presentation</dc:title>
</cp:coreProperties>
</file>