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4CCAE-10B6-4C3E-8579-20E71E1142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816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DBEDF-BC7D-4FE5-BE58-E39CA5CD09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0284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89010-606D-45CB-87D8-1691DF76B3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6824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5068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6824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5068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E79A9-ED7D-496B-B6B2-E7E46E9F19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41F9B0-3872-4115-86F6-E6F9A5BC3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B56001-A817-4483-B950-976780B0F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4371B1-565B-4FA7-A125-231C21A9C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461B59-06DF-46C5-A02D-236B37AEF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CD28D1-9275-4502-A0B4-BF6D83F7D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143000" y="-36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541887-0E55-4DA9-9640-6428DC083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1449B0-B894-4CEF-8D42-30204AD6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D733F-99CB-441F-863F-4DFC67D3AA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0284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45FD16-68AD-4E88-A328-E62A724A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1D6D57-0A63-4417-B31D-34F394DC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3816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217541-5C9F-4026-9A26-396C1B72A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0284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965493-B779-4F99-B135-07B49E1E6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46824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068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46824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068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DCF787-8F7D-44B2-A2AA-362136DFC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085DE-4467-40FF-AC0E-C3A62BE079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80975-3FB1-420E-8052-23C6BFC582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511D1-9DBC-409B-8447-11342836A2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43000" y="-36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0E50E-A56F-46CC-BB2E-F39FF8D4FC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8C972-AEB3-4A06-9842-6A685DF597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0284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A5F35-EF20-41C5-8AA0-C0A031ABD9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40807-10F0-4F88-A729-4BFC7D99D1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9052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7320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1436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3504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>
            <a:off x="685800" y="6552720"/>
            <a:ext cx="2819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ectur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70102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8C8A1-E6E0-4CD2-A4EE-C5D8E2C9A22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95BC5-A4CB-4F39-9B4D-A7356486434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Expressing Security Properties in CSP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urity properties: the goals that a protocol is meant to satisfy, relatively to specific kinds and levels of threat – the intruders and their capabilit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will consider the following security properti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omic Sans MS"/>
              </a:rPr>
              <a:t>Secrec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 information leak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omic Sans MS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 falsification of identi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omic Sans MS"/>
              </a:rPr>
              <a:t>Non-repudi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vidence of the involvement of the other par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omic Sans MS"/>
              </a:rPr>
              <a:t>Anonym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tecting the identity of agents wrt particular event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B6982-15A5-4D29-A882-F3CD92B5E50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Exm: Secrecy in the Yahalom protocol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roperty to be verified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Signal.Claim_Secret.a.b.m </a:t>
            </a:r>
            <a:r>
              <a:rPr b="0" lang="en-US" sz="2400" spc="-1" strike="noStrike">
                <a:solidFill>
                  <a:srgbClr val="00808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 Traces(System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Wingdings 3"/>
                <a:ea typeface="Wingdings 3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not(leak.m </a:t>
            </a:r>
            <a:r>
              <a:rPr b="0" lang="en-US" sz="2400" spc="-1" strike="noStrike">
                <a:solidFill>
                  <a:srgbClr val="00808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 Traces(System) 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Comic Sans MS"/>
              </a:rPr>
              <a:t>As usual, this property can be verified automatically by checking the tra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5BD66-9BEA-407B-8D69-412F4AD1744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Authentication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18600" y="1006560"/>
            <a:ext cx="8596440" cy="53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Comic Sans MS"/>
              </a:rPr>
              <a:t>The CSP approach is based on inserting signal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Running.a.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(in </a:t>
            </a: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’s protocol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gent </a:t>
            </a:r>
            <a:r>
              <a:rPr b="0" lang="en-US" sz="2000" spc="-1" strike="noStrike">
                <a:solidFill>
                  <a:srgbClr val="990000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executing a protocol run apparently with </a:t>
            </a:r>
            <a:r>
              <a:rPr b="0" lang="en-US" sz="2000" spc="-1" strike="noStrike">
                <a:solidFill>
                  <a:srgbClr val="99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Commit.b.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(in 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’s protocol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gent 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has completed a protocol run apparently with 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uthentication is achiev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f </a:t>
            </a:r>
            <a:r>
              <a:rPr b="0" lang="en-US" sz="2800" spc="-1" strike="noStrike">
                <a:solidFill>
                  <a:srgbClr val="990000"/>
                </a:solidFill>
                <a:latin typeface="Comic Sans MS"/>
              </a:rPr>
              <a:t>Running.a.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lways precedes 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Commit.b.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the traces of the syst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aker or stronger forms of authentication can be achieved by variations of the parameters of these signals and the constraints on th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10A6B-8501-4F54-BEF0-34823425A7E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Authentication in the Yahalom Pr.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Yahalom Protocol aims at providing </a:t>
            </a:r>
            <a:r>
              <a:rPr b="0" lang="en-US" sz="2800" spc="-1" strike="noStrike">
                <a:solidFill>
                  <a:srgbClr val="990000"/>
                </a:solidFill>
                <a:latin typeface="Comic Sans MS"/>
              </a:rPr>
              <a:t>authentication of both parties 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uthentication of the initiator to the responder, and vicevers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will analyze the two authentication properties separatel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requires two separate  enhancements of the protoco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CCAEE-140D-4132-949E-82F8F650A84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Yahalom: authentication of initiator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SP description of the two parties - Enhanc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itiator’(a,n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) =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env?b: Agent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        </a:t>
            </a:r>
            <a:r>
              <a:rPr b="0" lang="en-US" sz="1800" spc="-1" strike="noStrike">
                <a:solidFill>
                  <a:srgbClr val="3333cc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end.a.b.a.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        </a:t>
            </a:r>
            <a:r>
              <a:rPr b="0" lang="en-US" sz="1800" spc="-1" strike="noStrike">
                <a:solidFill>
                  <a:srgbClr val="3333cc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[]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receive.J.a{b. k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.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.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ServerKey(a)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.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                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1800" spc="-1" strike="noStrike" baseline="-36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Key          </a:t>
            </a:r>
            <a:r>
              <a:rPr b="0" lang="en-US" sz="1800" spc="-1" strike="noStrike">
                <a:solidFill>
                  <a:srgbClr val="990000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signal.Running_Initiator.a.b.n</a:t>
            </a:r>
            <a:r>
              <a:rPr b="0" lang="en-US" sz="1800" spc="-1" strike="noStrike" baseline="-25000">
                <a:solidFill>
                  <a:srgbClr val="990000"/>
                </a:solidFill>
                <a:latin typeface="Comic Sans MS"/>
              </a:rPr>
              <a:t>a.</a:t>
            </a: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n</a:t>
            </a:r>
            <a:r>
              <a:rPr b="0" lang="en-US" sz="1800" spc="-1" strike="noStrike" baseline="-25000">
                <a:solidFill>
                  <a:srgbClr val="990000"/>
                </a:solidFill>
                <a:latin typeface="Comic Sans MS"/>
              </a:rPr>
              <a:t>b.</a:t>
            </a: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k</a:t>
            </a:r>
            <a:r>
              <a:rPr b="0" lang="en-US" sz="1800" spc="-1" strike="noStrike" baseline="-25000">
                <a:solidFill>
                  <a:srgbClr val="990000"/>
                </a:solidFill>
                <a:latin typeface="Comic Sans MS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              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1800" spc="-1" strike="noStrike" baseline="-36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Nonce          </a:t>
            </a:r>
            <a:r>
              <a:rPr b="0" lang="en-US" sz="1800" spc="-1" strike="noStrike">
                <a:solidFill>
                  <a:srgbClr val="3333cc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end.a.b.m.{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1800" spc="-1" strike="noStrike" baseline="-36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                 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m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T                </a:t>
            </a:r>
            <a:r>
              <a:rPr b="0" lang="en-US" sz="1800" spc="-1" strike="noStrike">
                <a:solidFill>
                  <a:srgbClr val="3333cc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ession(a,b,k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,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,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) 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Responder’(b,n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 ) =</a:t>
            </a: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[]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(receive.a.b.a.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a </a:t>
            </a:r>
            <a:r>
              <a:rPr b="0" lang="en-US" sz="1800" spc="-1" strike="noStrike">
                <a:solidFill>
                  <a:srgbClr val="008080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send.b.J.b .{a.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.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ServerKey(b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 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k</a:t>
            </a:r>
            <a:r>
              <a:rPr b="0" lang="en-US" sz="1800" spc="-1" strike="noStrike" baseline="-36000">
                <a:solidFill>
                  <a:srgbClr val="008080"/>
                </a:solidFill>
                <a:latin typeface="Comic Sans MS"/>
              </a:rPr>
              <a:t>ab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Key          </a:t>
            </a:r>
            <a:r>
              <a:rPr b="0" lang="en-US" sz="1800" spc="-1" strike="noStrike">
                <a:solidFill>
                  <a:srgbClr val="008080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receive.a.b.{a. k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ab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ServerKey(b) 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.{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k</a:t>
            </a:r>
            <a:r>
              <a:rPr b="0" lang="en-US" sz="1800" spc="-1" strike="noStrike" baseline="-36000">
                <a:solidFill>
                  <a:srgbClr val="008080"/>
                </a:solidFill>
                <a:latin typeface="Comic Sans MS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n</a:t>
            </a:r>
            <a:r>
              <a:rPr b="0" lang="en-US" sz="1800" spc="-1" strike="noStrike" baseline="-36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Nonce</a:t>
            </a:r>
            <a:r>
              <a:rPr b="0" lang="en-US" sz="1800" spc="-1" strike="noStrike">
                <a:solidFill>
                  <a:srgbClr val="008080"/>
                </a:solidFill>
                <a:latin typeface="Wingdings 3"/>
                <a:ea typeface="Wingdings 3"/>
              </a:rPr>
              <a:t></a:t>
            </a:r>
            <a:r>
              <a:rPr b="0" lang="en-US" sz="1800" spc="-1" strike="noStrike">
                <a:solidFill>
                  <a:srgbClr val="990000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signal. Commit_Responder.b.a.n</a:t>
            </a:r>
            <a:r>
              <a:rPr b="0" lang="en-US" sz="1800" spc="-1" strike="noStrike" baseline="-25000">
                <a:solidFill>
                  <a:srgbClr val="990000"/>
                </a:solidFill>
                <a:latin typeface="Comic Sans MS"/>
              </a:rPr>
              <a:t>a.</a:t>
            </a: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n</a:t>
            </a:r>
            <a:r>
              <a:rPr b="0" lang="en-US" sz="1800" spc="-1" strike="noStrike" baseline="-25000">
                <a:solidFill>
                  <a:srgbClr val="990000"/>
                </a:solidFill>
                <a:latin typeface="Comic Sans MS"/>
              </a:rPr>
              <a:t>b.</a:t>
            </a: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k</a:t>
            </a:r>
            <a:r>
              <a:rPr b="0" lang="en-US" sz="1800" spc="-1" strike="noStrike" baseline="-25000">
                <a:solidFill>
                  <a:srgbClr val="990000"/>
                </a:solidFill>
                <a:latin typeface="Comic Sans MS"/>
              </a:rPr>
              <a:t>ab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  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m 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T               </a:t>
            </a:r>
            <a:r>
              <a:rPr b="0" lang="en-US" sz="1800" spc="-1" strike="noStrike">
                <a:solidFill>
                  <a:srgbClr val="008080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Session(b,a,k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ab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,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,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) 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739D7-2F93-430C-94C7-D062D42271D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Yahalom: authentication of initiator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1860480" y="2193840"/>
            <a:ext cx="0" cy="425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191120" y="2133720"/>
            <a:ext cx="0" cy="425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599160" y="2117880"/>
            <a:ext cx="0" cy="425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6019920"/>
            <a:ext cx="152280" cy="759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782720" y="4890960"/>
            <a:ext cx="152280" cy="763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67200" y="1649520"/>
            <a:ext cx="1223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51680" y="1646280"/>
            <a:ext cx="1569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de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25040" y="1616040"/>
            <a:ext cx="94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09520" y="2622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981080" y="2589120"/>
            <a:ext cx="14288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.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96520" y="3068640"/>
            <a:ext cx="2276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.{a.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ServerKey(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423520" y="3828960"/>
            <a:ext cx="36939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{b.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ab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ServerKey(a)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{a.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ab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ServerKey(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31800" y="5326200"/>
            <a:ext cx="253692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{a.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ab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ServerKey(b)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{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k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332240" y="5872320"/>
            <a:ext cx="2273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Comic Sans MS"/>
              </a:rPr>
              <a:t>Com_Resp.b.a.n</a:t>
            </a:r>
            <a:r>
              <a:rPr b="0" lang="en-US" sz="1600" spc="-1" strike="noStrike" baseline="-25000">
                <a:solidFill>
                  <a:srgbClr val="990000"/>
                </a:solidFill>
                <a:latin typeface="Comic Sans MS"/>
              </a:rPr>
              <a:t>a.</a:t>
            </a:r>
            <a:r>
              <a:rPr b="0" lang="en-US" sz="1600" spc="-1" strike="noStrike">
                <a:solidFill>
                  <a:srgbClr val="990000"/>
                </a:solidFill>
                <a:latin typeface="Comic Sans MS"/>
              </a:rPr>
              <a:t>n</a:t>
            </a:r>
            <a:r>
              <a:rPr b="0" lang="en-US" sz="1600" spc="-1" strike="noStrike" baseline="-25000">
                <a:solidFill>
                  <a:srgbClr val="990000"/>
                </a:solidFill>
                <a:latin typeface="Comic Sans MS"/>
              </a:rPr>
              <a:t>b.</a:t>
            </a:r>
            <a:r>
              <a:rPr b="0" lang="en-US" sz="1600" spc="-1" strike="noStrike">
                <a:solidFill>
                  <a:srgbClr val="990000"/>
                </a:solidFill>
                <a:latin typeface="Comic Sans MS"/>
              </a:rPr>
              <a:t>k</a:t>
            </a:r>
            <a:r>
              <a:rPr b="0" lang="en-US" sz="1600" spc="-1" strike="noStrike" baseline="-25000">
                <a:solidFill>
                  <a:srgbClr val="990000"/>
                </a:solidFill>
                <a:latin typeface="Comic Sans MS"/>
              </a:rPr>
              <a:t>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56600" y="4775040"/>
            <a:ext cx="2096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Comic Sans MS"/>
              </a:rPr>
              <a:t>Run_Init.a.b.n</a:t>
            </a:r>
            <a:r>
              <a:rPr b="0" lang="en-US" sz="1600" spc="-1" strike="noStrike" baseline="-25000">
                <a:solidFill>
                  <a:srgbClr val="990000"/>
                </a:solidFill>
                <a:latin typeface="Comic Sans MS"/>
              </a:rPr>
              <a:t>a.</a:t>
            </a:r>
            <a:r>
              <a:rPr b="0" lang="en-US" sz="1600" spc="-1" strike="noStrike">
                <a:solidFill>
                  <a:srgbClr val="990000"/>
                </a:solidFill>
                <a:latin typeface="Comic Sans MS"/>
              </a:rPr>
              <a:t>n</a:t>
            </a:r>
            <a:r>
              <a:rPr b="0" lang="en-US" sz="1600" spc="-1" strike="noStrike" baseline="-25000">
                <a:solidFill>
                  <a:srgbClr val="990000"/>
                </a:solidFill>
                <a:latin typeface="Comic Sans MS"/>
              </a:rPr>
              <a:t>b.</a:t>
            </a:r>
            <a:r>
              <a:rPr b="0" lang="en-US" sz="1600" spc="-1" strike="noStrike">
                <a:solidFill>
                  <a:srgbClr val="990000"/>
                </a:solidFill>
                <a:latin typeface="Comic Sans MS"/>
              </a:rPr>
              <a:t>k</a:t>
            </a:r>
            <a:r>
              <a:rPr b="0" lang="en-US" sz="1600" spc="-1" strike="noStrike" baseline="-25000">
                <a:solidFill>
                  <a:srgbClr val="990000"/>
                </a:solidFill>
                <a:latin typeface="Comic Sans MS"/>
              </a:rPr>
              <a:t>ab</a:t>
            </a:r>
            <a:r>
              <a:rPr b="0" lang="en-US" sz="1600" spc="-1" strike="noStrike" baseline="-25000">
                <a:solidFill>
                  <a:srgbClr val="00808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859040" y="2987640"/>
            <a:ext cx="2332080" cy="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91120" y="3459240"/>
            <a:ext cx="2422440" cy="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1844280" y="4251240"/>
            <a:ext cx="4754520" cy="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98960" y="5718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59040" y="5745240"/>
            <a:ext cx="2332080" cy="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387680" y="573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74C15-788E-43D7-9935-A6B1557CA5B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Yahalom: authentication of initiator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roperty to be verified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signal. Running_Initiator.a.b.n</a:t>
            </a:r>
            <a:r>
              <a:rPr b="0" lang="en-US" sz="2400" spc="-1" strike="noStrike" baseline="-25000">
                <a:solidFill>
                  <a:srgbClr val="990000"/>
                </a:solidFill>
                <a:latin typeface="Comic Sans MS"/>
              </a:rPr>
              <a:t>a.</a:t>
            </a: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00"/>
                </a:solidFill>
                <a:latin typeface="Comic Sans MS"/>
              </a:rPr>
              <a:t>b.</a:t>
            </a: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k</a:t>
            </a:r>
            <a:r>
              <a:rPr b="0" lang="en-US" sz="2400" spc="-1" strike="noStrike" baseline="-25000">
                <a:solidFill>
                  <a:srgbClr val="990000"/>
                </a:solidFill>
                <a:latin typeface="Comic Sans MS"/>
              </a:rPr>
              <a:t>ab</a:t>
            </a:r>
            <a:r>
              <a:rPr b="0" lang="en-US" sz="2400" spc="-1" strike="noStrike" baseline="-25000">
                <a:solidFill>
                  <a:srgbClr val="00808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ced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signal.Commit_Responder.b.a.n</a:t>
            </a:r>
            <a:r>
              <a:rPr b="0" lang="en-US" sz="2400" spc="-1" strike="noStrike" baseline="-25000">
                <a:solidFill>
                  <a:srgbClr val="990000"/>
                </a:solidFill>
                <a:latin typeface="Comic Sans MS"/>
              </a:rPr>
              <a:t>a.</a:t>
            </a: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00"/>
                </a:solidFill>
                <a:latin typeface="Comic Sans MS"/>
              </a:rPr>
              <a:t>b.</a:t>
            </a: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k</a:t>
            </a:r>
            <a:r>
              <a:rPr b="0" lang="en-US" sz="2400" spc="-1" strike="noStrike" baseline="-25000">
                <a:solidFill>
                  <a:srgbClr val="990000"/>
                </a:solidFill>
                <a:latin typeface="Comic Sans MS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all the Traces(Syste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Again, this property can be verified automatically by checking the tra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6A03A-B1F9-4420-AC86-E4646C3A19A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Yahalom: authentication of responder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SP description of the two parties - Enhanc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itiator’(a,n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) =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env?b: Agent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        </a:t>
            </a:r>
            <a:r>
              <a:rPr b="0" lang="en-US" sz="1800" spc="-1" strike="noStrike">
                <a:solidFill>
                  <a:srgbClr val="3333cc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end.a.b.a.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        </a:t>
            </a:r>
            <a:r>
              <a:rPr b="0" lang="en-US" sz="1800" spc="-1" strike="noStrike">
                <a:solidFill>
                  <a:srgbClr val="3333cc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[]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receive.J.a{b. k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.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.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ServerKey(a)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.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                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1800" spc="-1" strike="noStrike" baseline="-36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Key        </a:t>
            </a:r>
            <a:r>
              <a:rPr b="0" lang="en-US" sz="1800" spc="-1" strike="noStrike">
                <a:solidFill>
                  <a:srgbClr val="3333cc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end.a.b.m.{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1800" spc="-1" strike="noStrike" baseline="-36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              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1800" spc="-1" strike="noStrike" baseline="-36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Nonce        </a:t>
            </a:r>
            <a:r>
              <a:rPr b="0" lang="en-US" sz="1800" spc="-1" strike="noStrike">
                <a:solidFill>
                  <a:srgbClr val="990000"/>
                </a:solidFill>
                <a:latin typeface="Wingdings 3"/>
                <a:ea typeface="Wingdings 3"/>
              </a:rPr>
              <a:t>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signal.Commit_Initiator.a.b.n</a:t>
            </a:r>
            <a:r>
              <a:rPr b="0" lang="en-US" sz="1800" spc="-1" strike="noStrike" baseline="-25000">
                <a:solidFill>
                  <a:srgbClr val="990000"/>
                </a:solidFill>
                <a:latin typeface="Comic Sans MS"/>
              </a:rPr>
              <a:t>a.</a:t>
            </a: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n</a:t>
            </a:r>
            <a:r>
              <a:rPr b="0" lang="en-US" sz="1800" spc="-1" strike="noStrike" baseline="-25000">
                <a:solidFill>
                  <a:srgbClr val="990000"/>
                </a:solidFill>
                <a:latin typeface="Comic Sans MS"/>
              </a:rPr>
              <a:t>b.</a:t>
            </a: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k</a:t>
            </a:r>
            <a:r>
              <a:rPr b="0" lang="en-US" sz="1800" spc="-1" strike="noStrike" baseline="-25000">
                <a:solidFill>
                  <a:srgbClr val="990000"/>
                </a:solidFill>
                <a:latin typeface="Comic Sans MS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                 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m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T              </a:t>
            </a:r>
            <a:r>
              <a:rPr b="0" lang="en-US" sz="1800" spc="-1" strike="noStrike">
                <a:solidFill>
                  <a:srgbClr val="3333cc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ession(a,b,k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,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,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) 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Responder’(b,n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 ) =</a:t>
            </a: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[]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(receive.a.b.a.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a </a:t>
            </a:r>
            <a:r>
              <a:rPr b="0" lang="en-US" sz="1800" spc="-1" strike="noStrike">
                <a:solidFill>
                  <a:srgbClr val="008080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send.b.J.b .{a.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.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ServerKey(b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 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k</a:t>
            </a:r>
            <a:r>
              <a:rPr b="0" lang="en-US" sz="1800" spc="-1" strike="noStrike" baseline="-36000">
                <a:solidFill>
                  <a:srgbClr val="008080"/>
                </a:solidFill>
                <a:latin typeface="Comic Sans MS"/>
              </a:rPr>
              <a:t>ab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Key          </a:t>
            </a:r>
            <a:r>
              <a:rPr b="0" lang="en-US" sz="1800" spc="-1" strike="noStrike">
                <a:solidFill>
                  <a:srgbClr val="990000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signal. Running_Responder.b.a.n</a:t>
            </a:r>
            <a:r>
              <a:rPr b="0" lang="en-US" sz="1800" spc="-1" strike="noStrike" baseline="-25000">
                <a:solidFill>
                  <a:srgbClr val="990000"/>
                </a:solidFill>
                <a:latin typeface="Comic Sans MS"/>
              </a:rPr>
              <a:t>a.</a:t>
            </a: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n</a:t>
            </a:r>
            <a:r>
              <a:rPr b="0" lang="en-US" sz="1800" spc="-1" strike="noStrike" baseline="-25000">
                <a:solidFill>
                  <a:srgbClr val="99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n</a:t>
            </a:r>
            <a:r>
              <a:rPr b="0" lang="en-US" sz="1800" spc="-1" strike="noStrike" baseline="-36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Nonce</a:t>
            </a:r>
            <a:r>
              <a:rPr b="0" lang="en-US" sz="1800" spc="-1" strike="noStrike">
                <a:solidFill>
                  <a:srgbClr val="008080"/>
                </a:solidFill>
                <a:latin typeface="Wingdings 3"/>
                <a:ea typeface="Wingdings 3"/>
              </a:rPr>
              <a:t>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receive.a.b.{a. k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ab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ServerKey(b) 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.{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k</a:t>
            </a:r>
            <a:r>
              <a:rPr b="0" lang="en-US" sz="1800" spc="-1" strike="noStrike" baseline="-36000">
                <a:solidFill>
                  <a:srgbClr val="008080"/>
                </a:solidFill>
                <a:latin typeface="Comic Sans MS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   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m 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T               </a:t>
            </a:r>
            <a:r>
              <a:rPr b="0" lang="en-US" sz="1800" spc="-1" strike="noStrike">
                <a:solidFill>
                  <a:srgbClr val="008080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Session(b,a,k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ab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,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,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) 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0EEE9-CC04-4648-80D1-1ED6EEE6978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Yahalom: authentication of responder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8" name=""/>
          <p:cNvSpPr/>
          <p:nvPr/>
        </p:nvSpPr>
        <p:spPr>
          <a:xfrm>
            <a:off x="2165400" y="2193840"/>
            <a:ext cx="0" cy="425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95680" y="2133720"/>
            <a:ext cx="0" cy="425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904080" y="2117880"/>
            <a:ext cx="0" cy="425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19720" y="3003480"/>
            <a:ext cx="152280" cy="763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071800" y="5730840"/>
            <a:ext cx="152280" cy="763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2120" y="1649520"/>
            <a:ext cx="1223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756600" y="1646280"/>
            <a:ext cx="1569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de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29600" y="1616040"/>
            <a:ext cx="94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14440" y="2622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86000" y="2192400"/>
            <a:ext cx="14288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.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228200" y="3313080"/>
            <a:ext cx="2276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.{a.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ServerKey(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728080" y="3828960"/>
            <a:ext cx="36939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{b.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ab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ServerKey(a)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{a.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ab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ServerKey(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868400" y="4579920"/>
            <a:ext cx="253692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{a.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ab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ServerKey(b)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{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k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36440" y="2854440"/>
            <a:ext cx="1965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Comic Sans MS"/>
              </a:rPr>
              <a:t>Run_Resp.b.a.n</a:t>
            </a:r>
            <a:r>
              <a:rPr b="0" lang="en-US" sz="1600" spc="-1" strike="noStrike" baseline="-25000">
                <a:solidFill>
                  <a:srgbClr val="990000"/>
                </a:solidFill>
                <a:latin typeface="Comic Sans MS"/>
              </a:rPr>
              <a:t>a.</a:t>
            </a:r>
            <a:r>
              <a:rPr b="0" lang="en-US" sz="1600" spc="-1" strike="noStrike">
                <a:solidFill>
                  <a:srgbClr val="990000"/>
                </a:solidFill>
                <a:latin typeface="Comic Sans MS"/>
              </a:rPr>
              <a:t>n</a:t>
            </a:r>
            <a:r>
              <a:rPr b="0" lang="en-US" sz="1600" spc="-1" strike="noStrike" baseline="-25000">
                <a:solidFill>
                  <a:srgbClr val="990000"/>
                </a:solidFill>
                <a:latin typeface="Comic Sans MS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61520" y="5597640"/>
            <a:ext cx="2096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Comic Sans MS"/>
              </a:rPr>
              <a:t>Run_Init.a.b.n</a:t>
            </a:r>
            <a:r>
              <a:rPr b="0" lang="en-US" sz="1600" spc="-1" strike="noStrike" baseline="-25000">
                <a:solidFill>
                  <a:srgbClr val="990000"/>
                </a:solidFill>
                <a:latin typeface="Comic Sans MS"/>
              </a:rPr>
              <a:t>a.</a:t>
            </a:r>
            <a:r>
              <a:rPr b="0" lang="en-US" sz="1600" spc="-1" strike="noStrike">
                <a:solidFill>
                  <a:srgbClr val="990000"/>
                </a:solidFill>
                <a:latin typeface="Comic Sans MS"/>
              </a:rPr>
              <a:t>n</a:t>
            </a:r>
            <a:r>
              <a:rPr b="0" lang="en-US" sz="1600" spc="-1" strike="noStrike" baseline="-25000">
                <a:solidFill>
                  <a:srgbClr val="990000"/>
                </a:solidFill>
                <a:latin typeface="Comic Sans MS"/>
              </a:rPr>
              <a:t>b.</a:t>
            </a:r>
            <a:r>
              <a:rPr b="0" lang="en-US" sz="1600" spc="-1" strike="noStrike">
                <a:solidFill>
                  <a:srgbClr val="990000"/>
                </a:solidFill>
                <a:latin typeface="Comic Sans MS"/>
              </a:rPr>
              <a:t>k</a:t>
            </a:r>
            <a:r>
              <a:rPr b="0" lang="en-US" sz="1600" spc="-1" strike="noStrike" baseline="-25000">
                <a:solidFill>
                  <a:srgbClr val="990000"/>
                </a:solidFill>
                <a:latin typeface="Comic Sans MS"/>
              </a:rPr>
              <a:t>ab</a:t>
            </a:r>
            <a:r>
              <a:rPr b="0" lang="en-US" sz="1600" spc="-1" strike="noStrike" baseline="-25000">
                <a:solidFill>
                  <a:srgbClr val="00808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193840" y="2622600"/>
            <a:ext cx="2332080" cy="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479840" y="3718080"/>
            <a:ext cx="2422440" cy="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149200" y="4251240"/>
            <a:ext cx="4754520" cy="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03880" y="571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193840" y="5089680"/>
            <a:ext cx="2332080" cy="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692600" y="573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1CECF-46C7-436C-B884-A9D1A4CF407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Yahalom: authentication of responder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roperty to be verified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signal. Running_Responder.b.a.n</a:t>
            </a:r>
            <a:r>
              <a:rPr b="0" lang="en-US" sz="2400" spc="-1" strike="noStrike" baseline="-25000">
                <a:solidFill>
                  <a:srgbClr val="990000"/>
                </a:solidFill>
                <a:latin typeface="Comic Sans MS"/>
              </a:rPr>
              <a:t>a.</a:t>
            </a: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00"/>
                </a:solidFill>
                <a:latin typeface="Comic Sans MS"/>
              </a:rPr>
              <a:t>b</a:t>
            </a:r>
            <a:r>
              <a:rPr b="0" lang="en-US" sz="2400" spc="-1" strike="noStrike" baseline="-25000">
                <a:solidFill>
                  <a:srgbClr val="00808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ced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signal.Commit_Initiator.a.b.n</a:t>
            </a:r>
            <a:r>
              <a:rPr b="0" lang="en-US" sz="2400" spc="-1" strike="noStrike" baseline="-25000">
                <a:solidFill>
                  <a:srgbClr val="990000"/>
                </a:solidFill>
                <a:latin typeface="Comic Sans MS"/>
              </a:rPr>
              <a:t>a.</a:t>
            </a: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00"/>
                </a:solidFill>
                <a:latin typeface="Comic Sans MS"/>
              </a:rPr>
              <a:t>b.</a:t>
            </a: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k</a:t>
            </a:r>
            <a:r>
              <a:rPr b="0" lang="en-US" sz="2400" spc="-1" strike="noStrike" baseline="-25000">
                <a:solidFill>
                  <a:srgbClr val="990000"/>
                </a:solidFill>
                <a:latin typeface="Comic Sans MS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all the Traces(Syste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Again, this property can be verified automatically by checking the tra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F8767-EF7A-437C-A81B-129DD23E70E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Non-repudiation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Comic Sans MS"/>
              </a:rPr>
              <a:t>Goal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rovide the parties of an interaction with evidence so that later they cannot deny having participa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Example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he Zhou-Gollmann protoco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essage 1   a -&gt; b :  {f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NRO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.b.l.c}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k</a:t>
            </a:r>
            <a:r>
              <a:rPr b="0" lang="en-US" sz="2000" spc="-1" strike="noStrike" baseline="-30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essage 2   b -&gt; a :  {f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NRR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.a.l.c}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k</a:t>
            </a:r>
            <a:r>
              <a:rPr b="0" lang="en-US" sz="2000" spc="-1" strike="noStrike" baseline="-30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essage 3   a -&gt; j :  {f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UB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.b.l.k}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k</a:t>
            </a:r>
            <a:r>
              <a:rPr b="0" lang="en-US" sz="2000" spc="-1" strike="noStrike" baseline="-30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essage 4   b &lt;-&gt; j :  {f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CON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.a.b.l.k}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k</a:t>
            </a:r>
            <a:r>
              <a:rPr b="0" lang="en-US" sz="2000" spc="-1" strike="noStrike" baseline="-30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essage 5   a &lt;-&gt; j :  {f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CON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.a.b.l.k}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k</a:t>
            </a:r>
            <a:r>
              <a:rPr b="0" lang="en-US" sz="2000" spc="-1" strike="noStrike" baseline="-30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k(m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where m is the message to be transmitt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are the parties, j is the trusted serv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NRO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,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NR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tc. are flags identifying the steps.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is a non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k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, Sk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etc. are signature keys known only to their own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an prove that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has got the message by presenting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{f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NRR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.a.l.c}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k</a:t>
            </a:r>
            <a:r>
              <a:rPr b="0" lang="en-US" sz="2000" spc="-1" strike="noStrike" baseline="-30000">
                <a:solidFill>
                  <a:srgbClr val="3333cc"/>
                </a:solidFill>
                <a:latin typeface="Comic Sans MS"/>
              </a:rPr>
              <a:t>b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d  </a:t>
            </a:r>
            <a:r>
              <a:rPr b="0" lang="en-US" sz="2000" spc="-1" strike="noStrike" baseline="-30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{f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CON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.a.b.l.k}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k</a:t>
            </a:r>
            <a:r>
              <a:rPr b="0" lang="en-US" sz="2000" spc="-1" strike="noStrike" baseline="-30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30159-BD8F-43AC-BD79-7BBD14B9A1A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Secrecy and authentication 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are both safety properties: </a:t>
            </a:r>
            <a:r>
              <a:rPr b="0" i="1" lang="en-US" sz="2400" spc="-1" strike="noStrike">
                <a:solidFill>
                  <a:srgbClr val="008080"/>
                </a:solidFill>
                <a:latin typeface="Comic Sans MS"/>
              </a:rPr>
              <a:t>a certain bad thing should not happ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Explicit annotation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In the CSP approach, these properties are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fined by “enhancing” the code of the processes with explicit signal claiming the success of the protocol wrt the  intended proper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crecy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Claim_secret. 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formation 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has not become known to the intrud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uthentication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Run with A ,  Commit with 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matching of these two events guarrantees the identities of 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39513-CC1A-4065-B4B7-845ACB5272E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The Zhou-Gollmann protocol</a:t>
            </a:r>
            <a:endParaRPr b="1" lang="en-US" sz="2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Comic Sans MS"/>
              </a:rPr>
              <a:t>Non-Repudiation of Recipient: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an prove that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as got the message by presenting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{f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NRR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.a.l.c}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Sk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Comic Sans MS"/>
              </a:rPr>
              <a:t>b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 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{f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CON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.a.b.l.k}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Sk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Non-Repudiation of Origin: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an prove that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as sent the message by presenting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{f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NRO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.b.l.c}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Sk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Comic Sans MS"/>
              </a:rPr>
              <a:t>a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 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{f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CON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.a.b.l.k}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Sk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048FE-936E-4C63-9F5A-AC14CF6449C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CSP analysis of Non-Repudiation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-5173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ecification of th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Zhou-Gollmann protoco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 CS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Agent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(S) =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[] 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b 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 Agent, m 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 S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  send.a.b.m -&gt; Agent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(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[]  receive.a.b?m -&gt; Agent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(close(S U {m})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[] ftp.a.Jeeves?m -&gt; Agent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(close(S U {m})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[] 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m 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 S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 evidence.a.m -&gt; Agent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(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-5173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Close(S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represent the capability of inferring new inform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Server(S) =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receive.a.Jeeves?. {f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Comic Sans MS"/>
              </a:rPr>
              <a:t>SUB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 .b.l.k}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Comic Sans MS"/>
              </a:rPr>
              <a:t>Sk</a:t>
            </a:r>
            <a:r>
              <a:rPr b="0" lang="en-US" sz="2000" spc="-1" strike="noStrike" baseline="-30000">
                <a:solidFill>
                  <a:srgbClr val="a50021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                  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-&gt; Server(S U {f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Comic Sans MS"/>
              </a:rPr>
              <a:t>CON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 .a.b.l.k}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Comic Sans MS"/>
              </a:rPr>
              <a:t>Sk</a:t>
            </a:r>
            <a:r>
              <a:rPr b="0" lang="en-US" sz="2000" spc="-1" strike="noStrike" baseline="-30000">
                <a:solidFill>
                  <a:srgbClr val="a50021"/>
                </a:solidFill>
                <a:latin typeface="Comic Sans MS"/>
              </a:rPr>
              <a:t>j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[] 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Comic Sans MS"/>
              </a:rPr>
              <a:t>b 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Comic Sans MS"/>
              </a:rPr>
              <a:t> Agent, m 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Comic Sans MS"/>
              </a:rPr>
              <a:t> S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 ftp.a.Jeeves.m -&gt; Server(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9C233-C557-4D49-8CFF-BDD16DCF785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505320" y="4800600"/>
            <a:ext cx="2117520" cy="8240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267080" y="3048120"/>
            <a:ext cx="641520" cy="66996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1981080"/>
            <a:ext cx="641520" cy="6699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410080" y="1981080"/>
            <a:ext cx="641520" cy="6699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stCxn id="249" idx="3"/>
            <a:endCxn id="247" idx="1"/>
          </p:cNvCxnSpPr>
          <p:nvPr/>
        </p:nvCxnSpPr>
        <p:spPr>
          <a:xfrm flipH="1" rot="16200000">
            <a:off x="2031120" y="3738960"/>
            <a:ext cx="2661480" cy="2880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2" name=""/>
          <p:cNvCxnSpPr>
            <a:stCxn id="250" idx="5"/>
            <a:endCxn id="247" idx="3"/>
          </p:cNvCxnSpPr>
          <p:nvPr/>
        </p:nvCxnSpPr>
        <p:spPr>
          <a:xfrm rot="5400000">
            <a:off x="4459320" y="3715200"/>
            <a:ext cx="2661480" cy="3358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3" name=""/>
          <p:cNvCxnSpPr>
            <a:stCxn id="247" idx="1"/>
            <a:endCxn id="249" idx="2"/>
          </p:cNvCxnSpPr>
          <p:nvPr/>
        </p:nvCxnSpPr>
        <p:spPr>
          <a:xfrm rot="10800000">
            <a:off x="3123360" y="2315520"/>
            <a:ext cx="381960" cy="2898000"/>
          </a:xfrm>
          <a:prstGeom prst="curvedConnector5">
            <a:avLst>
              <a:gd name="adj1" fmla="val 160000"/>
              <a:gd name="adj2" fmla="val 49993"/>
              <a:gd name="adj3" fmla="val 16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stCxn id="247" idx="3"/>
            <a:endCxn id="250" idx="6"/>
          </p:cNvCxnSpPr>
          <p:nvPr/>
        </p:nvCxnSpPr>
        <p:spPr>
          <a:xfrm flipV="1">
            <a:off x="5622480" y="2315880"/>
            <a:ext cx="429480" cy="2898000"/>
          </a:xfrm>
          <a:prstGeom prst="curvedConnector5">
            <a:avLst>
              <a:gd name="adj1" fmla="val 153271"/>
              <a:gd name="adj2" fmla="val 49993"/>
              <a:gd name="adj3" fmla="val 15327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stCxn id="248" idx="3"/>
            <a:endCxn id="247" idx="0"/>
          </p:cNvCxnSpPr>
          <p:nvPr/>
        </p:nvCxnSpPr>
        <p:spPr>
          <a:xfrm flipH="1" rot="16200000">
            <a:off x="3871800" y="4107960"/>
            <a:ext cx="1181880" cy="203760"/>
          </a:xfrm>
          <a:prstGeom prst="curvedConnector5">
            <a:avLst>
              <a:gd name="adj1" fmla="val 54143"/>
              <a:gd name="adj2" fmla="val 49911"/>
              <a:gd name="adj3" fmla="val 541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6" name=""/>
          <p:cNvCxnSpPr>
            <a:stCxn id="247" idx="0"/>
            <a:endCxn id="248" idx="5"/>
          </p:cNvCxnSpPr>
          <p:nvPr/>
        </p:nvCxnSpPr>
        <p:spPr>
          <a:xfrm flipH="1" flipV="1" rot="5400000">
            <a:off x="4098600" y="4083840"/>
            <a:ext cx="1181880" cy="251640"/>
          </a:xfrm>
          <a:prstGeom prst="curvedConnector5">
            <a:avLst>
              <a:gd name="adj1" fmla="val 45825"/>
              <a:gd name="adj2" fmla="val 50000"/>
              <a:gd name="adj3" fmla="val 4582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"/>
          <p:cNvCxnSpPr>
            <a:stCxn id="248" idx="7"/>
            <a:endCxn id="250" idx="3"/>
          </p:cNvCxnSpPr>
          <p:nvPr/>
        </p:nvCxnSpPr>
        <p:spPr>
          <a:xfrm flipH="1" flipV="1" rot="5400000">
            <a:off x="4862520" y="2504520"/>
            <a:ext cx="594360" cy="689760"/>
          </a:xfrm>
          <a:prstGeom prst="curvedConnector5">
            <a:avLst>
              <a:gd name="adj1" fmla="val 50000"/>
              <a:gd name="adj2" fmla="val 49973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"/>
          <p:cNvCxnSpPr>
            <a:stCxn id="248" idx="1"/>
            <a:endCxn id="249" idx="5"/>
          </p:cNvCxnSpPr>
          <p:nvPr/>
        </p:nvCxnSpPr>
        <p:spPr>
          <a:xfrm flipV="1" rot="16200000">
            <a:off x="3719160" y="2504160"/>
            <a:ext cx="594360" cy="689760"/>
          </a:xfrm>
          <a:prstGeom prst="curvedConnector5">
            <a:avLst>
              <a:gd name="adj1" fmla="val 50000"/>
              <a:gd name="adj2" fmla="val 49973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9" name=""/>
          <p:cNvCxnSpPr>
            <a:stCxn id="250" idx="0"/>
          </p:cNvCxnSpPr>
          <p:nvPr/>
        </p:nvCxnSpPr>
        <p:spPr>
          <a:xfrm flipH="1" flipV="1" rot="5400000">
            <a:off x="5532120" y="1569240"/>
            <a:ext cx="610200" cy="2134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0" name=""/>
          <p:cNvSpPr/>
          <p:nvPr/>
        </p:nvSpPr>
        <p:spPr>
          <a:xfrm>
            <a:off x="4004640" y="500220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378480" y="350532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.*.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360" y="38862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.*.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428480" y="358128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.*.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432960" y="4038480"/>
            <a:ext cx="10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.*.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382080" y="2743200"/>
            <a:ext cx="10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.*.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584360" y="2819520"/>
            <a:ext cx="10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.*.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7" name=""/>
          <p:cNvCxnSpPr>
            <a:stCxn id="266" idx="2"/>
          </p:cNvCxnSpPr>
          <p:nvPr/>
        </p:nvCxnSpPr>
        <p:spPr>
          <a:xfrm flipH="1" rot="16200000">
            <a:off x="2540880" y="2768400"/>
            <a:ext cx="167040" cy="1000800"/>
          </a:xfrm>
          <a:prstGeom prst="curved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68" name=""/>
          <p:cNvCxnSpPr>
            <a:stCxn id="265" idx="2"/>
          </p:cNvCxnSpPr>
          <p:nvPr/>
        </p:nvCxnSpPr>
        <p:spPr>
          <a:xfrm rot="5400000">
            <a:off x="6390000" y="2738880"/>
            <a:ext cx="167040" cy="908640"/>
          </a:xfrm>
          <a:prstGeom prst="curved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69" name=""/>
          <p:cNvSpPr/>
          <p:nvPr/>
        </p:nvSpPr>
        <p:spPr>
          <a:xfrm>
            <a:off x="3799800" y="251460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tp.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635000" y="2514600"/>
            <a:ext cx="68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tp.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1" name=""/>
          <p:cNvCxnSpPr>
            <a:stCxn id="249" idx="0"/>
          </p:cNvCxnSpPr>
          <p:nvPr/>
        </p:nvCxnSpPr>
        <p:spPr>
          <a:xfrm flipV="1" rot="16200000">
            <a:off x="3017160" y="1553400"/>
            <a:ext cx="610200" cy="244800"/>
          </a:xfrm>
          <a:prstGeom prst="curvedConnector5">
            <a:avLst>
              <a:gd name="adj1" fmla="val 50000"/>
              <a:gd name="adj2" fmla="val 49926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"/>
          <p:cNvSpPr/>
          <p:nvPr/>
        </p:nvSpPr>
        <p:spPr>
          <a:xfrm>
            <a:off x="2026080" y="160020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idence.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833080" y="160020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idence.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The Zhou-Gollmann protocol in CSP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A0EDC-C1D6-46C1-B6BD-8517FF5F291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Analysis of the Zhou-Gollmann protocol</a:t>
            </a:r>
            <a:endParaRPr b="1" lang="en-US" sz="2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Comic Sans MS"/>
              </a:rPr>
              <a:t>Non-Repudiation of Recipient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vidence.a.{f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NRR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.a.l.c}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k</a:t>
            </a:r>
            <a:r>
              <a:rPr b="0" lang="en-US" sz="2000" spc="-1" strike="noStrike" baseline="-30000">
                <a:solidFill>
                  <a:srgbClr val="3333cc"/>
                </a:solidFill>
                <a:latin typeface="Comic Sans MS"/>
              </a:rPr>
              <a:t>b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r 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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ent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(f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NRR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.a.l.c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vidence.a.{f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CON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.a.b.l.k}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k</a:t>
            </a:r>
            <a:r>
              <a:rPr b="0" lang="en-US" sz="2000" spc="-1" strike="noStrike" baseline="-30000">
                <a:solidFill>
                  <a:srgbClr val="3333cc"/>
                </a:solidFill>
                <a:latin typeface="Comic Sans MS"/>
              </a:rPr>
              <a:t>j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r 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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eceive.a.j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{f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CON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.a.b.l.k}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k</a:t>
            </a:r>
            <a:r>
              <a:rPr b="0" lang="en-US" sz="2000" spc="-1" strike="noStrike" baseline="-30000">
                <a:solidFill>
                  <a:srgbClr val="3333cc"/>
                </a:solidFill>
                <a:latin typeface="Comic Sans MS"/>
              </a:rPr>
              <a:t>j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r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Non-Repudiation of Origin: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vidence.b.{f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NRO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.b.l.c}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k</a:t>
            </a:r>
            <a:r>
              <a:rPr b="0" lang="en-US" sz="2000" spc="-1" strike="noStrike" baseline="-30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r 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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ent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(f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NRO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.b.l.c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vidence.b.{f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CON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.a.b.l.k}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k</a:t>
            </a:r>
            <a:r>
              <a:rPr b="0" lang="en-US" sz="2000" spc="-1" strike="noStrike" baseline="-30000">
                <a:solidFill>
                  <a:srgbClr val="3333cc"/>
                </a:solidFill>
                <a:latin typeface="Comic Sans MS"/>
              </a:rPr>
              <a:t>j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r 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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ent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(f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UB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.b.l.k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3342"/>
                </a:solidFill>
                <a:latin typeface="Comic Sans MS"/>
              </a:rPr>
              <a:t>Again, these properties on traces can be proven automatical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3F38F-3548-4860-B533-0B46D553019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543640" y="2590920"/>
            <a:ext cx="152388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96920" y="2590920"/>
            <a:ext cx="152424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Secrecy and authentication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4" name=""/>
          <p:cNvSpPr/>
          <p:nvPr/>
        </p:nvSpPr>
        <p:spPr>
          <a:xfrm>
            <a:off x="3306600" y="213372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95640" y="213372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59040" y="213372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05400" y="213372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88240" y="213372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29400" y="213372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93320" y="156996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48560" y="155736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698160" y="156996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448000" y="1606680"/>
            <a:ext cx="62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94000" y="1617840"/>
            <a:ext cx="62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539680" y="156996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59160" y="3276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57480" y="3276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63720" y="32767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7960" y="3292560"/>
            <a:ext cx="0" cy="1203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31000" y="3292560"/>
            <a:ext cx="0" cy="1203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95640" y="2819520"/>
            <a:ext cx="56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763720" y="304812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29400" y="28195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305400" y="3048120"/>
            <a:ext cx="58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63720" y="5181480"/>
            <a:ext cx="293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763720" y="5181480"/>
            <a:ext cx="29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2846520" y="5037840"/>
            <a:ext cx="1188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58680" y="353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59880" y="3324240"/>
            <a:ext cx="1180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0" y="3914640"/>
            <a:ext cx="92160" cy="92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86560" y="5270400"/>
            <a:ext cx="91800" cy="92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46320" y="5133960"/>
            <a:ext cx="92160" cy="92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5960" y="4995720"/>
            <a:ext cx="183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aim_Secret.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36240" y="513252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mit with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050240" y="380988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un with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23241-A472-4D8A-9219-98E9D23DF9E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Example: The Yahalom Protocol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839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rotoco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ssage 1   a -&gt; b : a.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ssage 2   b -&gt; s : b.{a.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ServerKey(b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ssage 3   s -&gt; a : {b.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ServerKey(a)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a.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ServerKey(b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ssage 4   a -&gt; b : {a.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ServerKey(b)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{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ka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Authentication of the participa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K</a:t>
            </a:r>
            <a:r>
              <a:rPr b="0" lang="en-US" sz="2800" spc="-1" strike="noStrike" baseline="-25000">
                <a:solidFill>
                  <a:srgbClr val="008080"/>
                </a:solidFill>
                <a:latin typeface="Comic Sans MS"/>
              </a:rPr>
              <a:t>ab 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should remain secr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We may require secrecy also on n</a:t>
            </a:r>
            <a:r>
              <a:rPr b="0" lang="en-US" sz="2800" spc="-1" strike="noStrike" baseline="-25000">
                <a:solidFill>
                  <a:srgbClr val="00808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B7027-29BF-4B45-892D-D2D479E17FA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Exm: Secrecy in the Yahalom protocol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87472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SP description of the two parties - Origin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itiator(a,n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) =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nv?b: Agent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        </a:t>
            </a:r>
            <a:r>
              <a:rPr b="0" lang="en-US" sz="2000" spc="-1" strike="noStrike">
                <a:solidFill>
                  <a:srgbClr val="3333cc"/>
                </a:solidFill>
                <a:latin typeface="Wingdings 3"/>
                <a:ea typeface="Wingdings 3"/>
              </a:rPr>
              <a:t>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end.a.b.a.n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        </a:t>
            </a:r>
            <a:r>
              <a:rPr b="0" lang="en-US" sz="2000" spc="-1" strike="noStrike">
                <a:solidFill>
                  <a:srgbClr val="3333cc"/>
                </a:solidFill>
                <a:latin typeface="Wingdings 3"/>
                <a:ea typeface="Wingdings 3"/>
              </a:rPr>
              <a:t>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[]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(receive.J.a{b. k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.n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.n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}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erverKey(a)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.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                  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2000" spc="-1" strike="noStrike" baseline="-36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 Key         </a:t>
            </a:r>
            <a:r>
              <a:rPr b="0" lang="en-US" sz="2000" spc="-1" strike="noStrike">
                <a:solidFill>
                  <a:srgbClr val="3333cc"/>
                </a:solidFill>
                <a:latin typeface="Wingdings 3"/>
                <a:ea typeface="Wingdings 3"/>
              </a:rPr>
              <a:t>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end.a.b.m.{n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}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2000" spc="-1" strike="noStrike" baseline="-36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                 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2000" spc="-1" strike="noStrike" baseline="-36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 Nonce       </a:t>
            </a:r>
            <a:r>
              <a:rPr b="0" lang="en-US" sz="2000" spc="-1" strike="noStrike">
                <a:solidFill>
                  <a:srgbClr val="3333cc"/>
                </a:solidFill>
                <a:latin typeface="Wingdings 3"/>
                <a:ea typeface="Wingdings 3"/>
              </a:rPr>
              <a:t>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ession(a,b,k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,n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,n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) 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                    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m 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 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Responder(b,n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 ) =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[]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(receive.a.b.a.n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a </a:t>
            </a:r>
            <a:r>
              <a:rPr b="0" lang="en-US" sz="2000" spc="-1" strike="noStrike">
                <a:solidFill>
                  <a:srgbClr val="008080"/>
                </a:solidFill>
                <a:latin typeface="Wingdings 3"/>
                <a:ea typeface="Wingdings 3"/>
              </a:rPr>
              <a:t>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send.b.J.b .{a.n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.n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}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ServerKey(b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  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k</a:t>
            </a:r>
            <a:r>
              <a:rPr b="0" lang="en-US" sz="2000" spc="-1" strike="noStrike" baseline="-36000">
                <a:solidFill>
                  <a:srgbClr val="008080"/>
                </a:solidFill>
                <a:latin typeface="Comic Sans MS"/>
              </a:rPr>
              <a:t>ab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 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 Key          </a:t>
            </a:r>
            <a:r>
              <a:rPr b="0" lang="en-US" sz="2000" spc="-1" strike="noStrike">
                <a:solidFill>
                  <a:srgbClr val="008080"/>
                </a:solidFill>
                <a:latin typeface="Wingdings 3"/>
                <a:ea typeface="Wingdings 3"/>
              </a:rPr>
              <a:t>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receive.a.b.{a. k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ab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}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ServerKey(b) 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.{n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}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k</a:t>
            </a:r>
            <a:r>
              <a:rPr b="0" lang="en-US" sz="2000" spc="-1" strike="noStrike" baseline="-36000">
                <a:solidFill>
                  <a:srgbClr val="008080"/>
                </a:solidFill>
                <a:latin typeface="Comic Sans MS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n</a:t>
            </a:r>
            <a:r>
              <a:rPr b="0" lang="en-US" sz="2000" spc="-1" strike="noStrike" baseline="-36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 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 Nonce</a:t>
            </a:r>
            <a:r>
              <a:rPr b="0" lang="en-US" sz="2000" spc="-1" strike="noStrike">
                <a:solidFill>
                  <a:srgbClr val="008080"/>
                </a:solidFill>
                <a:latin typeface="Wingdings 3"/>
                <a:ea typeface="Wingdings 3"/>
              </a:rPr>
              <a:t>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Session(b,a,k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ab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,n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,n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) 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    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m 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 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8BCFC-78A2-4E06-9082-5E0063D9627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Exm: Secrecy in the Yahalom protocol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SP description of the two parties - Enhanc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itiator’(a,n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) =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env?b: Agent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        </a:t>
            </a:r>
            <a:r>
              <a:rPr b="0" lang="en-US" sz="1800" spc="-1" strike="noStrike">
                <a:solidFill>
                  <a:srgbClr val="3333cc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end.a.b.a.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        </a:t>
            </a:r>
            <a:r>
              <a:rPr b="0" lang="en-US" sz="1800" spc="-1" strike="noStrike">
                <a:solidFill>
                  <a:srgbClr val="3333cc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[]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receive.J.a{b. k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.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.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ServerKey(a)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.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                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1800" spc="-1" strike="noStrike" baseline="-36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Key         </a:t>
            </a:r>
            <a:r>
              <a:rPr b="0" lang="en-US" sz="1800" spc="-1" strike="noStrike">
                <a:solidFill>
                  <a:srgbClr val="3333cc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end.a.b.m.{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1800" spc="-1" strike="noStrike" baseline="-36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               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1800" spc="-1" strike="noStrike" baseline="-36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Nonce       </a:t>
            </a:r>
            <a:r>
              <a:rPr b="0" lang="en-US" sz="1800" spc="-1" strike="noStrike">
                <a:solidFill>
                  <a:srgbClr val="990000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signal.Claim_Secret.a.b. k</a:t>
            </a:r>
            <a:r>
              <a:rPr b="0" lang="en-US" sz="1800" spc="-1" strike="noStrike" baseline="-25000">
                <a:solidFill>
                  <a:srgbClr val="990000"/>
                </a:solidFill>
                <a:latin typeface="Comic Sans MS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                  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m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T             </a:t>
            </a:r>
            <a:r>
              <a:rPr b="0" lang="en-US" sz="1800" spc="-1" strike="noStrike">
                <a:solidFill>
                  <a:srgbClr val="3333cc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ession(a,b,k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,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,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) 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Responder’(b,n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 ) =</a:t>
            </a: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[]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(receive.a.b.a.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a </a:t>
            </a:r>
            <a:r>
              <a:rPr b="0" lang="en-US" sz="1800" spc="-1" strike="noStrike">
                <a:solidFill>
                  <a:srgbClr val="008080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send.b.J.b .{a.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.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ServerKey(b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 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k</a:t>
            </a:r>
            <a:r>
              <a:rPr b="0" lang="en-US" sz="1800" spc="-1" strike="noStrike" baseline="-36000">
                <a:solidFill>
                  <a:srgbClr val="008080"/>
                </a:solidFill>
                <a:latin typeface="Comic Sans MS"/>
              </a:rPr>
              <a:t>ab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Key          </a:t>
            </a:r>
            <a:r>
              <a:rPr b="0" lang="en-US" sz="1800" spc="-1" strike="noStrike">
                <a:solidFill>
                  <a:srgbClr val="008080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receive.a.b.{a. k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ab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ServerKey(b) 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.{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k</a:t>
            </a:r>
            <a:r>
              <a:rPr b="0" lang="en-US" sz="1800" spc="-1" strike="noStrike" baseline="-36000">
                <a:solidFill>
                  <a:srgbClr val="008080"/>
                </a:solidFill>
                <a:latin typeface="Comic Sans MS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n</a:t>
            </a:r>
            <a:r>
              <a:rPr b="0" lang="en-US" sz="1800" spc="-1" strike="noStrike" baseline="-36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Nonce</a:t>
            </a:r>
            <a:r>
              <a:rPr b="0" lang="en-US" sz="1800" spc="-1" strike="noStrike">
                <a:solidFill>
                  <a:srgbClr val="008080"/>
                </a:solidFill>
                <a:latin typeface="Wingdings 3"/>
                <a:ea typeface="Wingdings 3"/>
              </a:rPr>
              <a:t></a:t>
            </a:r>
            <a:r>
              <a:rPr b="0" lang="en-US" sz="1800" spc="-1" strike="noStrike">
                <a:solidFill>
                  <a:srgbClr val="990000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signal.Claim_Secret.a.b. k</a:t>
            </a:r>
            <a:r>
              <a:rPr b="0" lang="en-US" sz="1800" spc="-1" strike="noStrike" baseline="-25000">
                <a:solidFill>
                  <a:srgbClr val="990000"/>
                </a:solidFill>
                <a:latin typeface="Comic Sans MS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  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m 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T               </a:t>
            </a:r>
            <a:r>
              <a:rPr b="0" lang="en-US" sz="1800" spc="-1" strike="noStrike">
                <a:solidFill>
                  <a:srgbClr val="008080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Session(b,a,k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ab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,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,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) 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994A7-6549-45EE-91BA-4CE07E9E47F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Exm: Secrecy in the Yahalom protocol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SP description of the serv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erver(J,k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) =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[]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(receive.b.J.b .{a.n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.n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}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erverKey(b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A,B 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 Agent          </a:t>
            </a:r>
            <a:r>
              <a:rPr b="0" lang="en-US" sz="2000" spc="-1" strike="noStrike">
                <a:solidFill>
                  <a:srgbClr val="3333cc"/>
                </a:solidFill>
                <a:latin typeface="Wingdings 3"/>
                <a:ea typeface="Wingdings 3"/>
              </a:rPr>
              <a:t>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end.J.a. {b. k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.n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.n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}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erverKey(a)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.{a.k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}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erverKey(b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2000" spc="-1" strike="noStrike" baseline="-36000">
                <a:solidFill>
                  <a:srgbClr val="3333cc"/>
                </a:solidFill>
                <a:latin typeface="Comic Sans MS"/>
              </a:rPr>
              <a:t>b 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,n</a:t>
            </a:r>
            <a:r>
              <a:rPr b="0" lang="en-US" sz="2000" spc="-1" strike="noStrike" baseline="-36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 Nonce</a:t>
            </a:r>
            <a:r>
              <a:rPr b="0" lang="en-US" sz="2000" spc="-1" strike="noStrike">
                <a:solidFill>
                  <a:srgbClr val="3333cc"/>
                </a:solidFill>
                <a:latin typeface="Wingdings 3"/>
                <a:ea typeface="Wingdings 3"/>
              </a:rPr>
              <a:t>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erver(J,k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) 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Server(J)   =  ||| Server(J,k</a:t>
            </a:r>
            <a:r>
              <a:rPr b="0" lang="en-US" sz="2000" spc="-1" strike="noStrike" baseline="-25000">
                <a:solidFill>
                  <a:srgbClr val="009900"/>
                </a:solidFill>
                <a:latin typeface="Comic Sans MS"/>
              </a:rPr>
              <a:t>ab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)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                   </a:t>
            </a: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k</a:t>
            </a:r>
            <a:r>
              <a:rPr b="0" lang="en-US" sz="1600" spc="-1" strike="noStrike" baseline="-25000">
                <a:solidFill>
                  <a:srgbClr val="009900"/>
                </a:solidFill>
                <a:latin typeface="Comic Sans MS"/>
              </a:rPr>
              <a:t>ab</a:t>
            </a: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9900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 Keys</a:t>
            </a:r>
            <a:r>
              <a:rPr b="0" lang="en-US" sz="1600" spc="-1" strike="noStrike" baseline="-25000">
                <a:solidFill>
                  <a:srgbClr val="009900"/>
                </a:solidFill>
                <a:latin typeface="Comic Sans MS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6300D-2F39-4F43-9119-CD08C8A5882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Exm: Secrecy in the Yahalom protocol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SP description of the intrud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Intruder(X) = learn?m: messages </a:t>
            </a:r>
            <a:r>
              <a:rPr b="0" lang="en-US" sz="1800" spc="-1" strike="noStrike">
                <a:solidFill>
                  <a:srgbClr val="3333cc"/>
                </a:solidFill>
                <a:latin typeface="Wingdings 3"/>
                <a:ea typeface="Wingdings 3"/>
              </a:rPr>
              <a:t>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Intruder(close(X U {m}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                          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[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                          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ay!m: X /\ messages </a:t>
            </a:r>
            <a:r>
              <a:rPr b="0" lang="en-US" sz="1800" spc="-1" strike="noStrike">
                <a:solidFill>
                  <a:srgbClr val="3333cc"/>
                </a:solidFill>
                <a:latin typeface="Wingdings 3"/>
                <a:ea typeface="Wingdings 3"/>
              </a:rPr>
              <a:t>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Intruder(X)</a:t>
            </a:r>
            <a:r>
              <a:rPr b="0" lang="en-US" sz="1800" spc="-1" strike="noStrike">
                <a:solidFill>
                  <a:srgbClr val="3333cc"/>
                </a:solidFill>
                <a:latin typeface="Wingdings 3"/>
                <a:ea typeface="Wingdings 3"/>
              </a:rPr>
              <a:t>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lose(X)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resents all the possible information that the attacker can infer from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ypically we assum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{k,m}  |-  encript(k,m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{encript(k,m), k</a:t>
            </a:r>
            <a:r>
              <a:rPr b="0" lang="en-US" sz="1600" spc="-1" strike="noStrike" baseline="30000">
                <a:solidFill>
                  <a:srgbClr val="009900"/>
                </a:solidFill>
                <a:latin typeface="Comic Sans MS"/>
              </a:rPr>
              <a:t>-1</a:t>
            </a: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}  |-  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{Sq&lt;x</a:t>
            </a:r>
            <a:r>
              <a:rPr b="0" lang="en-US" sz="1600" spc="-1" strike="noStrike" baseline="-25000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,…,x</a:t>
            </a:r>
            <a:r>
              <a:rPr b="0" lang="en-US" sz="1600" spc="-1" strike="noStrike" baseline="-25000">
                <a:solidFill>
                  <a:srgbClr val="009900"/>
                </a:solidFill>
                <a:latin typeface="Comic Sans MS"/>
              </a:rPr>
              <a:t>n</a:t>
            </a: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&gt;} |- x</a:t>
            </a:r>
            <a:r>
              <a:rPr b="0" lang="en-US" sz="1600" spc="-1" strike="noStrike" baseline="-25000">
                <a:solidFill>
                  <a:srgbClr val="0099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{x</a:t>
            </a:r>
            <a:r>
              <a:rPr b="0" lang="en-US" sz="1600" spc="-1" strike="noStrike" baseline="-25000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,…,x</a:t>
            </a:r>
            <a:r>
              <a:rPr b="0" lang="en-US" sz="1600" spc="-1" strike="noStrike" baseline="-25000">
                <a:solidFill>
                  <a:srgbClr val="009900"/>
                </a:solidFill>
                <a:latin typeface="Comic Sans MS"/>
              </a:rPr>
              <a:t>n</a:t>
            </a: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}  |-  Sq&lt;x</a:t>
            </a:r>
            <a:r>
              <a:rPr b="0" lang="en-US" sz="1600" spc="-1" strike="noStrike" baseline="-25000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,…,x</a:t>
            </a:r>
            <a:r>
              <a:rPr b="0" lang="en-US" sz="1600" spc="-1" strike="noStrike" baseline="-25000">
                <a:solidFill>
                  <a:srgbClr val="009900"/>
                </a:solidFill>
                <a:latin typeface="Comic Sans MS"/>
              </a:rPr>
              <a:t>n</a:t>
            </a: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&gt;}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8FF4D-F12D-40F2-AEC3-48473C942C2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803160" y="2828880"/>
            <a:ext cx="1908360" cy="17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0811400">
            <a:off x="3323880" y="5023800"/>
            <a:ext cx="2884320" cy="1500120"/>
          </a:xfrm>
          <a:custGeom>
            <a:avLst/>
            <a:gdLst>
              <a:gd name="textAreaLeft" fmla="*/ 634320 w 2884320"/>
              <a:gd name="textAreaRight" fmla="*/ 2250000 w 2884320"/>
              <a:gd name="textAreaTop" fmla="*/ 329760 h 1500120"/>
              <a:gd name="textAreaBottom" fmla="*/ 1170360 h 15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Exm: Secrecy in the Yahalom protocol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49" name=""/>
          <p:cNvSpPr/>
          <p:nvPr/>
        </p:nvSpPr>
        <p:spPr>
          <a:xfrm>
            <a:off x="3692520" y="2538360"/>
            <a:ext cx="2233440" cy="174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975360" y="2889360"/>
            <a:ext cx="1847880" cy="1706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00040" y="3282840"/>
            <a:ext cx="762120" cy="7621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496280" y="3354480"/>
            <a:ext cx="761760" cy="7617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o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49880" y="2936880"/>
            <a:ext cx="914400" cy="914400"/>
          </a:xfrm>
          <a:prstGeom prst="rect">
            <a:avLst/>
          </a:prstGeom>
          <a:solidFill>
            <a:srgbClr val="66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e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8091000">
            <a:off x="4319280" y="5713200"/>
            <a:ext cx="914400" cy="914400"/>
          </a:xfrm>
          <a:prstGeom prst="rtTriangle">
            <a:avLst/>
          </a:prstGeom>
          <a:solidFill>
            <a:srgbClr val="ff7c8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49600" y="5781600"/>
            <a:ext cx="6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17840" y="5375160"/>
            <a:ext cx="98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ake.Anne.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539040" y="5199120"/>
            <a:ext cx="895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ake.x.B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787920" y="3079800"/>
            <a:ext cx="502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01760" y="3772080"/>
            <a:ext cx="67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ce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86920" y="5450040"/>
            <a:ext cx="5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ea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00920" y="547704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21160" y="3000240"/>
            <a:ext cx="66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ce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911720" y="4214880"/>
            <a:ext cx="68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ce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31520" y="38815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49200" y="4141800"/>
            <a:ext cx="50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82520" y="1221840"/>
            <a:ext cx="914400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or’(Anne,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S  |||  Responder(Bob,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S  |||  Server(Jeeves)S  |||  Intruder’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S’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 = [fake,take/receive,send]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’ = [take.x.y/learn][fake.x.y, leak/say]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67" name=""/>
          <p:cNvCxnSpPr>
            <a:stCxn id="154" idx="1"/>
            <a:endCxn id="147" idx="2"/>
          </p:cNvCxnSpPr>
          <p:nvPr/>
        </p:nvCxnSpPr>
        <p:spPr>
          <a:xfrm flipV="1">
            <a:off x="5098680" y="5778000"/>
            <a:ext cx="749880" cy="6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47" idx="0"/>
            <a:endCxn id="154" idx="3"/>
          </p:cNvCxnSpPr>
          <p:nvPr/>
        </p:nvCxnSpPr>
        <p:spPr>
          <a:xfrm>
            <a:off x="3686040" y="5771880"/>
            <a:ext cx="766080" cy="7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53" idx="1"/>
            <a:endCxn id="149" idx="1"/>
          </p:cNvCxnSpPr>
          <p:nvPr/>
        </p:nvCxnSpPr>
        <p:spPr>
          <a:xfrm flipH="1">
            <a:off x="3692160" y="3394080"/>
            <a:ext cx="658080" cy="1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49" idx="3"/>
            <a:endCxn id="153" idx="3"/>
          </p:cNvCxnSpPr>
          <p:nvPr/>
        </p:nvCxnSpPr>
        <p:spPr>
          <a:xfrm flipH="1" flipV="1">
            <a:off x="5263920" y="3393720"/>
            <a:ext cx="662400" cy="1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46" idx="5"/>
            <a:endCxn id="151" idx="5"/>
          </p:cNvCxnSpPr>
          <p:nvPr/>
        </p:nvCxnSpPr>
        <p:spPr>
          <a:xfrm flipH="1" flipV="1">
            <a:off x="2050200" y="3933360"/>
            <a:ext cx="381960" cy="40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51" idx="4"/>
            <a:endCxn id="146" idx="4"/>
          </p:cNvCxnSpPr>
          <p:nvPr/>
        </p:nvCxnSpPr>
        <p:spPr>
          <a:xfrm flipH="1">
            <a:off x="1757160" y="4044960"/>
            <a:ext cx="24480" cy="551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52" idx="3"/>
            <a:endCxn id="150" idx="3"/>
          </p:cNvCxnSpPr>
          <p:nvPr/>
        </p:nvCxnSpPr>
        <p:spPr>
          <a:xfrm flipH="1">
            <a:off x="7244640" y="4005360"/>
            <a:ext cx="362520" cy="34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50" idx="4"/>
            <a:endCxn id="152" idx="4"/>
          </p:cNvCxnSpPr>
          <p:nvPr/>
        </p:nvCxnSpPr>
        <p:spPr>
          <a:xfrm flipH="1" flipV="1">
            <a:off x="7876800" y="4115880"/>
            <a:ext cx="2304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46" idx="4"/>
            <a:endCxn id="147" idx="0"/>
          </p:cNvCxnSpPr>
          <p:nvPr/>
        </p:nvCxnSpPr>
        <p:spPr>
          <a:xfrm flipH="1" rot="16200000">
            <a:off x="2132640" y="4219560"/>
            <a:ext cx="1177200" cy="1929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47" idx="2"/>
            <a:endCxn id="146" idx="5"/>
          </p:cNvCxnSpPr>
          <p:nvPr/>
        </p:nvCxnSpPr>
        <p:spPr>
          <a:xfrm flipH="1" flipV="1">
            <a:off x="2431440" y="4336560"/>
            <a:ext cx="3416760" cy="1442160"/>
          </a:xfrm>
          <a:prstGeom prst="curvedConnector5">
            <a:avLst>
              <a:gd name="adj1" fmla="val -17281"/>
              <a:gd name="adj2" fmla="val 33682"/>
              <a:gd name="adj3" fmla="val -172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stCxn id="149" idx="1"/>
            <a:endCxn id="147" idx="0"/>
          </p:cNvCxnSpPr>
          <p:nvPr/>
        </p:nvCxnSpPr>
        <p:spPr>
          <a:xfrm flipV="1" rot="10800000">
            <a:off x="3685320" y="3409560"/>
            <a:ext cx="7200" cy="2363040"/>
          </a:xfrm>
          <a:prstGeom prst="curvedConnector5">
            <a:avLst>
              <a:gd name="adj1" fmla="val 9447368"/>
              <a:gd name="adj2" fmla="val 49992"/>
              <a:gd name="adj3" fmla="val 944736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47" idx="2"/>
            <a:endCxn id="149" idx="3"/>
          </p:cNvCxnSpPr>
          <p:nvPr/>
        </p:nvCxnSpPr>
        <p:spPr>
          <a:xfrm flipV="1">
            <a:off x="5848200" y="3409200"/>
            <a:ext cx="78480" cy="2369160"/>
          </a:xfrm>
          <a:prstGeom prst="curvedConnector5">
            <a:avLst>
              <a:gd name="adj1" fmla="val 758986"/>
              <a:gd name="adj2" fmla="val 50000"/>
              <a:gd name="adj3" fmla="val 758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50" idx="3"/>
            <a:endCxn id="147" idx="0"/>
          </p:cNvCxnSpPr>
          <p:nvPr/>
        </p:nvCxnSpPr>
        <p:spPr>
          <a:xfrm rot="5400000">
            <a:off x="4752000" y="3279600"/>
            <a:ext cx="1426320" cy="3560040"/>
          </a:xfrm>
          <a:prstGeom prst="curvedConnector5">
            <a:avLst>
              <a:gd name="adj1" fmla="val 32289"/>
              <a:gd name="adj2" fmla="val 58333"/>
              <a:gd name="adj3" fmla="val 322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47" idx="2"/>
            <a:endCxn id="150" idx="4"/>
          </p:cNvCxnSpPr>
          <p:nvPr/>
        </p:nvCxnSpPr>
        <p:spPr>
          <a:xfrm flipV="1">
            <a:off x="5848200" y="4595040"/>
            <a:ext cx="2052000" cy="11833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47" idx="2"/>
          </p:cNvCxnSpPr>
          <p:nvPr/>
        </p:nvCxnSpPr>
        <p:spPr>
          <a:xfrm>
            <a:off x="5848200" y="5778000"/>
            <a:ext cx="1666080" cy="607320"/>
          </a:xfrm>
          <a:prstGeom prst="curvedConnector5">
            <a:avLst>
              <a:gd name="adj1" fmla="val 60816"/>
              <a:gd name="adj2" fmla="val 50000"/>
              <a:gd name="adj3" fmla="val 6081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2" name=""/>
          <p:cNvSpPr/>
          <p:nvPr/>
        </p:nvSpPr>
        <p:spPr>
          <a:xfrm>
            <a:off x="7244640" y="5888160"/>
            <a:ext cx="5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ea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52D16-642E-46F7-93DB-DB398A0209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5T09:27:11Z</dcterms:created>
  <dc:creator>Catuscia Palamidessi</dc:creator>
  <dc:description/>
  <dc:language>en-US</dc:language>
  <cp:lastModifiedBy>Catuscia Palamidessi</cp:lastModifiedBy>
  <dcterms:modified xsi:type="dcterms:W3CDTF">2001-10-03T11:07:46Z</dcterms:modified>
  <cp:revision>97</cp:revision>
  <dc:subject/>
  <dc:title>PowerPoint Presentation</dc:title>
</cp:coreProperties>
</file>