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F3D-1FDF-478C-877B-01663FDE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A51-8B4E-4D27-BF58-68835334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4DC-E015-49CA-A27D-3F1DA073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042-D7A1-4758-AD0E-56041173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7EC-CD2F-42ED-BFD7-563D1048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21E-E9FD-4C90-8EDC-823FD9FB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6D6-3DE3-4127-969E-5396474C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215-6D0F-4A03-B303-859AD68F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1C3-EB1D-4782-931D-5D745F41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812-C3C6-4EFC-A846-0B9024F2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3BB-7FA2-4069-A16E-A4AA175F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8AC-01F1-4BF2-8434-F0E54D33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798-2E53-430A-9D50-D7A350067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ryption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ce T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Novemb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ing occurs by taking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, 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mputing the inverse us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(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urity of the scheme follows from the one-way feature of the coll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blocks of input and encrypt entir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l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potential problem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ook attacks, use the righ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 of Op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odes defined in Federal Information Process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de Book – separately encrypt each block, patterns recognizable, “codebook” can be buil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 Block Chaining – XOR plaintext with previous ciphertext block, then encrypt, use initialization vector for first block, makes identical inputs look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text Feedback – take previous ciphertext, encrypt, then XOR with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eedback – encrypt previous output, then XOR with plaintext to get ciphertext, uses counters to determine where to take from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essage into consecutive blocks of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ssibly have to augment the last block with some pad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 each block with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 each block with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atenate blocks less padding to get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Construction results in ciphertexts that reveal the exact length of the original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cceptable and completely hiding the length is fu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schemes that hide some information about the length of the plaintext can easily be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w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S (Rijnd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Encryption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Institute of Standards and Technology search for standard replacement for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bit block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, 192, 256 bit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sts announced in August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p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jnd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er:  Rijnd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Daemen and Vincent Rijmen (Belg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n algorithm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keys which are multiples of 32 bits and block sizes which are multiples of 64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ounds changes based on ke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aster than the othe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chedule for Rijnda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cipher key (varies depending on key length, uses linear recurrence re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aken from the expanded cipher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hen rotated, passed through the S-box, and XOR’d with a round dependent constant (constants based on similar computation to S-b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r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if both block and key are 128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if either block or key is 192 bits and neither are longer than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if either block or key is 256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ijnda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dd Round Key Step (XOR a subkey with the 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 Sub (each byte of the block is replaced by its substitute from an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re arranged in a rectangle and shif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            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5  9 13      1  5  9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6 10 14      6 10 14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7 11 15     11 15  3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8 12 16     16  4  8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-box i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9 124 119 123 242 107 111 1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8   1 103  43 254 215 171 1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2 130 201 125 250  89  71 2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73 212 162 175 156 164 114 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3 253 147  38  54  63 247 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2 165 229 241 113 216  49 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 199  35 195  24 150   5 1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  18 128 226 235  39 178 1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 131  44  26  27 110  90 1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2  59 214 179  41 227  47 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3 209   0 237  32 252 177  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6 203 190  57  74  76  88 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8 239 170 251  67  77  51 1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9 249   2 127  80  60 159 1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1 163  64 143 146 157  56 2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8 182 218  33  16 255 243 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5  12  19 236  95 151  68 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6 167 126  61 100  93  25 1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6 129  79 220  34  42 144 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0 238 184  20 222  94  11 2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4  50  58  10  73   6  36  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4 211 172  98 145 149 228 1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1 200  55 109 141 213  78 1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8  86 244 234 101 122 174  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6 120  37  46  28 166 180 1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2 221 116  31  75 189 139 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12  62 181 102  72   3 246 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7  53  87 185 134 193  29 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5 248 152  17 105 217 142 1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55  30 135 233 206  85  40 2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40 161 137  13 191 230  66 1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5 153  45  15 176  84 187 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Colu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multiplication performed where each column is multiplied b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3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2 3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1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1 1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ound key (XOR subkey for current 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tra final round is added where the mix column step is o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19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eavesdrops on the line and possibly gets the sender to encrypt a message of the adversary’s choice and/or gets the sender to decrypt a ciphertext of the adversary’s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oblivious:  choice of plaintext does not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dependent:  choice of plaintext does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Plain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encryption of any plain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Cipher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decryption of any cipher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s of Secure Encryp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pseudorandom function, one can construct secure private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trapdoor one-way permutation, one can construct secure public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e schemes must employ a probabilistic (randomized) encryption algorithm so that one cannot distinguish two encryptions of the same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there are less Stream Ciphers in use than 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use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random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generation/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ly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andom number) and generate key pa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,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t initial stat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ng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plain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x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of the encryption algorithm with inp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1^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at cipher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new stat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ing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y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again so that the plain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so hard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ever reuse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key is reused, same stream of output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keep track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lways depend on other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ay to agree on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Cipher with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ss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by selecting se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pply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algorithm selects a uniform st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ke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compu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 selects a random permut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collection of trapdoor permutations, along with a trapdo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ublic-key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rivate-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ncrypting a b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encryption algorithm randomly selects an elem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(r),b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2:00:19Z</dcterms:created>
  <dc:creator>Brice Alan Toth</dc:creator>
  <dc:description/>
  <dc:language>en-US</dc:language>
  <cp:lastModifiedBy>Brice Alan Toth</cp:lastModifiedBy>
  <dcterms:modified xsi:type="dcterms:W3CDTF">2001-11-19T23:16:55Z</dcterms:modified>
  <cp:revision>31</cp:revision>
  <dc:subject/>
  <dc:title>Encryption Schemes</dc:title>
</cp:coreProperties>
</file>