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96D-3EEA-43DE-8CE1-4270D4E2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012-388C-47B5-9A45-3DBFEC9A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AA8-4CBF-4522-BA92-93EC2D2F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3F8-01EE-41BD-AFFD-004734EB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C85-99AF-4A5E-906E-9DC94B3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659-94E1-494A-AEA5-6FD82EC9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34C-DA74-4192-8983-81EF9102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1E0-1164-4467-A004-FA658027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7D1-9A35-42F4-9160-AE44D43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2F6-722D-447B-91FA-D02B6C6A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E33-BDE0-484C-90CD-28DDC0F0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ED0-3219-4A2A-9E54-D7F2B7DA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B0FF-0F0F-4D61-AA89-228309CE9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e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Novemb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ing occurs by taking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, 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puting the inverse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(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of the scheme follows from the one-way feature of the coll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locks of input and encrypt entir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potential problem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ook attacks, use the righ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 of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odes defined in Federal Information Process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de Book – separately encrypt each block, patterns recognizable, “codebook” can be buil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 Block Chaining – XOR plaintext with previous ciphertext block, then encrypt, use initialization vector for first block, makes identical inputs look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text Feedback – take previous ciphertext, encrypt, then XOR with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eedback – encrypt previous output, then XOR with plaintext to get ciphertext, uses counters to determine where to take from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essage into consecutive block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ssibly have to augment the last block with some pad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 each block with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each block with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atenate blocks less padding to get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Construction results in ciphertexts that reveal the exact length of the original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cceptable and completely hiding the length is f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schemes that hide some information about the length of the plaintext can easily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 (Rijnd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Encryptio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nstitute of Standards and Technology search for standard replacement fo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bit block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, 192, 256 bi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ts announced in August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:  Rijnd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Daemen and Vincent Rijmen (Belg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n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keys which are multiples of 32 bits and block sizes which are multiples of 64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ounds changes based on k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aster than the othe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chedule for Rijnd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cipher key (varies depending on key length, uses linear recurrence 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aken from the expanded cipher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hen rotated, passed through the S-box, and XOR’d with a round dependent constant (constants based on similar computation to S-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if both block and key are 12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f either block or key is 192 bits and neither are longer tha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if either block or key is 25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ijnda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dd Round Key Step (XOR a subkey with the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Sub (each byte of the block is replaced by its substitute from an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re arranged in a rectangle and shif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    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5  9 13      1  5  9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6 10 14      6 10 14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7 11 15     11 15  3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8 12 16     16  4  8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-box i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9 124 119 123 242 107 111 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8   1 103  43 254 215 171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2 130 201 125 250  89  71 2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73 212 162 175 156 164 114 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3 253 147  38  54  63 247 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2 165 229 241 113 216  49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 199  35 195  24 150   5 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  18 128 226 235  39 178 1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 131  44  26  27 110  90 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2  59 214 179  41 227  47 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3 209   0 237  32 252 177  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6 203 190  57  74  76  88 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8 239 170 251  67  77  51 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9 249   2 127  80  60 159 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1 163  64 143 146 157  56 2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8 182 218  33  16 255 243 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5  12  19 236  95 151  68 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 167 126  61 100  93  25 1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6 129  79 220  34  42 144 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0 238 184  20 222  94  11 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4  50  58  10  73   6  36  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4 211 172  98 145 149 228 1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1 200  55 109 141 213  78 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8  86 244 234 101 122 174  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6 120  37  46  28 166 180 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2 221 116  31  75 189 139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12  62 181 102  72   3 246 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  53  87 185 134 193  29 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5 248 152  17 105 217 142 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55  30 135 233 206  85  40 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40 161 137  13 191 230  66 1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5 153  45  15 176  84 187 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multiplication performed where each column is multiplied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3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1 1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und key (XOR subkey for current 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ra final round is added where the mix column step is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1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eavesdrops on the line and possibly gets the sender to encrypt a message of the adversary’s choice and/or gets the sender to decrypt a ciphertext of the adversary’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oblivious:  choice of plaintext does not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dependent:  choice of plaintext does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Plain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encryption of any plain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decryption of any cipher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s of Secure Encryp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pseudorandom function, one can construct secure private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trapdoor one-way permutation, one can construct secure public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 schemes must employ a probabilistic (randomized) encryption algorithm so that one cannot distinguish two encryptions of the same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there are less Stream Ciphers in use than 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se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random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generation/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ly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andom number) and generate key pa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initial stat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plain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x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of the encryption algorithm with in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^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cipher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ew stat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ing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y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again so that the plain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so hard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ever reuse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key is reused, same stream of output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eep track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lways depend on 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ay to agree o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Cipher with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ss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by selecting s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algorithm selects a uniform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compu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 selects a random permu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collection of trapdoor permutations, along with a trapdo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ublic-key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crypting a 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ncryption algorithm randomly selects an ele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(r),b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00:19Z</dcterms:created>
  <dc:creator>Brice Alan Toth</dc:creator>
  <dc:description/>
  <dc:language>en-US</dc:language>
  <cp:lastModifiedBy>Brice Alan Toth</cp:lastModifiedBy>
  <dcterms:modified xsi:type="dcterms:W3CDTF">2001-11-19T23:16:55Z</dcterms:modified>
  <cp:revision>31</cp:revision>
  <dc:subject/>
  <dc:title>Encryption Schemes</dc:title>
</cp:coreProperties>
</file>