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5EF7-AF23-4295-AD8F-56C2751EC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2860-3B58-4A0C-ACFE-F1950952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6CEA-4BC9-42F2-B52A-C8F5AEC51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3D44-351D-450B-9B8A-380500E85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05B8-C743-46C6-9C2B-DA1949D6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7933-5B3B-4D7E-9936-6C3F1B2E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63BB-F903-4B6D-8334-9D6212F4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6021-BBAF-41A9-9925-ED4466F8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1C3A-0252-4487-B55F-A9E97570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9EE7-B054-4757-821D-ABF09592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85E7-07F1-4AB8-B577-7E78C78F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A814-9B48-4D9A-8262-BA47778E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E4F8-7585-45BF-86D8-59DAC62C7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cryption Sche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ce T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 November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-key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ypting occurs by taking ciphertex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y, 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mputing the inverse us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(p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y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urity of the scheme follows from the one-way feature of the coll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blocks of input and encrypt entire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usable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m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in mind potential problem ar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 pad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 v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ook attacks, use the right m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s of Ope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propa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in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Modes defined in Federal Information Processing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Code Book – separately encrypt each block, patterns recognizable, “codebook” can be built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pher Block Chaining – XOR plaintext with previous ciphertext block, then encrypt, use initialization vector for first block, makes identical inputs look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phertext Feedback – take previous ciphertext, encrypt, then XOR with plai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Feedback – encrypt previous output, then XOR with plaintext to get ciphertext, uses counters to determine where to take from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Constru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key 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rypt plai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message into consecutive blocks of leng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ossibly have to augment the last block with some pad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rypt each block with encryption ke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ypt cipher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ypt each block with decryption ke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oncatenate blocks less padding to get plai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sic Construction results in ciphertexts that reveal the exact length of the original plai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cceptable and completely hiding the length is fut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ryption schemes that hide some information about the length of the plaintext can easily be constru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w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ES (Rijnda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Encryption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Institute of Standards and Technology search for standard replacement for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 bit block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, 192, 256 bit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ists announced in August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p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jnd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ner:  Rijnda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 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 Cip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te-key Metho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-key Metho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an Daemen and Vincent Rijmen (Belgi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an algorithm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keys which are multiples of 32 bits and block sizes which are multiples of 64 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rounds changes based on key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faster than the other candi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Schedule for Rijnda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 cipher key (varies depending on key length, uses linear recurrence rel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keys are taken from the expanded cipher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keys are then rotated, passed through the S-box, and XOR’d with a round dependent constant (constants based on similar computation to S-bo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 r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if both block and key are 128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 if either block or key is 192 bits and neither are longer than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 if either block or key is 256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Rijnda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Add Round Key Step (XOR a subkey with the blo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rou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te Sub (each byte of the block is replaced by its substitute from an S-bo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tes are arranged in a rectangle and shift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            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5  9 13      1  5  9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6 10 14      6 10 14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7 11 15     11 15  3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 8 12 16     16  4  8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-box i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99 124 119 123 242 107 111 1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48   1 103  43 254 215 171 1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02 130 201 125 250  89  71 2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73 212 162 175 156 164 114 1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83 253 147  38  54  63 247 2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52 165 229 241 113 216  49 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4 199  35 195  24 150   5 1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7  18 128 226 235  39 178 1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9 131  44  26  27 110  90 1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82  59 214 179  41 227  47 1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83 209   0 237  32 252 177  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06 203 190  57  74  76  88 2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08 239 170 251  67  77  51 1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69 249   2 127  80  60 159 1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81 163  64 143 146 157  56 2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88 182 218  33  16 255 243 2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05  12  19 236  95 151  68 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96 167 126  61 100  93  25 1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96 129  79 220  34  42 144 1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70 238 184  20 222  94  11 2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24  50  58  10  73   6  36  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94 211 172  98 145 149 228 1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31 200  55 109 141 213  78 1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08  86 244 234 101 122 174   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86 120  37  46  28 166 180 1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32 221 116  31  75 189 139 1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12  62 181 102  72   3 246 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97  53  87 185 134 193  29 1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25 248 152  17 105 217 142 1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55  30 135 233 206  85  40 2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40 161 137  13 191 230  66 1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65 153  45  15 176  84 187 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 Colum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rix multiplication performed where each column is multiplied by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3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2 3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1 2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1 1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round key (XOR subkey for current r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tra final round is added where the mix column step is omi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8487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4191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ive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sary eavesdrops on the line and possibly gets the sender to encrypt a message of the adversary’s choice and/or gets the sender to decrypt a ciphertext of the adversary’s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-oblivious:  choice of plaintext does not depend on the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-dependent:  choice of plaintext does depend on the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sen Plaintext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ker obtains the encryption of any plaintext of its choice (under the key being attack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sen Ciphertext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ker obtains the decryption of any ciphertext of its choice (under the key being attack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s of Secure Encryption Sc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y ide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any pseudorandom function, one can construct secure private-key encryption sche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any trapdoor one-way permutation, one can construct secure public-key encryption sche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ure schemes must employ a probabilistic (randomized) encryption algorithm so that one cannot distinguish two encryptions of the same me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am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there are less Stream Ciphers in use than Block Cip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to use cor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eudorandom Gen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am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Co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-generation/Initial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formly 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random number) and generate key pai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r,r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et initial state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rypting Plai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 plaintex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ke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ta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=|x|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it suffix of the encryption algorithm with inpu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1^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+l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 that ciphertext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new state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+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ypting Cipher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ypt ciphertex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ke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ta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=|y|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it suffix again so that the plaintext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am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they so hard to 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never reuse a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key is reused, same stream of output gen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keep track of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always depend on other th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way to agree on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am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-key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Constru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 Cipher with leng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essag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key by selecting se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pplying func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ryption algorithm selects a uniform str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produces ciphertex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r,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r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ypt ciphertex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r,y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ke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comput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-key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Constru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 selects a random permut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a collection of trapdoor permutations, along with a trapdoo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rves as the public-key and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rves as the private-k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encrypting a bi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encryption algorithm randomly selects an elem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domai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produces ciphertex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p(r),b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8T22:00:19Z</dcterms:created>
  <dc:creator>Brice Alan Toth</dc:creator>
  <dc:description/>
  <dc:language>en-US</dc:language>
  <cp:lastModifiedBy>Brice Alan Toth</cp:lastModifiedBy>
  <dcterms:modified xsi:type="dcterms:W3CDTF">2001-11-19T23:16:55Z</dcterms:modified>
  <cp:revision>31</cp:revision>
  <dc:subject/>
  <dc:title>Encryption Schemes</dc:title>
</cp:coreProperties>
</file>