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9E949-816E-4BE2-AA68-ECF3E2340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482D3-DB56-4797-8BCA-A555237DE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484EE-3E7D-4EB9-B9E9-A29BA8DCA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2096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0214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208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552096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70214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4B49C-51CB-4DB2-A8D3-88D2E2A0B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5CE69-38B2-44FC-A8F1-4BB94913C2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7D88D-6C77-4A10-9CCE-01A27BA546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DC7B1-F886-403D-AA18-3342CF650D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2000C-D2A2-498C-872D-D82EEDC7BF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1B511-A72B-4323-9852-F02879B992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9400" y="1094400"/>
            <a:ext cx="767880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8E55F-C3B9-4127-A091-9927872243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D033B-F67B-4995-BAAF-7477A2D821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4185F-8A05-455C-94A0-81005D3AB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747DF-152E-4A50-AE2D-3769C1ACD5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A904D-D10C-4164-AC72-D04882BD64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AC50C-CACF-474C-AC1F-4098B2E092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E5CC4-8587-4798-9C2C-69CB48A092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52096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0214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0208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552096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70214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CF701-7076-4F3B-936A-97CA9E1232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E80D-F6FA-4013-98EB-7AA64A102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77C33-3DF7-41F4-8952-4BF57150A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1D9F8-6620-43E7-85DA-7E013E295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9400" y="1094400"/>
            <a:ext cx="767880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41719-8037-4AFF-9DBA-362DBA362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E92DF-417B-4680-9732-8C8866E45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294FC-0D11-47A3-BAB7-806A7DD40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1C93A-A204-4C22-AF5D-FDC740141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1"/>
          </p:nvPr>
        </p:nvSpPr>
        <p:spPr>
          <a:xfrm>
            <a:off x="914400" y="62866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2"/>
          </p:nvPr>
        </p:nvSpPr>
        <p:spPr>
          <a:xfrm>
            <a:off x="7543800" y="6286680"/>
            <a:ext cx="138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3339-7445-4944-8F87-1EC2A0D50A6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4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5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3"/>
          </p:nvPr>
        </p:nvSpPr>
        <p:spPr>
          <a:xfrm>
            <a:off x="7621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C823-3512-454C-A10A-ECD80B6EA54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gital Signature Schem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naiza Mat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25D5B-9075-4BC6-9DFA-6DD53E73C4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with direct signatu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idity of scheme depends on the security of the sender’s private k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nder may later deny sending a certain mess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vate key may actually be stolen from X at time T, so timestamp may not hel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965E-CC98-40DB-AA0E-E8E81E031F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rbitrated digital signatu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involves a trusted third party or arbi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signed message from sender, X, to receiver, Y, goes to an arbiter, A, fir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ubjects message + signature to number of tests to check origin &amp;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ates the message and sends it to Y with indication that it has been verified to its satisf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6EBF-BCE7-4F6F-8AF0-555614C594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asic Mechanism of Signature Schem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key generation algorithm to randomly select a public key pai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gnature algorithm that takes message + private key as input and generates a signature for the message as out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gnature verification algorithm that takes signature + public key as input and generates information bit according to whether signature is consistent as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16EA3-36C1-4A5B-BE38-3DB7CD7C30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gital Signature Standard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IST FIPS 186 Digital Signature Standard (DS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 Gam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SA Digital Signa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ISO 979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ANSI X9.3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CCITT X.5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EBE7-9FE2-42BF-B705-4571DA84CC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c-key techniqu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 applies the Secure Hash Algorithm (SHA) to the message to produce message diges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’s private key is applied to message digest using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generate signatu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65FA-2F12-4B86-A950-2CF14CDF89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0" y="228600"/>
            <a:ext cx="9127440" cy="5715000"/>
            <a:chOff x="0" y="228600"/>
            <a:chExt cx="9127440" cy="5715000"/>
          </a:xfrm>
        </p:grpSpPr>
        <p:grpSp>
          <p:nvGrpSpPr>
            <p:cNvPr id="289" name=""/>
            <p:cNvGrpSpPr/>
            <p:nvPr/>
          </p:nvGrpSpPr>
          <p:grpSpPr>
            <a:xfrm>
              <a:off x="0" y="228600"/>
              <a:ext cx="9127440" cy="279720"/>
              <a:chOff x="0" y="228600"/>
              <a:chExt cx="9127440" cy="279720"/>
            </a:xfrm>
          </p:grpSpPr>
          <p:sp>
            <p:nvSpPr>
              <p:cNvPr id="290" name=""/>
              <p:cNvSpPr/>
              <p:nvPr/>
            </p:nvSpPr>
            <p:spPr>
              <a:xfrm>
                <a:off x="118440" y="228600"/>
                <a:ext cx="888984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lobal Public-Key Compon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228600"/>
                <a:ext cx="9127440" cy="27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508320"/>
              <a:ext cx="752040" cy="378720"/>
              <a:chOff x="0" y="508320"/>
              <a:chExt cx="752040" cy="378720"/>
            </a:xfrm>
          </p:grpSpPr>
          <p:sp>
            <p:nvSpPr>
              <p:cNvPr id="293" name=""/>
              <p:cNvSpPr/>
              <p:nvPr/>
            </p:nvSpPr>
            <p:spPr>
              <a:xfrm>
                <a:off x="118440" y="508320"/>
                <a:ext cx="51444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508320"/>
                <a:ext cx="752040" cy="378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752400" y="508320"/>
              <a:ext cx="8374680" cy="378720"/>
              <a:chOff x="752400" y="508320"/>
              <a:chExt cx="8374680" cy="378720"/>
            </a:xfrm>
          </p:grpSpPr>
          <p:sp>
            <p:nvSpPr>
              <p:cNvPr id="296" name=""/>
              <p:cNvSpPr/>
              <p:nvPr/>
            </p:nvSpPr>
            <p:spPr>
              <a:xfrm>
                <a:off x="870480" y="508320"/>
                <a:ext cx="813780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prime number of L bits where L is a multiple of 64 and 512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L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102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2400" y="508320"/>
                <a:ext cx="8374680" cy="378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887400"/>
              <a:ext cx="752040" cy="321840"/>
              <a:chOff x="0" y="887400"/>
              <a:chExt cx="752040" cy="321840"/>
            </a:xfrm>
          </p:grpSpPr>
          <p:sp>
            <p:nvSpPr>
              <p:cNvPr id="299" name=""/>
              <p:cNvSpPr/>
              <p:nvPr/>
            </p:nvSpPr>
            <p:spPr>
              <a:xfrm>
                <a:off x="118440" y="887400"/>
                <a:ext cx="51444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887400"/>
                <a:ext cx="75204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752400" y="887400"/>
              <a:ext cx="8374680" cy="321840"/>
              <a:chOff x="752400" y="887400"/>
              <a:chExt cx="8374680" cy="321840"/>
            </a:xfrm>
          </p:grpSpPr>
          <p:sp>
            <p:nvSpPr>
              <p:cNvPr id="302" name=""/>
              <p:cNvSpPr/>
              <p:nvPr/>
            </p:nvSpPr>
            <p:spPr>
              <a:xfrm>
                <a:off x="870480" y="887400"/>
                <a:ext cx="813780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160-bit prime factor of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52400" y="887400"/>
                <a:ext cx="837468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0" y="1209600"/>
              <a:ext cx="752040" cy="546840"/>
              <a:chOff x="0" y="1209600"/>
              <a:chExt cx="752040" cy="546840"/>
            </a:xfrm>
          </p:grpSpPr>
          <p:sp>
            <p:nvSpPr>
              <p:cNvPr id="305" name=""/>
              <p:cNvSpPr/>
              <p:nvPr/>
            </p:nvSpPr>
            <p:spPr>
              <a:xfrm>
                <a:off x="118440" y="1209600"/>
                <a:ext cx="51444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1209600"/>
                <a:ext cx="75204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52400" y="1209600"/>
              <a:ext cx="8374680" cy="546840"/>
              <a:chOff x="752400" y="1209600"/>
              <a:chExt cx="8374680" cy="546840"/>
            </a:xfrm>
          </p:grpSpPr>
          <p:sp>
            <p:nvSpPr>
              <p:cNvPr id="308" name=""/>
              <p:cNvSpPr/>
              <p:nvPr/>
            </p:nvSpPr>
            <p:spPr>
              <a:xfrm>
                <a:off x="870480" y="1209600"/>
                <a:ext cx="813780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h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(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)/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, where h is any integer with 1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h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&lt;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-1, such that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h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(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)/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&gt;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52400" y="1209600"/>
                <a:ext cx="837468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1756440"/>
              <a:ext cx="9127440" cy="307440"/>
              <a:chOff x="0" y="1756440"/>
              <a:chExt cx="9127440" cy="307440"/>
            </a:xfrm>
          </p:grpSpPr>
          <p:sp>
            <p:nvSpPr>
              <p:cNvPr id="311" name=""/>
              <p:cNvSpPr/>
              <p:nvPr/>
            </p:nvSpPr>
            <p:spPr>
              <a:xfrm>
                <a:off x="118440" y="175644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User’s Private K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175644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0" y="2063880"/>
              <a:ext cx="752040" cy="434160"/>
              <a:chOff x="0" y="2063880"/>
              <a:chExt cx="752040" cy="434160"/>
            </a:xfrm>
          </p:grpSpPr>
          <p:sp>
            <p:nvSpPr>
              <p:cNvPr id="314" name=""/>
              <p:cNvSpPr/>
              <p:nvPr/>
            </p:nvSpPr>
            <p:spPr>
              <a:xfrm>
                <a:off x="118440" y="2063880"/>
                <a:ext cx="51444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2063880"/>
                <a:ext cx="752040" cy="434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752400" y="2063880"/>
              <a:ext cx="8374680" cy="434160"/>
              <a:chOff x="752400" y="2063880"/>
              <a:chExt cx="8374680" cy="434160"/>
            </a:xfrm>
          </p:grpSpPr>
          <p:sp>
            <p:nvSpPr>
              <p:cNvPr id="317" name=""/>
              <p:cNvSpPr/>
              <p:nvPr/>
            </p:nvSpPr>
            <p:spPr>
              <a:xfrm>
                <a:off x="870480" y="2063880"/>
                <a:ext cx="813780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random or pseudorandom integer with 0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x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52400" y="2063880"/>
                <a:ext cx="8374680" cy="434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2498400"/>
              <a:ext cx="9127440" cy="307440"/>
              <a:chOff x="0" y="2498400"/>
              <a:chExt cx="9127440" cy="307440"/>
            </a:xfrm>
          </p:grpSpPr>
          <p:sp>
            <p:nvSpPr>
              <p:cNvPr id="320" name=""/>
              <p:cNvSpPr/>
              <p:nvPr/>
            </p:nvSpPr>
            <p:spPr>
              <a:xfrm>
                <a:off x="118440" y="249840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User’s Public K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49840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2806200"/>
              <a:ext cx="752040" cy="321840"/>
              <a:chOff x="0" y="2806200"/>
              <a:chExt cx="752040" cy="321840"/>
            </a:xfrm>
          </p:grpSpPr>
          <p:sp>
            <p:nvSpPr>
              <p:cNvPr id="323" name=""/>
              <p:cNvSpPr/>
              <p:nvPr/>
            </p:nvSpPr>
            <p:spPr>
              <a:xfrm>
                <a:off x="118440" y="2806200"/>
                <a:ext cx="51444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2806200"/>
                <a:ext cx="75204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52400" y="2806200"/>
              <a:ext cx="8374680" cy="321840"/>
              <a:chOff x="752400" y="2806200"/>
              <a:chExt cx="8374680" cy="321840"/>
            </a:xfrm>
          </p:grpSpPr>
          <p:sp>
            <p:nvSpPr>
              <p:cNvPr id="326" name=""/>
              <p:cNvSpPr/>
              <p:nvPr/>
            </p:nvSpPr>
            <p:spPr>
              <a:xfrm>
                <a:off x="870480" y="2806200"/>
                <a:ext cx="813780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x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52400" y="2806200"/>
                <a:ext cx="837468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0" y="3128400"/>
              <a:ext cx="9127440" cy="447480"/>
              <a:chOff x="0" y="3128400"/>
              <a:chExt cx="9127440" cy="447480"/>
            </a:xfrm>
          </p:grpSpPr>
          <p:sp>
            <p:nvSpPr>
              <p:cNvPr id="329" name=""/>
              <p:cNvSpPr/>
              <p:nvPr/>
            </p:nvSpPr>
            <p:spPr>
              <a:xfrm>
                <a:off x="118440" y="3128400"/>
                <a:ext cx="8889840" cy="44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User’s Per-Message Secret Numb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3128400"/>
                <a:ext cx="9127440" cy="44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3575880"/>
              <a:ext cx="752040" cy="434520"/>
              <a:chOff x="0" y="3575880"/>
              <a:chExt cx="752040" cy="434520"/>
            </a:xfrm>
          </p:grpSpPr>
          <p:sp>
            <p:nvSpPr>
              <p:cNvPr id="332" name=""/>
              <p:cNvSpPr/>
              <p:nvPr/>
            </p:nvSpPr>
            <p:spPr>
              <a:xfrm>
                <a:off x="118440" y="3575880"/>
                <a:ext cx="51444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3575880"/>
                <a:ext cx="752040" cy="43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752400" y="3575880"/>
              <a:ext cx="8374680" cy="434520"/>
              <a:chOff x="752400" y="3575880"/>
              <a:chExt cx="8374680" cy="434520"/>
            </a:xfrm>
          </p:grpSpPr>
          <p:sp>
            <p:nvSpPr>
              <p:cNvPr id="335" name=""/>
              <p:cNvSpPr/>
              <p:nvPr/>
            </p:nvSpPr>
            <p:spPr>
              <a:xfrm>
                <a:off x="870480" y="3575880"/>
                <a:ext cx="81378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random or pseudorandom integer with 0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52400" y="3575880"/>
                <a:ext cx="8374680" cy="43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0" y="4010400"/>
              <a:ext cx="9127440" cy="307440"/>
              <a:chOff x="0" y="4010400"/>
              <a:chExt cx="9127440" cy="307440"/>
            </a:xfrm>
          </p:grpSpPr>
          <p:sp>
            <p:nvSpPr>
              <p:cNvPr id="338" name=""/>
              <p:cNvSpPr/>
              <p:nvPr/>
            </p:nvSpPr>
            <p:spPr>
              <a:xfrm>
                <a:off x="118440" y="401040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Sig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401040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0" y="4318200"/>
              <a:ext cx="9127440" cy="546480"/>
              <a:chOff x="0" y="4318200"/>
              <a:chExt cx="9127440" cy="546480"/>
            </a:xfrm>
          </p:grpSpPr>
          <p:sp>
            <p:nvSpPr>
              <p:cNvPr id="341" name=""/>
              <p:cNvSpPr/>
              <p:nvPr/>
            </p:nvSpPr>
            <p:spPr>
              <a:xfrm>
                <a:off x="118440" y="4318200"/>
                <a:ext cx="8889840" cy="54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          s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= [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(H(M) 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x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]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ignature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,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4318200"/>
                <a:ext cx="9127440" cy="546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0" y="4864680"/>
              <a:ext cx="9127440" cy="307440"/>
              <a:chOff x="0" y="4864680"/>
              <a:chExt cx="9127440" cy="307440"/>
            </a:xfrm>
          </p:grpSpPr>
          <p:sp>
            <p:nvSpPr>
              <p:cNvPr id="344" name=""/>
              <p:cNvSpPr/>
              <p:nvPr/>
            </p:nvSpPr>
            <p:spPr>
              <a:xfrm>
                <a:off x="118440" y="486468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Verify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486468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0" y="5172480"/>
              <a:ext cx="9127440" cy="771120"/>
              <a:chOff x="0" y="5172480"/>
              <a:chExt cx="9127440" cy="771120"/>
            </a:xfrm>
          </p:grpSpPr>
          <p:sp>
            <p:nvSpPr>
              <p:cNvPr id="347" name=""/>
              <p:cNvSpPr/>
              <p:nvPr/>
            </p:nvSpPr>
            <p:spPr>
              <a:xfrm>
                <a:off x="118440" y="5172480"/>
                <a:ext cx="888984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’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[H(M’)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]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   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’)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v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[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y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]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Test: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v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5172480"/>
                <a:ext cx="912744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"/>
          <p:cNvSpPr/>
          <p:nvPr/>
        </p:nvSpPr>
        <p:spPr>
          <a:xfrm>
            <a:off x="1066680" y="61722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igital Signature Algorithm (D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6C4A-0DF0-49EE-A80E-66457040FD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33200" y="2514240"/>
            <a:ext cx="81104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S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message to be sig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 = hash of M using SH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’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’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’ = received versions 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B18A-4019-4916-AA46-FBD9CD8198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 Gam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variant of the DS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ssumption that computing discrete logarithms over a finite field with a large prime is difficul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s that it is computationally infeasible for anyone other than signer to find a messag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an integer pair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such tha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mo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E351-F0AE-4825-9F8F-0F46620962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 Gam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066680" y="1981080"/>
            <a:ext cx="7391160" cy="4572000"/>
            <a:chOff x="1066680" y="1981080"/>
            <a:chExt cx="7391160" cy="4572000"/>
          </a:xfrm>
        </p:grpSpPr>
        <p:grpSp>
          <p:nvGrpSpPr>
            <p:cNvPr id="356" name=""/>
            <p:cNvGrpSpPr/>
            <p:nvPr/>
          </p:nvGrpSpPr>
          <p:grpSpPr>
            <a:xfrm>
              <a:off x="1073880" y="1985040"/>
              <a:ext cx="7375680" cy="4563000"/>
              <a:chOff x="1073880" y="1985040"/>
              <a:chExt cx="7375680" cy="456300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1073880" y="1985040"/>
                <a:ext cx="7375680" cy="569160"/>
                <a:chOff x="1073880" y="1985040"/>
                <a:chExt cx="7375680" cy="5691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1181520" y="1985040"/>
                  <a:ext cx="716040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ameters of El Gam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073880" y="1985040"/>
                  <a:ext cx="7375680" cy="56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073880" y="2554200"/>
                <a:ext cx="1534320" cy="842040"/>
                <a:chOff x="1073880" y="2554200"/>
                <a:chExt cx="1534320" cy="8420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181520" y="2554200"/>
                  <a:ext cx="131904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073880" y="2554200"/>
                  <a:ext cx="153432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2608560" y="2554200"/>
                <a:ext cx="5840640" cy="842040"/>
                <a:chOff x="2608560" y="2554200"/>
                <a:chExt cx="5840640" cy="8420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715480" y="2554200"/>
                  <a:ext cx="562572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 large prime number such that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-1 has a large prime fa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608560" y="2554200"/>
                  <a:ext cx="584064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1073880" y="3396600"/>
                <a:ext cx="1534320" cy="842400"/>
                <a:chOff x="1073880" y="3396600"/>
                <a:chExt cx="1534320" cy="8424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181520" y="3396600"/>
                  <a:ext cx="1319040" cy="84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073880" y="3396600"/>
                  <a:ext cx="1534320" cy="84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608560" y="3396600"/>
                <a:ext cx="5840640" cy="842400"/>
                <a:chOff x="2608560" y="3396600"/>
                <a:chExt cx="5840640" cy="8424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715480" y="3396600"/>
                  <a:ext cx="5625720" cy="84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he private key information of a user where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&lt;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608560" y="3396600"/>
                  <a:ext cx="5840640" cy="84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1073880" y="4239000"/>
                <a:ext cx="1534320" cy="842040"/>
                <a:chOff x="1073880" y="4239000"/>
                <a:chExt cx="1534320" cy="8420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1181520" y="4239000"/>
                  <a:ext cx="131904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073880" y="4239000"/>
                  <a:ext cx="153432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608560" y="4239000"/>
                <a:ext cx="5840640" cy="842040"/>
                <a:chOff x="2608560" y="4239000"/>
                <a:chExt cx="5840640" cy="8420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715480" y="4239000"/>
                  <a:ext cx="562572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 primitive element of the finite field for the prime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608560" y="4239000"/>
                  <a:ext cx="584064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1073880" y="5081400"/>
                <a:ext cx="1534320" cy="624600"/>
                <a:chOff x="1073880" y="5081400"/>
                <a:chExt cx="1534320" cy="6246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181520" y="5081400"/>
                  <a:ext cx="131904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073880" y="5081400"/>
                  <a:ext cx="1534320" cy="62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2608560" y="5081400"/>
                <a:ext cx="5840640" cy="624600"/>
                <a:chOff x="2608560" y="5081400"/>
                <a:chExt cx="5840640" cy="6246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715480" y="5081400"/>
                  <a:ext cx="562572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=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r>
                    <a:rPr b="0" i="1" lang="en-US" sz="1600" spc="-1" strike="noStrike" baseline="30000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 mod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608560" y="5081400"/>
                  <a:ext cx="5840640" cy="62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1073880" y="5706000"/>
                <a:ext cx="1534320" cy="842040"/>
                <a:chOff x="1073880" y="5706000"/>
                <a:chExt cx="1534320" cy="84204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1181520" y="5706000"/>
                  <a:ext cx="131904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(p,a,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073880" y="5706000"/>
                  <a:ext cx="153432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608560" y="5706000"/>
                <a:ext cx="5840640" cy="842040"/>
                <a:chOff x="2608560" y="5706000"/>
                <a:chExt cx="5840640" cy="8420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715480" y="5706000"/>
                  <a:ext cx="562572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he public key informa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608560" y="5706000"/>
                  <a:ext cx="584064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0" name=""/>
            <p:cNvSpPr/>
            <p:nvPr/>
          </p:nvSpPr>
          <p:spPr>
            <a:xfrm>
              <a:off x="1066680" y="1981080"/>
              <a:ext cx="7391160" cy="4572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60CEF-2260-4598-A19C-616CE3EE1D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 Gam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838080" y="2057400"/>
          <a:ext cx="8077320" cy="2361960"/>
        </p:xfrm>
        <a:graphic>
          <a:graphicData uri="http://schemas.openxmlformats.org/drawingml/2006/table">
            <a:tbl>
              <a:tblPr/>
              <a:tblGrid>
                <a:gridCol w="1670760"/>
                <a:gridCol w="6406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ly choose an integer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ch tha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, 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) = 1, 1&lt;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, 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k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s not been used to sign a previous me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lculat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=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mod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d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such tha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=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+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mod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 the pair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 as the digital signature on the messag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762120" y="4648320"/>
            <a:ext cx="80769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ince, 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od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x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k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x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k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n M and (r, s), the receiver o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ty ca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verify the signature by checking whet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holds or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4C5AA-FB49-4A4B-BACC-6FFB210BDA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ntroduction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graph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art &amp; science of preventing users from unauthorized or illegal actions towards information, networking resources and serv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graphic transform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conversion of input data into output data  using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graphic ke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syste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orwa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ryptographic transformation pa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F4AB8-E658-45DA-BDBC-4C4FDCC63C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560" y="835560"/>
            <a:ext cx="883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SA Digit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difficulty of factoring large numb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RSA digital signature can be produced by encrypting eith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tself or a digest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sing the private signature ke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ture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o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er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message to be signed or message digest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q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large prime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o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er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s the public verification ke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7F09-BD3B-42B9-BC66-6FAE624D6F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signatures are an effective mechanism used for authenticity and non-repudiation of messag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signature schemes exist, but DSS is probably the most popul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signatures may be expanded to be used as digital pseudonyms which would prevent authorities from figuring out a sender’s identity, for example by cross-matc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DBE4C-83D4-49A8-80BE-9BBCFBF4EA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Verdana"/>
              </a:rPr>
              <a:t>Thank you!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24DDE-9B3B-4571-A74E-678C44D573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 Cryptosyste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772400" y="32004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28600" y="2895480"/>
            <a:ext cx="8381880" cy="2304000"/>
            <a:chOff x="228600" y="2895480"/>
            <a:chExt cx="8381880" cy="2304000"/>
          </a:xfrm>
        </p:grpSpPr>
        <p:sp>
          <p:nvSpPr>
            <p:cNvPr id="215" name=""/>
            <p:cNvSpPr/>
            <p:nvPr/>
          </p:nvSpPr>
          <p:spPr>
            <a:xfrm>
              <a:off x="1600200" y="335268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ward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35268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verse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00200" y="480060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62720" y="480060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743200" y="4343040"/>
              <a:ext cx="14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781680" y="4343040"/>
              <a:ext cx="180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86200" y="3886200"/>
              <a:ext cx="53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29200" y="3886200"/>
              <a:ext cx="53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48720" y="396252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8080" y="388620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38480" y="32004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ut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31240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81080" y="28954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n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19920" y="28954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30C57-BCCD-4E85-BE01-CEF44BA26B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Crypto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rivate k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ryptosystem – a private key is shared between the two communicating parties which must be kept secret between themselv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ublic k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ryptosystem – the sender and receiver do not share the same key and one key can be public and the other can be priv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32AFB-02F0-413B-AF46-BB0D9CBD6C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Crypto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04920" y="2133720"/>
            <a:ext cx="8839080" cy="3370680"/>
            <a:chOff x="304920" y="2133720"/>
            <a:chExt cx="8839080" cy="3370680"/>
          </a:xfrm>
        </p:grpSpPr>
        <p:sp>
          <p:nvSpPr>
            <p:cNvPr id="233" name=""/>
            <p:cNvSpPr/>
            <p:nvPr/>
          </p:nvSpPr>
          <p:spPr>
            <a:xfrm>
              <a:off x="1676520" y="259092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ward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38680" y="259092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verse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76520" y="403848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38680" y="403848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819520" y="3580920"/>
              <a:ext cx="14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705720" y="3580920"/>
              <a:ext cx="14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62520" y="2971800"/>
              <a:ext cx="53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2971800"/>
              <a:ext cx="53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24680" y="304812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4400" y="304812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14800" y="22860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ut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20" y="23623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7400" y="213372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n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5880" y="213372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2400" y="23623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9000" y="510552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hare private k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4495680"/>
              <a:ext cx="762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409720" y="44956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09480" y="5791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rivate Key Crypt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CA7B4-5A25-40FD-B804-EBD395FA6C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Crypto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2590920"/>
            <a:ext cx="2286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ward Cryptographic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2590920"/>
            <a:ext cx="2286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rse Cryptographic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4038480"/>
            <a:ext cx="228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4038480"/>
            <a:ext cx="228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358092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705720" y="358092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297180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297180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4680" y="30481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30481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2286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2362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2133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772400" y="2362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5105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not share the same key information and one key may b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44956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24816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5867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ublic Key Crypt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4C794-D8EB-49C1-A80C-DCD8EC6AF7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gital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ncryp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essage authenti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gital signatur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all tools of modern cryptograph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gnature is a technique for non-repudiation based on the public key cryptograph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reator of a message can attach a code, the signature, which guarantees the source and integrity of the message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B9F7E-BCB1-4D28-8CD8-B7D1499BF4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roperti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ilar to handwritten signatures, digital signatures must fulfill the following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not be forge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ipients must be able to verify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ners must not be able to repudiate them l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ddition, digital signatures cannot be constant and must be a function of the entire document it sig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57FCC-2CB7-49AB-9751-E6F49D3484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rect digital signatu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involves only the communicating par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d that receiver knows public key of send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nature may be formed by (1) encrypting entire message with sender’s private key or (2) encrypting hash code of message with sender’s private ke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rther encryption of entire message + signature with receiver’s public key or shared private key ensures confidential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E970A-0656-4D12-AA05-315501AB2B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03:57:14Z</dcterms:created>
  <dc:creator>Munaiza Matin</dc:creator>
  <dc:description/>
  <dc:language>en-US</dc:language>
  <cp:lastModifiedBy>Munaiza Matin</cp:lastModifiedBy>
  <dcterms:modified xsi:type="dcterms:W3CDTF">2001-11-27T05:41:43Z</dcterms:modified>
  <cp:revision>35</cp:revision>
  <dc:subject/>
  <dc:title>Digital Signature Schemes</dc:title>
</cp:coreProperties>
</file>