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A68C2-935D-4A49-B0FE-EB08921B4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8FAF-6601-4416-A57E-FCD764582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676B8-F31E-4182-907D-0226864C1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2096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0214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208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552096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70214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7D2EB-A637-40F8-A793-A7DEC7C89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511DC-4533-4332-BCA7-F276E97674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22C89-BE4A-48A7-8E31-13624B00F2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A9D9A-74DA-4EFF-87F7-1097CB8969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43B59-F6A4-4A01-B743-7DBBADD6B3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50F84-099B-438A-940C-25EDD62EE6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9400" y="1094400"/>
            <a:ext cx="767880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25248-BF2E-4EB7-8A5D-25465B2C8E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2505C-E1F7-4942-A0FD-001022F121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E53BF-0B13-4EA3-AF9F-FAE5D7348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97B62-D6C5-4DA6-8FAB-389880FD7D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F09C6-1C41-467D-BA92-C7535FB12D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F22ED-9C31-4BD6-A600-0EA9DBE85B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8E676-A494-440F-BBDE-EEFD64A7D7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52096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0214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0208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552096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70214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E3ADA-D385-459F-833B-0C0765BD01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B1949-2DC7-4D1E-A2A0-D3BBF9524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AB0E1-B921-44BA-8CF4-A049725B9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1227C-EEE1-4BA7-B520-412C512FB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9400" y="1094400"/>
            <a:ext cx="767880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93C5F-F34B-4246-B4D4-98DCFEC1E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5560A-2D9B-4974-839C-B06C76B9D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E9C4-A0E6-435D-930E-CFF8BC1B7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D4CE-5DBD-4F13-8770-8B350B192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1"/>
          </p:nvPr>
        </p:nvSpPr>
        <p:spPr>
          <a:xfrm>
            <a:off x="914400" y="62866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2"/>
          </p:nvPr>
        </p:nvSpPr>
        <p:spPr>
          <a:xfrm>
            <a:off x="7543800" y="6286680"/>
            <a:ext cx="138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EC1E-65AC-4F70-9FA5-8C3763D678C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4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5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3"/>
          </p:nvPr>
        </p:nvSpPr>
        <p:spPr>
          <a:xfrm>
            <a:off x="7621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357B-9403-4B86-806F-A0F7076503E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gital Signature Schem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naiza Mat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0425F-13F1-4215-9C7F-B08202B9B7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with direct signatu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idity of scheme depends on the security of the sender’s private k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nder may later deny sending a certain mess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vate key may actually be stolen from X at time T, so timestamp may not hel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A78A4-D5C4-4042-863D-36CC66DA44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rbitrated digital signatu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involves a trusted third party or arbi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signed message from sender, X, to receiver, Y, goes to an arbiter, A, fir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ubjects message + signature to number of tests to check origin &amp;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ates the message and sends it to Y with indication that it has been verified to its satisf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D8050-28AA-4D54-AB1B-484C415E07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asic Mechanism of Signature Schem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key generation algorithm to randomly select a public key pai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gnature algorithm that takes message + private key as input and generates a signature for the message as out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gnature verification algorithm that takes signature + public key as input and generates information bit according to whether signature is consistent as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BBDF-D20D-4283-965B-6FF7946204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gital Signature Standard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IST FIPS 186 Digital Signature Standard (DS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 Gam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SA Digital Signa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ISO 979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ANSI X9.3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CCITT X.5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6C79-8DBB-49C9-8796-F220F1B14B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c-key techniqu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 applies the Secure Hash Algorithm (SHA) to the message to produce message diges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’s private key is applied to message digest using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generate signatu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46BF-5C1F-437D-A23D-245F76D007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0" y="228600"/>
            <a:ext cx="9127440" cy="5715000"/>
            <a:chOff x="0" y="228600"/>
            <a:chExt cx="9127440" cy="5715000"/>
          </a:xfrm>
        </p:grpSpPr>
        <p:grpSp>
          <p:nvGrpSpPr>
            <p:cNvPr id="289" name=""/>
            <p:cNvGrpSpPr/>
            <p:nvPr/>
          </p:nvGrpSpPr>
          <p:grpSpPr>
            <a:xfrm>
              <a:off x="0" y="228600"/>
              <a:ext cx="9127440" cy="279720"/>
              <a:chOff x="0" y="228600"/>
              <a:chExt cx="9127440" cy="279720"/>
            </a:xfrm>
          </p:grpSpPr>
          <p:sp>
            <p:nvSpPr>
              <p:cNvPr id="290" name=""/>
              <p:cNvSpPr/>
              <p:nvPr/>
            </p:nvSpPr>
            <p:spPr>
              <a:xfrm>
                <a:off x="118440" y="228600"/>
                <a:ext cx="888984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lobal Public-Key Compon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228600"/>
                <a:ext cx="9127440" cy="27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508320"/>
              <a:ext cx="752040" cy="378720"/>
              <a:chOff x="0" y="508320"/>
              <a:chExt cx="752040" cy="378720"/>
            </a:xfrm>
          </p:grpSpPr>
          <p:sp>
            <p:nvSpPr>
              <p:cNvPr id="293" name=""/>
              <p:cNvSpPr/>
              <p:nvPr/>
            </p:nvSpPr>
            <p:spPr>
              <a:xfrm>
                <a:off x="118440" y="508320"/>
                <a:ext cx="51444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508320"/>
                <a:ext cx="752040" cy="378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752400" y="508320"/>
              <a:ext cx="8374680" cy="378720"/>
              <a:chOff x="752400" y="508320"/>
              <a:chExt cx="8374680" cy="378720"/>
            </a:xfrm>
          </p:grpSpPr>
          <p:sp>
            <p:nvSpPr>
              <p:cNvPr id="296" name=""/>
              <p:cNvSpPr/>
              <p:nvPr/>
            </p:nvSpPr>
            <p:spPr>
              <a:xfrm>
                <a:off x="870480" y="508320"/>
                <a:ext cx="813780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prime number of L bits where L is a multiple of 64 and 512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L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102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2400" y="508320"/>
                <a:ext cx="8374680" cy="378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887400"/>
              <a:ext cx="752040" cy="321840"/>
              <a:chOff x="0" y="887400"/>
              <a:chExt cx="752040" cy="321840"/>
            </a:xfrm>
          </p:grpSpPr>
          <p:sp>
            <p:nvSpPr>
              <p:cNvPr id="299" name=""/>
              <p:cNvSpPr/>
              <p:nvPr/>
            </p:nvSpPr>
            <p:spPr>
              <a:xfrm>
                <a:off x="118440" y="887400"/>
                <a:ext cx="51444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887400"/>
                <a:ext cx="75204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752400" y="887400"/>
              <a:ext cx="8374680" cy="321840"/>
              <a:chOff x="752400" y="887400"/>
              <a:chExt cx="8374680" cy="321840"/>
            </a:xfrm>
          </p:grpSpPr>
          <p:sp>
            <p:nvSpPr>
              <p:cNvPr id="302" name=""/>
              <p:cNvSpPr/>
              <p:nvPr/>
            </p:nvSpPr>
            <p:spPr>
              <a:xfrm>
                <a:off x="870480" y="887400"/>
                <a:ext cx="813780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160-bit prime factor of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52400" y="887400"/>
                <a:ext cx="837468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0" y="1209600"/>
              <a:ext cx="752040" cy="546840"/>
              <a:chOff x="0" y="1209600"/>
              <a:chExt cx="752040" cy="546840"/>
            </a:xfrm>
          </p:grpSpPr>
          <p:sp>
            <p:nvSpPr>
              <p:cNvPr id="305" name=""/>
              <p:cNvSpPr/>
              <p:nvPr/>
            </p:nvSpPr>
            <p:spPr>
              <a:xfrm>
                <a:off x="118440" y="1209600"/>
                <a:ext cx="51444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1209600"/>
                <a:ext cx="75204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52400" y="1209600"/>
              <a:ext cx="8374680" cy="546840"/>
              <a:chOff x="752400" y="1209600"/>
              <a:chExt cx="8374680" cy="546840"/>
            </a:xfrm>
          </p:grpSpPr>
          <p:sp>
            <p:nvSpPr>
              <p:cNvPr id="308" name=""/>
              <p:cNvSpPr/>
              <p:nvPr/>
            </p:nvSpPr>
            <p:spPr>
              <a:xfrm>
                <a:off x="870480" y="1209600"/>
                <a:ext cx="813780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h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(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)/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, where h is any integer with 1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h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&lt;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-1, such that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h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(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)/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&gt;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52400" y="1209600"/>
                <a:ext cx="837468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1756440"/>
              <a:ext cx="9127440" cy="307440"/>
              <a:chOff x="0" y="1756440"/>
              <a:chExt cx="9127440" cy="307440"/>
            </a:xfrm>
          </p:grpSpPr>
          <p:sp>
            <p:nvSpPr>
              <p:cNvPr id="311" name=""/>
              <p:cNvSpPr/>
              <p:nvPr/>
            </p:nvSpPr>
            <p:spPr>
              <a:xfrm>
                <a:off x="118440" y="175644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User’s Private K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175644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0" y="2063880"/>
              <a:ext cx="752040" cy="434160"/>
              <a:chOff x="0" y="2063880"/>
              <a:chExt cx="752040" cy="434160"/>
            </a:xfrm>
          </p:grpSpPr>
          <p:sp>
            <p:nvSpPr>
              <p:cNvPr id="314" name=""/>
              <p:cNvSpPr/>
              <p:nvPr/>
            </p:nvSpPr>
            <p:spPr>
              <a:xfrm>
                <a:off x="118440" y="2063880"/>
                <a:ext cx="51444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2063880"/>
                <a:ext cx="752040" cy="434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752400" y="2063880"/>
              <a:ext cx="8374680" cy="434160"/>
              <a:chOff x="752400" y="2063880"/>
              <a:chExt cx="8374680" cy="434160"/>
            </a:xfrm>
          </p:grpSpPr>
          <p:sp>
            <p:nvSpPr>
              <p:cNvPr id="317" name=""/>
              <p:cNvSpPr/>
              <p:nvPr/>
            </p:nvSpPr>
            <p:spPr>
              <a:xfrm>
                <a:off x="870480" y="2063880"/>
                <a:ext cx="813780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random or pseudorandom integer with 0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x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52400" y="2063880"/>
                <a:ext cx="8374680" cy="434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2498400"/>
              <a:ext cx="9127440" cy="307440"/>
              <a:chOff x="0" y="2498400"/>
              <a:chExt cx="9127440" cy="307440"/>
            </a:xfrm>
          </p:grpSpPr>
          <p:sp>
            <p:nvSpPr>
              <p:cNvPr id="320" name=""/>
              <p:cNvSpPr/>
              <p:nvPr/>
            </p:nvSpPr>
            <p:spPr>
              <a:xfrm>
                <a:off x="118440" y="249840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User’s Public K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49840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2806200"/>
              <a:ext cx="752040" cy="321840"/>
              <a:chOff x="0" y="2806200"/>
              <a:chExt cx="752040" cy="321840"/>
            </a:xfrm>
          </p:grpSpPr>
          <p:sp>
            <p:nvSpPr>
              <p:cNvPr id="323" name=""/>
              <p:cNvSpPr/>
              <p:nvPr/>
            </p:nvSpPr>
            <p:spPr>
              <a:xfrm>
                <a:off x="118440" y="2806200"/>
                <a:ext cx="51444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2806200"/>
                <a:ext cx="75204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52400" y="2806200"/>
              <a:ext cx="8374680" cy="321840"/>
              <a:chOff x="752400" y="2806200"/>
              <a:chExt cx="8374680" cy="321840"/>
            </a:xfrm>
          </p:grpSpPr>
          <p:sp>
            <p:nvSpPr>
              <p:cNvPr id="326" name=""/>
              <p:cNvSpPr/>
              <p:nvPr/>
            </p:nvSpPr>
            <p:spPr>
              <a:xfrm>
                <a:off x="870480" y="2806200"/>
                <a:ext cx="813780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x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52400" y="2806200"/>
                <a:ext cx="837468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0" y="3128400"/>
              <a:ext cx="9127440" cy="447480"/>
              <a:chOff x="0" y="3128400"/>
              <a:chExt cx="9127440" cy="447480"/>
            </a:xfrm>
          </p:grpSpPr>
          <p:sp>
            <p:nvSpPr>
              <p:cNvPr id="329" name=""/>
              <p:cNvSpPr/>
              <p:nvPr/>
            </p:nvSpPr>
            <p:spPr>
              <a:xfrm>
                <a:off x="118440" y="3128400"/>
                <a:ext cx="8889840" cy="44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User’s Per-Message Secret Numb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3128400"/>
                <a:ext cx="9127440" cy="44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3575880"/>
              <a:ext cx="752040" cy="434520"/>
              <a:chOff x="0" y="3575880"/>
              <a:chExt cx="752040" cy="434520"/>
            </a:xfrm>
          </p:grpSpPr>
          <p:sp>
            <p:nvSpPr>
              <p:cNvPr id="332" name=""/>
              <p:cNvSpPr/>
              <p:nvPr/>
            </p:nvSpPr>
            <p:spPr>
              <a:xfrm>
                <a:off x="118440" y="3575880"/>
                <a:ext cx="51444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3575880"/>
                <a:ext cx="752040" cy="43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752400" y="3575880"/>
              <a:ext cx="8374680" cy="434520"/>
              <a:chOff x="752400" y="3575880"/>
              <a:chExt cx="8374680" cy="434520"/>
            </a:xfrm>
          </p:grpSpPr>
          <p:sp>
            <p:nvSpPr>
              <p:cNvPr id="335" name=""/>
              <p:cNvSpPr/>
              <p:nvPr/>
            </p:nvSpPr>
            <p:spPr>
              <a:xfrm>
                <a:off x="870480" y="3575880"/>
                <a:ext cx="81378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random or pseudorandom integer with 0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52400" y="3575880"/>
                <a:ext cx="8374680" cy="43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0" y="4010400"/>
              <a:ext cx="9127440" cy="307440"/>
              <a:chOff x="0" y="4010400"/>
              <a:chExt cx="9127440" cy="307440"/>
            </a:xfrm>
          </p:grpSpPr>
          <p:sp>
            <p:nvSpPr>
              <p:cNvPr id="338" name=""/>
              <p:cNvSpPr/>
              <p:nvPr/>
            </p:nvSpPr>
            <p:spPr>
              <a:xfrm>
                <a:off x="118440" y="401040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Sig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401040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0" y="4318200"/>
              <a:ext cx="9127440" cy="546480"/>
              <a:chOff x="0" y="4318200"/>
              <a:chExt cx="9127440" cy="546480"/>
            </a:xfrm>
          </p:grpSpPr>
          <p:sp>
            <p:nvSpPr>
              <p:cNvPr id="341" name=""/>
              <p:cNvSpPr/>
              <p:nvPr/>
            </p:nvSpPr>
            <p:spPr>
              <a:xfrm>
                <a:off x="118440" y="4318200"/>
                <a:ext cx="8889840" cy="54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          s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= [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(H(M) 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x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]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ignature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,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4318200"/>
                <a:ext cx="9127440" cy="546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0" y="4864680"/>
              <a:ext cx="9127440" cy="307440"/>
              <a:chOff x="0" y="4864680"/>
              <a:chExt cx="9127440" cy="307440"/>
            </a:xfrm>
          </p:grpSpPr>
          <p:sp>
            <p:nvSpPr>
              <p:cNvPr id="344" name=""/>
              <p:cNvSpPr/>
              <p:nvPr/>
            </p:nvSpPr>
            <p:spPr>
              <a:xfrm>
                <a:off x="118440" y="486468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Verify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486468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0" y="5172480"/>
              <a:ext cx="9127440" cy="771120"/>
              <a:chOff x="0" y="5172480"/>
              <a:chExt cx="9127440" cy="771120"/>
            </a:xfrm>
          </p:grpSpPr>
          <p:sp>
            <p:nvSpPr>
              <p:cNvPr id="347" name=""/>
              <p:cNvSpPr/>
              <p:nvPr/>
            </p:nvSpPr>
            <p:spPr>
              <a:xfrm>
                <a:off x="118440" y="5172480"/>
                <a:ext cx="888984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’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[H(M’)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]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   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’)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v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[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y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]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Test: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v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5172480"/>
                <a:ext cx="912744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"/>
          <p:cNvSpPr/>
          <p:nvPr/>
        </p:nvSpPr>
        <p:spPr>
          <a:xfrm>
            <a:off x="1066680" y="61722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igital Signature Algorithm (D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D092-8E1B-4C68-A4B1-9042505B5C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33200" y="2514240"/>
            <a:ext cx="81104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S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message to be sig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 = hash of M using SH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’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’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’ = received versions 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6F137-57BF-4C0B-B9D3-DEEB5DB9FE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 Gam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variant of the DS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ssumption that computing discrete logarithms over a finite field with a large prime is difficul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s that it is computationally infeasible for anyone other than signer to find a messag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an integer pair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such tha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mo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B65FD-1349-4252-A797-DE80FEC730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 Gam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066680" y="1981080"/>
            <a:ext cx="7391160" cy="4572000"/>
            <a:chOff x="1066680" y="1981080"/>
            <a:chExt cx="7391160" cy="4572000"/>
          </a:xfrm>
        </p:grpSpPr>
        <p:grpSp>
          <p:nvGrpSpPr>
            <p:cNvPr id="356" name=""/>
            <p:cNvGrpSpPr/>
            <p:nvPr/>
          </p:nvGrpSpPr>
          <p:grpSpPr>
            <a:xfrm>
              <a:off x="1073880" y="1985040"/>
              <a:ext cx="7375680" cy="4563000"/>
              <a:chOff x="1073880" y="1985040"/>
              <a:chExt cx="7375680" cy="456300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1073880" y="1985040"/>
                <a:ext cx="7375680" cy="569160"/>
                <a:chOff x="1073880" y="1985040"/>
                <a:chExt cx="7375680" cy="5691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1181520" y="1985040"/>
                  <a:ext cx="716040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ameters of El Gam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073880" y="1985040"/>
                  <a:ext cx="7375680" cy="56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073880" y="2554200"/>
                <a:ext cx="1534320" cy="842040"/>
                <a:chOff x="1073880" y="2554200"/>
                <a:chExt cx="1534320" cy="8420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181520" y="2554200"/>
                  <a:ext cx="131904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073880" y="2554200"/>
                  <a:ext cx="153432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2608560" y="2554200"/>
                <a:ext cx="5840640" cy="842040"/>
                <a:chOff x="2608560" y="2554200"/>
                <a:chExt cx="5840640" cy="8420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715480" y="2554200"/>
                  <a:ext cx="562572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 large prime number such that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-1 has a large prime fa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608560" y="2554200"/>
                  <a:ext cx="584064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1073880" y="3396600"/>
                <a:ext cx="1534320" cy="842400"/>
                <a:chOff x="1073880" y="3396600"/>
                <a:chExt cx="1534320" cy="8424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181520" y="3396600"/>
                  <a:ext cx="1319040" cy="84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073880" y="3396600"/>
                  <a:ext cx="1534320" cy="84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608560" y="3396600"/>
                <a:ext cx="5840640" cy="842400"/>
                <a:chOff x="2608560" y="3396600"/>
                <a:chExt cx="5840640" cy="8424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715480" y="3396600"/>
                  <a:ext cx="5625720" cy="84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he private key information of a user where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&lt;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608560" y="3396600"/>
                  <a:ext cx="5840640" cy="84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1073880" y="4239000"/>
                <a:ext cx="1534320" cy="842040"/>
                <a:chOff x="1073880" y="4239000"/>
                <a:chExt cx="1534320" cy="8420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1181520" y="4239000"/>
                  <a:ext cx="131904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073880" y="4239000"/>
                  <a:ext cx="153432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608560" y="4239000"/>
                <a:ext cx="5840640" cy="842040"/>
                <a:chOff x="2608560" y="4239000"/>
                <a:chExt cx="5840640" cy="8420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715480" y="4239000"/>
                  <a:ext cx="562572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 primitive element of the finite field for the prime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608560" y="4239000"/>
                  <a:ext cx="584064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1073880" y="5081400"/>
                <a:ext cx="1534320" cy="624600"/>
                <a:chOff x="1073880" y="5081400"/>
                <a:chExt cx="1534320" cy="6246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181520" y="5081400"/>
                  <a:ext cx="131904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073880" y="5081400"/>
                  <a:ext cx="1534320" cy="62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2608560" y="5081400"/>
                <a:ext cx="5840640" cy="624600"/>
                <a:chOff x="2608560" y="5081400"/>
                <a:chExt cx="5840640" cy="6246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715480" y="5081400"/>
                  <a:ext cx="562572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=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r>
                    <a:rPr b="0" i="1" lang="en-US" sz="1600" spc="-1" strike="noStrike" baseline="30000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 mod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608560" y="5081400"/>
                  <a:ext cx="5840640" cy="62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1073880" y="5706000"/>
                <a:ext cx="1534320" cy="842040"/>
                <a:chOff x="1073880" y="5706000"/>
                <a:chExt cx="1534320" cy="84204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1181520" y="5706000"/>
                  <a:ext cx="131904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(p,a,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073880" y="5706000"/>
                  <a:ext cx="153432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608560" y="5706000"/>
                <a:ext cx="5840640" cy="842040"/>
                <a:chOff x="2608560" y="5706000"/>
                <a:chExt cx="5840640" cy="8420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715480" y="5706000"/>
                  <a:ext cx="562572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he public key informa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608560" y="5706000"/>
                  <a:ext cx="584064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0" name=""/>
            <p:cNvSpPr/>
            <p:nvPr/>
          </p:nvSpPr>
          <p:spPr>
            <a:xfrm>
              <a:off x="1066680" y="1981080"/>
              <a:ext cx="7391160" cy="4572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04CC-EAD4-407C-B478-47CDCAD0F6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 Gam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838080" y="2057400"/>
          <a:ext cx="8077320" cy="2361960"/>
        </p:xfrm>
        <a:graphic>
          <a:graphicData uri="http://schemas.openxmlformats.org/drawingml/2006/table">
            <a:tbl>
              <a:tblPr/>
              <a:tblGrid>
                <a:gridCol w="1670760"/>
                <a:gridCol w="6406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ly choose an integer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ch tha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, 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) = 1, 1&lt;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, 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k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s not been used to sign a previous me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lculat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=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mod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d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such tha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=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+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mod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 the pair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 as the digital signature on the messag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762120" y="4648320"/>
            <a:ext cx="80769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ince, 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od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x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k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x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k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n M and (r, s), the receiver o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ty ca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verify the signature by checking whet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holds or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8F87-2D46-4ABF-A5A5-4EEEF50D74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ntroduction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graph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art &amp; science of preventing users from unauthorized or illegal actions towards information, networking resources and serv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graphic transform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conversion of input data into output data  using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graphic ke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syste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orwa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ryptographic transformation pa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561D7-3D6B-4C8C-BDF9-CD99AC9C87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560" y="835560"/>
            <a:ext cx="883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SA Digit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difficulty of factoring large numb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RSA digital signature can be produced by encrypting eith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tself or a digest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sing the private signature ke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ture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o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er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message to be signed or message digest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q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large prime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o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er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s the public verification ke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1354-A6C3-4883-A35A-14A9919AED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signatures are an effective mechanism used for authenticity and non-repudiation of messag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signature schemes exist, but DSS is probably the most popul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signatures may be expanded to be used as digital pseudonyms which would prevent authorities from figuring out a sender’s identity, for example by cross-matc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8474C-DFBB-42C3-B72D-8B8672CA78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Verdana"/>
              </a:rPr>
              <a:t>Thank you!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264CE-73F4-4F31-B678-09AE1FF354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 Cryptosyste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772400" y="32004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28600" y="2895480"/>
            <a:ext cx="8381880" cy="2304000"/>
            <a:chOff x="228600" y="2895480"/>
            <a:chExt cx="8381880" cy="2304000"/>
          </a:xfrm>
        </p:grpSpPr>
        <p:sp>
          <p:nvSpPr>
            <p:cNvPr id="215" name=""/>
            <p:cNvSpPr/>
            <p:nvPr/>
          </p:nvSpPr>
          <p:spPr>
            <a:xfrm>
              <a:off x="1600200" y="335268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ward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35268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verse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00200" y="480060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62720" y="480060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743200" y="4343040"/>
              <a:ext cx="14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781680" y="4343040"/>
              <a:ext cx="180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86200" y="3886200"/>
              <a:ext cx="53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29200" y="3886200"/>
              <a:ext cx="53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48720" y="396252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8080" y="388620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38480" y="32004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ut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31240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81080" y="28954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n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19920" y="28954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5E5E-2951-4CC3-9869-21B8F5AF49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Crypto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rivate k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ryptosystem – a private key is shared between the two communicating parties which must be kept secret between themselv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ublic k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ryptosystem – the sender and receiver do not share the same key and one key can be public and the other can be priv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E961-020C-4545-A13F-5BAC325C19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Crypto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04920" y="2133720"/>
            <a:ext cx="8839080" cy="3370680"/>
            <a:chOff x="304920" y="2133720"/>
            <a:chExt cx="8839080" cy="3370680"/>
          </a:xfrm>
        </p:grpSpPr>
        <p:sp>
          <p:nvSpPr>
            <p:cNvPr id="233" name=""/>
            <p:cNvSpPr/>
            <p:nvPr/>
          </p:nvSpPr>
          <p:spPr>
            <a:xfrm>
              <a:off x="1676520" y="259092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ward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38680" y="259092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verse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76520" y="403848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38680" y="403848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819520" y="3580920"/>
              <a:ext cx="14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705720" y="3580920"/>
              <a:ext cx="14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62520" y="2971800"/>
              <a:ext cx="53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2971800"/>
              <a:ext cx="53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24680" y="304812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4400" y="304812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14800" y="22860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ut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20" y="23623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7400" y="213372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n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5880" y="213372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2400" y="23623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9000" y="510552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hare private k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4495680"/>
              <a:ext cx="762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409720" y="44956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09480" y="5791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rivate Key Crypt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C500E-EDE4-4D16-8263-9720DBEBD8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Crypto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2590920"/>
            <a:ext cx="2286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ward Cryptographic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2590920"/>
            <a:ext cx="2286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rse Cryptographic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4038480"/>
            <a:ext cx="228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4038480"/>
            <a:ext cx="228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358092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705720" y="358092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297180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297180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4680" y="30481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30481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2286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2362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2133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772400" y="2362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5105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not share the same key information and one key may b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44956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24816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5867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ublic Key Crypt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C7294-ABCC-4119-8A10-E75BA77B25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gital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ncryp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essage authenti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gital signatur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all tools of modern cryptograph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gnature is a technique for non-repudiation based on the public key cryptograph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reator of a message can attach a code, the signature, which guarantees the source and integrity of the message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2EEB-929A-47D2-88EA-BA19B6EC5E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roperti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ilar to handwritten signatures, digital signatures must fulfill the following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not be forge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ipients must be able to verify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ners must not be able to repudiate them l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ddition, digital signatures cannot be constant and must be a function of the entire document it sig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B8C83-AFCB-41E5-B5EA-323E8E9198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rect digital signatu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involves only the communicating par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d that receiver knows public key of send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nature may be formed by (1) encrypting entire message with sender’s private key or (2) encrypting hash code of message with sender’s private ke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rther encryption of entire message + signature with receiver’s public key or shared private key ensures confidential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F4C5F-FE2F-4148-993D-ADCD0478DE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03:57:14Z</dcterms:created>
  <dc:creator>Munaiza Matin</dc:creator>
  <dc:description/>
  <dc:language>en-US</dc:language>
  <cp:lastModifiedBy>Munaiza Matin</cp:lastModifiedBy>
  <dcterms:modified xsi:type="dcterms:W3CDTF">2001-11-27T05:41:43Z</dcterms:modified>
  <cp:revision>35</cp:revision>
  <dc:subject/>
  <dc:title>Digital Signature Schemes</dc:title>
</cp:coreProperties>
</file>