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B017-820C-4236-B505-F1035C1D4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BADD-0A6F-4B0F-B633-5BC4A81EF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6537-D65B-4F31-A7CE-89AB12C65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AEAB-B0D4-4966-AC95-187D12C7C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F463D-BDED-48DF-BFB1-7CDD0B789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DF7D1-0A51-4DA7-9083-B5C8FC1C8F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0DF98-975D-462B-ABB6-4C0194AAA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8E63A-7C86-4C88-B2D4-8602D7FC0F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8E261-D97D-4A12-B9D7-000532A229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E94AE-7579-46B9-8CB0-66821BF66C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B25CF-15F9-4DED-BFD4-10177D64B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D72F-B052-446D-BBD1-BA4EDC818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4C452-46A7-496F-95F4-E34F1F521B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018DB-5D97-4ACD-B887-05DBEDCF5F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42627-744C-4DF6-9E6B-0C39365EC1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90D9-A118-4723-A0C6-118CAE224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7F184-303D-4349-AB4F-90AFBC4D4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1FB7-C3BB-4EA0-81EB-5632CAB09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E36B-052A-462E-AF11-696952B6E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7590-7074-4E97-931F-3355CFC18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1AC0-D865-439D-B98C-D48F5F12C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C8BB-0682-4865-A700-57307C364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D31D-87C6-45B1-8BC8-4E2DBCD23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FC16-6184-4884-BFBA-A0B405CC1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914400" y="628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543800" y="6286680"/>
            <a:ext cx="138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68D0-45F6-471F-913C-196DB5A7D1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99B4-7773-4CB0-9CD5-C76D012512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naiza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975A2-5A1E-4BB1-8BCF-6357570B57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with direct sign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ity of scheme depends on the security of the sender’s private k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nder may later deny sending a certain mess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key may actually be stolen from X at time T, so timestamp may not hel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583D-2097-468F-A59F-F0855AB979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bitrated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a trusted third party or arb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igned message from sender, X, to receiver, Y, goes to an arbiter, A,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ubjects message + signature to number of tests to check origin &amp;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ates the message and sends it to Y with indication that it has been verified to its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267D-BD32-4E37-9030-E0B0BE6434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sic Mechanism of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y generation algorithm to randomly select a public key pai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algorithm that takes message + private key as input and generates a signature for the message as 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verification algorithm that takes signature + public key as input and generates information bit according to whether signature is consistent a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7E9F-9536-4B6A-AECB-58485B2C99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tanda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IST FIPS 186 Digital Signature Standard (D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Ga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SA Digital Signa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SO 979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NSI X9.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CCITT X.5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8A1F-7D42-43E4-90A0-7745189533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-key techniq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applies the Secure Hash Algorithm (SHA) to the message to produce message dige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’s private key is applied to message digest us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generate signa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40CF-0F8B-46C8-B911-2BCFF7C9A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228600"/>
            <a:ext cx="9127440" cy="5715000"/>
            <a:chOff x="0" y="228600"/>
            <a:chExt cx="9127440" cy="5715000"/>
          </a:xfrm>
        </p:grpSpPr>
        <p:grpSp>
          <p:nvGrpSpPr>
            <p:cNvPr id="289" name=""/>
            <p:cNvGrpSpPr/>
            <p:nvPr/>
          </p:nvGrpSpPr>
          <p:grpSpPr>
            <a:xfrm>
              <a:off x="0" y="228600"/>
              <a:ext cx="9127440" cy="279720"/>
              <a:chOff x="0" y="228600"/>
              <a:chExt cx="9127440" cy="279720"/>
            </a:xfrm>
          </p:grpSpPr>
          <p:sp>
            <p:nvSpPr>
              <p:cNvPr id="290" name=""/>
              <p:cNvSpPr/>
              <p:nvPr/>
            </p:nvSpPr>
            <p:spPr>
              <a:xfrm>
                <a:off x="118440" y="228600"/>
                <a:ext cx="8889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lobal Public-Key Compon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28600"/>
                <a:ext cx="9127440" cy="27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08320"/>
              <a:ext cx="752040" cy="378720"/>
              <a:chOff x="0" y="508320"/>
              <a:chExt cx="752040" cy="378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18440" y="508320"/>
                <a:ext cx="5144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08320"/>
                <a:ext cx="75204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52400" y="508320"/>
              <a:ext cx="8374680" cy="378720"/>
              <a:chOff x="752400" y="508320"/>
              <a:chExt cx="8374680" cy="37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870480" y="508320"/>
                <a:ext cx="81378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prime number of L bits where L is a multiple of 64 and 512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L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10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2400" y="508320"/>
                <a:ext cx="837468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887400"/>
              <a:ext cx="752040" cy="321840"/>
              <a:chOff x="0" y="887400"/>
              <a:chExt cx="752040" cy="321840"/>
            </a:xfrm>
          </p:grpSpPr>
          <p:sp>
            <p:nvSpPr>
              <p:cNvPr id="299" name=""/>
              <p:cNvSpPr/>
              <p:nvPr/>
            </p:nvSpPr>
            <p:spPr>
              <a:xfrm>
                <a:off x="118440" y="8874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8874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2400" y="887400"/>
              <a:ext cx="8374680" cy="321840"/>
              <a:chOff x="752400" y="887400"/>
              <a:chExt cx="8374680" cy="321840"/>
            </a:xfrm>
          </p:grpSpPr>
          <p:sp>
            <p:nvSpPr>
              <p:cNvPr id="302" name=""/>
              <p:cNvSpPr/>
              <p:nvPr/>
            </p:nvSpPr>
            <p:spPr>
              <a:xfrm>
                <a:off x="870480" y="8874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160-bit prime factor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2400" y="8874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209600"/>
              <a:ext cx="752040" cy="546840"/>
              <a:chOff x="0" y="1209600"/>
              <a:chExt cx="752040" cy="546840"/>
            </a:xfrm>
          </p:grpSpPr>
          <p:sp>
            <p:nvSpPr>
              <p:cNvPr id="305" name=""/>
              <p:cNvSpPr/>
              <p:nvPr/>
            </p:nvSpPr>
            <p:spPr>
              <a:xfrm>
                <a:off x="118440" y="1209600"/>
                <a:ext cx="5144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209600"/>
                <a:ext cx="752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52400" y="1209600"/>
              <a:ext cx="8374680" cy="546840"/>
              <a:chOff x="752400" y="1209600"/>
              <a:chExt cx="8374680" cy="546840"/>
            </a:xfrm>
          </p:grpSpPr>
          <p:sp>
            <p:nvSpPr>
              <p:cNvPr id="308" name=""/>
              <p:cNvSpPr/>
              <p:nvPr/>
            </p:nvSpPr>
            <p:spPr>
              <a:xfrm>
                <a:off x="870480" y="1209600"/>
                <a:ext cx="81378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where h is any integer with 1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, such that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&gt;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2400" y="1209600"/>
                <a:ext cx="83746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1756440"/>
              <a:ext cx="9127440" cy="307440"/>
              <a:chOff x="0" y="1756440"/>
              <a:chExt cx="9127440" cy="307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18440" y="175644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rivate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175644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063880"/>
              <a:ext cx="752040" cy="434160"/>
              <a:chOff x="0" y="2063880"/>
              <a:chExt cx="752040" cy="4341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8440" y="2063880"/>
                <a:ext cx="51444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063880"/>
                <a:ext cx="75204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52400" y="2063880"/>
              <a:ext cx="8374680" cy="434160"/>
              <a:chOff x="752400" y="2063880"/>
              <a:chExt cx="8374680" cy="434160"/>
            </a:xfrm>
          </p:grpSpPr>
          <p:sp>
            <p:nvSpPr>
              <p:cNvPr id="317" name=""/>
              <p:cNvSpPr/>
              <p:nvPr/>
            </p:nvSpPr>
            <p:spPr>
              <a:xfrm>
                <a:off x="870480" y="2063880"/>
                <a:ext cx="813780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2400" y="2063880"/>
                <a:ext cx="837468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498400"/>
              <a:ext cx="9127440" cy="307440"/>
              <a:chOff x="0" y="2498400"/>
              <a:chExt cx="9127440" cy="30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18440" y="2498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ublic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498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2806200"/>
              <a:ext cx="752040" cy="321840"/>
              <a:chOff x="0" y="2806200"/>
              <a:chExt cx="752040" cy="321840"/>
            </a:xfrm>
          </p:grpSpPr>
          <p:sp>
            <p:nvSpPr>
              <p:cNvPr id="323" name=""/>
              <p:cNvSpPr/>
              <p:nvPr/>
            </p:nvSpPr>
            <p:spPr>
              <a:xfrm>
                <a:off x="118440" y="28062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28062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52400" y="2806200"/>
              <a:ext cx="8374680" cy="321840"/>
              <a:chOff x="752400" y="2806200"/>
              <a:chExt cx="8374680" cy="321840"/>
            </a:xfrm>
          </p:grpSpPr>
          <p:sp>
            <p:nvSpPr>
              <p:cNvPr id="326" name=""/>
              <p:cNvSpPr/>
              <p:nvPr/>
            </p:nvSpPr>
            <p:spPr>
              <a:xfrm>
                <a:off x="870480" y="28062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2400" y="28062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128400"/>
              <a:ext cx="9127440" cy="447480"/>
              <a:chOff x="0" y="3128400"/>
              <a:chExt cx="9127440" cy="447480"/>
            </a:xfrm>
          </p:grpSpPr>
          <p:sp>
            <p:nvSpPr>
              <p:cNvPr id="329" name=""/>
              <p:cNvSpPr/>
              <p:nvPr/>
            </p:nvSpPr>
            <p:spPr>
              <a:xfrm>
                <a:off x="118440" y="3128400"/>
                <a:ext cx="88898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er-Message Secret Numb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128400"/>
                <a:ext cx="9127440" cy="44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575880"/>
              <a:ext cx="752040" cy="434520"/>
              <a:chOff x="0" y="3575880"/>
              <a:chExt cx="752040" cy="43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8440" y="3575880"/>
                <a:ext cx="51444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575880"/>
                <a:ext cx="75204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52400" y="3575880"/>
              <a:ext cx="8374680" cy="434520"/>
              <a:chOff x="752400" y="3575880"/>
              <a:chExt cx="8374680" cy="43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870480" y="3575880"/>
                <a:ext cx="81378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400" y="3575880"/>
                <a:ext cx="837468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10400"/>
              <a:ext cx="9127440" cy="307440"/>
              <a:chOff x="0" y="4010400"/>
              <a:chExt cx="9127440" cy="30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118440" y="4010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10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318200"/>
              <a:ext cx="9127440" cy="546480"/>
              <a:chOff x="0" y="4318200"/>
              <a:chExt cx="9127440" cy="546480"/>
            </a:xfrm>
          </p:grpSpPr>
          <p:sp>
            <p:nvSpPr>
              <p:cNvPr id="341" name=""/>
              <p:cNvSpPr/>
              <p:nvPr/>
            </p:nvSpPr>
            <p:spPr>
              <a:xfrm>
                <a:off x="118440" y="4318200"/>
                <a:ext cx="888984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          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[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(H(M)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ignature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318200"/>
                <a:ext cx="9127440" cy="54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864680"/>
              <a:ext cx="9127440" cy="307440"/>
              <a:chOff x="0" y="4864680"/>
              <a:chExt cx="9127440" cy="307440"/>
            </a:xfrm>
          </p:grpSpPr>
          <p:sp>
            <p:nvSpPr>
              <p:cNvPr id="344" name=""/>
              <p:cNvSpPr/>
              <p:nvPr/>
            </p:nvSpPr>
            <p:spPr>
              <a:xfrm>
                <a:off x="118440" y="486468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erify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86468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5172480"/>
              <a:ext cx="9127440" cy="771120"/>
              <a:chOff x="0" y="5172480"/>
              <a:chExt cx="9127440" cy="771120"/>
            </a:xfrm>
          </p:grpSpPr>
          <p:sp>
            <p:nvSpPr>
              <p:cNvPr id="347" name=""/>
              <p:cNvSpPr/>
              <p:nvPr/>
            </p:nvSpPr>
            <p:spPr>
              <a:xfrm>
                <a:off x="118440" y="5172480"/>
                <a:ext cx="888984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H(M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Test: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172480"/>
                <a:ext cx="91274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066680" y="6172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gital Signature Algorithm (D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2CAC-30C5-4E24-B990-FE4992CF1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3200" y="2514240"/>
            <a:ext cx="8110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message to be sig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= hash of M using S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 = received version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57A1-2222-4D39-B866-DF9A9C5EC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ariant of the D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ssumption that computing discrete logarithms over a finite field with a large prime is diffic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at it is computationally infeasible for anyone other than signer to find a mess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n integer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such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B680-FB7B-4311-9C4F-6E3AEB504A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1981080"/>
            <a:ext cx="7391160" cy="4572000"/>
            <a:chOff x="1066680" y="1981080"/>
            <a:chExt cx="7391160" cy="4572000"/>
          </a:xfrm>
        </p:grpSpPr>
        <p:grpSp>
          <p:nvGrpSpPr>
            <p:cNvPr id="356" name=""/>
            <p:cNvGrpSpPr/>
            <p:nvPr/>
          </p:nvGrpSpPr>
          <p:grpSpPr>
            <a:xfrm>
              <a:off x="1073880" y="1985040"/>
              <a:ext cx="7375680" cy="4563000"/>
              <a:chOff x="1073880" y="1985040"/>
              <a:chExt cx="7375680" cy="4563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1073880" y="1985040"/>
                <a:ext cx="7375680" cy="569160"/>
                <a:chOff x="1073880" y="1985040"/>
                <a:chExt cx="7375680" cy="569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181520" y="1985040"/>
                  <a:ext cx="71604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ameters of El Gam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073880" y="1985040"/>
                  <a:ext cx="73756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73880" y="2554200"/>
                <a:ext cx="1534320" cy="842040"/>
                <a:chOff x="1073880" y="2554200"/>
                <a:chExt cx="1534320" cy="842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181520" y="25542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73880" y="25542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08560" y="2554200"/>
                <a:ext cx="5840640" cy="842040"/>
                <a:chOff x="2608560" y="2554200"/>
                <a:chExt cx="5840640" cy="842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15480" y="25542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large prime number such that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-1 has a large prime fa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08560" y="25542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073880" y="3396600"/>
                <a:ext cx="1534320" cy="842400"/>
                <a:chOff x="1073880" y="3396600"/>
                <a:chExt cx="1534320" cy="842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81520" y="3396600"/>
                  <a:ext cx="131904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3880" y="3396600"/>
                  <a:ext cx="153432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08560" y="3396600"/>
                <a:ext cx="5840640" cy="842400"/>
                <a:chOff x="2608560" y="3396600"/>
                <a:chExt cx="5840640" cy="84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15480" y="3396600"/>
                  <a:ext cx="562572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rivate key information of a user wher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&lt;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08560" y="3396600"/>
                  <a:ext cx="584064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73880" y="4239000"/>
                <a:ext cx="1534320" cy="842040"/>
                <a:chOff x="1073880" y="4239000"/>
                <a:chExt cx="1534320" cy="842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81520" y="4239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73880" y="4239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08560" y="4239000"/>
                <a:ext cx="5840640" cy="842040"/>
                <a:chOff x="2608560" y="4239000"/>
                <a:chExt cx="5840640" cy="842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15480" y="4239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primitive element of the finite field for the prim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08560" y="4239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073880" y="5081400"/>
                <a:ext cx="1534320" cy="624600"/>
                <a:chOff x="1073880" y="5081400"/>
                <a:chExt cx="1534320" cy="62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181520" y="5081400"/>
                  <a:ext cx="13190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73880" y="5081400"/>
                  <a:ext cx="153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08560" y="5081400"/>
                <a:ext cx="5840640" cy="624600"/>
                <a:chOff x="2608560" y="5081400"/>
                <a:chExt cx="5840640" cy="624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15480" y="5081400"/>
                  <a:ext cx="562572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=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r>
                    <a:rPr b="0" i="1" lang="en-US" sz="1600" spc="-1" strike="noStrike" baseline="30000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 mod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08560" y="5081400"/>
                  <a:ext cx="58406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73880" y="5706000"/>
                <a:ext cx="1534320" cy="842040"/>
                <a:chOff x="1073880" y="5706000"/>
                <a:chExt cx="1534320" cy="842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81520" y="5706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(p,a,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73880" y="5706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08560" y="5706000"/>
                <a:ext cx="5840640" cy="842040"/>
                <a:chOff x="2608560" y="5706000"/>
                <a:chExt cx="5840640" cy="842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15480" y="5706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ublic key inform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08560" y="5706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066680" y="1981080"/>
              <a:ext cx="739116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8B91-9121-49AE-90B4-44CE0E4BF2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38080" y="2057400"/>
          <a:ext cx="8077320" cy="2361960"/>
        </p:xfrm>
        <a:graphic>
          <a:graphicData uri="http://schemas.openxmlformats.org/drawingml/2006/table">
            <a:tbl>
              <a:tblPr/>
              <a:tblGrid>
                <a:gridCol w="1670760"/>
                <a:gridCol w="6406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ly choose an integer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h th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,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 = 1, 1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, 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s not been used to sign a previous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uch tha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the pai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as the digital signature on the messag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762120" y="4648320"/>
            <a:ext cx="8076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ince, 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M and (r, s), the receiver 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c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verify the signature by checking whe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hold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D5E4-26A3-4044-ADE4-12926AB74F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troduction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rt &amp; science of preventing users from unauthorized or illegal actions towards information, networking resources and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transform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conversion of input data into output data  using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ke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ryptographic transformation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E723-C871-4561-B6E8-6A3BE2F859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835560"/>
            <a:ext cx="883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SA Digit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difficulty of factoring large nu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RSA digital signature can be produced by encryp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tself or a digest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ing the private signature ke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ssage to be signed or message digest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arge prim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the public verification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4CE0-9C12-4F52-B43E-34B9DA3D35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are an effective mechanism used for authenticity and non-repudiation of mess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signature schemes exist, but DSS is probably the most pop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may be expanded to be used as digital pseudonyms which would prevent authorities from figuring out a sender’s identity, for example by cross-mat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CFF0-E7DF-4C14-91AD-65E0CD2D9C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EEEC1-2915-4F6F-B0C9-7D993D2064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 Cryptosyst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3200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895480"/>
            <a:ext cx="8381880" cy="2304000"/>
            <a:chOff x="228600" y="2895480"/>
            <a:chExt cx="8381880" cy="2304000"/>
          </a:xfrm>
        </p:grpSpPr>
        <p:sp>
          <p:nvSpPr>
            <p:cNvPr id="215" name=""/>
            <p:cNvSpPr/>
            <p:nvPr/>
          </p:nvSpPr>
          <p:spPr>
            <a:xfrm>
              <a:off x="160020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743200" y="434304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781680" y="4343040"/>
              <a:ext cx="18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6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48720" y="396252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38862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2004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31240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28954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2895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8C55-7359-4CDB-88B7-E9FB302B93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a private key is shared between the two communicating parties which must be kept secret between themsel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the sender and receiver do not share the same key and one key can be public and the other can be priv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4738-7BCF-413A-B800-481712CEE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2133720"/>
            <a:ext cx="8839080" cy="3370680"/>
            <a:chOff x="304920" y="2133720"/>
            <a:chExt cx="8839080" cy="3370680"/>
          </a:xfrm>
        </p:grpSpPr>
        <p:sp>
          <p:nvSpPr>
            <p:cNvPr id="233" name=""/>
            <p:cNvSpPr/>
            <p:nvPr/>
          </p:nvSpPr>
          <p:spPr>
            <a:xfrm>
              <a:off x="167652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652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868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8195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057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2860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1337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21337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51055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are private k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44956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09720" y="44956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9480" y="5791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ivate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A6FF-4DCE-4AFA-BEF2-5673437DD0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e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057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133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0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share the same key information and one key may b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24816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5867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939C-D0B6-48A6-8103-B06D80F366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ssage authent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all tools of modern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is a technique for non-repudiation based on the public key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eator of a message can attach a code, the signature, which guarantees the source and integrity of the message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B71A-1184-4A1E-91A8-61F6CA85C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perti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handwritten signatures, digital signatures must fulfill the follow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not be forge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ipients must be able to verify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ers must not be able to repudiate th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ddition, digital signatures cannot be constant and must be a function of the entire document i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C5A0-AFA5-47ED-BB04-E1ED66BE7C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rect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only the communicating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d that receiver knows public key of sen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ature may be formed by (1) encrypting entire message with sender’s private key or (2) encrypting hash code of message with sender’s private ke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rther encryption of entire message + signature with receiver’s public key or shared private key ensures confidenti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816F-A46D-4BBC-9D46-F702623A8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3:57:14Z</dcterms:created>
  <dc:creator>Munaiza Matin</dc:creator>
  <dc:description/>
  <dc:language>en-US</dc:language>
  <cp:lastModifiedBy>Munaiza Matin</cp:lastModifiedBy>
  <dcterms:modified xsi:type="dcterms:W3CDTF">2001-11-27T05:41:43Z</dcterms:modified>
  <cp:revision>35</cp:revision>
  <dc:subject/>
  <dc:title>Digital Signature Schemes</dc:title>
</cp:coreProperties>
</file>