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5B69-B74B-405A-914B-6DE2FADD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09A4-9558-4C3D-B11D-CC421D99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B9CC-EC4B-4279-AE5C-3A07842C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17AD-B57D-42F7-9C97-8D9BC2E5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A37E-C32C-4193-AA6C-3259D43F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EF3E-6B48-4A60-804E-E0CDEC44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ECD6-9740-4267-9008-71E55F9F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D994-5543-4556-AC14-1BF3112C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3CE0-C571-4CEB-AE09-E99D6FFD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C330-E8E1-4A38-B2BF-F6D07934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C2B0-D5C9-48B7-B633-C3DFB7B0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0767-4286-44F2-8D2A-12D1A5FF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1CBC-42BB-4556-A958-D2368C5C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5A3C-17A1-4608-BC19-36CFEDED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0296-9FDF-40BC-AD45-C19450EE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1411-0EEA-4FEB-A61E-1BD585C7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6DB8-EEB2-442E-9BD3-E463AEEC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46D7-417A-49F0-880D-C51BF2AE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D171-5044-445A-9238-F7ADAE47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FB9B-995D-422C-A7BD-84AA802F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ADEC-5BC1-41BE-AACB-2A8074C8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BB4E-AF59-4CB5-938E-0079D460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268E-CB08-4840-B411-B8236160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C393-A540-4550-951C-4C74946C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b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7760" y="6619680"/>
            <a:ext cx="218124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3440" y="6619680"/>
            <a:ext cx="284796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7400" y="6619680"/>
            <a:ext cx="215280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E2A4-213D-4B97-95D7-9A6B73123085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B211-E864-4004-A51B-0239AD480CD8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b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99"/>
                </a:solidFill>
                <a:latin typeface="Comic Sans MS"/>
              </a:rPr>
              <a:t>Lecture 8</a:t>
            </a:r>
            <a:br>
              <a:rPr sz="3600"/>
            </a:br>
            <a:r>
              <a:rPr b="0" lang="en-US" sz="4400" spc="-1" strike="noStrike">
                <a:solidFill>
                  <a:srgbClr val="ff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Encoding the </a:t>
            </a:r>
            <a:r>
              <a:rPr b="0" lang="en-US" sz="3200" spc="-1" strike="noStrike">
                <a:solidFill>
                  <a:srgbClr val="ff9999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-calculus into </a:t>
            </a:r>
            <a:br>
              <a:rPr sz="3200"/>
            </a:b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the probabilistic asynchronous </a:t>
            </a:r>
            <a:r>
              <a:rPr b="0" lang="en-US" sz="3200" spc="-1" strike="noStrike">
                <a:solidFill>
                  <a:srgbClr val="ff9999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www.lix.polytechnique.fr/~catuscia/teaching/Pisa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Comic Sans MS"/>
              </a:rPr>
              <a:t>If part)</a:t>
            </a: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  Each cycle can be considered separately. On each of  them the classic algorithm is deadlock-free. Some additional care must be taken for the arcs that are not part of the cycle.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Comic Sans MS"/>
              </a:rPr>
              <a:t>Only if part)</a:t>
            </a: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 By analysis of the three possible cases. Actually they are all similar. We  illustrate the first case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676520" y="4495680"/>
            <a:ext cx="3047400" cy="1028880"/>
            <a:chOff x="1676520" y="4495680"/>
            <a:chExt cx="3047400" cy="1028880"/>
          </a:xfrm>
        </p:grpSpPr>
        <p:sp>
          <p:nvSpPr>
            <p:cNvPr id="232" name=""/>
            <p:cNvSpPr/>
            <p:nvPr/>
          </p:nvSpPr>
          <p:spPr>
            <a:xfrm>
              <a:off x="167652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19160" y="5029200"/>
              <a:ext cx="799920" cy="1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8128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867280" y="5410080"/>
            <a:ext cx="30492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48006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96840" y="51879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ta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55000" y="4552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commit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742840" y="525780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426708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60020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1617480" y="519336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05704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C10C-E3B9-4BEF-86D5-195EE0F6D13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The initial situation has probability p &gt; 0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Comic Sans MS"/>
              </a:rPr>
              <a:t>The scheduler forces the processes to loo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Hence the system has a deadlock (livelock) with probability 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Note that this scheduler is </a:t>
            </a:r>
            <a:r>
              <a:rPr b="1" lang="en-US" sz="2200" spc="-1" strike="noStrike">
                <a:solidFill>
                  <a:srgbClr val="ff3399"/>
                </a:solidFill>
                <a:latin typeface="Comic Sans MS"/>
              </a:rPr>
              <a:t>not fair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. However we can define even a fair scheduler which induces an infinite loop with probability &gt; 0. The idea is to have a scheduler that “gives up” after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 attempts when the process keep choosing the “wrong” fork, but that increases (by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) its “stubborness” at every round.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With a suitable choice of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 and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 f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 we have that the probability of a loop is   p/4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CDD8-1D09-4F40-8815-43C24D2A9F2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4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Solution for the Generalized DP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060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As we have seen, the algorithm of Lehmann and Rabin does not work on general graphs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Comic Sans MS"/>
              </a:rPr>
              <a:t>However, it is easy to modify the algorithm so that it works in general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The idea is to reduce the problem to the pairwise disconnected cycles case: 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Each fork is initially associated with one token. Each phil needs to acquire a token in order to participate to the competition. After this initial phase, the algorithm is the same as the Lehmann &amp; Rabin’s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ff3399"/>
                </a:solidFill>
                <a:latin typeface="Comic Sans MS"/>
              </a:rPr>
              <a:t>Theorem:</a:t>
            </a: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The competing phils determine a graph in which all cycles are pairwise disconnected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9966ff"/>
                </a:solidFill>
                <a:latin typeface="Comic Sans MS"/>
              </a:rPr>
              <a:t>Proof: By case analysis. To have a situation with two connected cycles we would need a node with two tokens.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99BB-E95B-42C9-9C5A-D99EAFEA600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06600" y="2033280"/>
            <a:ext cx="5037120" cy="3882600"/>
            <a:chOff x="606600" y="2033280"/>
            <a:chExt cx="5037120" cy="3882600"/>
          </a:xfrm>
        </p:grpSpPr>
        <p:sp>
          <p:nvSpPr>
            <p:cNvPr id="274" name=""/>
            <p:cNvSpPr/>
            <p:nvPr/>
          </p:nvSpPr>
          <p:spPr>
            <a:xfrm>
              <a:off x="2649600" y="382428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580000" y="442548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99000" y="439236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22640" y="2428920"/>
              <a:ext cx="1440" cy="306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59040" y="448920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122640" y="4489200"/>
              <a:ext cx="21654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959040" y="2428920"/>
              <a:ext cx="21636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22640" y="2428920"/>
              <a:ext cx="21654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51040" y="301608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95880" y="517824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95880" y="301608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82920" y="517680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59040" y="448920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35400" y="40464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121200" y="572256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51360" y="572292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87240" y="43920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6600" y="43592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3122640" y="20332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9560" y="203364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19600" y="40320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1073600">
              <a:off x="3071880" y="418464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4467600">
              <a:off x="2976840" y="426348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8067200">
              <a:off x="2873880" y="40932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974600">
              <a:off x="2958840" y="39600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90800" y="42433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1073600">
              <a:off x="2919600" y="426816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4467600">
              <a:off x="2806560" y="414468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8067200">
              <a:off x="2800800" y="40932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3974600">
              <a:off x="2774520" y="4263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24120" y="3851280"/>
              <a:ext cx="792360" cy="810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6033960" y="1698480"/>
            <a:ext cx="2624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Reduction to the classic case: each fork is initially associated with a token. Each phil needs to acquire a token in order to participate to the competition. The competing phils determine a set of subgraphs in which each subgraph contains at most one cy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01560" y="2039760"/>
            <a:ext cx="5037120" cy="3882960"/>
            <a:chOff x="601560" y="2039760"/>
            <a:chExt cx="5037120" cy="3882960"/>
          </a:xfrm>
        </p:grpSpPr>
        <p:sp>
          <p:nvSpPr>
            <p:cNvPr id="307" name=""/>
            <p:cNvSpPr/>
            <p:nvPr/>
          </p:nvSpPr>
          <p:spPr>
            <a:xfrm>
              <a:off x="2644560" y="38304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576760" y="4431960"/>
              <a:ext cx="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94320" y="439884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17600" y="2435040"/>
              <a:ext cx="1800" cy="306216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54000" y="449568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117600" y="4495680"/>
              <a:ext cx="21654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954000" y="2435040"/>
              <a:ext cx="21636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17600" y="2435040"/>
              <a:ext cx="21654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46000" y="30222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90840" y="518436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90840" y="30222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77880" y="51829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54000" y="449568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30360" y="40525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116160" y="572904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46320" y="572904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82560" y="439884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1560" y="43653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3117600" y="2039760"/>
              <a:ext cx="180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44520" y="203976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14560" y="40384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1073600">
              <a:off x="3066480" y="41907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4467600">
              <a:off x="2971440" y="4269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8067200">
              <a:off x="2868120" y="41000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3974600">
              <a:off x="2954160" y="39664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86120" y="42494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1073600">
              <a:off x="2914200" y="42750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4467600">
              <a:off x="2801520" y="41511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8067200">
              <a:off x="2795040" y="41000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3974600">
              <a:off x="2770200" y="42696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19440" y="3857400"/>
              <a:ext cx="792000" cy="811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3BCA-7814-4B76-8FE2-9A8D7815D8F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ccffff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[[ ]] :  </a:t>
            </a:r>
            <a:r>
              <a:rPr b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-25000">
                <a:solidFill>
                  <a:srgbClr val="66ffff"/>
                </a:solidFill>
                <a:latin typeface="Comic Sans MS"/>
              </a:rPr>
              <a:t>pa</a:t>
            </a: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Comic Sans MS"/>
              </a:rPr>
              <a:t>Fully distributed</a:t>
            </a: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[[ P | Q ]]  =  [[ P ]]  |  [[ Q ]]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mic Sans MS"/>
              </a:rPr>
              <a:t>Unifor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[[ P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]]   =  [[ P ]]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Correct wrt a notion of probabilistic testing semantic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66ff"/>
                </a:solidFill>
                <a:latin typeface="Comic Sans MS"/>
              </a:rPr>
              <a:t>P must O     iff     [[ P ]] must [[ O ]] with prob 1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1376-3679-4EAB-8AC2-657936BF035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ccffff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0600" y="952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dea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Every mixed choice is translated into a parallel comp. of processes corresponding to the branches, plus a lock 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The input processes compete for acquiring both its own lock and the lock of the partner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The input process which succeeds first, establishes the communication. The other alternatives are discarded 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4005360" y="4057560"/>
            <a:ext cx="1001520" cy="231840"/>
          </a:xfrm>
          <a:custGeom>
            <a:avLst/>
            <a:gdLst>
              <a:gd name="textAreaLeft" fmla="*/ 124920 w 1001520"/>
              <a:gd name="textAreaRight" fmla="*/ 876600 w 1001520"/>
              <a:gd name="textAreaTop" fmla="*/ 57960 h 231840"/>
              <a:gd name="textAreaBottom" fmla="*/ 1738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278080" y="3753000"/>
            <a:ext cx="739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17880" y="3753000"/>
            <a:ext cx="0" cy="78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277720" y="4057560"/>
            <a:ext cx="739800" cy="47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89160" y="40068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17880" y="3701880"/>
            <a:ext cx="88920" cy="1018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3240" y="453564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6800" y="35686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74760" y="4452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84960" y="3873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000840" y="3803760"/>
            <a:ext cx="739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40640" y="3803760"/>
            <a:ext cx="0" cy="78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000480" y="4108320"/>
            <a:ext cx="739800" cy="47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11920" y="40575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40640" y="37530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9600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78600" y="3506760"/>
            <a:ext cx="6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960" y="405612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42120" y="400680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57200" y="34383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57200" y="46371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31840" y="39355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44600" y="5600880"/>
            <a:ext cx="7161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00080" y="5335560"/>
            <a:ext cx="77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The problem is reduced to a generalized dining philosophers problem where each fork (lock) can be adjacent to more than two philosop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467080" y="4586400"/>
            <a:ext cx="506160" cy="50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7816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278080" y="4057200"/>
            <a:ext cx="100080" cy="52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78600" y="46371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978520" y="4107960"/>
            <a:ext cx="100080" cy="52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67520" y="4637160"/>
            <a:ext cx="528480" cy="50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15720" y="46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3080" y="426888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06520" y="471024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468792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3584-6126-4464-B479-EF7A657FA1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Dining Philosophers: classic case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2480" y="1550520"/>
            <a:ext cx="806616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898720" y="2289240"/>
            <a:ext cx="3476160" cy="3482640"/>
            <a:chOff x="2898720" y="2289240"/>
            <a:chExt cx="3476160" cy="3482640"/>
          </a:xfrm>
        </p:grpSpPr>
        <p:sp>
          <p:nvSpPr>
            <p:cNvPr id="125" name=""/>
            <p:cNvSpPr/>
            <p:nvPr/>
          </p:nvSpPr>
          <p:spPr>
            <a:xfrm>
              <a:off x="3237120" y="2911680"/>
              <a:ext cx="2741040" cy="2127600"/>
            </a:xfrm>
            <a:prstGeom prst="triangle">
              <a:avLst>
                <a:gd name="adj" fmla="val 50000"/>
              </a:avLst>
            </a:prstGeom>
            <a:solidFill>
              <a:srgbClr val="00004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83800" y="3346560"/>
              <a:ext cx="59472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37120" y="3346560"/>
              <a:ext cx="59508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61400" y="5229360"/>
              <a:ext cx="59472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317640" y="483912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47080" y="4827240"/>
              <a:ext cx="127800" cy="301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968560" y="491904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98720" y="4906800"/>
              <a:ext cx="127800" cy="30168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601880" y="230076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31320" y="2289240"/>
              <a:ext cx="128160" cy="301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51040" y="404892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1073600">
              <a:off x="4585680" y="4181400"/>
              <a:ext cx="349920" cy="146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4467600">
              <a:off x="4505760" y="424800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8067200">
              <a:off x="4413600" y="41007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3974600">
              <a:off x="4489560" y="39855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25840" y="423252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1073600">
              <a:off x="4450680" y="425376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4467600">
              <a:off x="4354920" y="414468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8067200">
              <a:off x="4348800" y="41007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3974600">
              <a:off x="4326480" y="42483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49800" y="3901680"/>
              <a:ext cx="702000" cy="703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1B21-E68D-4425-AD01-744F4A1BFE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endParaRPr b="0" lang="en-US" sz="36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4720" y="1333080"/>
            <a:ext cx="83059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3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{release(firstfork); goto 2}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AD7E-E97A-445C-9178-FDC9B2AFB8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Wrt to our encoding goal, the algorithm of Lehmann and Rabin has two problem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It only works for certain kinds of graph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t works only for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fair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eduler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Problem 2 however can be solved by replacing the busy waiting in step 3 with suspension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[Duflot, Friburg, Picaronny 2002] – see also Herescu’s PhD thesi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A51F-DB2F-4AD6-95EE-A060994618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23800" y="1452600"/>
            <a:ext cx="836784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f taken(first_fork) then wa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2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504720" y="1461960"/>
            <a:ext cx="836784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0120" y="123840"/>
            <a:ext cx="777888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br>
              <a:rPr sz="2800"/>
            </a:b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Modified so to avoid the need for fair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732960" y="133200"/>
            <a:ext cx="75502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2E14-939B-41CD-A297-4406C8DD68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475560" y="1262160"/>
            <a:ext cx="833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fork can be shared by more than two philosophers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035080" y="2176200"/>
            <a:ext cx="5037120" cy="3882600"/>
            <a:chOff x="2035080" y="2176200"/>
            <a:chExt cx="5037120" cy="3882600"/>
          </a:xfrm>
        </p:grpSpPr>
        <p:sp>
          <p:nvSpPr>
            <p:cNvPr id="157" name=""/>
            <p:cNvSpPr/>
            <p:nvPr/>
          </p:nvSpPr>
          <p:spPr>
            <a:xfrm>
              <a:off x="4078080" y="396720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008480" y="45684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27480" y="45352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51120" y="2571840"/>
              <a:ext cx="1440" cy="306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87520" y="463212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551120" y="4632120"/>
              <a:ext cx="21654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387520" y="2571840"/>
              <a:ext cx="21636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51120" y="2571840"/>
              <a:ext cx="21654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7952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532116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436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11400" y="531972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87520" y="463212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63880" y="418932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549680" y="58654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79840" y="58658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115720" y="453492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35080" y="450216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551120" y="217620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78040" y="21765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8080" y="41749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1073600">
              <a:off x="4500360" y="432756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4467600">
              <a:off x="4405320" y="44064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8067200">
              <a:off x="430236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3974600">
              <a:off x="4387320" y="41029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19280" y="438624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1073600">
              <a:off x="4348080" y="44110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4467600">
              <a:off x="4235040" y="428760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8067200">
              <a:off x="422928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3974600">
              <a:off x="4203000" y="440604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2600" y="3994200"/>
              <a:ext cx="792360" cy="810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030400" y="2182680"/>
            <a:ext cx="5037120" cy="3882960"/>
            <a:chOff x="2030400" y="2182680"/>
            <a:chExt cx="5037120" cy="3882960"/>
          </a:xfrm>
        </p:grpSpPr>
        <p:sp>
          <p:nvSpPr>
            <p:cNvPr id="189" name=""/>
            <p:cNvSpPr/>
            <p:nvPr/>
          </p:nvSpPr>
          <p:spPr>
            <a:xfrm>
              <a:off x="4073400" y="39733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005600" y="4574880"/>
              <a:ext cx="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160" y="45417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46440" y="2577960"/>
              <a:ext cx="1800" cy="306216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82840" y="4638600"/>
              <a:ext cx="21636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546440" y="4638600"/>
              <a:ext cx="21654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382840" y="2577960"/>
              <a:ext cx="21636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46440" y="2577960"/>
              <a:ext cx="21654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7484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9680" y="532728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1968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06720" y="53258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82840" y="463860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59200" y="41954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545000" y="587196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75160" y="58719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2111400" y="454176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30400" y="450828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546440" y="2182680"/>
              <a:ext cx="180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73360" y="21826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41814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1073600">
              <a:off x="4495320" y="43336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4467600">
              <a:off x="4400280" y="44128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8067200">
              <a:off x="429696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3974600">
              <a:off x="4383000" y="41094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14960" y="43923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1073600">
              <a:off x="4343040" y="44179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4467600">
              <a:off x="4230360" y="42940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8067200">
              <a:off x="422388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3974600">
              <a:off x="4199040" y="44125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48280" y="4000320"/>
              <a:ext cx="792000" cy="811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C016-F465-47E2-9592-40FD4C98A71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Theorem:</a:t>
            </a: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66ffff"/>
                </a:solidFill>
                <a:latin typeface="Comic Sans MS"/>
              </a:rPr>
              <a:t>The algorithm of Lehmann and Rabin is deadlock-free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if and only if</a:t>
            </a:r>
            <a:r>
              <a:rPr b="0" lang="en-US" sz="2600" spc="-1" strike="noStrike">
                <a:solidFill>
                  <a:srgbClr val="66ffff"/>
                </a:solidFill>
                <a:latin typeface="Comic Sans MS"/>
              </a:rPr>
              <a:t> all cycles are pairwise disconnected</a:t>
            </a: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33"/>
                </a:solidFill>
                <a:latin typeface="Comic Sans MS"/>
              </a:rPr>
              <a:t>There are essentially three ways in which two cycles can be connected:</a:t>
            </a: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4952880"/>
            <a:ext cx="533520" cy="0"/>
          </a:xfrm>
          <a:prstGeom prst="line">
            <a:avLst/>
          </a:prstGeom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771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5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2C03-298B-4E4E-8C86-3D8A4CCADE7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10T05:22:19Z</dcterms:modified>
  <cp:revision>146</cp:revision>
  <dc:subject/>
  <dc:title>Concurrency 5</dc:title>
</cp:coreProperties>
</file>