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FB8-65E6-4655-9EDD-4FCA50FE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BF2-F79B-4E32-A0D2-0AC84D89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45C-9DF6-48B2-A3A6-E1497990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7E9-4FEB-4384-BED9-D574299F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F700-276D-43F4-B4D7-7F2E8769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DB00-4680-4D0E-A892-BEA95489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342E-9DC0-4212-8AC4-7C8B1AEC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4B6C-E958-4223-B2C8-42603A2F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D89A-B0BA-4607-BCA0-777A72C3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D889-9F43-4D55-9924-4429E347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4D3F-D359-4474-9599-775E7F6B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3ED-3917-4A65-9594-4B17A216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9716-57D6-4E71-BF9B-0F3B523A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23FC-2CFE-4E66-A451-E229E754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08E2-4BA9-41F0-B778-A9C1ACB9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FF5F-7879-49B1-9B1D-AAA78B8A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6935-02AC-47D8-8629-D7BBF791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D0E-4597-49E4-A974-7DB00E16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24F-B2C9-4E86-ACC0-2837B08E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DAB-47B7-4DD8-BF24-AEAC4855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2C4-64AD-4782-96D5-A0F750AF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B4B-13A8-4FFC-8774-6EB50F7D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571-CDE6-4DAB-B774-F5F233C7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44E-9CE5-466A-A85F-5D1B884F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619680"/>
            <a:ext cx="218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3440" y="661968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7400" y="6619680"/>
            <a:ext cx="2152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E888-293C-43C2-A082-59220977A89D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4DEC-0E39-4A94-843E-09F00E91AC3A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b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8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Encoding the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 into 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the probabilistic asynchronous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Only 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32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769-992E-4E2F-B415-C7346EA7BB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) its “stubborness” at every round.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With a suitable choice of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and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 f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700-B336-4C50-8ABB-697F26D940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olution for the Generalized DP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However, it is easy to modify the algorithm so that it works in general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966ff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D66-D22B-427F-BD5C-F85DC286AD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6600" y="2033280"/>
            <a:ext cx="5037120" cy="3882600"/>
            <a:chOff x="606600" y="2033280"/>
            <a:chExt cx="5037120" cy="3882600"/>
          </a:xfrm>
        </p:grpSpPr>
        <p:sp>
          <p:nvSpPr>
            <p:cNvPr id="274" name=""/>
            <p:cNvSpPr/>
            <p:nvPr/>
          </p:nvSpPr>
          <p:spPr>
            <a:xfrm>
              <a:off x="2649600" y="382428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80000" y="442548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000" y="43923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2640" y="242892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9040" y="448920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122640" y="448920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59040" y="242892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2640" y="242892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104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5880" y="51782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2920" y="517680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9040" y="44892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5400" y="40464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200" y="572256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1360" y="572292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7240" y="43920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600" y="43592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22640" y="20332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560" y="20336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9600" y="40320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073600">
              <a:off x="3071880" y="418464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67600">
              <a:off x="2976840" y="42634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067200">
              <a:off x="287388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74600">
              <a:off x="2958840" y="39600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0800" y="42433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073600">
              <a:off x="2919600" y="42681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467600">
              <a:off x="2806560" y="414468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8067200">
              <a:off x="280080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74600">
              <a:off x="2774520" y="4263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85128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33960" y="1698480"/>
            <a:ext cx="26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eduction to the classic case: each fork is initially associated with a token. Each phil needs to acquire a token in order to participate to the competition. The competing phils determine a set of subgraphs in which each subgraph contains at most one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560" y="2039760"/>
            <a:ext cx="5037120" cy="3882960"/>
            <a:chOff x="601560" y="2039760"/>
            <a:chExt cx="5037120" cy="3882960"/>
          </a:xfrm>
        </p:grpSpPr>
        <p:sp>
          <p:nvSpPr>
            <p:cNvPr id="307" name=""/>
            <p:cNvSpPr/>
            <p:nvPr/>
          </p:nvSpPr>
          <p:spPr>
            <a:xfrm>
              <a:off x="2644560" y="38304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76760" y="443196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4320" y="43988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7600" y="243504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449568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117600" y="449568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954000" y="243504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7600" y="243504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600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90840" y="518436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084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77880" y="51829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54000" y="449568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0360" y="40525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16160" y="57290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6320" y="5729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560" y="43988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43653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117600" y="203976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4520" y="20397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14560" y="40384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073600">
              <a:off x="3066480" y="41907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467600">
              <a:off x="2971440" y="4269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067200">
              <a:off x="286812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974600">
              <a:off x="2954160" y="39664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6120" y="42494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1073600">
              <a:off x="2914200" y="42750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467600">
              <a:off x="2801520" y="41511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067200">
              <a:off x="279504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974600">
              <a:off x="2770200" y="42696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9440" y="385740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065-19B5-48CE-AC3A-28099F42F7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EA8-83FA-412F-B4B3-C9754E4D5B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Every mixed choice is translated into a parallel comp. of processes corresponding to the branches, plus a lock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AFA-250C-48E3-A512-5C4C801609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Dining Philosophers: classic case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1550520"/>
            <a:ext cx="8066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8720" y="2289240"/>
            <a:ext cx="3476160" cy="3482640"/>
            <a:chOff x="2898720" y="2289240"/>
            <a:chExt cx="3476160" cy="3482640"/>
          </a:xfrm>
        </p:grpSpPr>
        <p:sp>
          <p:nvSpPr>
            <p:cNvPr id="125" name=""/>
            <p:cNvSpPr/>
            <p:nvPr/>
          </p:nvSpPr>
          <p:spPr>
            <a:xfrm>
              <a:off x="3237120" y="2911680"/>
              <a:ext cx="2741040" cy="2127600"/>
            </a:xfrm>
            <a:prstGeom prst="triangle">
              <a:avLst>
                <a:gd name="adj" fmla="val 50000"/>
              </a:avLst>
            </a:prstGeom>
            <a:solidFill>
              <a:srgbClr val="00004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3800" y="33465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7120" y="3346560"/>
              <a:ext cx="59508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1400" y="52293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317640" y="483912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7080" y="4827240"/>
              <a:ext cx="12780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68560" y="491904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8720" y="4906800"/>
              <a:ext cx="127800" cy="30168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01880" y="230076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1320" y="2289240"/>
              <a:ext cx="12816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1040" y="40489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073600">
              <a:off x="4585680" y="4181400"/>
              <a:ext cx="349920" cy="146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467600">
              <a:off x="4505760" y="424800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67200">
              <a:off x="44136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974600">
              <a:off x="4489560" y="39855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5840" y="42325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73600">
              <a:off x="4450680" y="425376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467600">
              <a:off x="4354920" y="414468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7200">
              <a:off x="43488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974600">
              <a:off x="4326480" y="42483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901680"/>
              <a:ext cx="702000" cy="703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573-0895-4BAD-979E-80930D9727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333080"/>
            <a:ext cx="830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{release(firstfork); goto 2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0DE-D9AE-40C7-9766-2E85B4E02B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roblem 2 however can be solved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538-186F-440C-95CE-879C4F733A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3800" y="1452600"/>
            <a:ext cx="83678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 taken(first_fork) then wa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1461960"/>
            <a:ext cx="83678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23840"/>
            <a:ext cx="77788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Modified so to avoid the need for fai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32960" y="133200"/>
            <a:ext cx="7550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99F-A251-4258-AF22-5482767706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75560" y="1262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fork can be shared by more than two philosophers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57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89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565-4E33-44B0-8014-5EA4CFFD6C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The algorithm of Lehmann and Rabin is deadlock-f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nd only if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 all cycles are pairwise disconnected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Comic Sans MS"/>
              </a:rPr>
              <a:t>There are essentially three ways in which two cycles can be connected: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77E-9646-4AF7-9283-27C53107A3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0T05:22:19Z</dcterms:modified>
  <cp:revision>146</cp:revision>
  <dc:subject/>
  <dc:title>Concurrency 5</dc:title>
</cp:coreProperties>
</file>