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30960" y="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68200" y="547200"/>
            <a:ext cx="3651480" cy="27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58680" y="3468600"/>
            <a:ext cx="7670880" cy="3286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93576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30960" y="693576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BFFBFE4-B526-49BA-BE26-56796A475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5430960" y="693576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6947673-44E9-40AE-85AC-0FD97F70D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693576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5430960" y="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968560" y="547560"/>
            <a:ext cx="3651480" cy="27385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277640" y="346860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947A-FE9B-4CB8-A147-A6510E9DB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A4CC-CD84-421B-B98B-6DF0303C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69C7-F0B9-4029-ACAA-690A1E79A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64BE-D46E-440D-9CEF-561D51E2D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1D67-0B06-426A-8FD5-56E8FC57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E71C-819B-47CF-95DB-F5993B1A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9B12-F27E-4113-B38A-0A106BF1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CE9E-09D5-4DAA-8B86-90E2E0AD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E3EA-8ABD-4AF8-A491-85BDA9DE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1B19-CB6A-4976-B6A9-D7360C52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F194-71BD-4656-B7AA-15294438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BFCE-6BBC-4B71-89E8-347DE82B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A964-1BDE-4B2F-8874-419B1CA416A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7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probabilistic asynchronous </a:t>
            </a:r>
            <a:r>
              <a:rPr b="0" lang="en-US" sz="2800" spc="-1" strike="noStrike">
                <a:solidFill>
                  <a:srgbClr val="cc0066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-calcul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babilistic asynchronou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0240" y="828720"/>
            <a:ext cx="821052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8080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Originally developed as an intermediate language for the fully distributed implementation of the </a:t>
            </a:r>
            <a:r>
              <a:rPr b="0" lang="en-US" sz="18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-calculus (Herescu and Palamidessi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66ffff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The results of Lecture 4 show that a fully distributed implementation of </a:t>
            </a:r>
            <a:r>
              <a:rPr b="0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 must necessarily be randomized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66ff66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A two-steps approach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2988000" y="2654280"/>
            <a:ext cx="38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36600" y="3989520"/>
            <a:ext cx="42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babilistic asynchron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80040" y="5232240"/>
            <a:ext cx="316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ributed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25760" y="2654280"/>
            <a:ext cx="1336680" cy="549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3800" y="3857760"/>
            <a:ext cx="5283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81240" y="5232240"/>
            <a:ext cx="3727440" cy="549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57480" y="3203640"/>
            <a:ext cx="214200" cy="654120"/>
          </a:xfrm>
          <a:prstGeom prst="downArrow">
            <a:avLst>
              <a:gd name="adj1" fmla="val 50000"/>
              <a:gd name="adj2" fmla="val 763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02120" y="4578480"/>
            <a:ext cx="214200" cy="653760"/>
          </a:xfrm>
          <a:prstGeom prst="downArrow">
            <a:avLst>
              <a:gd name="adj1" fmla="val 50000"/>
              <a:gd name="adj2" fmla="val 763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41680" y="3236760"/>
            <a:ext cx="6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Comic Sans MS"/>
              </a:rPr>
              <a:t>[[ ]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49880" y="46371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Comic Sans MS"/>
              </a:rPr>
              <a:t>&lt;&lt;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248520" y="3166920"/>
            <a:ext cx="260964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99"/>
                </a:solidFill>
                <a:latin typeface="Comic Sans MS"/>
              </a:rPr>
              <a:t>Advantage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the correctness proof is easier since [[ ]] (which is the difficult part of the implementation)  is between two similar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A958-1A1B-4371-AE41-91FA69EEF00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the 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Probabilisti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synchonou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3080" y="1533240"/>
            <a:ext cx="85629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Comic Sans MS"/>
              </a:rPr>
              <a:t>Syntax: </a:t>
            </a:r>
            <a:r>
              <a:rPr b="1" lang="en-US" sz="1600" spc="-1" strike="noStrike">
                <a:solidFill>
                  <a:srgbClr val="990099"/>
                </a:solidFill>
                <a:latin typeface="Comic Sans MS"/>
              </a:rPr>
              <a:t>based on the asynchronous </a:t>
            </a:r>
            <a:r>
              <a:rPr b="1" lang="en-US" sz="1600" spc="-1" strike="noStrike">
                <a:solidFill>
                  <a:srgbClr val="990099"/>
                </a:solidFill>
                <a:latin typeface="Symbol"/>
                <a:ea typeface="Symbol"/>
              </a:rPr>
              <a:t></a:t>
            </a:r>
            <a:r>
              <a:rPr b="1" lang="en-US" sz="1600" spc="-1" strike="noStrike">
                <a:solidFill>
                  <a:srgbClr val="990099"/>
                </a:solidFill>
                <a:latin typeface="Comic Sans MS"/>
              </a:rPr>
              <a:t> of Amadio, Castellani, Sangiorgi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g  ::=  x(y) |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66ffff"/>
                </a:solidFill>
                <a:latin typeface="Symbol"/>
                <a:ea typeface="Symbol"/>
              </a:rPr>
              <a:t>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refix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P  ::=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p</a:t>
            </a:r>
            <a:r>
              <a:rPr b="0" lang="en-US" sz="2800" spc="-1" strike="noStrike" baseline="-25000">
                <a:solidFill>
                  <a:srgbClr val="cc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g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. P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i   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r. inp. guard. choice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cc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p</a:t>
            </a:r>
            <a:r>
              <a:rPr b="0" lang="en-US" sz="2800" spc="-1" strike="noStrike" baseline="-25000">
                <a:solidFill>
                  <a:srgbClr val="cc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= 1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x^y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output action</a:t>
            </a:r>
            <a:r>
              <a:rPr b="0" lang="en-US" sz="2800" spc="-1" strike="noStrike" baseline="-25000">
                <a:solidFill>
                  <a:srgbClr val="0db10d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         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  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P | P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   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(x) 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rec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recurs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rocedure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8BCD-C0C6-41E4-B4CB-DCEDD97B010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perational semantics o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088640"/>
            <a:ext cx="777708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Based on the </a:t>
            </a: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Probabilistic Automat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of Segala and Lynch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Comic Sans MS"/>
              </a:rPr>
              <a:t>Distinction betwe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ff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b10d"/>
                </a:solidFill>
                <a:latin typeface="Comic Sans MS"/>
              </a:rPr>
              <a:t>nondeterministic behavior (choice of the scheduler)</a:t>
            </a: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db10d"/>
                </a:solidFill>
                <a:latin typeface="Comic Sans MS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66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Comic Sans MS"/>
              </a:rPr>
              <a:t>probabilistic behavior (choice of the proces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4932360" y="3152880"/>
            <a:ext cx="321624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b10d"/>
                </a:solidFill>
                <a:latin typeface="Comic Sans MS"/>
              </a:rPr>
              <a:t>Scheduling Poli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b10d"/>
                </a:solidFill>
                <a:latin typeface="Comic Sans MS"/>
              </a:rPr>
              <a:t>The scheduler chooses the group of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25880" y="5272200"/>
            <a:ext cx="18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18040" y="4416480"/>
            <a:ext cx="32162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Exec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Comic Sans MS"/>
              </a:rPr>
              <a:t>The process chooses</a:t>
            </a:r>
            <a:r>
              <a:rPr b="0" lang="en-US" sz="30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6699"/>
                </a:solidFill>
                <a:latin typeface="Comic Sans MS"/>
              </a:rPr>
              <a:t>probabilistically the transition within th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438200" y="3268800"/>
            <a:ext cx="2903760" cy="2393640"/>
            <a:chOff x="1438200" y="3268800"/>
            <a:chExt cx="2903760" cy="2393640"/>
          </a:xfrm>
        </p:grpSpPr>
        <p:grpSp>
          <p:nvGrpSpPr>
            <p:cNvPr id="71" name=""/>
            <p:cNvGrpSpPr/>
            <p:nvPr/>
          </p:nvGrpSpPr>
          <p:grpSpPr>
            <a:xfrm>
              <a:off x="1441440" y="3268800"/>
              <a:ext cx="2900160" cy="2393280"/>
              <a:chOff x="1441440" y="3268800"/>
              <a:chExt cx="2900160" cy="2393280"/>
            </a:xfrm>
          </p:grpSpPr>
          <p:sp>
            <p:nvSpPr>
              <p:cNvPr id="72" name=""/>
              <p:cNvSpPr/>
              <p:nvPr/>
            </p:nvSpPr>
            <p:spPr>
              <a:xfrm flipH="1">
                <a:off x="1941480" y="3363840"/>
                <a:ext cx="88560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827080" y="3363840"/>
                <a:ext cx="957240" cy="9568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827080" y="3363840"/>
                <a:ext cx="1422720" cy="69660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827080" y="3363840"/>
                <a:ext cx="406440" cy="117432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1534680" y="3363840"/>
                <a:ext cx="1292040" cy="68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733480" y="326880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441440" y="39654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847880" y="4254480"/>
                <a:ext cx="185760" cy="18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55840" y="396540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690720" y="4254480"/>
                <a:ext cx="185760" cy="1882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333520" y="3609720"/>
                <a:ext cx="163440" cy="11880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971800" y="3578040"/>
                <a:ext cx="307800" cy="19188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2971440" y="4538520"/>
                <a:ext cx="261720" cy="102996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79600" y="4538520"/>
                <a:ext cx="523800" cy="102996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762200" y="35384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16280" y="38131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027240" y="39225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386160" y="37749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790800" y="36226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709800" y="547344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878200" y="5473440"/>
                <a:ext cx="18540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139920" y="444312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054240" y="5016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503520" y="4878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146400" y="4857480"/>
                <a:ext cx="290520" cy="4428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438200" y="3268800"/>
              <a:ext cx="2900160" cy="2393280"/>
              <a:chOff x="1438200" y="3268800"/>
              <a:chExt cx="2900160" cy="2393280"/>
            </a:xfrm>
          </p:grpSpPr>
          <p:sp>
            <p:nvSpPr>
              <p:cNvPr id="98" name=""/>
              <p:cNvSpPr/>
              <p:nvPr/>
            </p:nvSpPr>
            <p:spPr>
              <a:xfrm flipH="1">
                <a:off x="1937880" y="3363840"/>
                <a:ext cx="88596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824200" y="3363840"/>
                <a:ext cx="95724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824200" y="3363840"/>
                <a:ext cx="1422360" cy="69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824200" y="3363840"/>
                <a:ext cx="406080" cy="1174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1531800" y="3363840"/>
                <a:ext cx="1292400" cy="68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730240" y="32688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438200" y="39654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844640" y="42544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152600" y="39654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687480" y="42544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330280" y="3609720"/>
                <a:ext cx="163440" cy="11880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968560" y="3578040"/>
                <a:ext cx="307800" cy="19188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2968200" y="4538520"/>
                <a:ext cx="261720" cy="10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276360" y="4538520"/>
                <a:ext cx="523800" cy="10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758960" y="35384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913040" y="38131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4000" y="39225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82920" y="37749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787920" y="36226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706560" y="547344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74960" y="547344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36680" y="4443480"/>
                <a:ext cx="185760" cy="18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051000" y="5016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500280" y="4878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143160" y="4857480"/>
                <a:ext cx="290520" cy="4428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 flipH="1">
              <a:off x="1941120" y="3363840"/>
              <a:ext cx="88596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27440" y="3363840"/>
              <a:ext cx="95724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27440" y="3363840"/>
              <a:ext cx="1422360" cy="69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27440" y="3363840"/>
              <a:ext cx="406440" cy="11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1535040" y="3363840"/>
              <a:ext cx="129240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33840" y="3268800"/>
              <a:ext cx="18540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41440" y="396540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47880" y="42544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56200" y="396540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91080" y="42544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33520" y="3610080"/>
              <a:ext cx="163440" cy="11880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0" y="0"/>
                  </a:moveTo>
                  <a:cubicBezTo>
                    <a:pt x="25" y="40"/>
                    <a:pt x="25" y="35"/>
                    <a:pt x="64" y="55"/>
                  </a:cubicBezTo>
                  <a:cubicBezTo>
                    <a:pt x="103" y="75"/>
                    <a:pt x="99" y="73"/>
                    <a:pt x="8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71800" y="3578400"/>
              <a:ext cx="307800" cy="19188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0" y="121"/>
                  </a:moveTo>
                  <a:cubicBezTo>
                    <a:pt x="69" y="113"/>
                    <a:pt x="79" y="103"/>
                    <a:pt x="137" y="84"/>
                  </a:cubicBezTo>
                  <a:cubicBezTo>
                    <a:pt x="143" y="78"/>
                    <a:pt x="151" y="73"/>
                    <a:pt x="156" y="66"/>
                  </a:cubicBezTo>
                  <a:cubicBezTo>
                    <a:pt x="161" y="58"/>
                    <a:pt x="159" y="46"/>
                    <a:pt x="165" y="38"/>
                  </a:cubicBezTo>
                  <a:cubicBezTo>
                    <a:pt x="194" y="0"/>
                    <a:pt x="192" y="36"/>
                    <a:pt x="192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971800" y="4538520"/>
              <a:ext cx="26208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79600" y="4538520"/>
              <a:ext cx="52416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62200" y="35384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16280" y="381312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27600" y="39225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86160" y="37749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91160" y="36226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10160" y="5473800"/>
              <a:ext cx="18540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78200" y="5473800"/>
              <a:ext cx="18576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39920" y="44434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54600" y="501660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03520" y="48783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46400" y="4857840"/>
              <a:ext cx="290520" cy="44280"/>
            </a:xfrm>
            <a:custGeom>
              <a:avLst/>
              <a:gdLst/>
              <a:ahLst/>
              <a:rect l="l" t="t" r="r" b="b"/>
              <a:pathLst>
                <a:path w="183" h="28">
                  <a:moveTo>
                    <a:pt x="0" y="28"/>
                  </a:moveTo>
                  <a:cubicBezTo>
                    <a:pt x="40" y="25"/>
                    <a:pt x="79" y="24"/>
                    <a:pt x="119" y="19"/>
                  </a:cubicBezTo>
                  <a:cubicBezTo>
                    <a:pt x="131" y="18"/>
                    <a:pt x="143" y="14"/>
                    <a:pt x="155" y="10"/>
                  </a:cubicBezTo>
                  <a:cubicBezTo>
                    <a:pt x="165" y="7"/>
                    <a:pt x="183" y="0"/>
                    <a:pt x="18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440000" y="3270240"/>
            <a:ext cx="2903400" cy="2394000"/>
            <a:chOff x="1440000" y="3270240"/>
            <a:chExt cx="2903400" cy="2394000"/>
          </a:xfrm>
        </p:grpSpPr>
        <p:grpSp>
          <p:nvGrpSpPr>
            <p:cNvPr id="149" name=""/>
            <p:cNvGrpSpPr/>
            <p:nvPr/>
          </p:nvGrpSpPr>
          <p:grpSpPr>
            <a:xfrm>
              <a:off x="1443240" y="3270240"/>
              <a:ext cx="2900160" cy="2394000"/>
              <a:chOff x="1443240" y="3270240"/>
              <a:chExt cx="2900160" cy="2394000"/>
            </a:xfrm>
          </p:grpSpPr>
          <p:sp>
            <p:nvSpPr>
              <p:cNvPr id="150" name=""/>
              <p:cNvSpPr/>
              <p:nvPr/>
            </p:nvSpPr>
            <p:spPr>
              <a:xfrm flipH="1">
                <a:off x="1943280" y="3365640"/>
                <a:ext cx="88560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828880" y="3365640"/>
                <a:ext cx="957240" cy="95724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828880" y="3365640"/>
                <a:ext cx="1422720" cy="69696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828880" y="3365640"/>
                <a:ext cx="406440" cy="11746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1536480" y="3365640"/>
                <a:ext cx="129204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735280" y="3270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44324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849680" y="4256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157640" y="396720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692520" y="425628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33532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97360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2973240" y="4540320"/>
                <a:ext cx="26172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281400" y="4540320"/>
                <a:ext cx="52380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6400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91808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2904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8796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79260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711600" y="5475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880000" y="5475240"/>
                <a:ext cx="18540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141720" y="444492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05604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0532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14820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1440000" y="3270240"/>
              <a:ext cx="2900160" cy="2394000"/>
              <a:chOff x="1440000" y="3270240"/>
              <a:chExt cx="2900160" cy="2394000"/>
            </a:xfrm>
          </p:grpSpPr>
          <p:sp>
            <p:nvSpPr>
              <p:cNvPr id="176" name=""/>
              <p:cNvSpPr/>
              <p:nvPr/>
            </p:nvSpPr>
            <p:spPr>
              <a:xfrm flipH="1">
                <a:off x="1939680" y="3365640"/>
                <a:ext cx="88596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26000" y="3365640"/>
                <a:ext cx="95724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826000" y="3365640"/>
                <a:ext cx="1422360" cy="696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26000" y="3365640"/>
                <a:ext cx="406080" cy="117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1533600" y="3365640"/>
                <a:ext cx="129240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732040" y="3270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4000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84644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15440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68928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33208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97036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970000" y="4540320"/>
                <a:ext cx="26172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278160" y="4540320"/>
                <a:ext cx="52380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76076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1484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02580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38472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78972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70836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87676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138480" y="4445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05280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50208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14496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 flipH="1">
              <a:off x="1943280" y="3365640"/>
              <a:ext cx="88560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28880" y="3365640"/>
              <a:ext cx="957240" cy="95724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28880" y="3365640"/>
              <a:ext cx="1422360" cy="69696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28880" y="3365640"/>
              <a:ext cx="406440" cy="117468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1536480" y="3365640"/>
              <a:ext cx="12920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35280" y="3270240"/>
              <a:ext cx="18576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43240" y="396720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49680" y="42562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57640" y="3967200"/>
              <a:ext cx="18576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92520" y="4256280"/>
              <a:ext cx="18576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35320" y="3611520"/>
              <a:ext cx="163440" cy="11916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0" y="0"/>
                  </a:moveTo>
                  <a:cubicBezTo>
                    <a:pt x="25" y="40"/>
                    <a:pt x="25" y="35"/>
                    <a:pt x="64" y="55"/>
                  </a:cubicBezTo>
                  <a:cubicBezTo>
                    <a:pt x="103" y="75"/>
                    <a:pt x="99" y="73"/>
                    <a:pt x="8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73600" y="3579840"/>
              <a:ext cx="307800" cy="19224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0" y="121"/>
                  </a:moveTo>
                  <a:cubicBezTo>
                    <a:pt x="69" y="113"/>
                    <a:pt x="79" y="103"/>
                    <a:pt x="137" y="84"/>
                  </a:cubicBezTo>
                  <a:cubicBezTo>
                    <a:pt x="143" y="78"/>
                    <a:pt x="151" y="73"/>
                    <a:pt x="156" y="66"/>
                  </a:cubicBezTo>
                  <a:cubicBezTo>
                    <a:pt x="161" y="58"/>
                    <a:pt x="159" y="46"/>
                    <a:pt x="165" y="38"/>
                  </a:cubicBezTo>
                  <a:cubicBezTo>
                    <a:pt x="194" y="0"/>
                    <a:pt x="192" y="36"/>
                    <a:pt x="192" y="11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973240" y="4540320"/>
              <a:ext cx="261720" cy="1030320"/>
            </a:xfrm>
            <a:prstGeom prst="line">
              <a:avLst/>
            </a:prstGeom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81400" y="4540320"/>
              <a:ext cx="523800" cy="1030320"/>
            </a:xfrm>
            <a:prstGeom prst="line">
              <a:avLst/>
            </a:prstGeom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64000" y="35402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18080" y="381492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29040" y="39243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87960" y="37767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92600" y="36244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11600" y="5475600"/>
              <a:ext cx="18576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79640" y="5475600"/>
              <a:ext cx="18576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41720" y="4445280"/>
              <a:ext cx="18576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56040" y="501840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05320" y="48801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8200" y="4859640"/>
              <a:ext cx="290520" cy="44280"/>
            </a:xfrm>
            <a:custGeom>
              <a:avLst/>
              <a:gdLst/>
              <a:ahLst/>
              <a:rect l="l" t="t" r="r" b="b"/>
              <a:pathLst>
                <a:path w="183" h="28">
                  <a:moveTo>
                    <a:pt x="0" y="28"/>
                  </a:moveTo>
                  <a:cubicBezTo>
                    <a:pt x="40" y="25"/>
                    <a:pt x="79" y="24"/>
                    <a:pt x="119" y="19"/>
                  </a:cubicBezTo>
                  <a:cubicBezTo>
                    <a:pt x="131" y="18"/>
                    <a:pt x="143" y="14"/>
                    <a:pt x="155" y="10"/>
                  </a:cubicBezTo>
                  <a:cubicBezTo>
                    <a:pt x="165" y="7"/>
                    <a:pt x="183" y="0"/>
                    <a:pt x="183" y="0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449360" y="3270240"/>
            <a:ext cx="2903040" cy="2394000"/>
            <a:chOff x="1449360" y="3270240"/>
            <a:chExt cx="2903040" cy="2394000"/>
          </a:xfrm>
        </p:grpSpPr>
        <p:grpSp>
          <p:nvGrpSpPr>
            <p:cNvPr id="227" name=""/>
            <p:cNvGrpSpPr/>
            <p:nvPr/>
          </p:nvGrpSpPr>
          <p:grpSpPr>
            <a:xfrm>
              <a:off x="1452240" y="3270240"/>
              <a:ext cx="2900160" cy="2394000"/>
              <a:chOff x="1452240" y="3270240"/>
              <a:chExt cx="2900160" cy="239400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1952280" y="3365640"/>
                <a:ext cx="88560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837880" y="3365640"/>
                <a:ext cx="957240" cy="95724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837880" y="3365640"/>
                <a:ext cx="1422720" cy="69696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837880" y="3365640"/>
                <a:ext cx="406440" cy="11746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1545480" y="3365640"/>
                <a:ext cx="129204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744280" y="3270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5224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858680" y="4256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166640" y="396720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701520" y="425628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34432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98260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2982240" y="4540320"/>
                <a:ext cx="26172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290400" y="4540320"/>
                <a:ext cx="52380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77300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92708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03804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39696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80160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720600" y="5475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889000" y="5475240"/>
                <a:ext cx="18540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150720" y="444492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06504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51432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15720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449360" y="3270240"/>
              <a:ext cx="2900160" cy="2394000"/>
              <a:chOff x="1449360" y="3270240"/>
              <a:chExt cx="2900160" cy="2394000"/>
            </a:xfrm>
          </p:grpSpPr>
          <p:sp>
            <p:nvSpPr>
              <p:cNvPr id="254" name=""/>
              <p:cNvSpPr/>
              <p:nvPr/>
            </p:nvSpPr>
            <p:spPr>
              <a:xfrm flipH="1">
                <a:off x="1949040" y="3365640"/>
                <a:ext cx="88596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835360" y="3365640"/>
                <a:ext cx="95724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835360" y="3365640"/>
                <a:ext cx="1422360" cy="696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835360" y="3365640"/>
                <a:ext cx="406080" cy="117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1542960" y="3365640"/>
                <a:ext cx="129240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741400" y="3270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44936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85580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16376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9864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34144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97972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2979360" y="4540320"/>
                <a:ext cx="26172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287520" y="4540320"/>
                <a:ext cx="52380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77012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2420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03516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39408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79908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71772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88612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147840" y="4445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06216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51144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15432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 flipH="1">
              <a:off x="1952280" y="3365640"/>
              <a:ext cx="88560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838240" y="3365640"/>
              <a:ext cx="956880" cy="95724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38240" y="3365640"/>
              <a:ext cx="1422000" cy="69696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38240" y="3365640"/>
              <a:ext cx="406080" cy="117468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545480" y="3365640"/>
              <a:ext cx="12920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44640" y="3270240"/>
              <a:ext cx="185400" cy="1890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52240" y="3967200"/>
              <a:ext cx="18540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58680" y="4256280"/>
              <a:ext cx="18540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67000" y="3967200"/>
              <a:ext cx="18540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01880" y="4256280"/>
              <a:ext cx="18540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44680" y="3611520"/>
              <a:ext cx="163080" cy="11916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0" y="0"/>
                  </a:moveTo>
                  <a:cubicBezTo>
                    <a:pt x="25" y="40"/>
                    <a:pt x="25" y="35"/>
                    <a:pt x="64" y="55"/>
                  </a:cubicBezTo>
                  <a:cubicBezTo>
                    <a:pt x="103" y="75"/>
                    <a:pt x="99" y="73"/>
                    <a:pt x="8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82600" y="3579840"/>
              <a:ext cx="307800" cy="19224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0" y="121"/>
                  </a:moveTo>
                  <a:cubicBezTo>
                    <a:pt x="69" y="113"/>
                    <a:pt x="79" y="103"/>
                    <a:pt x="137" y="84"/>
                  </a:cubicBezTo>
                  <a:cubicBezTo>
                    <a:pt x="143" y="78"/>
                    <a:pt x="151" y="73"/>
                    <a:pt x="156" y="66"/>
                  </a:cubicBezTo>
                  <a:cubicBezTo>
                    <a:pt x="161" y="58"/>
                    <a:pt x="159" y="46"/>
                    <a:pt x="165" y="38"/>
                  </a:cubicBezTo>
                  <a:cubicBezTo>
                    <a:pt x="194" y="0"/>
                    <a:pt x="192" y="36"/>
                    <a:pt x="192" y="11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982240" y="4540320"/>
              <a:ext cx="261720" cy="103032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90760" y="4540320"/>
              <a:ext cx="523440" cy="1030320"/>
            </a:xfrm>
            <a:prstGeom prst="line">
              <a:avLst/>
            </a:prstGeom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73000" y="35402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27080" y="381492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38040" y="39243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99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396960" y="37767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01600" y="36244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20960" y="5475240"/>
              <a:ext cx="18540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89000" y="5475240"/>
              <a:ext cx="185400" cy="1890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51080" y="4444920"/>
              <a:ext cx="185400" cy="1890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65040" y="50180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99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14680" y="48801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157200" y="4859280"/>
              <a:ext cx="290160" cy="44640"/>
            </a:xfrm>
            <a:custGeom>
              <a:avLst/>
              <a:gdLst/>
              <a:ahLst/>
              <a:rect l="l" t="t" r="r" b="b"/>
              <a:pathLst>
                <a:path w="183" h="28">
                  <a:moveTo>
                    <a:pt x="0" y="28"/>
                  </a:moveTo>
                  <a:cubicBezTo>
                    <a:pt x="40" y="25"/>
                    <a:pt x="79" y="24"/>
                    <a:pt x="119" y="19"/>
                  </a:cubicBezTo>
                  <a:cubicBezTo>
                    <a:pt x="131" y="18"/>
                    <a:pt x="143" y="14"/>
                    <a:pt x="155" y="10"/>
                  </a:cubicBezTo>
                  <a:cubicBezTo>
                    <a:pt x="165" y="7"/>
                    <a:pt x="183" y="0"/>
                    <a:pt x="183" y="0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ACAE-AA3D-4E63-99C3-0F51315F8A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operational semantics o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Representation of a group of transi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4" marL="191304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 { --g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-&gt;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 p</a:t>
            </a:r>
            <a:r>
              <a:rPr b="0" lang="en-US" sz="2400" spc="-1" strike="noStrike" baseline="-40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} 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i                            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ul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1062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hoice  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. 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{--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    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{--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ar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         ____________________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Q | P 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{--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Q | 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043B-95CF-4DB2-9A92-60725E30EF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operational semantics o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ules (continued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918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        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x^z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1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’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    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om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____________________________________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 | Q 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</a:t>
            </a:r>
            <a:r>
              <a:rPr b="0" lang="en-US" sz="1800" spc="-1" strike="noStrike">
                <a:solidFill>
                  <a:srgbClr val="009999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[z/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]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|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’ 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x</a:t>
            </a:r>
            <a:r>
              <a:rPr b="0" lang="en-US" sz="1800" spc="-1" strike="noStrike" baseline="-34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=x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U  { 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|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 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x</a:t>
            </a:r>
            <a:r>
              <a:rPr b="0" lang="en-US" sz="1800" spc="-1" strike="noStrike" baseline="-34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=/=x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Res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___________________     q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renormalized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x) P { 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q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(x) 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x</a:t>
            </a:r>
            <a:r>
              <a:rPr b="0" lang="en-US" sz="1800" spc="-1" strike="noStrike" baseline="-34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=/= x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518C-7C9C-4ED9-BE15-84F65D690D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xpressive power of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Example of distributed agreement: 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e leader election problem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105360" y="3322800"/>
            <a:ext cx="3038400" cy="1595880"/>
            <a:chOff x="3105360" y="3322800"/>
            <a:chExt cx="3038400" cy="1595880"/>
          </a:xfrm>
        </p:grpSpPr>
        <p:sp>
          <p:nvSpPr>
            <p:cNvPr id="311" name=""/>
            <p:cNvSpPr/>
            <p:nvPr/>
          </p:nvSpPr>
          <p:spPr>
            <a:xfrm>
              <a:off x="3468600" y="3975480"/>
              <a:ext cx="261360" cy="276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64080" y="3989520"/>
              <a:ext cx="261360" cy="27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3" name=""/>
            <p:cNvCxnSpPr>
              <a:stCxn id="311" idx="7"/>
              <a:endCxn id="312" idx="1"/>
            </p:cNvCxnSpPr>
            <p:nvPr/>
          </p:nvCxnSpPr>
          <p:spPr>
            <a:xfrm flipH="1" rot="16200000">
              <a:off x="4590000" y="3116160"/>
              <a:ext cx="14760" cy="1810080"/>
            </a:xfrm>
            <a:prstGeom prst="curvedConnector5">
              <a:avLst>
                <a:gd name="adj1" fmla="val -1877500"/>
                <a:gd name="adj2" fmla="val 49990"/>
                <a:gd name="adj3" fmla="val -18775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stCxn id="312" idx="3"/>
              <a:endCxn id="311" idx="5"/>
            </p:cNvCxnSpPr>
            <p:nvPr/>
          </p:nvCxnSpPr>
          <p:spPr>
            <a:xfrm flipV="1" rot="16200000">
              <a:off x="4589640" y="3313440"/>
              <a:ext cx="14760" cy="1810080"/>
            </a:xfrm>
            <a:prstGeom prst="curvedConnector5">
              <a:avLst>
                <a:gd name="adj1" fmla="val -1877500"/>
                <a:gd name="adj2" fmla="val 49990"/>
                <a:gd name="adj3" fmla="val -18775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5" name=""/>
            <p:cNvSpPr/>
            <p:nvPr/>
          </p:nvSpPr>
          <p:spPr>
            <a:xfrm>
              <a:off x="3105360" y="3924360"/>
              <a:ext cx="33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65040" y="39243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99"/>
                  </a:solidFill>
                  <a:latin typeface="Comic Sans MS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28360" y="332280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34840" y="451980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2CAA-DB64-480E-A007-9DD1AB5FFF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mplementation of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Compilation in Java     &lt;&lt; &gt;&gt; :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Comic Sans MS"/>
              </a:rPr>
              <a:t>pa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Java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Distributed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&lt;&lt; P | Q &gt;&gt; =  &lt;&lt; P &gt;&gt;.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start();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&lt;&lt; Q &gt;&gt;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.start();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Comic Sans MS"/>
              </a:rPr>
              <a:t>Compositional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6600"/>
                </a:solidFill>
                <a:latin typeface="Comic Sans MS"/>
              </a:rPr>
              <a:t>&lt;&lt; P op Q &gt;&gt; =  &lt;&lt; P &gt;&gt; jop &lt;&lt; Q &gt;&gt;      for all op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ff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Channels are one-position buffers with test-and-set (synchronized) methods for input and outpu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cc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omic Sans MS"/>
              </a:rPr>
              <a:t>The probabilistic input guarded construct is implemented as a while loop in which channels to be tried are selected according to their probability. The loop repeats until an input is successful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DADB-2408-4963-B310-E526A7159B8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7T08:56:17Z</dcterms:modified>
  <cp:revision>137</cp:revision>
  <dc:subject/>
  <dc:title>Concurrency 5</dc:title>
</cp:coreProperties>
</file>