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430960" y="0"/>
            <a:ext cx="415584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68200" y="547200"/>
            <a:ext cx="3651480" cy="273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58680" y="3468600"/>
            <a:ext cx="7670880" cy="3286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93576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430960" y="6935760"/>
            <a:ext cx="415584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32ED605-68D0-4B2C-81AC-91F05259A0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5430960" y="6935760"/>
            <a:ext cx="415584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ECC66C0-E76F-48C1-9867-F19F9D6E4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693576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5430960" y="0"/>
            <a:ext cx="415584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968560" y="547560"/>
            <a:ext cx="3651480" cy="273852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277640" y="346860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9CEA-CEEE-4BB8-B59D-31DE2B962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91AE-B61B-4736-8D32-6E976B21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A0D5-710D-4B28-A5FE-6016E3EE3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B672-8245-4857-8E39-654328202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257F-CCF7-4B9E-9C46-BF1702DF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067A-2B54-435E-AC15-179BE5C3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DB74-530B-44C4-A8C1-35A7E4BE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8AE5-EDDE-4924-8232-72E3BF03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9A8F-FBEA-4DD0-A9ED-F2BDCB0F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B4A1-FCBD-4DFA-9E65-7F287AE1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501E-1E06-43CB-B35E-98459F32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F41A-7A08-46B0-BD1E-382C3211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3325-D300-40F5-847B-AC9677810C2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Lecture 7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The probabilistic asynchronous </a:t>
            </a:r>
            <a:r>
              <a:rPr b="0" lang="en-US" sz="2800" spc="-1" strike="noStrike">
                <a:solidFill>
                  <a:srgbClr val="cc0066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-calcul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www.lix.polytechnique.fr/~catuscia/teaching/Pisa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1440" y="0"/>
            <a:ext cx="824868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babilistic asynchronou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calcul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0240" y="828720"/>
            <a:ext cx="821052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8080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Originally developed as an intermediate language for the fully distributed implementation of the </a:t>
            </a:r>
            <a:r>
              <a:rPr b="0" lang="en-US" sz="18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-calculus (Herescu and Palamidessi)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66ffff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The results of Lecture 4 show that a fully distributed implementation of </a:t>
            </a:r>
            <a:r>
              <a:rPr b="0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 must necessarily be randomized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66ff66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A two-steps approach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2988000" y="2654280"/>
            <a:ext cx="38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36600" y="3989520"/>
            <a:ext cx="42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babilistic asynchron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80040" y="5232240"/>
            <a:ext cx="316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ributed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25760" y="2654280"/>
            <a:ext cx="1336680" cy="549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3800" y="3857760"/>
            <a:ext cx="52833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81240" y="5232240"/>
            <a:ext cx="3727440" cy="549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57480" y="3203640"/>
            <a:ext cx="214200" cy="654120"/>
          </a:xfrm>
          <a:prstGeom prst="downArrow">
            <a:avLst>
              <a:gd name="adj1" fmla="val 50000"/>
              <a:gd name="adj2" fmla="val 763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02120" y="4578480"/>
            <a:ext cx="214200" cy="653760"/>
          </a:xfrm>
          <a:prstGeom prst="downArrow">
            <a:avLst>
              <a:gd name="adj1" fmla="val 50000"/>
              <a:gd name="adj2" fmla="val 763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41680" y="3236760"/>
            <a:ext cx="6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Comic Sans MS"/>
              </a:rPr>
              <a:t>[[ ]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49880" y="463716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Comic Sans MS"/>
              </a:rPr>
              <a:t>&lt;&lt; 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248520" y="3166920"/>
            <a:ext cx="2609640" cy="25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99"/>
                </a:solidFill>
                <a:latin typeface="Comic Sans MS"/>
              </a:rPr>
              <a:t>Advantage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6699"/>
                </a:solidFill>
                <a:latin typeface="Comic Sans MS"/>
              </a:rPr>
              <a:t>the correctness proof is easier since [[ ]] (which is the difficult part of the implementation)  is between two similar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62FF-BF88-473A-91E6-F0E459F9925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the </a:t>
            </a:r>
            <a:r>
              <a:rPr b="0" lang="en-US" sz="3200" spc="-1" strike="noStrike">
                <a:solidFill>
                  <a:srgbClr val="cc0099"/>
                </a:solidFill>
                <a:latin typeface="Comic Sans MS"/>
              </a:rPr>
              <a:t>Probabilisti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synchonou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3080" y="1533240"/>
            <a:ext cx="85629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Comic Sans MS"/>
              </a:rPr>
              <a:t>Syntax: </a:t>
            </a:r>
            <a:r>
              <a:rPr b="1" lang="en-US" sz="1600" spc="-1" strike="noStrike">
                <a:solidFill>
                  <a:srgbClr val="990099"/>
                </a:solidFill>
                <a:latin typeface="Comic Sans MS"/>
              </a:rPr>
              <a:t>based on the asynchronous </a:t>
            </a:r>
            <a:r>
              <a:rPr b="1" lang="en-US" sz="1600" spc="-1" strike="noStrike">
                <a:solidFill>
                  <a:srgbClr val="990099"/>
                </a:solidFill>
                <a:latin typeface="Symbol"/>
                <a:ea typeface="Symbol"/>
              </a:rPr>
              <a:t></a:t>
            </a:r>
            <a:r>
              <a:rPr b="1" lang="en-US" sz="1600" spc="-1" strike="noStrike">
                <a:solidFill>
                  <a:srgbClr val="990099"/>
                </a:solidFill>
                <a:latin typeface="Comic Sans MS"/>
              </a:rPr>
              <a:t> of Amadio, Castellani, Sangiorgi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lvl="4" marL="1974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g  ::=  x(y) |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66ffff"/>
                </a:solidFill>
                <a:latin typeface="Symbol"/>
                <a:ea typeface="Symbol"/>
              </a:rPr>
              <a:t>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prefix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P  ::=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p</a:t>
            </a:r>
            <a:r>
              <a:rPr b="0" lang="en-US" sz="2800" spc="-1" strike="noStrike" baseline="-25000">
                <a:solidFill>
                  <a:srgbClr val="cc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g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. P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i   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pr. inp. guard. choice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cc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 p</a:t>
            </a:r>
            <a:r>
              <a:rPr b="0" lang="en-US" sz="2800" spc="-1" strike="noStrike" baseline="-25000">
                <a:solidFill>
                  <a:srgbClr val="cc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 = 1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x^y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output action</a:t>
            </a:r>
            <a:r>
              <a:rPr b="0" lang="en-US" sz="2800" spc="-1" strike="noStrike" baseline="-25000">
                <a:solidFill>
                  <a:srgbClr val="0db10d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         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  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P | P</a:t>
            </a:r>
            <a:r>
              <a:rPr b="0" lang="en-US" sz="2800" spc="-1" strike="noStrike">
                <a:solidFill>
                  <a:srgbClr val="99cc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parallel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   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(x) P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new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rec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P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recurs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procedure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7095-74FF-4E89-8197-E0623E3D2A8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perational semantics o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088640"/>
            <a:ext cx="777708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Based on the </a:t>
            </a:r>
            <a:r>
              <a:rPr b="1" lang="en-US" sz="2400" spc="-1" strike="noStrike">
                <a:solidFill>
                  <a:srgbClr val="3333ff"/>
                </a:solidFill>
                <a:latin typeface="Comic Sans MS"/>
              </a:rPr>
              <a:t>Probabilistic Automata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of Segala and Lynch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Comic Sans MS"/>
              </a:rPr>
              <a:t>Distinction between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fff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b10d"/>
                </a:solidFill>
                <a:latin typeface="Comic Sans MS"/>
              </a:rPr>
              <a:t>nondeterministic behavior (choice of the scheduler)</a:t>
            </a:r>
            <a:r>
              <a:rPr b="0" lang="en-US" sz="1800" spc="-1" strike="noStrike">
                <a:solidFill>
                  <a:srgbClr val="66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db10d"/>
                </a:solidFill>
                <a:latin typeface="Comic Sans MS"/>
              </a:rPr>
              <a:t>and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f66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99"/>
                </a:solidFill>
                <a:latin typeface="Comic Sans MS"/>
              </a:rPr>
              <a:t>probabilistic behavior (choice of the proces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4932360" y="3152880"/>
            <a:ext cx="321624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b10d"/>
                </a:solidFill>
                <a:latin typeface="Comic Sans MS"/>
              </a:rPr>
              <a:t>Scheduling Poli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b10d"/>
                </a:solidFill>
                <a:latin typeface="Comic Sans MS"/>
              </a:rPr>
              <a:t>The scheduler chooses the group of 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25880" y="5272200"/>
            <a:ext cx="184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18040" y="4416480"/>
            <a:ext cx="321624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Exec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99"/>
                </a:solidFill>
                <a:latin typeface="Comic Sans MS"/>
              </a:rPr>
              <a:t>The process chooses</a:t>
            </a:r>
            <a:r>
              <a:rPr b="0" lang="en-US" sz="3000" spc="-1" strike="noStrike">
                <a:solidFill>
                  <a:srgbClr val="ff66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6699"/>
                </a:solidFill>
                <a:latin typeface="Comic Sans MS"/>
              </a:rPr>
              <a:t>probabilistically the transition within th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438200" y="3268800"/>
            <a:ext cx="2903760" cy="2393640"/>
            <a:chOff x="1438200" y="3268800"/>
            <a:chExt cx="2903760" cy="2393640"/>
          </a:xfrm>
        </p:grpSpPr>
        <p:grpSp>
          <p:nvGrpSpPr>
            <p:cNvPr id="71" name=""/>
            <p:cNvGrpSpPr/>
            <p:nvPr/>
          </p:nvGrpSpPr>
          <p:grpSpPr>
            <a:xfrm>
              <a:off x="1441440" y="3268800"/>
              <a:ext cx="2900160" cy="2393280"/>
              <a:chOff x="1441440" y="3268800"/>
              <a:chExt cx="2900160" cy="2393280"/>
            </a:xfrm>
          </p:grpSpPr>
          <p:sp>
            <p:nvSpPr>
              <p:cNvPr id="72" name=""/>
              <p:cNvSpPr/>
              <p:nvPr/>
            </p:nvSpPr>
            <p:spPr>
              <a:xfrm flipH="1">
                <a:off x="1941480" y="3363840"/>
                <a:ext cx="885600" cy="9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827080" y="3363840"/>
                <a:ext cx="957240" cy="95688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827080" y="3363840"/>
                <a:ext cx="1422720" cy="69660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827080" y="3363840"/>
                <a:ext cx="406440" cy="117432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1534680" y="3363840"/>
                <a:ext cx="1292040" cy="68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733480" y="326880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441440" y="39654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847880" y="4254480"/>
                <a:ext cx="185760" cy="18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155840" y="396540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690720" y="4254480"/>
                <a:ext cx="185760" cy="1882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333520" y="3609720"/>
                <a:ext cx="163440" cy="11880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971800" y="3578040"/>
                <a:ext cx="307800" cy="19188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2971440" y="4538520"/>
                <a:ext cx="261720" cy="102996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279600" y="4538520"/>
                <a:ext cx="523800" cy="102996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762200" y="35384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16280" y="38131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027240" y="39225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386160" y="37749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790800" y="36226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709800" y="547344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878200" y="5473440"/>
                <a:ext cx="18540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139920" y="444312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054240" y="5016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503520" y="4878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146400" y="4857480"/>
                <a:ext cx="290520" cy="4428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438200" y="3268800"/>
              <a:ext cx="2900160" cy="2393280"/>
              <a:chOff x="1438200" y="3268800"/>
              <a:chExt cx="2900160" cy="2393280"/>
            </a:xfrm>
          </p:grpSpPr>
          <p:sp>
            <p:nvSpPr>
              <p:cNvPr id="98" name=""/>
              <p:cNvSpPr/>
              <p:nvPr/>
            </p:nvSpPr>
            <p:spPr>
              <a:xfrm flipH="1">
                <a:off x="1937880" y="3363840"/>
                <a:ext cx="885960" cy="9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824200" y="3363840"/>
                <a:ext cx="957240" cy="9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824200" y="3363840"/>
                <a:ext cx="1422360" cy="696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824200" y="3363840"/>
                <a:ext cx="406080" cy="1174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1531800" y="3363840"/>
                <a:ext cx="1292400" cy="68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730240" y="32688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438200" y="39654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844640" y="42544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152600" y="39654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687480" y="42544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330280" y="3609720"/>
                <a:ext cx="163440" cy="11880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968560" y="3578040"/>
                <a:ext cx="307800" cy="19188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2968200" y="4538520"/>
                <a:ext cx="261720" cy="10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276360" y="4538520"/>
                <a:ext cx="523800" cy="10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758960" y="35384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913040" y="38131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24000" y="39225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382920" y="37749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787920" y="36226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706560" y="547344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74960" y="547344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36680" y="4443480"/>
                <a:ext cx="185760" cy="18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051000" y="5016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500280" y="4878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143160" y="4857480"/>
                <a:ext cx="290520" cy="4428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 flipH="1">
              <a:off x="1941120" y="3363840"/>
              <a:ext cx="88596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27440" y="3363840"/>
              <a:ext cx="95724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27440" y="3363840"/>
              <a:ext cx="1422360" cy="69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27440" y="3363840"/>
              <a:ext cx="406440" cy="117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1535040" y="3363840"/>
              <a:ext cx="129240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33840" y="3268800"/>
              <a:ext cx="18540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41440" y="396540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47880" y="425448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56200" y="396540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91080" y="425448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33520" y="3610080"/>
              <a:ext cx="163440" cy="11880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0" y="0"/>
                  </a:moveTo>
                  <a:cubicBezTo>
                    <a:pt x="25" y="40"/>
                    <a:pt x="25" y="35"/>
                    <a:pt x="64" y="55"/>
                  </a:cubicBezTo>
                  <a:cubicBezTo>
                    <a:pt x="103" y="75"/>
                    <a:pt x="99" y="73"/>
                    <a:pt x="82" y="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71800" y="3578400"/>
              <a:ext cx="307800" cy="191880"/>
            </a:xfrm>
            <a:custGeom>
              <a:avLst/>
              <a:gdLst/>
              <a:ahLst/>
              <a:rect l="l" t="t" r="r" b="b"/>
              <a:pathLst>
                <a:path w="194" h="121">
                  <a:moveTo>
                    <a:pt x="0" y="121"/>
                  </a:moveTo>
                  <a:cubicBezTo>
                    <a:pt x="69" y="113"/>
                    <a:pt x="79" y="103"/>
                    <a:pt x="137" y="84"/>
                  </a:cubicBezTo>
                  <a:cubicBezTo>
                    <a:pt x="143" y="78"/>
                    <a:pt x="151" y="73"/>
                    <a:pt x="156" y="66"/>
                  </a:cubicBezTo>
                  <a:cubicBezTo>
                    <a:pt x="161" y="58"/>
                    <a:pt x="159" y="46"/>
                    <a:pt x="165" y="38"/>
                  </a:cubicBezTo>
                  <a:cubicBezTo>
                    <a:pt x="194" y="0"/>
                    <a:pt x="192" y="36"/>
                    <a:pt x="192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971800" y="4538520"/>
              <a:ext cx="262080" cy="10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79600" y="4538520"/>
              <a:ext cx="524160" cy="10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62200" y="353844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16280" y="381312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027600" y="39225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386160" y="37749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91160" y="362268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10160" y="5473800"/>
              <a:ext cx="18540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78200" y="5473800"/>
              <a:ext cx="18576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39920" y="444348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54600" y="501660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03520" y="48783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46400" y="4857840"/>
              <a:ext cx="290520" cy="44280"/>
            </a:xfrm>
            <a:custGeom>
              <a:avLst/>
              <a:gdLst/>
              <a:ahLst/>
              <a:rect l="l" t="t" r="r" b="b"/>
              <a:pathLst>
                <a:path w="183" h="28">
                  <a:moveTo>
                    <a:pt x="0" y="28"/>
                  </a:moveTo>
                  <a:cubicBezTo>
                    <a:pt x="40" y="25"/>
                    <a:pt x="79" y="24"/>
                    <a:pt x="119" y="19"/>
                  </a:cubicBezTo>
                  <a:cubicBezTo>
                    <a:pt x="131" y="18"/>
                    <a:pt x="143" y="14"/>
                    <a:pt x="155" y="10"/>
                  </a:cubicBezTo>
                  <a:cubicBezTo>
                    <a:pt x="165" y="7"/>
                    <a:pt x="183" y="0"/>
                    <a:pt x="18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440000" y="3270240"/>
            <a:ext cx="2903400" cy="2394000"/>
            <a:chOff x="1440000" y="3270240"/>
            <a:chExt cx="2903400" cy="2394000"/>
          </a:xfrm>
        </p:grpSpPr>
        <p:grpSp>
          <p:nvGrpSpPr>
            <p:cNvPr id="149" name=""/>
            <p:cNvGrpSpPr/>
            <p:nvPr/>
          </p:nvGrpSpPr>
          <p:grpSpPr>
            <a:xfrm>
              <a:off x="1443240" y="3270240"/>
              <a:ext cx="2900160" cy="2394000"/>
              <a:chOff x="1443240" y="3270240"/>
              <a:chExt cx="2900160" cy="2394000"/>
            </a:xfrm>
          </p:grpSpPr>
          <p:sp>
            <p:nvSpPr>
              <p:cNvPr id="150" name=""/>
              <p:cNvSpPr/>
              <p:nvPr/>
            </p:nvSpPr>
            <p:spPr>
              <a:xfrm flipH="1">
                <a:off x="1943280" y="3365640"/>
                <a:ext cx="88560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828880" y="3365640"/>
                <a:ext cx="957240" cy="95724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828880" y="3365640"/>
                <a:ext cx="1422720" cy="69696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828880" y="3365640"/>
                <a:ext cx="406440" cy="117468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1536480" y="3365640"/>
                <a:ext cx="129204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735280" y="327024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44324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849680" y="42562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157640" y="396720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692520" y="425628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335320" y="3611520"/>
                <a:ext cx="163440" cy="11916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973600" y="3579840"/>
                <a:ext cx="307800" cy="19224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2973240" y="4540320"/>
                <a:ext cx="261720" cy="10303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281400" y="4540320"/>
                <a:ext cx="523800" cy="10303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764000" y="3540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918080" y="38149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029040" y="3924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87960" y="37767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792600" y="36244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711600" y="547524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880000" y="5475240"/>
                <a:ext cx="18540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141720" y="444492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056040" y="50180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505320" y="4880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148200" y="4859280"/>
                <a:ext cx="290520" cy="4464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1440000" y="3270240"/>
              <a:ext cx="2900160" cy="2394000"/>
              <a:chOff x="1440000" y="3270240"/>
              <a:chExt cx="2900160" cy="2394000"/>
            </a:xfrm>
          </p:grpSpPr>
          <p:sp>
            <p:nvSpPr>
              <p:cNvPr id="176" name=""/>
              <p:cNvSpPr/>
              <p:nvPr/>
            </p:nvSpPr>
            <p:spPr>
              <a:xfrm flipH="1">
                <a:off x="1939680" y="3365640"/>
                <a:ext cx="88596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26000" y="3365640"/>
                <a:ext cx="95724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826000" y="3365640"/>
                <a:ext cx="1422360" cy="696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26000" y="3365640"/>
                <a:ext cx="406080" cy="117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1533600" y="3365640"/>
                <a:ext cx="129240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732040" y="3270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4000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846440" y="425628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15440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689280" y="425628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332080" y="3611520"/>
                <a:ext cx="163440" cy="11916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970360" y="3579840"/>
                <a:ext cx="307800" cy="19224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2970000" y="4540320"/>
                <a:ext cx="261720" cy="10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278160" y="4540320"/>
                <a:ext cx="523800" cy="10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760760" y="3540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14840" y="38149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025800" y="3924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384720" y="37767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789720" y="36244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708360" y="5475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876760" y="5475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138480" y="44452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052800" y="50180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502080" y="4880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144960" y="4859280"/>
                <a:ext cx="290520" cy="4464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 flipH="1">
              <a:off x="1943280" y="3365640"/>
              <a:ext cx="88560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28880" y="3365640"/>
              <a:ext cx="957240" cy="95724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828880" y="3365640"/>
              <a:ext cx="1422360" cy="69696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28880" y="3365640"/>
              <a:ext cx="406440" cy="117468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1536480" y="3365640"/>
              <a:ext cx="129204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35280" y="3270240"/>
              <a:ext cx="18576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43240" y="396720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49680" y="425628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157640" y="3967200"/>
              <a:ext cx="18576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92520" y="4256280"/>
              <a:ext cx="18576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35320" y="3611520"/>
              <a:ext cx="163440" cy="11916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0" y="0"/>
                  </a:moveTo>
                  <a:cubicBezTo>
                    <a:pt x="25" y="40"/>
                    <a:pt x="25" y="35"/>
                    <a:pt x="64" y="55"/>
                  </a:cubicBezTo>
                  <a:cubicBezTo>
                    <a:pt x="103" y="75"/>
                    <a:pt x="99" y="73"/>
                    <a:pt x="82" y="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973600" y="3579840"/>
              <a:ext cx="307800" cy="192240"/>
            </a:xfrm>
            <a:custGeom>
              <a:avLst/>
              <a:gdLst/>
              <a:ahLst/>
              <a:rect l="l" t="t" r="r" b="b"/>
              <a:pathLst>
                <a:path w="194" h="121">
                  <a:moveTo>
                    <a:pt x="0" y="121"/>
                  </a:moveTo>
                  <a:cubicBezTo>
                    <a:pt x="69" y="113"/>
                    <a:pt x="79" y="103"/>
                    <a:pt x="137" y="84"/>
                  </a:cubicBezTo>
                  <a:cubicBezTo>
                    <a:pt x="143" y="78"/>
                    <a:pt x="151" y="73"/>
                    <a:pt x="156" y="66"/>
                  </a:cubicBezTo>
                  <a:cubicBezTo>
                    <a:pt x="161" y="58"/>
                    <a:pt x="159" y="46"/>
                    <a:pt x="165" y="38"/>
                  </a:cubicBezTo>
                  <a:cubicBezTo>
                    <a:pt x="194" y="0"/>
                    <a:pt x="192" y="36"/>
                    <a:pt x="192" y="11"/>
                  </a:cubicBezTo>
                </a:path>
              </a:pathLst>
            </a:custGeom>
            <a:noFill/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2973240" y="4540320"/>
              <a:ext cx="261720" cy="1030320"/>
            </a:xfrm>
            <a:prstGeom prst="line">
              <a:avLst/>
            </a:prstGeom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81400" y="4540320"/>
              <a:ext cx="523800" cy="1030320"/>
            </a:xfrm>
            <a:prstGeom prst="line">
              <a:avLst/>
            </a:prstGeom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764000" y="354024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918080" y="381492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29040" y="39243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387960" y="37767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92600" y="362448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11600" y="5475600"/>
              <a:ext cx="185760" cy="18864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79640" y="5475600"/>
              <a:ext cx="185760" cy="18864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141720" y="4445280"/>
              <a:ext cx="185760" cy="18864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56040" y="501840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05320" y="48801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2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8200" y="4859640"/>
              <a:ext cx="290520" cy="44280"/>
            </a:xfrm>
            <a:custGeom>
              <a:avLst/>
              <a:gdLst/>
              <a:ahLst/>
              <a:rect l="l" t="t" r="r" b="b"/>
              <a:pathLst>
                <a:path w="183" h="28">
                  <a:moveTo>
                    <a:pt x="0" y="28"/>
                  </a:moveTo>
                  <a:cubicBezTo>
                    <a:pt x="40" y="25"/>
                    <a:pt x="79" y="24"/>
                    <a:pt x="119" y="19"/>
                  </a:cubicBezTo>
                  <a:cubicBezTo>
                    <a:pt x="131" y="18"/>
                    <a:pt x="143" y="14"/>
                    <a:pt x="155" y="10"/>
                  </a:cubicBezTo>
                  <a:cubicBezTo>
                    <a:pt x="165" y="7"/>
                    <a:pt x="183" y="0"/>
                    <a:pt x="183" y="0"/>
                  </a:cubicBezTo>
                </a:path>
              </a:pathLst>
            </a:custGeom>
            <a:noFill/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449360" y="3270240"/>
            <a:ext cx="2903040" cy="2394000"/>
            <a:chOff x="1449360" y="3270240"/>
            <a:chExt cx="2903040" cy="2394000"/>
          </a:xfrm>
        </p:grpSpPr>
        <p:grpSp>
          <p:nvGrpSpPr>
            <p:cNvPr id="227" name=""/>
            <p:cNvGrpSpPr/>
            <p:nvPr/>
          </p:nvGrpSpPr>
          <p:grpSpPr>
            <a:xfrm>
              <a:off x="1452240" y="3270240"/>
              <a:ext cx="2900160" cy="2394000"/>
              <a:chOff x="1452240" y="3270240"/>
              <a:chExt cx="2900160" cy="2394000"/>
            </a:xfrm>
          </p:grpSpPr>
          <p:sp>
            <p:nvSpPr>
              <p:cNvPr id="228" name=""/>
              <p:cNvSpPr/>
              <p:nvPr/>
            </p:nvSpPr>
            <p:spPr>
              <a:xfrm flipH="1">
                <a:off x="1952280" y="3365640"/>
                <a:ext cx="88560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837880" y="3365640"/>
                <a:ext cx="957240" cy="95724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837880" y="3365640"/>
                <a:ext cx="1422720" cy="69696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837880" y="3365640"/>
                <a:ext cx="406440" cy="117468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1545480" y="3365640"/>
                <a:ext cx="129204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744280" y="327024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45224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858680" y="42562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166640" y="396720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701520" y="425628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344320" y="3611520"/>
                <a:ext cx="163440" cy="11916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982600" y="3579840"/>
                <a:ext cx="307800" cy="19224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2982240" y="4540320"/>
                <a:ext cx="261720" cy="10303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290400" y="4540320"/>
                <a:ext cx="523800" cy="10303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773000" y="3540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927080" y="38149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038040" y="3924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396960" y="37767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801600" y="36244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720600" y="547524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889000" y="5475240"/>
                <a:ext cx="18540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150720" y="444492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065040" y="50180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514320" y="4880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157200" y="4859280"/>
                <a:ext cx="290520" cy="4464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449360" y="3270240"/>
              <a:ext cx="2900160" cy="2394000"/>
              <a:chOff x="1449360" y="3270240"/>
              <a:chExt cx="2900160" cy="2394000"/>
            </a:xfrm>
          </p:grpSpPr>
          <p:sp>
            <p:nvSpPr>
              <p:cNvPr id="254" name=""/>
              <p:cNvSpPr/>
              <p:nvPr/>
            </p:nvSpPr>
            <p:spPr>
              <a:xfrm flipH="1">
                <a:off x="1949040" y="3365640"/>
                <a:ext cx="88596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835360" y="3365640"/>
                <a:ext cx="95724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835360" y="3365640"/>
                <a:ext cx="1422360" cy="696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835360" y="3365640"/>
                <a:ext cx="406080" cy="117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1542960" y="3365640"/>
                <a:ext cx="129240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741400" y="3270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44936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855800" y="425628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16376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698640" y="425628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341440" y="3611520"/>
                <a:ext cx="163440" cy="11916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979720" y="3579840"/>
                <a:ext cx="307800" cy="19224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2979360" y="4540320"/>
                <a:ext cx="261720" cy="10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287520" y="4540320"/>
                <a:ext cx="523800" cy="10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770120" y="3540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24200" y="38149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035160" y="3924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394080" y="37767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799080" y="36244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717720" y="5475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886120" y="5475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147840" y="44452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062160" y="50180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511440" y="4880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154320" y="4859280"/>
                <a:ext cx="290520" cy="4464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 flipH="1">
              <a:off x="1952280" y="3365640"/>
              <a:ext cx="88560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838240" y="3365640"/>
              <a:ext cx="956880" cy="95724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38240" y="3365640"/>
              <a:ext cx="1422000" cy="69696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38240" y="3365640"/>
              <a:ext cx="406080" cy="1174680"/>
            </a:xfrm>
            <a:prstGeom prst="line">
              <a:avLst/>
            </a:prstGeom>
            <a:ln w="1908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1545480" y="3365640"/>
              <a:ext cx="129204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44640" y="3270240"/>
              <a:ext cx="185400" cy="18900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452240" y="3967200"/>
              <a:ext cx="18540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58680" y="4256280"/>
              <a:ext cx="18540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67000" y="3967200"/>
              <a:ext cx="18540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701880" y="4256280"/>
              <a:ext cx="185400" cy="18864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344680" y="3611520"/>
              <a:ext cx="163080" cy="11916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0" y="0"/>
                  </a:moveTo>
                  <a:cubicBezTo>
                    <a:pt x="25" y="40"/>
                    <a:pt x="25" y="35"/>
                    <a:pt x="64" y="55"/>
                  </a:cubicBezTo>
                  <a:cubicBezTo>
                    <a:pt x="103" y="75"/>
                    <a:pt x="99" y="73"/>
                    <a:pt x="82" y="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982600" y="3579840"/>
              <a:ext cx="307800" cy="192240"/>
            </a:xfrm>
            <a:custGeom>
              <a:avLst/>
              <a:gdLst/>
              <a:ahLst/>
              <a:rect l="l" t="t" r="r" b="b"/>
              <a:pathLst>
                <a:path w="194" h="121">
                  <a:moveTo>
                    <a:pt x="0" y="121"/>
                  </a:moveTo>
                  <a:cubicBezTo>
                    <a:pt x="69" y="113"/>
                    <a:pt x="79" y="103"/>
                    <a:pt x="137" y="84"/>
                  </a:cubicBezTo>
                  <a:cubicBezTo>
                    <a:pt x="143" y="78"/>
                    <a:pt x="151" y="73"/>
                    <a:pt x="156" y="66"/>
                  </a:cubicBezTo>
                  <a:cubicBezTo>
                    <a:pt x="161" y="58"/>
                    <a:pt x="159" y="46"/>
                    <a:pt x="165" y="38"/>
                  </a:cubicBezTo>
                  <a:cubicBezTo>
                    <a:pt x="194" y="0"/>
                    <a:pt x="192" y="36"/>
                    <a:pt x="192" y="11"/>
                  </a:cubicBezTo>
                </a:path>
              </a:pathLst>
            </a:custGeom>
            <a:noFill/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2982240" y="4540320"/>
              <a:ext cx="261720" cy="1030320"/>
            </a:xfrm>
            <a:prstGeom prst="line">
              <a:avLst/>
            </a:prstGeom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90760" y="4540320"/>
              <a:ext cx="523440" cy="1030320"/>
            </a:xfrm>
            <a:prstGeom prst="line">
              <a:avLst/>
            </a:prstGeom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773000" y="354024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27080" y="381492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38040" y="39243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6699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396960" y="37767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01600" y="362448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20960" y="5475240"/>
              <a:ext cx="18540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89000" y="5475240"/>
              <a:ext cx="185400" cy="18900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51080" y="4444920"/>
              <a:ext cx="185400" cy="18900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65040" y="501804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6699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514680" y="48801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2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157200" y="4859280"/>
              <a:ext cx="290160" cy="44640"/>
            </a:xfrm>
            <a:custGeom>
              <a:avLst/>
              <a:gdLst/>
              <a:ahLst/>
              <a:rect l="l" t="t" r="r" b="b"/>
              <a:pathLst>
                <a:path w="183" h="28">
                  <a:moveTo>
                    <a:pt x="0" y="28"/>
                  </a:moveTo>
                  <a:cubicBezTo>
                    <a:pt x="40" y="25"/>
                    <a:pt x="79" y="24"/>
                    <a:pt x="119" y="19"/>
                  </a:cubicBezTo>
                  <a:cubicBezTo>
                    <a:pt x="131" y="18"/>
                    <a:pt x="143" y="14"/>
                    <a:pt x="155" y="10"/>
                  </a:cubicBezTo>
                  <a:cubicBezTo>
                    <a:pt x="165" y="7"/>
                    <a:pt x="183" y="0"/>
                    <a:pt x="183" y="0"/>
                  </a:cubicBezTo>
                </a:path>
              </a:pathLst>
            </a:custGeom>
            <a:noFill/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EBB9-C525-48C0-AD2F-50664C27A1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operational semantics of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Representation of a group of transi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4" marL="191304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P { --g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-&gt;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 p</a:t>
            </a:r>
            <a:r>
              <a:rPr b="0" lang="en-US" sz="2400" spc="-1" strike="noStrike" baseline="-40000">
                <a:solidFill>
                  <a:srgbClr val="333399"/>
                </a:solidFill>
                <a:latin typeface="Comic Sans MS"/>
              </a:rPr>
              <a:t>i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i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} 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i                            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ul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2" marL="1062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hoice  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g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. 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{--g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-&gt;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20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    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{--g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-&gt;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20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Par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         ____________________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Q | P 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{--g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-&gt;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20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Q | 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7F96-F1AB-4625-BB6C-225269F7AF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operational semantics of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ules (continued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2" marL="918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{--x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)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        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Q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{--x^z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1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Q’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    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om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____________________________________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 | Q 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{--</a:t>
            </a:r>
            <a:r>
              <a:rPr b="0" lang="en-US" sz="1800" spc="-1" strike="noStrike">
                <a:solidFill>
                  <a:srgbClr val="009999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[z/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]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|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Q’ 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x</a:t>
            </a:r>
            <a:r>
              <a:rPr b="0" lang="en-US" sz="1800" spc="-1" strike="noStrike" baseline="-34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=x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U  { --x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)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|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Q 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x</a:t>
            </a:r>
            <a:r>
              <a:rPr b="0" lang="en-US" sz="1800" spc="-1" strike="noStrike" baseline="-34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=/=x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{--x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)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Res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___________________     q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renormalized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x) P { --x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)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q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(x) 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x</a:t>
            </a:r>
            <a:r>
              <a:rPr b="0" lang="en-US" sz="1800" spc="-1" strike="noStrike" baseline="-34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=/= x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CD99-3AF2-45D9-B727-102E225D3C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xpressive power of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Example of distributed agreement: 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e leader election problem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105360" y="3322800"/>
            <a:ext cx="3038400" cy="1595880"/>
            <a:chOff x="3105360" y="3322800"/>
            <a:chExt cx="3038400" cy="1595880"/>
          </a:xfrm>
        </p:grpSpPr>
        <p:sp>
          <p:nvSpPr>
            <p:cNvPr id="311" name=""/>
            <p:cNvSpPr/>
            <p:nvPr/>
          </p:nvSpPr>
          <p:spPr>
            <a:xfrm>
              <a:off x="3468600" y="3975480"/>
              <a:ext cx="261360" cy="276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464080" y="3989520"/>
              <a:ext cx="261360" cy="276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3" name=""/>
            <p:cNvCxnSpPr>
              <a:stCxn id="311" idx="7"/>
              <a:endCxn id="312" idx="1"/>
            </p:cNvCxnSpPr>
            <p:nvPr/>
          </p:nvCxnSpPr>
          <p:spPr>
            <a:xfrm flipH="1" rot="16200000">
              <a:off x="4590000" y="3116160"/>
              <a:ext cx="14760" cy="1810080"/>
            </a:xfrm>
            <a:prstGeom prst="curvedConnector5">
              <a:avLst>
                <a:gd name="adj1" fmla="val -1877500"/>
                <a:gd name="adj2" fmla="val 49990"/>
                <a:gd name="adj3" fmla="val -18775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4" name=""/>
            <p:cNvCxnSpPr>
              <a:stCxn id="312" idx="3"/>
              <a:endCxn id="311" idx="5"/>
            </p:cNvCxnSpPr>
            <p:nvPr/>
          </p:nvCxnSpPr>
          <p:spPr>
            <a:xfrm flipV="1" rot="16200000">
              <a:off x="4589640" y="3313440"/>
              <a:ext cx="14760" cy="1810080"/>
            </a:xfrm>
            <a:prstGeom prst="curvedConnector5">
              <a:avLst>
                <a:gd name="adj1" fmla="val -1877500"/>
                <a:gd name="adj2" fmla="val 49990"/>
                <a:gd name="adj3" fmla="val -18775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5" name=""/>
            <p:cNvSpPr/>
            <p:nvPr/>
          </p:nvSpPr>
          <p:spPr>
            <a:xfrm>
              <a:off x="3105360" y="3924360"/>
              <a:ext cx="33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765040" y="392436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99"/>
                  </a:solidFill>
                  <a:latin typeface="Comic Sans MS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28360" y="332280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434840" y="451980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C5C5-66EF-4C4A-BA1C-62D57324CA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mplementation of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Compilation in Java     &lt;&lt; &gt;&gt; :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Comic Sans MS"/>
              </a:rPr>
              <a:t>pa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Java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Distributed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&lt;&lt; P | Q &gt;&gt; =  &lt;&lt; P &gt;&gt;.</a:t>
            </a:r>
            <a:r>
              <a:rPr b="0" lang="en-US" sz="1800" spc="-1" strike="noStrike">
                <a:solidFill>
                  <a:srgbClr val="009999"/>
                </a:solidFill>
                <a:latin typeface="Courier New"/>
              </a:rPr>
              <a:t>start();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&lt;&lt; Q &gt;&gt;</a:t>
            </a:r>
            <a:r>
              <a:rPr b="0" lang="en-US" sz="1800" spc="-1" strike="noStrike">
                <a:solidFill>
                  <a:srgbClr val="009999"/>
                </a:solidFill>
                <a:latin typeface="Courier New"/>
              </a:rPr>
              <a:t>.start();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Comic Sans MS"/>
              </a:rPr>
              <a:t>Compositional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6600"/>
                </a:solidFill>
                <a:latin typeface="Comic Sans MS"/>
              </a:rPr>
              <a:t>&lt;&lt; P op Q &gt;&gt; =  &lt;&lt; P &gt;&gt; jop &lt;&lt; Q &gt;&gt;      for all op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ff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Channels are one-position buffers with test-and-set (synchronized) methods for input and outpu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cc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omic Sans MS"/>
              </a:rPr>
              <a:t>The probabilistic input guarded construct is implemented as a while loop in which channels to be tried are selected according to their probability. The loop repeats until an input is successful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95C0-21B0-44EB-A8A3-7DF90D721AF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7T08:56:17Z</dcterms:modified>
  <cp:revision>137</cp:revision>
  <dc:subject/>
  <dc:title>Concurrency 5</dc:title>
</cp:coreProperties>
</file>