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68600"/>
            <a:ext cx="7670880" cy="328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251B686-0160-42BC-8CD7-C4C4E7A4A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32FD9D-5A87-4233-BD07-879E4DE8E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BE3-AC7E-4D1B-AB19-0857AD1E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1C4-436D-4F32-9631-9AC877BC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812-291B-40CC-85FD-96ECC89E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F0F-A526-49D5-B443-9C9E20C8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92E-5528-470A-99B7-8C0391D4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335-712E-44D8-BDD3-DF5910CE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05B-8046-4265-8716-F992DEB1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466-2FB0-4097-B3CC-1A399C67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9D2-173B-4C83-BA6A-C35DFB36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AA0-F4E4-4F2B-83CD-C3F212F1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A35-1345-45DC-AC05-7FB33B25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45D-993E-4356-AF96-15FFDE15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8689-8567-43B0-B124-48D6EB1097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7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Originally developed as an intermediate language for the fully distributed implementation of the </a:t>
            </a:r>
            <a:r>
              <a:rPr b="0" lang="en-US" sz="1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-calculus (Herescu and Palamidessi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ff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results of Lecture 4 show that a fully distributed implementation of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must necessarily be randomiz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 two-steps approach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2654280"/>
            <a:ext cx="3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6600" y="398952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stic asynchron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0040" y="523224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5760" y="2654280"/>
            <a:ext cx="133668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3800" y="3857760"/>
            <a:ext cx="5283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1240" y="5232240"/>
            <a:ext cx="3727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3203640"/>
            <a:ext cx="214200" cy="654120"/>
          </a:xfrm>
          <a:prstGeom prst="downArrow">
            <a:avLst>
              <a:gd name="adj1" fmla="val 50000"/>
              <a:gd name="adj2" fmla="val 763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4578480"/>
            <a:ext cx="214200" cy="653760"/>
          </a:xfrm>
          <a:prstGeom prst="downArrow">
            <a:avLst>
              <a:gd name="adj1" fmla="val 50000"/>
              <a:gd name="adj2" fmla="val 763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1680" y="3236760"/>
            <a:ext cx="6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[[ 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880" y="4637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&lt;&lt;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166920"/>
            <a:ext cx="26096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the correctness proof is easier since [[ ]] (which is the difficult part of the implementation)  is between two simi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76E-D302-4B75-84CF-527B1EBBAC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ynch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533240"/>
            <a:ext cx="85629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Syntax: 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based on the asynchronous </a:t>
            </a:r>
            <a:r>
              <a:rPr b="1" lang="en-US" sz="1600" spc="-1" strike="noStrike">
                <a:solidFill>
                  <a:srgbClr val="990099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 of Amadio, Castellani, Sangiorgi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  ::=  x(y) |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   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. inp. guard. choice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x^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output action</a:t>
            </a:r>
            <a:r>
              <a:rPr b="0" lang="en-US" sz="2800" spc="-1" strike="noStrike" baseline="-25000">
                <a:solidFill>
                  <a:srgbClr val="0db1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       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x)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c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recurs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ocedure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AF8-14BD-462A-A908-6C79D989FB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88640"/>
            <a:ext cx="777708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Based on the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Probabilistic Automat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of Segala and Lynch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Distinction betwe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nondeterministic behavior (choice of the scheduler)</a:t>
            </a: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 behavior (choice of the proc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152880"/>
            <a:ext cx="3216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b10d"/>
                </a:solidFill>
                <a:latin typeface="Comic Sans MS"/>
              </a:rPr>
              <a:t>Scheduling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The scheduler chooses the group of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5880" y="52722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416480"/>
            <a:ext cx="3216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The process chooses</a:t>
            </a:r>
            <a:r>
              <a:rPr b="0" lang="en-US" sz="30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ally the transition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38200" y="3268800"/>
            <a:ext cx="2903760" cy="2393640"/>
            <a:chOff x="1438200" y="3268800"/>
            <a:chExt cx="2903760" cy="2393640"/>
          </a:xfrm>
        </p:grpSpPr>
        <p:grpSp>
          <p:nvGrpSpPr>
            <p:cNvPr id="71" name=""/>
            <p:cNvGrpSpPr/>
            <p:nvPr/>
          </p:nvGrpSpPr>
          <p:grpSpPr>
            <a:xfrm>
              <a:off x="1441440" y="3268800"/>
              <a:ext cx="2900160" cy="2393280"/>
              <a:chOff x="1441440" y="3268800"/>
              <a:chExt cx="2900160" cy="2393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1941480" y="336384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27080" y="336384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27080" y="336384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27080" y="336384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534680" y="336384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33480" y="32688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44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7880" y="4254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5840" y="39654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90720" y="425448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352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7180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971440" y="453852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9600" y="453852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6220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1628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724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616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080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9800" y="54734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78200" y="547344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9920" y="444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5424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0352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640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38200" y="3268800"/>
              <a:ext cx="2900160" cy="2393280"/>
              <a:chOff x="1438200" y="3268800"/>
              <a:chExt cx="2900160" cy="2393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937880" y="336384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24200" y="336384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4200" y="336384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24200" y="336384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531800" y="336384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240" y="32688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382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4464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526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8748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028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6856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968200" y="453852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360" y="453852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896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04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400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8292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792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65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49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6680" y="4443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100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16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H="1">
              <a:off x="1941120" y="3363840"/>
              <a:ext cx="88596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7440" y="3363840"/>
              <a:ext cx="95724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7440" y="3363840"/>
              <a:ext cx="142236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7440" y="3363840"/>
              <a:ext cx="40644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5040" y="3363840"/>
              <a:ext cx="1292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68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144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620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10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3520" y="3610080"/>
              <a:ext cx="16344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3578400"/>
              <a:ext cx="30780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538520"/>
              <a:ext cx="26208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9600" y="4538520"/>
              <a:ext cx="52416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2200" y="35384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16280" y="3813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7600" y="39225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6160" y="37749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1160" y="362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0160" y="5473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200" y="5473800"/>
              <a:ext cx="18576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9920" y="4443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50166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520" y="4878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6400" y="48578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40000" y="3270240"/>
            <a:ext cx="2903400" cy="2394000"/>
            <a:chOff x="1440000" y="3270240"/>
            <a:chExt cx="2903400" cy="2394000"/>
          </a:xfrm>
        </p:grpSpPr>
        <p:grpSp>
          <p:nvGrpSpPr>
            <p:cNvPr id="149" name=""/>
            <p:cNvGrpSpPr/>
            <p:nvPr/>
          </p:nvGrpSpPr>
          <p:grpSpPr>
            <a:xfrm>
              <a:off x="1443240" y="3270240"/>
              <a:ext cx="2900160" cy="2394000"/>
              <a:chOff x="1443240" y="3270240"/>
              <a:chExt cx="2900160" cy="23940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1943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28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28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536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35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3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49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7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2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35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3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73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1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4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8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9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87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92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11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0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41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56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8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440000" y="3270240"/>
              <a:ext cx="2900160" cy="2394000"/>
              <a:chOff x="1440000" y="3270240"/>
              <a:chExt cx="2900160" cy="239400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93968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600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600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2600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3360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3204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0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64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44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928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208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036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97000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7816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076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484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80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72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8972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83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767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3848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280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208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496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943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8880" y="3365640"/>
              <a:ext cx="95724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8880" y="3365640"/>
              <a:ext cx="142236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8880" y="3365640"/>
              <a:ext cx="406440" cy="117468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536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35280" y="327024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3240" y="39672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9680" y="42562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396720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92520" y="425628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3611520"/>
              <a:ext cx="16344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3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73240" y="4540320"/>
              <a:ext cx="26172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1400" y="4540320"/>
              <a:ext cx="52380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4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8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9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7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2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160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964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1720" y="444528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6040" y="5018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8200" y="48596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49360" y="3270240"/>
            <a:ext cx="2903040" cy="2394000"/>
            <a:chOff x="1449360" y="3270240"/>
            <a:chExt cx="2903040" cy="2394000"/>
          </a:xfrm>
        </p:grpSpPr>
        <p:grpSp>
          <p:nvGrpSpPr>
            <p:cNvPr id="227" name=""/>
            <p:cNvGrpSpPr/>
            <p:nvPr/>
          </p:nvGrpSpPr>
          <p:grpSpPr>
            <a:xfrm>
              <a:off x="1452240" y="3270240"/>
              <a:ext cx="2900160" cy="2394000"/>
              <a:chOff x="1452240" y="3270240"/>
              <a:chExt cx="2900160" cy="2394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952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37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7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37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45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44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52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58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6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1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44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82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982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0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3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38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96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1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0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9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0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5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14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7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449360" y="3270240"/>
              <a:ext cx="2900160" cy="2394000"/>
              <a:chOff x="1449360" y="3270240"/>
              <a:chExt cx="2900160" cy="2394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94904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3536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536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3536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54296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4140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493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5580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637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972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97936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8752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420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516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408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9908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177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861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4784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6216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144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432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952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8240" y="3365640"/>
              <a:ext cx="95688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8240" y="3365640"/>
              <a:ext cx="142200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8240" y="3365640"/>
              <a:ext cx="406080" cy="11746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45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4640" y="3270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52240" y="3967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8680" y="425628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000" y="396720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1880" y="4256280"/>
              <a:ext cx="18540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3611520"/>
              <a:ext cx="16308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82240" y="4540320"/>
              <a:ext cx="261720" cy="10303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0760" y="4540320"/>
              <a:ext cx="52344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3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27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8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6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1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0960" y="547524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9000" y="5475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1080" y="444492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5040" y="50180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468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57200" y="4859280"/>
              <a:ext cx="290160" cy="4464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D94-8ADA-4202-BEF5-4B5C7FD5A0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esentation of a group of transi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4" marL="19130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 { --g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&gt;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p</a:t>
            </a:r>
            <a:r>
              <a:rPr b="0" lang="en-US" sz="2400" spc="-1" strike="noStrike" baseline="-40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}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                          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hoice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.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ar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         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 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B66-8D01-4D6F-9277-CBC62FCAC5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 (continued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18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^z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1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_________________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 | Q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[z/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]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x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U 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/=x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Re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     q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renormaliz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x) P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q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(x) 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=/= x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224-0230-4732-93FA-BBC61125B2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xpressive power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Example of distributed agreement: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leader election proble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05360" y="3322800"/>
            <a:ext cx="3038400" cy="1595880"/>
            <a:chOff x="3105360" y="3322800"/>
            <a:chExt cx="3038400" cy="1595880"/>
          </a:xfrm>
        </p:grpSpPr>
        <p:sp>
          <p:nvSpPr>
            <p:cNvPr id="311" name=""/>
            <p:cNvSpPr/>
            <p:nvPr/>
          </p:nvSpPr>
          <p:spPr>
            <a:xfrm>
              <a:off x="3468600" y="3975480"/>
              <a:ext cx="261360" cy="27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64080" y="3989520"/>
              <a:ext cx="261360" cy="27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1" idx="7"/>
              <a:endCxn id="312" idx="1"/>
            </p:cNvCxnSpPr>
            <p:nvPr/>
          </p:nvCxnSpPr>
          <p:spPr>
            <a:xfrm flipH="1" rot="16200000">
              <a:off x="4590000" y="311616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2" idx="3"/>
              <a:endCxn id="311" idx="5"/>
            </p:cNvCxnSpPr>
            <p:nvPr/>
          </p:nvCxnSpPr>
          <p:spPr>
            <a:xfrm flipV="1" rot="16200000">
              <a:off x="4589640" y="331344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3105360" y="3924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5040" y="392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8360" y="3322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4840" y="4519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D20-2755-423E-A145-68BCF4F89D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ilation in Java     &lt;&lt; &gt;&gt; :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Java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&lt;&lt; P | Q &gt;&gt; =  &lt;&lt; P &gt;&gt;.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&lt;&lt; Q &gt;&gt;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.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Compositiona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lt;&lt; P op Q &gt;&gt; =  &lt;&lt; P &gt;&gt; jop &lt;&lt; Q &gt;&gt;      for all o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annels are one-position buffers with test-and-set (synchronized) methods for input and outpu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probabilistic input guarded construct is implemented as a while loop in which channels to be tried are selected according to their probability. The loop repeats until an input is successful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E61-2C83-4C3B-91CF-52A8D6F5C5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7T08:56:17Z</dcterms:modified>
  <cp:revision>137</cp:revision>
  <dc:subject/>
  <dc:title>Concurrency 5</dc:title>
</cp:coreProperties>
</file>