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5CC-D070-48E6-8555-2183A1A3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E74-A634-402C-B78C-79837853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937-24E6-4E74-BF81-C226D44A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AFF-DA0E-481E-AE38-CE3FB0E6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085-9497-4EBF-A926-C60BF8BC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868-2F77-484F-9E10-3C1063D8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97E-EC7F-4C60-AA98-4100ED2A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C4E-3B69-482E-A5AA-C23FAFAC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E74-B69D-490F-9AFE-7F789148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672-FDFD-44C5-AD82-36D223F0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E4C-7182-4189-B009-E8D58187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D38-1F68-4A71-9BC2-F28070A7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20CF-9C79-4DDE-A657-C3689279B4D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6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Progress statements: </a:t>
            </a:r>
            <a:br>
              <a:rPr sz="2800"/>
            </a:b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A tool for verification of probabilistic autom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formal method to analyse probabilistic algorithm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Definition (progress statement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Given sets of states S, T, and a class of adversaries A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–A,p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under any adversary in A, from any state in S, we eventually reach a state in T with probability at least 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Furthermore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unless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5D1-D619-4CF4-9B2C-A0498ED1FD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337-6D86-41A9-9EBB-1BF5E474BC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: for every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, and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, there exists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 such that,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,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b10d"/>
                </a:solidFill>
                <a:latin typeface="Comic Sans MS"/>
              </a:rPr>
              <a:t>Proposition:</a:t>
            </a: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 The class of fair adversaries is history-insensitiv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Proof: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Given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, define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.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learl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is still fai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404-1069-4F1D-A7F0-843602EAFD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An example of verification using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example we consider is the randomized  algorithm of Lehmann and Rabin for the dining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A8FF-632A-4754-9C60-27ECAE1842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573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ning philosophers: the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790560" y="2143080"/>
            <a:ext cx="6810480" cy="224784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86880" y="2874960"/>
            <a:ext cx="183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37600" y="2806560"/>
            <a:ext cx="11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5FF-B5FC-4ECA-A064-24B6A75EC9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0520"/>
            <a:ext cx="84866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997-D27F-4594-9E96-93C529CDDD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 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 we can conclud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7E1-25EA-4070-BF4D-A0FC92307E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9:58:27Z</dcterms:modified>
  <cp:revision>133</cp:revision>
  <dc:subject/>
  <dc:title>Concurrency 5</dc:title>
</cp:coreProperties>
</file>