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BC66-EC83-4713-9840-0B4A6F11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D71-088A-419A-9590-DF3E4D1D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6C5-4E21-4E2B-B183-5778601A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2D83-2322-43C0-80C0-62D0A8E9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055-81BC-4EF8-9BD9-72129ED5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4DB-17A0-4CB6-9146-1AAAA032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833E-0D39-406B-AFA4-261B8C47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07C-48EE-4342-A298-6FF54CD5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173-FBBB-4BCF-970A-262DBC68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B76-200E-4D5B-8347-AD4C0FB3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5832-E049-4EC5-99DA-48F0BCDB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3AEA-0254-482A-8775-1191C473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E74C-8FEB-44D3-A69A-F6D7D4DB329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6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Progress statements: </a:t>
            </a:r>
            <a:br>
              <a:rPr sz="2800"/>
            </a:b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A tool for verification of probabilistic autom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Progress statement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oposed by Lynch and Segala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formal method to analyse probabilistic algorithm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Definition (progress statement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Given sets of states S, T, and a class of adversaries A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–A,p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under any adversary in A, from any state in S, we eventually reach a state in T with probability at least p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Furthermore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unless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whenever from a state in S we do not reach a state in T, we remain in S (possibly in a different state of S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F1BB-D000-48FD-AA44-C4BC7C8C5C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1800" y="136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ome useful properti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f A is history-insensitive ,  S –A,p-&gt; T, and T –A,q-&gt; U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 –A,pq-&gt; U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and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–A,p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ere p = min{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S –A,1-&gt; S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f A is history-insensitive and   S –A,p-&gt; T   and   S unless T, and p &gt; 0, the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 –A,1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4C9D-B0AE-4FEB-A0D0-B99E70DE82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 insensiti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a class of adversaries A is history-insensitive if: for every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, and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, there exists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 such that,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,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b10d"/>
                </a:solidFill>
                <a:latin typeface="Comic Sans MS"/>
              </a:rPr>
              <a:t>Proposition:</a:t>
            </a: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 The class of fair adversaries is history-insensitiv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Proof: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Given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, define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.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learl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is still fai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6A7-993E-49D9-8EB2-F707010603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An example of verification using the progress statements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example we consider is the randomized  algorithm of Lehmann and Rabin for the dining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We will show that under a fair adversary scheduler we have deadlock-freedom (and livelock-freedom), i.e. if a philosopher gets hungry, then with probability 1 some philosopher (not necessarily the same) will eventually eat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3B2-8640-44C4-9639-B7FE2914DA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573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Comic Sans MS"/>
              </a:rPr>
              <a:t>State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8080"/>
                </a:solidFill>
                <a:uFillTx/>
                <a:latin typeface="Comic Sans MS"/>
              </a:rPr>
              <a:t>descript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think  or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et hungry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flip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ady to tos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W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wait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waiting for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secon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hecking second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ping first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a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pre-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xi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second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m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move to 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ning philosophers: the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790560" y="2143080"/>
            <a:ext cx="6810480" cy="224784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86880" y="2874960"/>
            <a:ext cx="183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37600" y="2806560"/>
            <a:ext cx="11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30BF-158A-4F4E-A94C-4145644EC6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96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0520"/>
            <a:ext cx="84866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Let us introduce the following global (sets of) state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ry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T={F,W,S,D,P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Ea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C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R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at least one phil is in T,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ll the others are in T, R or 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Flip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F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Pre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ne phil is in 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Good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rocess is in a ‘’good state’’, i.e. in {W,S}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his second fork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is not the first fork for the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eighbor (i.e. the neighbor is not committed to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We want to show that  Try –A,1-&gt; Eat   for A = fair adv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90F-14F1-4010-A9B9-ED040A4979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can prove that, for the class of fair adversaries A (omitted in the following notation)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ry  -1-&gt;  RT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T  -1-&gt;  Fli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lip  -1/2-&gt; 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Good  -1/4-&gt; 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e  -1-&gt; 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Using the properties of progress statements we deriv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/8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ince we also have  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unless Eat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,   we can conclud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322-51CC-4C55-A04B-BCCEFAB063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9:58:27Z</dcterms:modified>
  <cp:revision>133</cp:revision>
  <dc:subject/>
  <dc:title>Concurrency 5</dc:title>
</cp:coreProperties>
</file>