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16A-A94C-4C76-AE8D-D0161D17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189-DF65-440F-8EA3-52F40173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07F-93D9-4AB9-A073-38537CCE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705-5F27-40F0-BE9D-F269C37C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45A-E3F5-4DF5-AFCD-076FCB36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D94-656F-4329-B181-FB551787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7DD-07D3-48C2-A9DD-543169A0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F49-0EF6-4D15-AEBE-54ADED68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DA6-1AC6-4E86-A19E-00060FC3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2F0-3377-4468-AD8D-60DDBBA9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EF8-B1F1-4410-BD34-4E93CD6A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C37-4033-4BFB-9487-DC68DC93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2E42-CC34-4522-9481-F1E89E3D49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5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asics of Measure Theory and Probability Theory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asics of Measure Theory and Continuous Probability The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152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ntinuous probabilistic spaces: the need for Measure Theor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ome introductory example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inite sequence of coin tossing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ction, complementation, union and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count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pt of c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asurable spac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as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 generated by a bas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bability measu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onotonicity and continuit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Prakash Panangaden, Stochastic techniques in Concurrency. Lect notes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ction 2.1. and 2.4 (till page 16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F62-3D5B-466E-8DAA-C811016843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812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Nondeterministic choice and probabilistic choic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Definition of probabilistic automata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adversary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execu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measurable space and the probability measure associated to the execution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example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. Modeling and Verification of Randomized Distributed Re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ime Systems . PhD thesis, Laboratory for Computer Science, Massachusetts Institute of Technology, June 1995. Available as Technical Report MIT/LCS/TR-676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 and Nancy Lynch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Probabilistic simulations for probabilistic processes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Nordic Journal of Computing, 2(2):250--273, 1995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An extended abstract appeared in the Proceedings of CONCUR '94,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LNCS 836: 22--25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775-37F5-4CFF-857B-AD08293A1B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0:00:13Z</dcterms:modified>
  <cp:revision>126</cp:revision>
  <dc:subject/>
  <dc:title>Concurrency 5</dc:title>
</cp:coreProperties>
</file>