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9590088" cy="7304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06DE8-C41B-457F-99E7-733A14199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5998E-A456-4FEF-89EB-650CD1912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B390E-6CF2-41BE-8D52-B0C5E6F80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046B0-62AA-4456-8D59-38F290EF2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EEABB-98BF-4CBC-A49E-5D74C6835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8B371-0BAB-4E94-AE8A-CBE8BBBD1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92A71-BD04-4759-B70B-22130520F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EB8B8-E6F2-4BA9-80C3-E5AB5FD56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E9F09-E604-45B2-A10D-3E921C232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7030F-FD70-4099-95EB-3621EA86E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6D652-688E-44EB-A05C-EA0D9E98B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05F24-7E69-4910-8AC6-65280620B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4C1A3-8422-4628-A2AA-57F94D12540B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catuscia@lix.polytechnique.fr" TargetMode="External"/><Relationship Id="rId2" Type="http://schemas.openxmlformats.org/officeDocument/2006/relationships/hyperlink" Target="http://www.lix.polytechnique.fr/~catuscia" TargetMode="External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9600" y="817200"/>
            <a:ext cx="8602560" cy="29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Probabilistic Methods in Concurrency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cc0066"/>
                </a:solidFill>
                <a:latin typeface="Comic Sans MS"/>
              </a:rPr>
              <a:t>Lecture 4</a:t>
            </a:r>
            <a:br>
              <a:rPr sz="36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cc0066"/>
                </a:solidFill>
                <a:latin typeface="Comic Sans MS"/>
              </a:rPr>
              <a:t>Problems in distributed systems for which </a:t>
            </a:r>
            <a:br>
              <a:rPr sz="2400"/>
            </a:br>
            <a:r>
              <a:rPr b="0" lang="en-US" sz="2400" spc="-1" strike="noStrike">
                <a:solidFill>
                  <a:srgbClr val="cc0066"/>
                </a:solidFill>
                <a:latin typeface="Comic Sans MS"/>
              </a:rPr>
              <a:t>only randomized solutions exis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85600" y="4005000"/>
            <a:ext cx="734364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Catuscia Palamidessi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Comic Sans MS"/>
                <a:hlinkClick r:id="rId1"/>
              </a:rPr>
              <a:t>catuscia@lix.polytechnique.fr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Comic Sans MS"/>
                <a:hlinkClick r:id="rId2"/>
              </a:rPr>
              <a:t>www.lix.polytechnique.fr/~catuscia</a:t>
            </a: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Comic Sans MS"/>
              </a:rPr>
              <a:t>Page of the course: 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Comic Sans MS"/>
              </a:rPr>
              <a:t>www.lix.polytechnique.fr/~catuscia/teaching/Pisa/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rrectness of the algorit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00808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Assumption: 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  </a:t>
            </a:r>
            <a:r>
              <a:rPr b="0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Comic Sans MS"/>
              </a:rPr>
              <a:t>M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 &gt; max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Comic Sans MS"/>
              </a:rPr>
              <a:t>prof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{time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Comic Sans MS"/>
              </a:rPr>
              <a:t>2-3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(M,prof)}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808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80"/>
                </a:solidFill>
                <a:latin typeface="Comic Sans MS"/>
              </a:rPr>
              <a:t>Theorem:</a:t>
            </a:r>
            <a:r>
              <a:rPr b="0" lang="en-US" sz="2400" spc="-1" strike="noStrike">
                <a:solidFill>
                  <a:srgbClr val="008080"/>
                </a:solidFill>
                <a:latin typeface="Comic Sans MS"/>
              </a:rPr>
              <a:t> if a committee is enabled then a professor will eventually attend a meeting with probability 1 (WIF)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9933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66"/>
                </a:solidFill>
                <a:latin typeface="Comic Sans MS"/>
              </a:rPr>
              <a:t>Theorem:</a:t>
            </a:r>
            <a:r>
              <a:rPr b="0" lang="en-US" sz="2400" spc="-1" strike="noStrike">
                <a:solidFill>
                  <a:srgbClr val="993366"/>
                </a:solidFill>
                <a:latin typeface="Comic Sans MS"/>
              </a:rPr>
              <a:t> if a professor’s transition from thinking to waiting does not depend on the random draws performed by other professors, then a committee meeting which is enabled infinitely often will eventually be established (SIF)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DEF17-4425-43E9-A043-05E0659224DC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1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Importance of the assumption on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The assumption on </a:t>
            </a:r>
            <a:r>
              <a:rPr b="0" lang="en-US" sz="2000" spc="-1" strike="noStrike">
                <a:solidFill>
                  <a:srgbClr val="0000ff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Comic Sans MS"/>
              </a:rPr>
              <a:t>M</a:t>
            </a: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 is an assumption about the degree of synchronism (in the sense of cooperation) of the system. In Distributed Algorithms there are three models of cooperation: 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lvl="2" marL="1371600" indent="-457200">
              <a:lnSpc>
                <a:spcPct val="90000"/>
              </a:lnSpc>
              <a:spcBef>
                <a:spcPts val="400"/>
              </a:spcBef>
              <a:buClr>
                <a:srgbClr val="9900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00cc"/>
                </a:solidFill>
                <a:latin typeface="Comic Sans MS"/>
              </a:rPr>
              <a:t>Partially synchronou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1371600" indent="-457200">
              <a:lnSpc>
                <a:spcPct val="90000"/>
              </a:lnSpc>
              <a:spcBef>
                <a:spcPts val="400"/>
              </a:spcBef>
              <a:buClr>
                <a:srgbClr val="9900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00cc"/>
                </a:solidFill>
                <a:latin typeface="Comic Sans MS"/>
              </a:rPr>
              <a:t>Asynchronou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1371600" indent="-457200">
              <a:lnSpc>
                <a:spcPct val="90000"/>
              </a:lnSpc>
              <a:spcBef>
                <a:spcPts val="400"/>
              </a:spcBef>
              <a:buClr>
                <a:srgbClr val="9900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00cc"/>
                </a:solidFill>
                <a:latin typeface="Comic Sans MS"/>
              </a:rPr>
              <a:t>Synchronous (lockstep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This assumption corresponds to (2)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808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80"/>
                </a:solidFill>
                <a:latin typeface="Comic Sans MS"/>
              </a:rPr>
              <a:t>Hence this algorithm would not be suitable for implementing the synchronization mechanism of CSP or CCS in a fully distributed setting, since we need an asynchronous cooperation model. 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A0EBD-0A7F-4937-96A1-36312C07772C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1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611520" y="1344600"/>
            <a:ext cx="276120" cy="2858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676520" y="1371600"/>
            <a:ext cx="276120" cy="2761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476360" y="3770280"/>
            <a:ext cx="446040" cy="2271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922400" y="3405240"/>
            <a:ext cx="6145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016080" y="3432240"/>
            <a:ext cx="85428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203480" y="4052520"/>
            <a:ext cx="888840" cy="198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914400" y="2254320"/>
            <a:ext cx="1093680" cy="704880"/>
          </a:xfrm>
          <a:prstGeom prst="triangle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952560" y="2170080"/>
            <a:ext cx="1216080" cy="781200"/>
          </a:xfrm>
          <a:prstGeom prst="triangle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914400" y="1492200"/>
            <a:ext cx="1093680" cy="78912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844560" y="2225520"/>
            <a:ext cx="136440" cy="1112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040" bIns="32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366920" y="1406520"/>
            <a:ext cx="168120" cy="141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844560" y="2197080"/>
            <a:ext cx="169920" cy="139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05120" y="2197080"/>
            <a:ext cx="169920" cy="139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03120" y="2259000"/>
            <a:ext cx="97956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ff"/>
                </a:solidFill>
                <a:latin typeface="Comic Sans MS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646280" y="2270160"/>
            <a:ext cx="98280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ff"/>
                </a:solidFill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327320" y="1219320"/>
            <a:ext cx="258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ff"/>
                </a:solidFill>
                <a:latin typeface="Comic Sans MS"/>
              </a:rPr>
              <a:t>A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06160" y="1714680"/>
            <a:ext cx="969120" cy="26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449720" y="1701720"/>
            <a:ext cx="969120" cy="26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983160" y="2359080"/>
            <a:ext cx="969120" cy="26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857680" y="2262240"/>
            <a:ext cx="1093680" cy="704880"/>
          </a:xfrm>
          <a:prstGeom prst="triangle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895480" y="2178000"/>
            <a:ext cx="1216080" cy="781200"/>
          </a:xfrm>
          <a:prstGeom prst="triangle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857680" y="1500120"/>
            <a:ext cx="1093680" cy="78912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787480" y="2233440"/>
            <a:ext cx="136800" cy="1112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040" bIns="32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09840" y="1414440"/>
            <a:ext cx="168480" cy="1414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787480" y="2205000"/>
            <a:ext cx="169920" cy="139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848040" y="2205000"/>
            <a:ext cx="169920" cy="139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189160" y="2266920"/>
            <a:ext cx="97956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ff"/>
                </a:solidFill>
                <a:latin typeface="Comic Sans MS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541680" y="2306520"/>
            <a:ext cx="98280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ff"/>
                </a:solidFill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70240" y="1227240"/>
            <a:ext cx="258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ff"/>
                </a:solidFill>
                <a:latin typeface="Comic Sans MS"/>
              </a:rPr>
              <a:t>A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450160" y="1722600"/>
            <a:ext cx="969120" cy="26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393000" y="1709640"/>
            <a:ext cx="969120" cy="26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926080" y="2367000"/>
            <a:ext cx="969120" cy="26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700680" y="2249640"/>
            <a:ext cx="1094040" cy="704520"/>
          </a:xfrm>
          <a:prstGeom prst="triangle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738840" y="2165400"/>
            <a:ext cx="1216080" cy="780840"/>
          </a:xfrm>
          <a:prstGeom prst="triangle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700680" y="1487520"/>
            <a:ext cx="1094040" cy="78912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630840" y="2220840"/>
            <a:ext cx="136800" cy="1112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040" bIns="32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153200" y="1401840"/>
            <a:ext cx="168480" cy="1411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630840" y="2192400"/>
            <a:ext cx="169920" cy="139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691400" y="2192400"/>
            <a:ext cx="169920" cy="1396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089760" y="2254320"/>
            <a:ext cx="97956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ff"/>
                </a:solidFill>
                <a:latin typeface="Comic Sans MS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451640" y="2265480"/>
            <a:ext cx="98280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ff"/>
                </a:solidFill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113600" y="1214280"/>
            <a:ext cx="258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ff"/>
                </a:solidFill>
                <a:latin typeface="Comic Sans MS"/>
              </a:rPr>
              <a:t>A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292440" y="1709640"/>
            <a:ext cx="969120" cy="26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66"/>
                </a:solidFill>
                <a:latin typeface="Comic Sans MS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237800" y="1697040"/>
            <a:ext cx="969120" cy="26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68720" y="2354400"/>
            <a:ext cx="969120" cy="26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786200" y="2251080"/>
            <a:ext cx="1094040" cy="704880"/>
          </a:xfrm>
          <a:prstGeom prst="triangle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824360" y="2166840"/>
            <a:ext cx="1216080" cy="781200"/>
          </a:xfrm>
          <a:prstGeom prst="triangle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786200" y="1488960"/>
            <a:ext cx="1094040" cy="78912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716360" y="2222640"/>
            <a:ext cx="136800" cy="1108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680" bIns="31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238720" y="1403280"/>
            <a:ext cx="168480" cy="1414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716360" y="2193840"/>
            <a:ext cx="169920" cy="139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776920" y="2193840"/>
            <a:ext cx="169920" cy="139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127400" y="2255760"/>
            <a:ext cx="97956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ff"/>
                </a:solidFill>
                <a:latin typeface="Comic Sans MS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537160" y="2276640"/>
            <a:ext cx="98280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ff"/>
                </a:solidFill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200560" y="1216080"/>
            <a:ext cx="2574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ff"/>
                </a:solidFill>
                <a:latin typeface="Comic Sans MS"/>
              </a:rPr>
              <a:t>A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377960" y="1711440"/>
            <a:ext cx="969120" cy="26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66"/>
                </a:solidFill>
                <a:latin typeface="Comic Sans MS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321880" y="1698480"/>
            <a:ext cx="969120" cy="26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56760" y="2355840"/>
            <a:ext cx="969120" cy="26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966960" y="3108240"/>
            <a:ext cx="1093680" cy="78912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96760" y="3841920"/>
            <a:ext cx="136800" cy="1108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680" bIns="31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419120" y="3022560"/>
            <a:ext cx="168480" cy="1414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896760" y="3813120"/>
            <a:ext cx="169920" cy="139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957320" y="3813120"/>
            <a:ext cx="169920" cy="1396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45960" y="3875040"/>
            <a:ext cx="97956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ff"/>
                </a:solidFill>
                <a:latin typeface="Comic Sans MS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698840" y="3895560"/>
            <a:ext cx="98280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ff"/>
                </a:solidFill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379520" y="2835360"/>
            <a:ext cx="258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ff"/>
                </a:solidFill>
                <a:latin typeface="Comic Sans MS"/>
              </a:rPr>
              <a:t>A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58360" y="3330720"/>
            <a:ext cx="969120" cy="26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66"/>
                </a:solidFill>
                <a:latin typeface="Comic Sans MS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502280" y="3317760"/>
            <a:ext cx="969120" cy="26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034640" y="3975120"/>
            <a:ext cx="969120" cy="26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66"/>
                </a:solidFill>
                <a:latin typeface="Comic Sans MS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909880" y="3116160"/>
            <a:ext cx="1093680" cy="78912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840040" y="3849840"/>
            <a:ext cx="136440" cy="1108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680" bIns="31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362400" y="3030480"/>
            <a:ext cx="168120" cy="141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840040" y="3821040"/>
            <a:ext cx="169920" cy="139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900600" y="3821040"/>
            <a:ext cx="169920" cy="1396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289240" y="3921120"/>
            <a:ext cx="97956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ff"/>
                </a:solidFill>
                <a:latin typeface="Comic Sans MS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641760" y="3903840"/>
            <a:ext cx="98280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ff"/>
                </a:solidFill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322800" y="2843280"/>
            <a:ext cx="258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ff"/>
                </a:solidFill>
                <a:latin typeface="Comic Sans MS"/>
              </a:rPr>
              <a:t>A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502360" y="3338640"/>
            <a:ext cx="969120" cy="26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445200" y="3325680"/>
            <a:ext cx="969120" cy="26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977920" y="3983040"/>
            <a:ext cx="969120" cy="26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66"/>
                </a:solidFill>
                <a:latin typeface="Comic Sans MS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753240" y="3103560"/>
            <a:ext cx="1093680" cy="78912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683400" y="3836880"/>
            <a:ext cx="136440" cy="1112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040" bIns="32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205760" y="3017880"/>
            <a:ext cx="168120" cy="141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683400" y="3808440"/>
            <a:ext cx="169920" cy="1396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7743960" y="3808440"/>
            <a:ext cx="169560" cy="139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132600" y="3889440"/>
            <a:ext cx="97956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ff"/>
                </a:solidFill>
                <a:latin typeface="Comic Sans MS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437600" y="3909960"/>
            <a:ext cx="98280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ff"/>
                </a:solidFill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165800" y="2830680"/>
            <a:ext cx="258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ff"/>
                </a:solidFill>
                <a:latin typeface="Comic Sans MS"/>
              </a:rPr>
              <a:t>A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345000" y="3325680"/>
            <a:ext cx="969120" cy="26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7290360" y="3313080"/>
            <a:ext cx="969120" cy="26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821280" y="3970440"/>
            <a:ext cx="969120" cy="26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838760" y="3105000"/>
            <a:ext cx="1093680" cy="78912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768920" y="3838680"/>
            <a:ext cx="136440" cy="1108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680" bIns="31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291280" y="3019320"/>
            <a:ext cx="168120" cy="141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768920" y="3809880"/>
            <a:ext cx="169920" cy="139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829480" y="3809880"/>
            <a:ext cx="169560" cy="139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179960" y="3890880"/>
            <a:ext cx="97956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ff"/>
                </a:solidFill>
                <a:latin typeface="Comic Sans MS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570640" y="3892680"/>
            <a:ext cx="98280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ff"/>
                </a:solidFill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251320" y="2832120"/>
            <a:ext cx="258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ff"/>
                </a:solidFill>
                <a:latin typeface="Comic Sans MS"/>
              </a:rPr>
              <a:t>A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430520" y="3327480"/>
            <a:ext cx="969120" cy="26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374080" y="3314880"/>
            <a:ext cx="969120" cy="26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907520" y="3971880"/>
            <a:ext cx="969120" cy="26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962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lgorithm of Joung and Smolka: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xample of a livelock in absence of the assumption on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"/>
          <p:cNvSpPr/>
          <p:nvPr/>
        </p:nvSpPr>
        <p:spPr>
          <a:xfrm>
            <a:off x="966960" y="3870360"/>
            <a:ext cx="1093680" cy="704880"/>
          </a:xfrm>
          <a:prstGeom prst="triangle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004760" y="3786120"/>
            <a:ext cx="1216080" cy="781200"/>
          </a:xfrm>
          <a:prstGeom prst="triangle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09880" y="3878280"/>
            <a:ext cx="1093680" cy="704880"/>
          </a:xfrm>
          <a:prstGeom prst="triangle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948040" y="3794040"/>
            <a:ext cx="1216080" cy="781200"/>
          </a:xfrm>
          <a:prstGeom prst="triangle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53240" y="3865680"/>
            <a:ext cx="1093680" cy="704880"/>
          </a:xfrm>
          <a:prstGeom prst="triangle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791400" y="3781440"/>
            <a:ext cx="1216080" cy="781200"/>
          </a:xfrm>
          <a:prstGeom prst="triangle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838760" y="3867120"/>
            <a:ext cx="1093680" cy="704880"/>
          </a:xfrm>
          <a:prstGeom prst="triangle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876920" y="3782880"/>
            <a:ext cx="1216080" cy="781200"/>
          </a:xfrm>
          <a:prstGeom prst="triangle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573880" y="1382760"/>
            <a:ext cx="276120" cy="2761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478640" y="1401840"/>
            <a:ext cx="276120" cy="2761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763640" y="2973240"/>
            <a:ext cx="276120" cy="276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687840" y="2992320"/>
            <a:ext cx="276120" cy="276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592600" y="2973240"/>
            <a:ext cx="276480" cy="276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545240" y="2973240"/>
            <a:ext cx="276480" cy="276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57120" y="4797360"/>
            <a:ext cx="874764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ff"/>
                </a:solidFill>
                <a:latin typeface="Comic Sans MS"/>
              </a:rPr>
              <a:t>The states at the beginning of Lines 3, 5 and  6 are represented with  a filled circl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ff"/>
                </a:solidFill>
                <a:latin typeface="Comic Sans MS"/>
              </a:rPr>
              <a:t>The states at the beginning of Line 1, 2 and 8 are represented with a white circl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ff"/>
                </a:solidFill>
                <a:latin typeface="Comic Sans MS"/>
              </a:rPr>
              <a:t>Lines 4 and 7 are never reach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methods in Concurrenc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A366B-0D6A-42D4-A4C6-D3564B40D8A3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1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1)  The dining philosopher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"/>
          <p:cNvSpPr/>
          <p:nvPr/>
        </p:nvSpPr>
        <p:spPr>
          <a:xfrm>
            <a:off x="539640" y="1432080"/>
            <a:ext cx="8339400" cy="10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499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Each philosopher needs exactly two for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499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Each fork is shared by exactly two philosoph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499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A philosopher can access only one fork at the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65200" y="1684440"/>
            <a:ext cx="8200800" cy="470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27400" y="3592440"/>
            <a:ext cx="2060640" cy="16002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200" y="3919680"/>
            <a:ext cx="447840" cy="407880"/>
          </a:xfrm>
          <a:prstGeom prst="smileyFace">
            <a:avLst>
              <a:gd name="adj" fmla="val 9282"/>
            </a:avLst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27400" y="3919680"/>
            <a:ext cx="446040" cy="407880"/>
          </a:xfrm>
          <a:prstGeom prst="smileyFace">
            <a:avLst>
              <a:gd name="adj" fmla="val 9282"/>
            </a:avLst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071960" y="5335560"/>
            <a:ext cx="447480" cy="407880"/>
          </a:xfrm>
          <a:prstGeom prst="smileyFace">
            <a:avLst>
              <a:gd name="adj" fmla="val 9282"/>
            </a:avLst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5543640" y="5041800"/>
            <a:ext cx="0" cy="338400"/>
          </a:xfrm>
          <a:prstGeom prst="line">
            <a:avLst/>
          </a:prstGeom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489640" y="5032440"/>
            <a:ext cx="96840" cy="226800"/>
          </a:xfrm>
          <a:custGeom>
            <a:avLst/>
            <a:gdLst/>
            <a:ahLst/>
            <a:rect l="l" t="t" r="r" b="b"/>
            <a:pathLst>
              <a:path w="91" h="219">
                <a:moveTo>
                  <a:pt x="88" y="10"/>
                </a:moveTo>
                <a:cubicBezTo>
                  <a:pt x="89" y="87"/>
                  <a:pt x="91" y="165"/>
                  <a:pt x="78" y="192"/>
                </a:cubicBezTo>
                <a:cubicBezTo>
                  <a:pt x="65" y="219"/>
                  <a:pt x="22" y="205"/>
                  <a:pt x="11" y="173"/>
                </a:cubicBezTo>
                <a:cubicBezTo>
                  <a:pt x="0" y="141"/>
                  <a:pt x="11" y="26"/>
                  <a:pt x="11" y="0"/>
                </a:cubicBezTo>
              </a:path>
            </a:pathLst>
          </a:custGeom>
          <a:noFill/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3024360" y="5101920"/>
            <a:ext cx="0" cy="338040"/>
          </a:xfrm>
          <a:prstGeom prst="line">
            <a:avLst/>
          </a:prstGeom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959200" y="5079960"/>
            <a:ext cx="96840" cy="227160"/>
          </a:xfrm>
          <a:custGeom>
            <a:avLst/>
            <a:gdLst/>
            <a:ahLst/>
            <a:rect l="l" t="t" r="r" b="b"/>
            <a:pathLst>
              <a:path w="91" h="219">
                <a:moveTo>
                  <a:pt x="88" y="10"/>
                </a:moveTo>
                <a:cubicBezTo>
                  <a:pt x="89" y="87"/>
                  <a:pt x="91" y="165"/>
                  <a:pt x="78" y="192"/>
                </a:cubicBezTo>
                <a:cubicBezTo>
                  <a:pt x="65" y="219"/>
                  <a:pt x="22" y="205"/>
                  <a:pt x="11" y="173"/>
                </a:cubicBezTo>
                <a:cubicBezTo>
                  <a:pt x="0" y="141"/>
                  <a:pt x="11" y="26"/>
                  <a:pt x="11" y="0"/>
                </a:cubicBezTo>
              </a:path>
            </a:pathLst>
          </a:custGeom>
          <a:noFill/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4253040" y="3133440"/>
            <a:ext cx="0" cy="338040"/>
          </a:xfrm>
          <a:prstGeom prst="line">
            <a:avLst/>
          </a:prstGeom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200480" y="3124080"/>
            <a:ext cx="95400" cy="227160"/>
          </a:xfrm>
          <a:custGeom>
            <a:avLst/>
            <a:gdLst/>
            <a:ahLst/>
            <a:rect l="l" t="t" r="r" b="b"/>
            <a:pathLst>
              <a:path w="91" h="219">
                <a:moveTo>
                  <a:pt x="88" y="10"/>
                </a:moveTo>
                <a:cubicBezTo>
                  <a:pt x="89" y="87"/>
                  <a:pt x="91" y="165"/>
                  <a:pt x="78" y="192"/>
                </a:cubicBezTo>
                <a:cubicBezTo>
                  <a:pt x="65" y="219"/>
                  <a:pt x="22" y="205"/>
                  <a:pt x="11" y="173"/>
                </a:cubicBezTo>
                <a:cubicBezTo>
                  <a:pt x="0" y="141"/>
                  <a:pt x="11" y="26"/>
                  <a:pt x="11" y="0"/>
                </a:cubicBezTo>
              </a:path>
            </a:pathLst>
          </a:custGeom>
          <a:noFill/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140360" y="4448160"/>
            <a:ext cx="261720" cy="11124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ffff66"/>
          </a:solidFill>
          <a:ln w="9360">
            <a:solidFill>
              <a:srgbClr val="ff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rot="11073600">
            <a:off x="4241520" y="4545720"/>
            <a:ext cx="261720" cy="11124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ffff66"/>
          </a:solidFill>
          <a:ln w="9360">
            <a:solidFill>
              <a:srgbClr val="ff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rot="4467600">
            <a:off x="4180320" y="4597920"/>
            <a:ext cx="257040" cy="11268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ffff66"/>
          </a:solidFill>
          <a:ln w="9360">
            <a:solidFill>
              <a:srgbClr val="ff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rot="18067200">
            <a:off x="4112280" y="4486680"/>
            <a:ext cx="257400" cy="11268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ffff66"/>
          </a:solidFill>
          <a:ln w="9360">
            <a:solidFill>
              <a:srgbClr val="ff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rot="13974600">
            <a:off x="4168440" y="4399920"/>
            <a:ext cx="258840" cy="11268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ffff66"/>
          </a:solidFill>
          <a:ln w="9360">
            <a:solidFill>
              <a:srgbClr val="ff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121280" y="4586400"/>
            <a:ext cx="261720" cy="10944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ffff66"/>
          </a:solidFill>
          <a:ln w="9360">
            <a:solidFill>
              <a:srgbClr val="ff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rot="11073600">
            <a:off x="4140000" y="4601880"/>
            <a:ext cx="261720" cy="11088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ffff66"/>
          </a:solidFill>
          <a:ln w="9360">
            <a:solidFill>
              <a:srgbClr val="ff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rot="4467600">
            <a:off x="4067640" y="4520160"/>
            <a:ext cx="257040" cy="11268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ffff66"/>
          </a:solidFill>
          <a:ln w="9360">
            <a:solidFill>
              <a:srgbClr val="ff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rot="18067200">
            <a:off x="4062960" y="4486680"/>
            <a:ext cx="257400" cy="11268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ffff66"/>
          </a:solidFill>
          <a:ln w="9360">
            <a:solidFill>
              <a:srgbClr val="ff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rot="13974600">
            <a:off x="4046400" y="4597200"/>
            <a:ext cx="257040" cy="1141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ffff66"/>
          </a:solidFill>
          <a:ln w="9360">
            <a:solidFill>
              <a:srgbClr val="ff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987720" y="4336920"/>
            <a:ext cx="528840" cy="5288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methods in Concurrenc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C8B1C-AF91-4A0C-8E53-3FD058D34D2C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1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539280" y="1047600"/>
            <a:ext cx="81536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cc"/>
                </a:solidFill>
                <a:latin typeface="Comic Sans MS"/>
              </a:rPr>
              <a:t>Deadlock freedom 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(aka</a:t>
            </a:r>
            <a:r>
              <a:rPr b="1" lang="en-US" sz="2400" spc="-1" strike="noStrike">
                <a:solidFill>
                  <a:srgbClr val="9900cc"/>
                </a:solidFill>
                <a:latin typeface="Comic Sans MS"/>
              </a:rPr>
              <a:t> progress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)</a:t>
            </a:r>
            <a:r>
              <a:rPr b="1" lang="en-US" sz="2400" spc="-1" strike="noStrike">
                <a:solidFill>
                  <a:srgbClr val="9900cc"/>
                </a:solidFill>
                <a:latin typeface="Comic Sans MS"/>
              </a:rPr>
              <a:t>: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 if there is a hungry philosopher, a philosopher will eventually eat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Comic Sans MS"/>
              </a:rPr>
              <a:t>Starvation freedom: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 every hungry philosopher will eventually eat (but we won’t consider this property here)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Comic Sans MS"/>
              </a:rPr>
              <a:t>Robustness wrt a large class of adversaries: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</a:rPr>
              <a:t> Adversaries decide who does the next move (schedulers)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cc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cc00"/>
                </a:solidFill>
                <a:latin typeface="Comic Sans MS"/>
              </a:rPr>
              <a:t>Fully distributed:</a:t>
            </a:r>
            <a:r>
              <a:rPr b="0" lang="en-US" sz="2400" spc="-1" strike="noStrike">
                <a:solidFill>
                  <a:srgbClr val="99cc00"/>
                </a:solidFill>
                <a:latin typeface="Comic Sans MS"/>
              </a:rPr>
              <a:t> no centralized control or memory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9900"/>
                </a:solidFill>
                <a:latin typeface="Comic Sans MS"/>
              </a:rPr>
              <a:t>Symmetric: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lvl="1" marL="692280" indent="-34776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Comic Sans MS"/>
              </a:rPr>
              <a:t>All philosophers run the same code and are in the same initial state</a:t>
            </a:r>
            <a:endParaRPr b="0" lang="en-US" sz="2400" spc="-1" strike="noStrike">
              <a:solidFill>
                <a:srgbClr val="333399"/>
              </a:solidFill>
              <a:latin typeface="Comic Sans MS"/>
            </a:endParaRPr>
          </a:p>
          <a:p>
            <a:pPr lvl="1" marL="692280" indent="-34776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Comic Sans MS"/>
              </a:rPr>
              <a:t>The same holds for the forks</a:t>
            </a:r>
            <a:endParaRPr b="0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68" name=""/>
          <p:cNvSpPr/>
          <p:nvPr/>
        </p:nvSpPr>
        <p:spPr>
          <a:xfrm>
            <a:off x="577800" y="395280"/>
            <a:ext cx="825660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171880" indent="-343080" algn="ctr" rtl="1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Intended properties of 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methods in Concurrenc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B729C-CE9D-4EE7-9657-DB616487869B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1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6308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Non-existence of a “deterministic” solu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01480" y="1355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Lehman and Rabin have shown that there does not exist a “deterministic” (i.e. non-probabilistic) solution to the dining philosophers, satisfying all properties listed in previous slide.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808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80"/>
                </a:solidFill>
                <a:latin typeface="Comic Sans MS"/>
              </a:rPr>
              <a:t>The proof proceeds by proving that for every possible program we can define an adversary (scheduler) which preserves the initial symmetry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cc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Comic Sans MS"/>
              </a:rPr>
              <a:t>Note:</a:t>
            </a:r>
            <a:r>
              <a:rPr b="0" lang="en-US" sz="2000" spc="-1" strike="noStrike">
                <a:solidFill>
                  <a:srgbClr val="cc0066"/>
                </a:solidFill>
                <a:latin typeface="Comic Sans MS"/>
              </a:rPr>
              <a:t>  Francez and Rodeh did propose a  “deterministic” solution using CSP. The solution to this apparent contradiction is that CSP cannot be implemented in a fully distributed way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23DB4-6B1D-4E26-9E91-307462FDA7B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1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e algorithm of Lehmann and Rabin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15960" y="158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24"/>
              </a:spcBef>
              <a:buClr>
                <a:srgbClr val="3333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Comic Sans MS"/>
              </a:rPr>
              <a:t>Think</a:t>
            </a:r>
            <a:endParaRPr b="0" lang="en-US" sz="2500" spc="-1" strike="noStrike">
              <a:solidFill>
                <a:srgbClr val="3333ff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624"/>
              </a:spcBef>
              <a:buClr>
                <a:srgbClr val="3333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Comic Sans MS"/>
              </a:rPr>
              <a:t>randomly choose fork in {left,right}   %commit</a:t>
            </a:r>
            <a:endParaRPr b="0" lang="en-US" sz="2500" spc="-1" strike="noStrike">
              <a:solidFill>
                <a:srgbClr val="3333ff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624"/>
              </a:spcBef>
              <a:buClr>
                <a:srgbClr val="3333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Comic Sans MS"/>
              </a:rPr>
              <a:t>if taken(fork) then goto 3</a:t>
            </a:r>
            <a:endParaRPr b="0" lang="en-US" sz="2500" spc="-1" strike="noStrike">
              <a:solidFill>
                <a:srgbClr val="3333ff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624"/>
              </a:spcBef>
              <a:buClr>
                <a:srgbClr val="3333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Comic Sans MS"/>
              </a:rPr>
              <a:t>                       </a:t>
            </a:r>
            <a:r>
              <a:rPr b="0" lang="en-US" sz="2500" spc="-1" strike="noStrike">
                <a:solidFill>
                  <a:srgbClr val="333399"/>
                </a:solidFill>
                <a:latin typeface="Comic Sans MS"/>
              </a:rPr>
              <a:t>else take(fork)</a:t>
            </a:r>
            <a:endParaRPr b="0" lang="en-US" sz="2500" spc="-1" strike="noStrike">
              <a:solidFill>
                <a:srgbClr val="3333ff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624"/>
              </a:spcBef>
              <a:buClr>
                <a:srgbClr val="3333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Comic Sans MS"/>
              </a:rPr>
              <a:t>if taken(other(fork)) then {release(fork); goto 2}</a:t>
            </a:r>
            <a:endParaRPr b="0" lang="en-US" sz="2500" spc="-1" strike="noStrike">
              <a:solidFill>
                <a:srgbClr val="3333ff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624"/>
              </a:spcBef>
              <a:buClr>
                <a:srgbClr val="3333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Comic Sans MS"/>
              </a:rPr>
              <a:t>                                  </a:t>
            </a:r>
            <a:r>
              <a:rPr b="0" lang="en-US" sz="2500" spc="-1" strike="noStrike">
                <a:solidFill>
                  <a:srgbClr val="333399"/>
                </a:solidFill>
                <a:latin typeface="Comic Sans MS"/>
              </a:rPr>
              <a:t>else take(other(fork)) </a:t>
            </a:r>
            <a:endParaRPr b="0" lang="en-US" sz="2500" spc="-1" strike="noStrike">
              <a:solidFill>
                <a:srgbClr val="3333ff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624"/>
              </a:spcBef>
              <a:buClr>
                <a:srgbClr val="3333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Comic Sans MS"/>
              </a:rPr>
              <a:t>eat</a:t>
            </a:r>
            <a:endParaRPr b="0" lang="en-US" sz="2500" spc="-1" strike="noStrike">
              <a:solidFill>
                <a:srgbClr val="3333ff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624"/>
              </a:spcBef>
              <a:buClr>
                <a:srgbClr val="3333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Comic Sans MS"/>
              </a:rPr>
              <a:t>release(other(fork)) </a:t>
            </a:r>
            <a:endParaRPr b="0" lang="en-US" sz="2500" spc="-1" strike="noStrike">
              <a:solidFill>
                <a:srgbClr val="3333ff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624"/>
              </a:spcBef>
              <a:buClr>
                <a:srgbClr val="3333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Comic Sans MS"/>
              </a:rPr>
              <a:t>release(fork)</a:t>
            </a:r>
            <a:endParaRPr b="0" lang="en-US" sz="2500" spc="-1" strike="noStrike">
              <a:solidFill>
                <a:srgbClr val="3333ff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Comic Sans MS"/>
              </a:rPr>
              <a:t>goto</a:t>
            </a:r>
            <a:r>
              <a:rPr b="0" lang="en-US" sz="29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EA548-E09D-403B-B738-E821DB9979B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1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5160" y="279000"/>
            <a:ext cx="865188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rrectness of the algorithm of Lehmann and Rabi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1120" y="2238480"/>
            <a:ext cx="8263080" cy="34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Theorem: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for every </a:t>
            </a: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fair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 adversary, if a philosopher becomes hungry, then a philosopher (not necessarily the same) will eventually eat with probability 1.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cc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66"/>
                </a:solidFill>
                <a:latin typeface="Comic Sans MS"/>
              </a:rPr>
              <a:t>Question:</a:t>
            </a:r>
            <a:r>
              <a:rPr b="0" lang="en-US" sz="2400" spc="-1" strike="noStrike">
                <a:solidFill>
                  <a:srgbClr val="cc0066"/>
                </a:solidFill>
                <a:latin typeface="Comic Sans MS"/>
              </a:rPr>
              <a:t>  why the fairness requirement? Can we write a variant of the algorithm which does not require fairness? 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B0ECF-15CC-42F7-A4A4-883C637A701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1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2) The committee coordination problem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61880" y="1393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Comic Sans MS"/>
              </a:rPr>
              <a:t>Description of the problem:</a:t>
            </a: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 In a certain university, professors have organized themselves into committees. Each committee has a fixed membership roster of two or more professors. From time to time a professor may decide to attend a committee meeting. He then starts waiting and continues to wait until a  meeting of a committee in which he is member is established.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Comic Sans MS"/>
              </a:rPr>
              <a:t>Requirements</a:t>
            </a: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: 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00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99"/>
                </a:solidFill>
                <a:latin typeface="Comic Sans MS"/>
              </a:rPr>
              <a:t>Mutual exclusion:</a:t>
            </a:r>
            <a:r>
              <a:rPr b="0" lang="en-US" sz="1800" spc="-1" strike="noStrike">
                <a:solidFill>
                  <a:srgbClr val="990099"/>
                </a:solidFill>
                <a:latin typeface="Comic Sans MS"/>
              </a:rPr>
              <a:t> No two committees meet simultaneously if they have a common member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0066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66"/>
                </a:solidFill>
                <a:latin typeface="Comic Sans MS"/>
              </a:rPr>
              <a:t>Weak Interaction Fairness (WIF) :</a:t>
            </a:r>
            <a:r>
              <a:rPr b="0" lang="en-US" sz="1800" spc="-1" strike="noStrike">
                <a:solidFill>
                  <a:srgbClr val="cc0066"/>
                </a:solidFill>
                <a:latin typeface="Comic Sans MS"/>
              </a:rPr>
              <a:t> if all professors of a committee are waiting (i.e. the committee meeting is enabled) , then eventually some professor will attend a committee meeting (not necessarily the same).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66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0066"/>
                </a:solidFill>
                <a:latin typeface="Comic Sans MS"/>
              </a:rPr>
              <a:t>or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66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Comic Sans MS"/>
              </a:rPr>
              <a:t>Strong Interaction Fairness (SIF):</a:t>
            </a:r>
            <a:r>
              <a:rPr b="0" lang="en-US" sz="1800" spc="-1" strike="noStrike">
                <a:solidFill>
                  <a:srgbClr val="ff6600"/>
                </a:solidFill>
                <a:latin typeface="Comic Sans MS"/>
              </a:rPr>
              <a:t> A committee meetig that is enabled infinitely often will be established infinitely often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D6A19-242B-496D-9C64-B0F6C018FFF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1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e committee coordination problem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Comic Sans MS"/>
              </a:rPr>
              <a:t>Question:</a:t>
            </a:r>
            <a:r>
              <a:rPr b="0" lang="en-US" sz="2400" spc="-1" strike="noStrike">
                <a:solidFill>
                  <a:srgbClr val="9900ff"/>
                </a:solidFill>
                <a:latin typeface="Comic Sans MS"/>
              </a:rPr>
              <a:t> for which requirement among WIF and SIF do we have a correspondence with the synchronization mechanisms used in process calculi, like (the theory of) CSP and </a:t>
            </a:r>
            <a:r>
              <a:rPr b="0" lang="en-US" sz="2400" spc="-1" strike="noStrike">
                <a:solidFill>
                  <a:srgbClr val="9900ff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9900ff"/>
                </a:solidFill>
                <a:latin typeface="Comic Sans MS"/>
              </a:rPr>
              <a:t>? 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ff"/>
                </a:solidFill>
                <a:latin typeface="Comic Sans MS"/>
              </a:rPr>
              <a:t>General case equivalent to </a:t>
            </a:r>
            <a:r>
              <a:rPr b="1" lang="en-US" sz="2000" spc="-1" strike="noStrike">
                <a:solidFill>
                  <a:srgbClr val="0066ff"/>
                </a:solidFill>
                <a:latin typeface="Comic Sans MS"/>
              </a:rPr>
              <a:t>multiway synchronization</a:t>
            </a:r>
            <a:r>
              <a:rPr b="0" lang="en-US" sz="2000" spc="-1" strike="noStrike">
                <a:solidFill>
                  <a:srgbClr val="0066ff"/>
                </a:solidFill>
                <a:latin typeface="Comic Sans MS"/>
              </a:rPr>
              <a:t>, like the mechanism used in (the Theory of) CSP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Binary case equivalent to the </a:t>
            </a:r>
            <a:r>
              <a:rPr b="1" lang="en-US" sz="2000" spc="-1" strike="noStrike">
                <a:solidFill>
                  <a:srgbClr val="009999"/>
                </a:solidFill>
                <a:latin typeface="Comic Sans MS"/>
              </a:rPr>
              <a:t>synchronization among two partners</a:t>
            </a: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, like in CCS and </a:t>
            </a:r>
            <a:r>
              <a:rPr b="0" lang="en-US" sz="2000" spc="-1" strike="noStrike">
                <a:solidFill>
                  <a:srgbClr val="009999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982A5-67CD-4265-A177-C0D942CF202F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1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e algorithm of Joung and Smolka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54120" y="15472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while waiting do {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randomly choose a committee M ;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if TEST&amp;OP(C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Comic Sans MS"/>
              </a:rPr>
              <a:t>M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,inc,inc) = n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Comic Sans MS"/>
              </a:rPr>
              <a:t>M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 – 1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       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then % a committee meeting is established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                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attend the meeting M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        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else { wait </a:t>
            </a:r>
            <a:r>
              <a:rPr b="0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Comic Sans MS"/>
              </a:rPr>
              <a:t>M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 time ;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                  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if TEST&amp;OP(C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Comic Sans MS"/>
              </a:rPr>
              <a:t>M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,no-op,dec) = 0  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                      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then % a committee meeting is established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                              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attend the meeting M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                   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% else try another committee    }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3951C-8360-4E47-84C1-291E2453563A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1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9T23:17:22Z</dcterms:created>
  <dc:creator>catuscia</dc:creator>
  <dc:description/>
  <dc:language>en-US</dc:language>
  <cp:lastModifiedBy>catuscia</cp:lastModifiedBy>
  <dcterms:modified xsi:type="dcterms:W3CDTF">2004-07-05T22:10:50Z</dcterms:modified>
  <cp:revision>121</cp:revision>
  <dc:subject/>
  <dc:title>Concurrency 5</dc:title>
</cp:coreProperties>
</file>