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D1034-8C5F-47B6-AD09-93D98FA99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257EF-A518-4C4C-A51D-8E5A84A95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E3ACA-DDB2-4D79-A802-33030BEAC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D3725-BC65-480F-8DD2-F32B6229B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0A936-EFDE-4DE3-847E-E2EACC837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6FE15-F8C9-4199-A3E9-262B7C16C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9EACB-3F47-435A-BD5E-F30159B6E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49AAA-CB3A-476D-B1CD-259922FAD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7689B-22C8-44A7-935D-470173C25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92993-0C94-472E-9DF7-DACF0CA3F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F7535-5508-4F16-BC60-B98989D4F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12B20-7C27-444C-B1CF-C598C5F26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8516-A692-4A10-86AD-667CBF3AB5BE}"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 11</a:t>
            </a:r>
            <a:br>
              <a:rPr sz="3600"/>
            </a:br>
            <a:r>
              <a:rPr b="0" lang="en-US" sz="3600" spc="-1" strike="noStrike">
                <a:solidFill>
                  <a:srgbClr val="cc0066"/>
                </a:solidFill>
                <a:latin typeface="Comic Sans MS"/>
              </a:rPr>
              <a:t>The pi-calculus expressiveness hierarchy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D181581-5ABA-430C-B560-D776E801019E}"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D393BB7-A1AC-49ED-85B5-A421D9BABE82}"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2B1ADCE-4BB3-4A26-9703-AE19B1E2093A}"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81D1F184-8B79-4EBD-9BA7-E1EBCA70E873}"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7"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0C20D96-DF58-4721-B75A-E092657C962F}"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29"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0"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1"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A7B1C89-EDB2-4395-917C-DB5360FDF3F9}"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6"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CA9077F-3DDE-4D69-9F17-53023131867B}"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39"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9" idx="7"/>
            <a:endCxn id="140"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2" name=""/>
          <p:cNvCxnSpPr>
            <a:stCxn id="140" idx="3"/>
            <a:endCxn id="139"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3"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4"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5"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6"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7"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27794D8-F648-46BF-918C-17760D041B60}"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D5FDB84-119A-4DA1-8977-8911EF96E299}"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2" name=""/>
          <p:cNvGrpSpPr/>
          <p:nvPr/>
        </p:nvGrpSpPr>
        <p:grpSpPr>
          <a:xfrm>
            <a:off x="3381480" y="4043520"/>
            <a:ext cx="1990800" cy="1836360"/>
            <a:chOff x="3381480" y="4043520"/>
            <a:chExt cx="1990800" cy="1836360"/>
          </a:xfrm>
        </p:grpSpPr>
        <p:sp>
          <p:nvSpPr>
            <p:cNvPr id="153"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58ED994-6977-4DE6-984A-8BF1B61DF4A3}"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78C11F5-69CC-4068-8B25-408872A9CAEF}"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2"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3"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
          <p:cNvGrpSpPr/>
          <p:nvPr/>
        </p:nvGrpSpPr>
        <p:grpSpPr>
          <a:xfrm>
            <a:off x="2820960" y="2287440"/>
            <a:ext cx="3539880" cy="3439800"/>
            <a:chOff x="2820960" y="2287440"/>
            <a:chExt cx="3539880" cy="3439800"/>
          </a:xfrm>
        </p:grpSpPr>
        <p:sp>
          <p:nvSpPr>
            <p:cNvPr id="16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3125520" y="2592360"/>
            <a:ext cx="2878200" cy="2895120"/>
            <a:chOff x="3125520" y="2592360"/>
            <a:chExt cx="2878200" cy="2895120"/>
          </a:xfrm>
        </p:grpSpPr>
        <p:cxnSp>
          <p:nvCxnSpPr>
            <p:cNvPr id="175"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6"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7"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78" name=""/>
          <p:cNvGrpSpPr/>
          <p:nvPr/>
        </p:nvGrpSpPr>
        <p:grpSpPr>
          <a:xfrm>
            <a:off x="3125520" y="2592000"/>
            <a:ext cx="3043440" cy="2738160"/>
            <a:chOff x="3125520" y="2592000"/>
            <a:chExt cx="3043440" cy="2738160"/>
          </a:xfrm>
        </p:grpSpPr>
        <p:cxnSp>
          <p:nvCxnSpPr>
            <p:cNvPr id="179"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0"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1"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2" name=""/>
          <p:cNvGrpSpPr/>
          <p:nvPr/>
        </p:nvGrpSpPr>
        <p:grpSpPr>
          <a:xfrm>
            <a:off x="3201840" y="2592360"/>
            <a:ext cx="2878200" cy="2895120"/>
            <a:chOff x="3201840" y="2592360"/>
            <a:chExt cx="2878200" cy="2895120"/>
          </a:xfrm>
        </p:grpSpPr>
        <p:cxnSp>
          <p:nvCxnSpPr>
            <p:cNvPr id="183"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4"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5"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6" name=""/>
          <p:cNvGrpSpPr/>
          <p:nvPr/>
        </p:nvGrpSpPr>
        <p:grpSpPr>
          <a:xfrm>
            <a:off x="3125520" y="2669040"/>
            <a:ext cx="3043440" cy="2738160"/>
            <a:chOff x="3125520" y="2669040"/>
            <a:chExt cx="3043440" cy="2738160"/>
          </a:xfrm>
        </p:grpSpPr>
        <p:cxnSp>
          <p:nvCxnSpPr>
            <p:cNvPr id="187"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88"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89"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0"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1"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2" name=""/>
          <p:cNvGrpSpPr/>
          <p:nvPr/>
        </p:nvGrpSpPr>
        <p:grpSpPr>
          <a:xfrm>
            <a:off x="2820960" y="2287440"/>
            <a:ext cx="3539880" cy="3439800"/>
            <a:chOff x="2820960" y="2287440"/>
            <a:chExt cx="3539880" cy="3439800"/>
          </a:xfrm>
        </p:grpSpPr>
        <p:sp>
          <p:nvSpPr>
            <p:cNvPr id="193"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2"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3"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4"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5"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F638FB1-77EB-4FB5-9CE1-F65D1611EA89}"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04"/>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499"/>
                                          </p:stCondLst>
                                        </p:cTn>
                                        <p:tgtEl>
                                          <p:spTgt spid="20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0"/>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03"/>
                                        </p:tgtEl>
                                        <p:attrNameLst>
                                          <p:attrName>style.visibility</p:attrName>
                                        </p:attrNameLst>
                                      </p:cBhvr>
                                      <p:to>
                                        <p:strVal val="visible"/>
                                      </p:to>
                                    </p:set>
                                  </p:childTnLst>
                                </p:cTn>
                              </p:par>
                            </p:childTnLst>
                          </p:cTn>
                        </p:par>
                        <p:par>
                          <p:cTn id="184" fill="hold">
                            <p:stCondLst>
                              <p:cond delay="500"/>
                            </p:stCondLst>
                            <p:childTnLst>
                              <p:par>
                                <p:cTn id="185" nodeType="afterEffect" fill="hold" presetClass="entr" presetID="1">
                                  <p:stCondLst>
                                    <p:cond delay="0"/>
                                  </p:stCondLst>
                                  <p:childTnLst>
                                    <p:set>
                                      <p:cBhvr>
                                        <p:cTn id="18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7"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08"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233FFB8-22E0-45E1-A533-19228D1F3525}"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C1FC7B2-BD9E-44DB-923E-B98EE716D209}"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if we replace coupled bisimulation byb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three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of n symmetric processes, program them in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 to complete the graph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351D651-B122-4DB4-8B7F-640DB97F72ED}"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D68857E-E955-4BF4-AF21-D63F2455E1C7}"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E5E9103-31B4-45D9-8454-55996E59BA5D}"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FA19500-2824-4D11-AE7D-598AEBF206E5}"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50E4AA2-01C6-4DA7-86EC-F96DA5B349DA}"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95722BE-48A0-4962-8AB5-93ED1F23449A}"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the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CBB7223-AE40-4A7E-A405-BBB49E95B9A8}"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9DD10B2-8B0A-4279-9058-491F413B6FA1}"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12-16T01:17:20Z</dcterms:modified>
  <cp:revision>100</cp:revision>
  <dc:subject/>
  <dc:title>Concurrency 5</dc:title>
</cp:coreProperties>
</file>