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push.wav" ContentType="audio/x-wav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2.png" ContentType="image/png"/>
  <Override PartName="/ppt/media/suction.wav" ContentType="audio/x-wav"/>
  <Override PartName="/ppt/media/image25.png" ContentType="image/png"/>
  <Override PartName="/ppt/media/image1.png" ContentType="image/png"/>
  <Override PartName="/ppt/media/image24.png" ContentType="image/png"/>
  <Override PartName="/ppt/media/image8.png" ContentType="image/png"/>
  <Override PartName="/ppt/media/image12.png" ContentType="image/png"/>
  <Override PartName="/ppt/media/image13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AAF6-F679-4D32-A761-2571B2AFF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E80A-A9C3-4FFC-A0F0-E1613278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F9A1-C5FF-4FDB-8ECB-D7879B0AC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A1BD-A5E9-4500-9550-C25615F80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FA46-1CA0-49DF-9155-5662F432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89C5-60F2-4C3D-8998-4B25AD60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9BAC-B153-4E9B-A460-9CEFD4AA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6608-77F9-40C9-AA1D-7591135E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8560-53E8-4238-95F1-4A93555F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546A-A24D-46C6-81C1-14348DC4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0F1-266E-44D5-9F53-4706165D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AAC9-2E6C-4B8D-BB8F-4CEC9346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9019-DDE8-4549-B693-21794C9B03C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ix.polytechnique.fr/~catuscia/teaching/Pisa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.cam.ac.uk/users/rm135/" TargetMode="External"/><Relationship Id="rId2" Type="http://schemas.openxmlformats.org/officeDocument/2006/relationships/hyperlink" Target="http://www.cis.upenn.edu/%7Ebcpierce/" TargetMode="External"/><Relationship Id="rId3" Type="http://schemas.openxmlformats.org/officeDocument/2006/relationships/hyperlink" Target="http://www.cis.upenn.edu/%7Ebcpierce/papers/crchandbook.ps" TargetMode="External"/><Relationship Id="rId4" Type="http://schemas.openxmlformats.org/officeDocument/2006/relationships/image" Target="../media/image1.png"/><Relationship Id="rId5" Type="http://schemas.openxmlformats.org/officeDocument/2006/relationships/hyperlink" Target="file:///../../papers_and_books/intro.ps" TargetMode="External"/><Relationship Id="rId6" Type="http://schemas.openxmlformats.org/officeDocument/2006/relationships/hyperlink" Target="file:///../../papers_and_books/BRICS-RS-99-42.ps" TargetMode="External"/><Relationship Id="rId7" Type="http://schemas.openxmlformats.org/officeDocument/2006/relationships/hyperlink" Target="file:///../../papers_and_books/BRICS-RS-99-42.ps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000" y="932040"/>
            <a:ext cx="8642160" cy="14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rse 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oncurrent Languages for Probabilistic Asynchronous Communicat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3760" y="2776680"/>
            <a:ext cx="73152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Lecture 1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The pi-calculus and the asynchronous pi-calculus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INRIA Futurs &amp; LIX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Franc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: syntax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Names: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Free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Bound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cc00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Input and restriction are bind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Exercise: give the formal definition of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ample: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lpha conversion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ample: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4640" y="1662120"/>
            <a:ext cx="687240" cy="2919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152800" y="2392200"/>
            <a:ext cx="649080" cy="233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2114640" y="2046240"/>
            <a:ext cx="666720" cy="230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570640" y="3006720"/>
            <a:ext cx="2012760" cy="237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2459160" y="3621240"/>
            <a:ext cx="4046400" cy="236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1576440" y="4159080"/>
            <a:ext cx="4981680" cy="246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2382840" y="5079960"/>
            <a:ext cx="4106880" cy="247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>
            <a:off x="2421000" y="5656320"/>
            <a:ext cx="1984320" cy="21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0595-17F4-49D1-83E5-85A1F93EE22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alculus: structural equival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1520" y="1585800"/>
            <a:ext cx="81471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Introduced to simplify the  description of the operational semantics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If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mr10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         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then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!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!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Some presentations include other equivalences, for instance: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0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0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,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y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y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 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if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fn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 if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fn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 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</a:rPr>
              <a:t>(scope extrusion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FCD2-667A-4268-A1B4-7BC77DA2DA2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lculus: operational semantic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operational semantics of the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-calculus is defined as a labeled transition system. Transitions have the form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Here  </a:t>
            </a:r>
            <a:r>
              <a:rPr b="0" i="1" lang="en-US" sz="1600" spc="-1" strike="noStrike">
                <a:solidFill>
                  <a:srgbClr val="3333ff"/>
                </a:solidFill>
                <a:latin typeface="cmr10"/>
              </a:rPr>
              <a:t>P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 and  </a:t>
            </a:r>
            <a:r>
              <a:rPr b="0" i="1" lang="en-US" sz="1600" spc="-1" strike="noStrike">
                <a:solidFill>
                  <a:srgbClr val="3333ff"/>
                </a:solidFill>
                <a:latin typeface="cmr10"/>
              </a:rPr>
              <a:t>Q 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are processes and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is an action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re are various operational semantics for the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-calculus. We describe here the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late semantics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. Actions are defined as follows: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727440" y="2276640"/>
            <a:ext cx="887400" cy="284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575080" y="4081320"/>
            <a:ext cx="3848040" cy="159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9AC0-5A15-4E70-8C78-12B84B9F605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us: late seman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46000" y="1623960"/>
            <a:ext cx="3162600" cy="593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302080" y="2046240"/>
            <a:ext cx="2560680" cy="2924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98120" y="5388120"/>
            <a:ext cx="68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uestions:  1) Why the side condition in Par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2) Could we write x(z) in L-Com and avoid the substitution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770040" y="2698920"/>
            <a:ext cx="3956040" cy="231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5DA4-8BD7-4DEA-B6BE-0F6A4FB3DD7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us: early seman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459160" y="2162160"/>
            <a:ext cx="3162240" cy="593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224320" y="2890800"/>
            <a:ext cx="2560680" cy="2924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15960" y="2928960"/>
            <a:ext cx="4019400" cy="2886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54120" y="1355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7480" y="1009800"/>
            <a:ext cx="4156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New kind of action: free input x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Add E-input and replace L-Com by E-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C928-6DC8-440C-8B17-E5BEA6E82E9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us: late bisimul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9640" y="2046240"/>
            <a:ext cx="8209080" cy="29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DC57-2016-4471-91A8-4707F660D30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us: early bisimul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77880" y="1522440"/>
            <a:ext cx="7738920" cy="27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2BDA-EC05-4F23-A4F4-DA10A8793FF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te vs early bisimu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Late bisimulation is strictly more discriminating than early bisimulation.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Example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68320" y="2430360"/>
            <a:ext cx="4788000" cy="12034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61960" y="43797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ercise: write a similar example without using the match operator (i.e. the if-then-else). Hint: use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8F27-21D3-44BB-A6D8-3A43611EBE4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gru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24160" y="3160800"/>
            <a:ext cx="6324480" cy="11937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116000" y="1739880"/>
            <a:ext cx="6107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Question: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are 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,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congruen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25360" y="2441520"/>
            <a:ext cx="34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Answer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No.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Exampl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4697280"/>
            <a:ext cx="752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There are other equivalences which are defined to be congruences.  In particular  Open bisimul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Cfr. lecture by D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97C7-0A53-4412-B779-643FF960D3B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synchronou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5920" y="13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If P | Q is interpreted as the composition of two remote processes P and Q, then the mechanism of synchronous communication seems unrealistic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Comic Sans MS"/>
              </a:rPr>
              <a:t>Synchronization combined with choice seems even less realistic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In a distributed system, communication is asynchronous  (exchange of messages). The send takes place independently of the readiness of a receiver, and it is not blocking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asynchnous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-calculus: A calculus for representing asynchnous communication. It was introduced independently by Honda-Tokoro [1991] and by Boudol [1992]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921040" y="1969920"/>
            <a:ext cx="2496960" cy="25560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1538280" y="2727720"/>
            <a:ext cx="5146200" cy="1048680"/>
            <a:chOff x="1538280" y="2727720"/>
            <a:chExt cx="5146200" cy="1048680"/>
          </a:xfrm>
        </p:grpSpPr>
        <p:grpSp>
          <p:nvGrpSpPr>
            <p:cNvPr id="196" name=""/>
            <p:cNvGrpSpPr/>
            <p:nvPr/>
          </p:nvGrpSpPr>
          <p:grpSpPr>
            <a:xfrm>
              <a:off x="1538280" y="2727720"/>
              <a:ext cx="5146200" cy="1048680"/>
              <a:chOff x="1538280" y="2727720"/>
              <a:chExt cx="5146200" cy="104868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5216400" y="2727720"/>
                <a:ext cx="657720" cy="491400"/>
                <a:chOff x="5216400" y="2727720"/>
                <a:chExt cx="657720" cy="491400"/>
              </a:xfrm>
            </p:grpSpPr>
            <p:sp>
              <p:nvSpPr>
                <p:cNvPr id="198" name=""/>
                <p:cNvSpPr/>
                <p:nvPr/>
              </p:nvSpPr>
              <p:spPr>
                <a:xfrm flipV="1">
                  <a:off x="5216400" y="3062880"/>
                  <a:ext cx="657720" cy="156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0797800">
                  <a:off x="5425200" y="2754000"/>
                  <a:ext cx="269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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1538280" y="2913120"/>
                <a:ext cx="5146200" cy="863280"/>
                <a:chOff x="1538280" y="2913120"/>
                <a:chExt cx="5146200" cy="863280"/>
              </a:xfrm>
            </p:grpSpPr>
            <p:pic>
              <p:nvPicPr>
                <p:cNvPr id="20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38280" y="3201480"/>
                  <a:ext cx="348768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02" name=""/>
                <p:cNvGrpSpPr/>
                <p:nvPr/>
              </p:nvGrpSpPr>
              <p:grpSpPr>
                <a:xfrm>
                  <a:off x="5216400" y="3139200"/>
                  <a:ext cx="662040" cy="457200"/>
                  <a:chOff x="5216400" y="3139200"/>
                  <a:chExt cx="662040" cy="45720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5216400" y="3458160"/>
                    <a:ext cx="662040" cy="13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rot="708600">
                    <a:off x="5517720" y="3162960"/>
                    <a:ext cx="2692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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0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050520" y="2913120"/>
                  <a:ext cx="63396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050520" y="3553920"/>
                  <a:ext cx="62460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207" name="" descr=""/>
            <p:cNvPicPr/>
            <p:nvPr/>
          </p:nvPicPr>
          <p:blipFill>
            <a:blip r:embed="rId5"/>
            <a:stretch/>
          </p:blipFill>
          <p:spPr>
            <a:xfrm>
              <a:off x="1538280" y="3196440"/>
              <a:ext cx="3487680" cy="22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C1FC-77D3-483F-82B8-70D1C4F2E2E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1880" y="125280"/>
            <a:ext cx="791712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ministrativi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3760" y="1201680"/>
            <a:ext cx="8026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  <a:ea typeface="Arial"/>
              </a:rPr>
              <a:t>Homepage of the course: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ea typeface="Arial"/>
                <a:hlinkClick r:id="rId1"/>
              </a:rPr>
              <a:t>www.lix.polytechnique.fr/~catuscia/teaching/Pisa/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914400" indent="-457200">
              <a:spcBef>
                <a:spcPts val="451"/>
              </a:spcBef>
              <a:buClr>
                <a:srgbClr val="0099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Slide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914400" indent="-457200">
              <a:spcBef>
                <a:spcPts val="451"/>
              </a:spcBef>
              <a:buClr>
                <a:srgbClr val="0099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Some copies of the papers/books used as reference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Exam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  <a:ea typeface="Arial"/>
              </a:rPr>
              <a:t>Schedule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5" name=""/>
          <p:cNvSpPr/>
          <p:nvPr/>
        </p:nvSpPr>
        <p:spPr>
          <a:xfrm>
            <a:off x="6415200" y="50418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ED51-0CC9-4795-976F-BBD2B935A39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synchronou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alculus: synta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7440" y="1623960"/>
            <a:ext cx="84106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It differs from the </a:t>
            </a:r>
            <a:r>
              <a:rPr b="1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-calculus for the absence of the output prefix (replaced by output action) and also for the absence of the +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4" marL="217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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ction prefixes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input, silent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x, y are channel name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n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refix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output 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striction,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plica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230480" y="2506680"/>
            <a:ext cx="2447640" cy="365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576440" y="3736800"/>
            <a:ext cx="2095560" cy="209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EF48-E487-4DA0-8BF6-8F5C597E07B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synchronous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calculus: OS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The operational semantics of the asynchronous  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-calculus (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) are the same as those of the (synchronous) 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-calculus  (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), we only eliminate the rule for + and replace the output rule with the following: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Comic Sans MS"/>
              </a:rPr>
              <a:t>The early and late bisimulations are obtained as usual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interpretation is as follows: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349"/>
              </a:spcBef>
              <a:buClr>
                <a:srgbClr val="3333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The send takes place when the output action is at the top-level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349"/>
              </a:spcBef>
              <a:buClr>
                <a:srgbClr val="3333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The receive takes place when the output action matches a corresponding input, i.e. when we apply the rule comm or close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265560" y="2584440"/>
            <a:ext cx="1882800" cy="501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723000" y="4465800"/>
            <a:ext cx="1565280" cy="217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835280" y="5643720"/>
            <a:ext cx="5146560" cy="24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033B-6178-4196-AEA7-CB6BCD40213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lan of the l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18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Comic Sans MS"/>
              </a:rPr>
              <a:t>The pi-calculus and the asynchonous pi-calculu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The pi-calculus hierarchy: encoding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Encoding of output prefix in the asynchonous pi-calculu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Encoding of input guarded choice in the asynchonous pi-calculu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00"/>
                </a:solidFill>
                <a:latin typeface="Comic Sans MS"/>
              </a:rPr>
              <a:t>The pi-calculus hierarchy: separation result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00"/>
                </a:solidFill>
                <a:latin typeface="Comic Sans MS"/>
              </a:rPr>
              <a:t>Separation between the pi-calculus and the asynchonous pi-calculu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00"/>
                </a:solidFill>
                <a:latin typeface="Comic Sans MS"/>
              </a:rPr>
              <a:t>Separation between the pi-calculus and CC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Problems in distributed algorithms for which only randomized solutions exist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Basics of Measure Theory and Probability Theory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Probabilistic Automata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The probabilistic pi-calculu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Encoding of the pi-calculus into the asynchronous pi-calculu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Other uses of randomization: randomized protocols for anonymity and contract signing.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Comic Sans MS"/>
              </a:rPr>
              <a:t>A proof search specification of the pi-calculus (speaker: Dale Miller)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75F4-CD8B-457A-B4AE-921EF15FC4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85960" y="1599840"/>
            <a:ext cx="7449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Milner, Parrow, Walker 1989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A concurrent calculus where the communication structure among existing processes can change over time.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-45720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mic Sans MS"/>
              </a:rPr>
              <a:t>Link mobility.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4" marL="21718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98720" y="3467160"/>
            <a:ext cx="1437840" cy="2133720"/>
            <a:chOff x="1998720" y="3467160"/>
            <a:chExt cx="1437840" cy="2133720"/>
          </a:xfrm>
        </p:grpSpPr>
        <p:sp>
          <p:nvSpPr>
            <p:cNvPr id="51" name=""/>
            <p:cNvSpPr/>
            <p:nvPr/>
          </p:nvSpPr>
          <p:spPr>
            <a:xfrm>
              <a:off x="2898720" y="5200920"/>
              <a:ext cx="53784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98720" y="5448600"/>
              <a:ext cx="17424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62320" y="5456520"/>
              <a:ext cx="17424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98720" y="5042160"/>
              <a:ext cx="36324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720" y="3583080"/>
              <a:ext cx="36324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00240" y="3467160"/>
              <a:ext cx="17424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00240" y="3888000"/>
              <a:ext cx="8676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00240" y="3902400"/>
              <a:ext cx="17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41200" y="410544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61960" y="3699000"/>
              <a:ext cx="536400" cy="114624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998720" y="3467160"/>
            <a:ext cx="4962600" cy="2141280"/>
            <a:chOff x="1998720" y="3467160"/>
            <a:chExt cx="4962600" cy="2141280"/>
          </a:xfrm>
        </p:grpSpPr>
        <p:sp>
          <p:nvSpPr>
            <p:cNvPr id="62" name=""/>
            <p:cNvSpPr/>
            <p:nvPr/>
          </p:nvSpPr>
          <p:spPr>
            <a:xfrm>
              <a:off x="4233960" y="5208480"/>
              <a:ext cx="53820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33960" y="545616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97560" y="546408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33960" y="5049720"/>
              <a:ext cx="36360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98720" y="358272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00240" y="3467160"/>
              <a:ext cx="174600" cy="23148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00240" y="3887640"/>
              <a:ext cx="874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00240" y="390204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41560" y="410508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62320" y="3663720"/>
              <a:ext cx="1871640" cy="118908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97720" y="360504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99240" y="3489120"/>
              <a:ext cx="17460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699240" y="3909960"/>
              <a:ext cx="874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99240" y="392436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40560" y="412740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62320" y="3582720"/>
              <a:ext cx="4235400" cy="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989000" y="3479760"/>
            <a:ext cx="4962240" cy="2133360"/>
            <a:chOff x="1989000" y="3479760"/>
            <a:chExt cx="4962240" cy="2133360"/>
          </a:xfrm>
        </p:grpSpPr>
        <p:sp>
          <p:nvSpPr>
            <p:cNvPr id="79" name=""/>
            <p:cNvSpPr/>
            <p:nvPr/>
          </p:nvSpPr>
          <p:spPr>
            <a:xfrm>
              <a:off x="4887720" y="5213160"/>
              <a:ext cx="53820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87720" y="546084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51320" y="546876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87720" y="5054400"/>
              <a:ext cx="36360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89000" y="3595320"/>
              <a:ext cx="36324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90520" y="3479760"/>
              <a:ext cx="174600" cy="23148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90520" y="3900240"/>
              <a:ext cx="871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90520" y="391464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1840" y="411768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87640" y="361764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89520" y="3501720"/>
              <a:ext cx="17460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89520" y="3922560"/>
              <a:ext cx="871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89520" y="393696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30840" y="414000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366880" y="3710880"/>
              <a:ext cx="1263960" cy="114156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882880" y="47721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17960" y="3583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37DF-A968-41F0-99EB-1C4115D213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0" idx="7"/>
            <a:endCxn id="101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04" name=""/>
          <p:cNvCxnSpPr>
            <a:stCxn id="101" idx="5"/>
            <a:endCxn id="102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33920" y="5310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75080" y="5003640"/>
            <a:ext cx="1439640" cy="1189080"/>
          </a:xfrm>
          <a:custGeom>
            <a:avLst/>
            <a:gdLst/>
            <a:ahLst/>
            <a:rect l="l" t="t" r="r" b="b"/>
            <a:pathLst>
              <a:path w="907" h="749">
                <a:moveTo>
                  <a:pt x="129" y="556"/>
                </a:moveTo>
                <a:cubicBezTo>
                  <a:pt x="72" y="467"/>
                  <a:pt x="0" y="282"/>
                  <a:pt x="32" y="193"/>
                </a:cubicBezTo>
                <a:cubicBezTo>
                  <a:pt x="64" y="104"/>
                  <a:pt x="217" y="48"/>
                  <a:pt x="322" y="24"/>
                </a:cubicBezTo>
                <a:cubicBezTo>
                  <a:pt x="427" y="0"/>
                  <a:pt x="576" y="12"/>
                  <a:pt x="661" y="48"/>
                </a:cubicBezTo>
                <a:cubicBezTo>
                  <a:pt x="746" y="84"/>
                  <a:pt x="794" y="168"/>
                  <a:pt x="830" y="241"/>
                </a:cubicBezTo>
                <a:cubicBezTo>
                  <a:pt x="866" y="314"/>
                  <a:pt x="907" y="406"/>
                  <a:pt x="879" y="483"/>
                </a:cubicBezTo>
                <a:cubicBezTo>
                  <a:pt x="851" y="560"/>
                  <a:pt x="746" y="661"/>
                  <a:pt x="661" y="701"/>
                </a:cubicBezTo>
                <a:cubicBezTo>
                  <a:pt x="576" y="741"/>
                  <a:pt x="460" y="749"/>
                  <a:pt x="371" y="725"/>
                </a:cubicBezTo>
                <a:cubicBezTo>
                  <a:pt x="282" y="701"/>
                  <a:pt x="186" y="645"/>
                  <a:pt x="129" y="556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66640" y="554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7ADB-E8C6-4C5F-8A7F-5B83ECE6BA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"/>
          <p:cNvCxnSpPr>
            <a:stCxn id="115" idx="0"/>
            <a:endCxn id="116" idx="2"/>
          </p:cNvCxnSpPr>
          <p:nvPr/>
        </p:nvCxnSpPr>
        <p:spPr>
          <a:xfrm flipH="1" flipV="1" rot="5400000">
            <a:off x="3352320" y="4214160"/>
            <a:ext cx="986760" cy="1027800"/>
          </a:xfrm>
          <a:prstGeom prst="curvedConnector2">
            <a:avLst/>
          </a:prstGeom>
          <a:ln w="28440">
            <a:solidFill>
              <a:srgbClr val="990033"/>
            </a:solidFill>
            <a:prstDash val="dash"/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388680" y="407196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5" idx="7"/>
            <a:endCxn id="116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20" name=""/>
          <p:cNvCxnSpPr>
            <a:stCxn id="116" idx="5"/>
            <a:endCxn id="118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33920" y="5310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75080" y="5003640"/>
            <a:ext cx="1439640" cy="1189080"/>
          </a:xfrm>
          <a:custGeom>
            <a:avLst/>
            <a:gdLst/>
            <a:ahLst/>
            <a:rect l="l" t="t" r="r" b="b"/>
            <a:pathLst>
              <a:path w="907" h="749">
                <a:moveTo>
                  <a:pt x="129" y="556"/>
                </a:moveTo>
                <a:cubicBezTo>
                  <a:pt x="72" y="467"/>
                  <a:pt x="0" y="282"/>
                  <a:pt x="32" y="193"/>
                </a:cubicBezTo>
                <a:cubicBezTo>
                  <a:pt x="64" y="104"/>
                  <a:pt x="217" y="48"/>
                  <a:pt x="322" y="24"/>
                </a:cubicBezTo>
                <a:cubicBezTo>
                  <a:pt x="427" y="0"/>
                  <a:pt x="576" y="12"/>
                  <a:pt x="661" y="48"/>
                </a:cubicBezTo>
                <a:cubicBezTo>
                  <a:pt x="746" y="84"/>
                  <a:pt x="794" y="168"/>
                  <a:pt x="830" y="241"/>
                </a:cubicBezTo>
                <a:cubicBezTo>
                  <a:pt x="866" y="314"/>
                  <a:pt x="907" y="406"/>
                  <a:pt x="879" y="483"/>
                </a:cubicBezTo>
                <a:cubicBezTo>
                  <a:pt x="851" y="560"/>
                  <a:pt x="746" y="661"/>
                  <a:pt x="661" y="701"/>
                </a:cubicBezTo>
                <a:cubicBezTo>
                  <a:pt x="576" y="741"/>
                  <a:pt x="460" y="749"/>
                  <a:pt x="371" y="725"/>
                </a:cubicBezTo>
                <a:cubicBezTo>
                  <a:pt x="282" y="701"/>
                  <a:pt x="186" y="645"/>
                  <a:pt x="129" y="556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46360" y="3473280"/>
            <a:ext cx="2341440" cy="2362320"/>
          </a:xfrm>
          <a:custGeom>
            <a:avLst/>
            <a:gdLst/>
            <a:ahLst/>
            <a:rect l="l" t="t" r="r" b="b"/>
            <a:pathLst>
              <a:path w="1475" h="1488">
                <a:moveTo>
                  <a:pt x="197" y="1472"/>
                </a:moveTo>
                <a:cubicBezTo>
                  <a:pt x="112" y="1456"/>
                  <a:pt x="56" y="1428"/>
                  <a:pt x="28" y="1327"/>
                </a:cubicBezTo>
                <a:cubicBezTo>
                  <a:pt x="0" y="1226"/>
                  <a:pt x="4" y="1012"/>
                  <a:pt x="28" y="867"/>
                </a:cubicBezTo>
                <a:cubicBezTo>
                  <a:pt x="52" y="722"/>
                  <a:pt x="60" y="585"/>
                  <a:pt x="173" y="456"/>
                </a:cubicBezTo>
                <a:cubicBezTo>
                  <a:pt x="286" y="327"/>
                  <a:pt x="540" y="166"/>
                  <a:pt x="705" y="93"/>
                </a:cubicBezTo>
                <a:cubicBezTo>
                  <a:pt x="870" y="20"/>
                  <a:pt x="1048" y="0"/>
                  <a:pt x="1165" y="20"/>
                </a:cubicBezTo>
                <a:cubicBezTo>
                  <a:pt x="1282" y="40"/>
                  <a:pt x="1359" y="129"/>
                  <a:pt x="1407" y="214"/>
                </a:cubicBezTo>
                <a:cubicBezTo>
                  <a:pt x="1455" y="299"/>
                  <a:pt x="1475" y="419"/>
                  <a:pt x="1455" y="528"/>
                </a:cubicBezTo>
                <a:cubicBezTo>
                  <a:pt x="1435" y="637"/>
                  <a:pt x="1379" y="750"/>
                  <a:pt x="1286" y="867"/>
                </a:cubicBezTo>
                <a:cubicBezTo>
                  <a:pt x="1193" y="984"/>
                  <a:pt x="1023" y="1137"/>
                  <a:pt x="898" y="1230"/>
                </a:cubicBezTo>
                <a:cubicBezTo>
                  <a:pt x="773" y="1323"/>
                  <a:pt x="653" y="1380"/>
                  <a:pt x="536" y="1424"/>
                </a:cubicBezTo>
                <a:cubicBezTo>
                  <a:pt x="419" y="1468"/>
                  <a:pt x="282" y="1488"/>
                  <a:pt x="197" y="1472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DD22-A53E-4685-ABA7-82111247B6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5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31" idx="6"/>
            <a:endCxn id="132" idx="7"/>
          </p:cNvCxnSpPr>
          <p:nvPr/>
        </p:nvCxnSpPr>
        <p:spPr>
          <a:xfrm>
            <a:off x="4635000" y="4235400"/>
            <a:ext cx="1019880" cy="1023120"/>
          </a:xfrm>
          <a:prstGeom prst="curvedConnector2">
            <a:avLst/>
          </a:prstGeom>
          <a:ln w="28440">
            <a:solidFill>
              <a:srgbClr val="990033"/>
            </a:solidFill>
            <a:prstDash val="dash"/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5384160" y="422424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/>
          <p:nvPr/>
        </p:nvCxnSpPr>
        <p:spPr>
          <a:xfrm>
            <a:off x="3471480" y="5344920"/>
            <a:ext cx="1948320" cy="1080"/>
          </a:xfrm>
          <a:prstGeom prst="straightConnector1">
            <a:avLst/>
          </a:prstGeom>
          <a:ln w="28440">
            <a:solidFill>
              <a:srgbClr val="990033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4369680" y="534528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6" idx="7"/>
            <a:endCxn id="131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38" name=""/>
          <p:cNvCxnSpPr>
            <a:stCxn id="131" idx="5"/>
            <a:endCxn id="132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33920" y="527220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75080" y="3390840"/>
            <a:ext cx="3878280" cy="2573280"/>
          </a:xfrm>
          <a:custGeom>
            <a:avLst/>
            <a:gdLst/>
            <a:ahLst/>
            <a:rect l="l" t="t" r="r" b="b"/>
            <a:pathLst>
              <a:path w="2427" h="1802">
                <a:moveTo>
                  <a:pt x="109" y="1589"/>
                </a:moveTo>
                <a:cubicBezTo>
                  <a:pt x="4" y="1460"/>
                  <a:pt x="0" y="1185"/>
                  <a:pt x="36" y="1008"/>
                </a:cubicBezTo>
                <a:cubicBezTo>
                  <a:pt x="72" y="831"/>
                  <a:pt x="201" y="665"/>
                  <a:pt x="326" y="524"/>
                </a:cubicBezTo>
                <a:cubicBezTo>
                  <a:pt x="451" y="383"/>
                  <a:pt x="609" y="246"/>
                  <a:pt x="786" y="161"/>
                </a:cubicBezTo>
                <a:cubicBezTo>
                  <a:pt x="963" y="76"/>
                  <a:pt x="1210" y="0"/>
                  <a:pt x="1391" y="16"/>
                </a:cubicBezTo>
                <a:cubicBezTo>
                  <a:pt x="1572" y="32"/>
                  <a:pt x="1742" y="153"/>
                  <a:pt x="1875" y="258"/>
                </a:cubicBezTo>
                <a:cubicBezTo>
                  <a:pt x="2008" y="363"/>
                  <a:pt x="2112" y="484"/>
                  <a:pt x="2189" y="645"/>
                </a:cubicBezTo>
                <a:cubicBezTo>
                  <a:pt x="2266" y="806"/>
                  <a:pt x="2322" y="1061"/>
                  <a:pt x="2334" y="1226"/>
                </a:cubicBezTo>
                <a:cubicBezTo>
                  <a:pt x="2346" y="1391"/>
                  <a:pt x="2427" y="1552"/>
                  <a:pt x="2262" y="1637"/>
                </a:cubicBezTo>
                <a:cubicBezTo>
                  <a:pt x="2097" y="1722"/>
                  <a:pt x="1608" y="1710"/>
                  <a:pt x="1342" y="1734"/>
                </a:cubicBezTo>
                <a:cubicBezTo>
                  <a:pt x="1076" y="1758"/>
                  <a:pt x="875" y="1802"/>
                  <a:pt x="665" y="1782"/>
                </a:cubicBezTo>
                <a:cubicBezTo>
                  <a:pt x="455" y="1762"/>
                  <a:pt x="214" y="1718"/>
                  <a:pt x="109" y="1589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46360" y="3473280"/>
            <a:ext cx="2341440" cy="2362320"/>
          </a:xfrm>
          <a:custGeom>
            <a:avLst/>
            <a:gdLst/>
            <a:ahLst/>
            <a:rect l="l" t="t" r="r" b="b"/>
            <a:pathLst>
              <a:path w="1475" h="1488">
                <a:moveTo>
                  <a:pt x="197" y="1472"/>
                </a:moveTo>
                <a:cubicBezTo>
                  <a:pt x="112" y="1456"/>
                  <a:pt x="56" y="1428"/>
                  <a:pt x="28" y="1327"/>
                </a:cubicBezTo>
                <a:cubicBezTo>
                  <a:pt x="0" y="1226"/>
                  <a:pt x="4" y="1012"/>
                  <a:pt x="28" y="867"/>
                </a:cubicBezTo>
                <a:cubicBezTo>
                  <a:pt x="52" y="722"/>
                  <a:pt x="60" y="585"/>
                  <a:pt x="173" y="456"/>
                </a:cubicBezTo>
                <a:cubicBezTo>
                  <a:pt x="286" y="327"/>
                  <a:pt x="540" y="166"/>
                  <a:pt x="705" y="93"/>
                </a:cubicBezTo>
                <a:cubicBezTo>
                  <a:pt x="870" y="20"/>
                  <a:pt x="1048" y="0"/>
                  <a:pt x="1165" y="20"/>
                </a:cubicBezTo>
                <a:cubicBezTo>
                  <a:pt x="1282" y="40"/>
                  <a:pt x="1359" y="129"/>
                  <a:pt x="1407" y="214"/>
                </a:cubicBezTo>
                <a:cubicBezTo>
                  <a:pt x="1455" y="299"/>
                  <a:pt x="1475" y="419"/>
                  <a:pt x="1455" y="528"/>
                </a:cubicBezTo>
                <a:cubicBezTo>
                  <a:pt x="1435" y="637"/>
                  <a:pt x="1379" y="750"/>
                  <a:pt x="1286" y="867"/>
                </a:cubicBezTo>
                <a:cubicBezTo>
                  <a:pt x="1193" y="984"/>
                  <a:pt x="1023" y="1137"/>
                  <a:pt x="898" y="1230"/>
                </a:cubicBezTo>
                <a:cubicBezTo>
                  <a:pt x="773" y="1323"/>
                  <a:pt x="653" y="1380"/>
                  <a:pt x="536" y="1424"/>
                </a:cubicBezTo>
                <a:cubicBezTo>
                  <a:pt x="419" y="1468"/>
                  <a:pt x="282" y="1488"/>
                  <a:pt x="197" y="1472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131F-231D-43FF-A1F4-79BFC90EF1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7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alculus: some suggested bibliograp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1880" y="15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Robin Milner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</a:t>
            </a:r>
            <a:r>
              <a:rPr b="0" i="1" lang="en-US" sz="2000" spc="-1" strike="noStrike">
                <a:solidFill>
                  <a:srgbClr val="006699"/>
                </a:solidFill>
                <a:latin typeface="Comic Sans MS"/>
              </a:rPr>
              <a:t>Communicating and mobile systems: the pi-calculus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Cambridge University Press, 1999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Benjamin Pierce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Foundational Calculi for Programming Languages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Chapter in the </a:t>
            </a:r>
            <a:r>
              <a:rPr b="0" i="1" lang="en-US" sz="2000" spc="-1" strike="noStrike">
                <a:solidFill>
                  <a:srgbClr val="006699"/>
                </a:solidFill>
                <a:latin typeface="Comic Sans MS"/>
              </a:rPr>
              <a:t>CRC Handbook of Computer Science and Engineering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, 1996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Davide Sangiorgi and David Walker. </a:t>
            </a:r>
            <a:r>
              <a:rPr b="0" i="1" lang="en-US" sz="2000" spc="-1" strike="noStrike">
                <a:solidFill>
                  <a:srgbClr val="006699"/>
                </a:solidFill>
                <a:latin typeface="Comic Sans MS"/>
              </a:rPr>
              <a:t>The pi-calculus. A Theory of Mobile Processes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Cambridge University Press, 200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Joachim Parrow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An Introduction to the pi-Calculus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. In Handbook of Process Algebra, ed. Bergstra, Ponse, Smolka, pages 479-543, Elsevier 2001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6"/>
              </a:rPr>
              <a:t>BRICS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7"/>
              </a:rPr>
              <a:t> RS 99-42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66EF-34AB-4D6A-A20A-3A1D61AF28E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77440" y="1623960"/>
            <a:ext cx="84106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Similar to CCS with value passing, but values are channel names, and recursion is replaced by replication ( ! 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4" marL="2171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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ction prefixes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input, output, silent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x, y are channel name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n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refix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su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striction,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plica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93720" y="2584440"/>
            <a:ext cx="3168720" cy="365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422360" y="3774960"/>
            <a:ext cx="2305080" cy="21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1B9F-02F1-4DCF-B271-4E3662DAAE8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5T21:44:42Z</dcterms:modified>
  <cp:revision>61</cp:revision>
  <dc:subject/>
  <dc:title>Concurrency 5</dc:title>
</cp:coreProperties>
</file>