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9CE-9735-4653-91FA-36BB8E49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B04-1794-4340-92F2-7AC5415B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D96-991D-4E9F-9A7A-6F4CA00F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4D0-81D9-4DB9-8099-D88B293F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169-E614-45B4-B507-031BCFDC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6CF-B4F5-490D-90E9-DC225703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333-D5B0-4C37-B153-B4C239EA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14A-F213-439C-919F-5C51E6AB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C0B-82F8-4CF7-8330-F3711C4D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4999-73F9-455B-A1EF-7A402C59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F30-5265-4F13-892E-B53CDA76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31F-A614-41B6-9792-8A9A3FB2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533640"/>
            <a:ext cx="215280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66840" y="6543720"/>
            <a:ext cx="289548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4308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274C-BF7C-4537-A650-46C2E48A38E0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9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Other uses of randomization: </a:t>
            </a:r>
            <a:br>
              <a:rPr sz="2800"/>
            </a:b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a randomized protocol for anonymity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000" y="885600"/>
            <a:ext cx="5553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In general, given an arbitrary graph, where the nodes represent the cryptographers, and the arcs the coins, we can extend the protocol as follow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7c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ryptographer i does not pay,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oin k gives head,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= output of cryptographer i,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calculated as follows: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 adjacent i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where the sums are binary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458040" y="1190520"/>
            <a:ext cx="1305000" cy="219096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458040" y="1971360"/>
            <a:ext cx="1923840" cy="14288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400800" y="1924200"/>
            <a:ext cx="1962000" cy="475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1905120"/>
            <a:ext cx="1362240" cy="18097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63040" y="1162080"/>
            <a:ext cx="0" cy="25430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20000" y="3695760"/>
            <a:ext cx="743040" cy="8096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4886280"/>
            <a:ext cx="95400" cy="78120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81760" y="3714840"/>
            <a:ext cx="924120" cy="12286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43440" y="3714840"/>
            <a:ext cx="219240" cy="11620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15040" y="2873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02480" y="5608800"/>
            <a:ext cx="88920" cy="8856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07240" y="3665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7200" y="44766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92880" y="3341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61240" y="48769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91240" y="48592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81720" y="18828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26320" y="23893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90080" y="193356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2400" y="25542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54720" y="19177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24880" y="11206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08040" y="3417840"/>
            <a:ext cx="75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Crypt</a:t>
            </a:r>
            <a:r>
              <a:rPr b="0" lang="en-US" sz="1800" spc="-1" strike="noStrike" baseline="-25000">
                <a:solidFill>
                  <a:srgbClr val="66ccff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4240" y="4237200"/>
            <a:ext cx="71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Coin</a:t>
            </a:r>
            <a:r>
              <a:rPr b="0" lang="en-US" sz="1800" spc="-1" strike="noStrike" baseline="-25000">
                <a:solidFill>
                  <a:srgbClr val="ffe701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28120" y="1933560"/>
            <a:ext cx="8856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CE7-1B43-4B38-8D94-4650497AE4F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7760" y="1066320"/>
            <a:ext cx="82580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there is a payer iff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4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 =  0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of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just observe that in this sum each coin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is counted twice. Furthermore there is at most one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Hence the result is 0 iff there is no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 If all the coins are fair, and the graph is connected, then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every external observ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 any node j such that, if we remove j and all its adjacent arcs, the rest of the graph is still connected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A5B-4BA5-486F-B9DF-EA358E07CD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4892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Anonymity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404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(In general)  To ensure that a certain part of an information becomes public while another part of it remains secret.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Typically, what we want to maintain secret is the identity of the agent involved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Examples: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lectronic election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Delation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We will consider the case of in which the information to make public is whether or not a certain event has taken place, and the information to hide is the identity of the agent performing that even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EFB-977E-4B7C-931B-D5400F1204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0"/>
            <a:ext cx="82771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dining cryptographers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1680" y="1328760"/>
            <a:ext cx="82483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The Problem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ree cryptographers share a meal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e meal is paid either by the organization (master) or by one of them. The master decides who pay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ach of the cryptographers is informed by the master whether or not he is paying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Comic Sans MS"/>
              </a:rPr>
              <a:t>GOAL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Comic Sans MS"/>
              </a:rPr>
              <a:t>The cryptographers would like to know whether the meal is being paid by the master or by one of them, but without knowing who among them, if any, is paying. 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They cannot involve the mast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E1C-43E7-4C69-8A6E-CDBC31DC49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5920" y="16308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Example: The dining cryptographer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36920" y="1355760"/>
            <a:ext cx="4916520" cy="4177080"/>
            <a:chOff x="1636920" y="1355760"/>
            <a:chExt cx="4916520" cy="4177080"/>
          </a:xfrm>
        </p:grpSpPr>
        <p:sp>
          <p:nvSpPr>
            <p:cNvPr id="49" name=""/>
            <p:cNvSpPr/>
            <p:nvPr/>
          </p:nvSpPr>
          <p:spPr>
            <a:xfrm>
              <a:off x="4110120" y="184032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132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74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920" y="13557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0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9960" y="516312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5280" y="51645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74840" y="3533400"/>
              <a:ext cx="569520" cy="564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97000" y="413604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99"/>
                  </a:solidFill>
                  <a:latin typeface="Comic Sans MS"/>
                </a:rPr>
                <a:t>Mas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890080" y="3956760"/>
              <a:ext cx="1210680" cy="77580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934360" y="4027320"/>
              <a:ext cx="1210680" cy="77580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88680" y="2263680"/>
              <a:ext cx="0" cy="1269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380480" y="2263680"/>
              <a:ext cx="0" cy="1269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4720" y="3912480"/>
              <a:ext cx="1139760" cy="846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91080" y="3992040"/>
              <a:ext cx="1139760" cy="846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" name=""/>
            <p:cNvCxnSpPr/>
            <p:nvPr/>
          </p:nvCxnSpPr>
          <p:spPr>
            <a:xfrm flipV="1" rot="10800000">
              <a:off x="4430160" y="2262600"/>
              <a:ext cx="997920" cy="776520"/>
            </a:xfrm>
            <a:prstGeom prst="curvedConnector5">
              <a:avLst>
                <a:gd name="adj1" fmla="val 49981"/>
                <a:gd name="adj2" fmla="val 50000"/>
                <a:gd name="adj3" fmla="val 49981"/>
              </a:avLst>
            </a:prstGeom>
            <a:ln w="9360">
              <a:solidFill>
                <a:srgbClr val="66ff99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2792160" y="2263320"/>
              <a:ext cx="1425240" cy="776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cc99ff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5451480" y="2093400"/>
              <a:ext cx="80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99"/>
                  </a:solidFill>
                  <a:latin typeface="Comic Sans MS"/>
                </a:rPr>
                <a:t>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36920" y="209340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ff"/>
                  </a:solidFill>
                  <a:latin typeface="Comic Sans MS"/>
                </a:rPr>
                <a:t>not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0FB7-314C-44B2-B21C-F47A8F8477B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190080"/>
            <a:ext cx="8439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tosses a 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probabilistic choice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). Each coin is in between two cryptographers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The result of each coin-tossing is visible to the adjacent cryptographers, and only to them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examines the two adjacent coins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paying, he announces “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if the results are the same, and “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dis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otherwise.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not paying, he says the opposite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820C-F065-4590-8692-193742C00D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13464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4010040" y="1847880"/>
            <a:ext cx="423720" cy="41760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4638600"/>
            <a:ext cx="42408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52680" y="4638600"/>
            <a:ext cx="42372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23560" y="13669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35960" y="51372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25920" y="51372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10040" y="3522600"/>
            <a:ext cx="566640" cy="55872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8960" y="41180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99"/>
                </a:solidFill>
                <a:latin typeface="Comic Sans MS"/>
              </a:rPr>
              <a:t>Ma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6080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204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51160" y="484812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95840" y="51973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(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96440" y="31734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50680" y="31129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5440" y="3452760"/>
            <a:ext cx="56520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373560" y="2197080"/>
            <a:ext cx="70632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876040" y="4917960"/>
            <a:ext cx="127476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33760" y="4917960"/>
            <a:ext cx="120492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363560" y="2197080"/>
            <a:ext cx="77796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84800" y="3452760"/>
            <a:ext cx="49536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24200" y="3924360"/>
            <a:ext cx="1203120" cy="76680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876040" y="3994200"/>
            <a:ext cx="1203480" cy="76680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222800" y="2265480"/>
            <a:ext cx="0" cy="125712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22880" y="2265480"/>
            <a:ext cx="0" cy="125712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6680" y="3871800"/>
            <a:ext cx="1131840" cy="83664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2400" y="3959280"/>
            <a:ext cx="1106280" cy="819000"/>
          </a:xfrm>
          <a:custGeom>
            <a:avLst/>
            <a:gdLst/>
            <a:ahLst/>
            <a:rect l="l" t="t" r="r" b="b"/>
            <a:pathLst>
              <a:path w="750" h="564">
                <a:moveTo>
                  <a:pt x="0" y="0"/>
                </a:moveTo>
                <a:lnTo>
                  <a:pt x="750" y="564"/>
                </a:lnTo>
              </a:path>
            </a:pathLst>
          </a:custGeom>
          <a:noFill/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6" name=""/>
          <p:cNvCxnSpPr/>
          <p:nvPr/>
        </p:nvCxnSpPr>
        <p:spPr>
          <a:xfrm flipV="1" rot="10800000">
            <a:off x="4363200" y="2265120"/>
            <a:ext cx="991440" cy="768960"/>
          </a:xfrm>
          <a:prstGeom prst="curvedConnector5">
            <a:avLst>
              <a:gd name="adj1" fmla="val 49981"/>
              <a:gd name="adj2" fmla="val 49976"/>
              <a:gd name="adj3" fmla="val 49981"/>
            </a:avLst>
          </a:prstGeom>
          <a:ln w="9360">
            <a:solidFill>
              <a:srgbClr val="66ff99"/>
            </a:solidFill>
            <a:prstDash val="dash"/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2734920" y="2265480"/>
            <a:ext cx="1416600" cy="7689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cc99ff"/>
            </a:solidFill>
            <a:prstDash val="dash"/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flipH="1">
            <a:off x="1814040" y="4987800"/>
            <a:ext cx="638280" cy="47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62760" y="4987800"/>
            <a:ext cx="566640" cy="3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22800" y="1219320"/>
            <a:ext cx="0" cy="62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78400" y="20970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79680" y="2097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Comic Sans MS"/>
              </a:rPr>
              <a:t>not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35000" y="38718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ok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0" y="4848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ou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49E-7F93-4F4D-8EF4-20E242B3704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perties of the solu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685520"/>
            <a:ext cx="816264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Comic Sans MS"/>
              </a:rPr>
              <a:t>Proposition 1 (Public information):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if the number of “disagree” is even, then the master is paying. Otherwise, one of them is paying.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Proposition 2 (Anonymity):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In the latter case, if the coin is fair then the non paying cryptographers and the external observers will not be able to deduce whom exactly is paying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121-E303-42A7-8AC1-86BCD5D714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: formal defini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will model events as consisting of two componen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he event itself,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the identity of the agent performing the event, a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 the agents who want to remain secre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x, define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 A protocol described as a system P provides anonymity if an arbitrary permutation of the events i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applied to an execution o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99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does not change the probabilities of the observab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295-3C7E-4293-AE38-54760CCE9A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2584440" y="3792600"/>
            <a:ext cx="0" cy="676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733840" y="379836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87560" y="378108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430360" y="379044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143240"/>
            <a:ext cx="1828800" cy="1676520"/>
          </a:xfrm>
          <a:prstGeom prst="rect">
            <a:avLst/>
          </a:prstGeom>
          <a:solidFill>
            <a:srgbClr val="000046"/>
          </a:solidFill>
          <a:ln w="9360">
            <a:solidFill>
              <a:srgbClr val="cc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88560"/>
            <a:ext cx="889632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general, give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onsider the se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|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b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nonyAgs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}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the actions that we want to know only partially (we want to know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but not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B :  the actions that we want to observe (it may include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 but not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cc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Actions – (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)  :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The actions we want to hide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4494240"/>
            <a:ext cx="914400" cy="914400"/>
          </a:xfrm>
          <a:prstGeom prst="rect">
            <a:avLst/>
          </a:prstGeom>
          <a:solidFill>
            <a:srgbClr val="ccffff">
              <a:alpha val="81000"/>
            </a:srgbClr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428920" y="4132080"/>
            <a:ext cx="1440" cy="36180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123720" y="490536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95440" y="47530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95440" y="490536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95440" y="5057640"/>
            <a:ext cx="685800" cy="180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5440" y="52102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6840" y="4695840"/>
            <a:ext cx="152280" cy="571320"/>
          </a:xfrm>
          <a:custGeom>
            <a:avLst/>
            <a:gdLst>
              <a:gd name="textAreaLeft" fmla="*/ 97200 w 152280"/>
              <a:gd name="textAreaRight" fmla="*/ 152640 w 152280"/>
              <a:gd name="textAreaTop" fmla="*/ 14760 h 571320"/>
              <a:gd name="textAreaBottom" fmla="*/ 5565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2589840" y="3340800"/>
            <a:ext cx="152280" cy="592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5120 h 592200"/>
              <a:gd name="textAreaBottom" fmla="*/ 577080 h 59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3320" y="47530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30840" y="48006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0040" y="31608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57320" y="343836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ebdings"/>
                <a:ea typeface="Webdings"/>
              </a:rPr>
              <a:t>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9600" y="2984400"/>
            <a:ext cx="428148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system to consider for the Anonymity analysis:     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P\</a:t>
            </a:r>
            <a:r>
              <a:rPr b="0" lang="en-US" sz="14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The system is anonymous if for every scheduler, for every observations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i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and for every  actio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 =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.e. the observables do not allow to deduce anything about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Equivalently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for every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 = 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amely, the probability of an observable does not depend on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83000" y="4161960"/>
            <a:ext cx="1440" cy="30492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36720" y="4164120"/>
            <a:ext cx="1800" cy="30456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881440" y="4155840"/>
            <a:ext cx="1440" cy="32364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25520" y="50594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36680" y="521352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128760" y="47768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734640" y="4697280"/>
            <a:ext cx="152280" cy="571680"/>
          </a:xfrm>
          <a:custGeom>
            <a:avLst/>
            <a:gdLst>
              <a:gd name="textAreaLeft" fmla="*/ 96840 w 152280"/>
              <a:gd name="textAreaRight" fmla="*/ 152280 w 15228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9BE-3DA0-4879-8F62-4C04F3D6A0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5T06:17:41Z</dcterms:modified>
  <cp:revision>160</cp:revision>
  <dc:subject/>
  <dc:title>Concurrency 5</dc:title>
</cp:coreProperties>
</file>