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AE8B-39B3-4EBA-B4AF-3557616A4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1290-B1D9-4EB7-B9B1-A01B89309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5776-D61F-4884-9FB8-68EE5C0E0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9E57-4FDD-4C30-91DE-0CCF52123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91894-F3C7-436D-AC24-E424FB7DA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236D0-05C3-4013-ACA4-2AF27FB02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6B688-4FD8-48DE-B1DF-3C878F4D2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AC1B5-4B49-4C40-A580-C1F748DB8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3E92F-1A00-48EB-84D8-60843A4D1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27EC2-390E-4B7C-BC5E-1C33DDFD4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8252A-A18A-4DB6-8714-66C27859A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847F-4F3C-4FC3-B9AB-55D327DFF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2E367-54E8-4998-8502-55E940BA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1799A-09E5-4CAD-A4E2-52BACFA3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DF16A-5AD1-48FE-8755-9B093990F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CC4B0-5EEB-4E78-8724-9B1FE5ACB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20EF4-3B23-48FF-8ADB-5C27D6323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EEC2-A50C-438C-A5C4-3D525DE80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BE36-E306-40B3-8A0F-27B348D61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83A3-1B91-4030-9479-6EF1917A6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E843-DFA2-45C0-87BF-B1ACD87E6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A6BD-3260-4726-8C9A-CF95D83BE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3467-079A-4401-BCC1-A9E833415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AE6B-F4C0-467B-A996-490AA5B57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b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7760" y="6619680"/>
            <a:ext cx="218124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33440" y="6619680"/>
            <a:ext cx="284796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67400" y="6619680"/>
            <a:ext cx="215280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D3038-5545-4866-8801-98F6FF9ABA92}" type="slidenum"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CF7E3-20BC-42D0-9886-B01E12B20D31}" type="slidenum"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b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atuscia@lix.polytechnique.fr" TargetMode="External"/><Relationship Id="rId2" Type="http://schemas.openxmlformats.org/officeDocument/2006/relationships/hyperlink" Target="http://www.lix.polytechnique.fr/~catuscia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9600" y="817200"/>
            <a:ext cx="8602560" cy="29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Probabilistic Methods in Concurrency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9999"/>
                </a:solidFill>
                <a:latin typeface="Comic Sans MS"/>
              </a:rPr>
              <a:t>Lecture 8</a:t>
            </a:r>
            <a:br>
              <a:rPr sz="3600"/>
            </a:br>
            <a:r>
              <a:rPr b="0" lang="en-US" sz="4400" spc="-1" strike="noStrike">
                <a:solidFill>
                  <a:srgbClr val="ff99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9999"/>
                </a:solidFill>
                <a:latin typeface="Comic Sans MS"/>
              </a:rPr>
              <a:t>Encoding the </a:t>
            </a:r>
            <a:r>
              <a:rPr b="0" lang="en-US" sz="3200" spc="-1" strike="noStrike">
                <a:solidFill>
                  <a:srgbClr val="ff9999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ff9999"/>
                </a:solidFill>
                <a:latin typeface="Comic Sans MS"/>
              </a:rPr>
              <a:t>-calculus into </a:t>
            </a:r>
            <a:br>
              <a:rPr sz="3200"/>
            </a:br>
            <a:r>
              <a:rPr b="0" lang="en-US" sz="3200" spc="-1" strike="noStrike">
                <a:solidFill>
                  <a:srgbClr val="ff9999"/>
                </a:solidFill>
                <a:latin typeface="Comic Sans MS"/>
              </a:rPr>
              <a:t>the probabilistic asynchronous </a:t>
            </a:r>
            <a:r>
              <a:rPr b="0" lang="en-US" sz="3200" spc="-1" strike="noStrike">
                <a:solidFill>
                  <a:srgbClr val="ff9999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ff9999"/>
                </a:solidFill>
                <a:latin typeface="Comic Sans MS"/>
              </a:rPr>
              <a:t>-calculus</a:t>
            </a:r>
            <a:endParaRPr b="0" lang="en-US" sz="32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885600" y="4005000"/>
            <a:ext cx="73436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Catuscia Palamidessi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Comic Sans MS"/>
                <a:hlinkClick r:id="rId1"/>
              </a:rPr>
              <a:t>catuscia@lix.polytechnique.fr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Comic Sans MS"/>
                <a:hlinkClick r:id="rId2"/>
              </a:rPr>
              <a:t>www.lix.polytechnique.fr/~catuscia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99"/>
                </a:solidFill>
                <a:latin typeface="Comic Sans MS"/>
              </a:rPr>
              <a:t>Page of the course: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99"/>
                </a:solidFill>
                <a:latin typeface="Comic Sans MS"/>
              </a:rPr>
              <a:t>www.lix.polytechnique.fr/~catuscia/teaching/Pisa</a:t>
            </a:r>
            <a:r>
              <a:rPr b="0" lang="en-US" sz="1800" spc="-1" strike="noStrike">
                <a:solidFill>
                  <a:srgbClr val="00cc66"/>
                </a:solidFill>
                <a:latin typeface="Comic Sans MS"/>
              </a:rPr>
              <a:t>/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of of the theorem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99"/>
                </a:solidFill>
                <a:latin typeface="Comic Sans MS"/>
              </a:rPr>
              <a:t>If part)</a:t>
            </a:r>
            <a:r>
              <a:rPr b="0" lang="en-US" sz="2200" spc="-1" strike="noStrike">
                <a:solidFill>
                  <a:srgbClr val="66ffff"/>
                </a:solidFill>
                <a:latin typeface="Comic Sans MS"/>
              </a:rPr>
              <a:t>  Each cycle can be considered separately. On each of  them the classic algorithm is deadlock-free. Some additional care must be taken for the arcs that are not part of the cycle.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99"/>
                </a:solidFill>
                <a:latin typeface="Comic Sans MS"/>
              </a:rPr>
              <a:t>Only if part)</a:t>
            </a:r>
            <a:r>
              <a:rPr b="0" lang="en-US" sz="2200" spc="-1" strike="noStrike">
                <a:solidFill>
                  <a:srgbClr val="66ffff"/>
                </a:solidFill>
                <a:latin typeface="Comic Sans MS"/>
              </a:rPr>
              <a:t> By analysis of the three possible cases. Actually they are all similar. We  illustrate the first case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676520" y="4495680"/>
            <a:ext cx="3047400" cy="1028880"/>
            <a:chOff x="1676520" y="4495680"/>
            <a:chExt cx="3047400" cy="1028880"/>
          </a:xfrm>
        </p:grpSpPr>
        <p:sp>
          <p:nvSpPr>
            <p:cNvPr id="232" name=""/>
            <p:cNvSpPr/>
            <p:nvPr/>
          </p:nvSpPr>
          <p:spPr>
            <a:xfrm>
              <a:off x="1676520" y="4495680"/>
              <a:ext cx="1142640" cy="1028880"/>
            </a:xfrm>
            <a:prstGeom prst="hexagon">
              <a:avLst>
                <a:gd name="adj" fmla="val 27764"/>
                <a:gd name="vf" fmla="val 115470"/>
              </a:avLst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819160" y="5029200"/>
              <a:ext cx="799920" cy="14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581280" y="4495680"/>
              <a:ext cx="1142640" cy="1028880"/>
            </a:xfrm>
            <a:prstGeom prst="hexagon">
              <a:avLst>
                <a:gd name="adj" fmla="val 27764"/>
                <a:gd name="vf" fmla="val 115470"/>
              </a:avLst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5867280" y="5410080"/>
            <a:ext cx="304920" cy="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867280" y="4800600"/>
            <a:ext cx="304920" cy="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96840" y="5187960"/>
            <a:ext cx="85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Comic Sans MS"/>
              </a:rPr>
              <a:t>ta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255000" y="4552920"/>
            <a:ext cx="14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Comic Sans MS"/>
              </a:rPr>
              <a:t>commit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048120" y="4876920"/>
            <a:ext cx="304560" cy="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2742840" y="5257800"/>
            <a:ext cx="152280" cy="22860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962520" y="4267080"/>
            <a:ext cx="304560" cy="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057400" y="4267080"/>
            <a:ext cx="304920" cy="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741560" y="4507920"/>
            <a:ext cx="119520" cy="28044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3505320" y="4495320"/>
            <a:ext cx="152280" cy="22860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1600200" y="4495320"/>
            <a:ext cx="152280" cy="22860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1617480" y="5193360"/>
            <a:ext cx="119520" cy="28044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760480" y="4507920"/>
            <a:ext cx="119520" cy="28044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4664880" y="5193720"/>
            <a:ext cx="119160" cy="28080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2057040" y="5715000"/>
            <a:ext cx="304920" cy="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4038120" y="5715000"/>
            <a:ext cx="304920" cy="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3522600" y="5269320"/>
            <a:ext cx="119160" cy="28080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4038120" y="5715000"/>
            <a:ext cx="304920" cy="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4664880" y="5193720"/>
            <a:ext cx="119160" cy="28080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741560" y="4507920"/>
            <a:ext cx="119520" cy="28044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4267080"/>
            <a:ext cx="304560" cy="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3505320" y="4495320"/>
            <a:ext cx="152280" cy="22860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3522600" y="5269320"/>
            <a:ext cx="119160" cy="28080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4038120" y="5715000"/>
            <a:ext cx="304920" cy="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4664880" y="5193720"/>
            <a:ext cx="119160" cy="28080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741560" y="4507920"/>
            <a:ext cx="119520" cy="28044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962520" y="4267080"/>
            <a:ext cx="304560" cy="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048120" y="4876920"/>
            <a:ext cx="304560" cy="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3505320" y="4495320"/>
            <a:ext cx="152280" cy="22860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760480" y="4507920"/>
            <a:ext cx="119520" cy="28044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048120" y="4876920"/>
            <a:ext cx="304560" cy="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3522600" y="5269320"/>
            <a:ext cx="119160" cy="28080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 flipV="1">
            <a:off x="3522600" y="5269320"/>
            <a:ext cx="119160" cy="28080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5B19-3AB3-4D40-8641-4A973DB3EB2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of of the theorem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ffff"/>
                </a:solidFill>
                <a:latin typeface="Comic Sans MS"/>
              </a:rPr>
              <a:t>The initial situation has probability p &gt; 0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cc33"/>
                </a:solidFill>
                <a:latin typeface="Comic Sans MS"/>
              </a:rPr>
              <a:t>The scheduler forces the processes to loop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Comic Sans MS"/>
              </a:rPr>
              <a:t>Hence the system has a deadlock (livelock) with probability p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Comic Sans MS"/>
              </a:rPr>
              <a:t>Note that this scheduler is </a:t>
            </a:r>
            <a:r>
              <a:rPr b="1" lang="en-US" sz="2200" spc="-1" strike="noStrike">
                <a:solidFill>
                  <a:srgbClr val="ff3399"/>
                </a:solidFill>
                <a:latin typeface="Comic Sans MS"/>
              </a:rPr>
              <a:t>not fair</a:t>
            </a:r>
            <a:r>
              <a:rPr b="0" lang="en-US" sz="2000" spc="-1" strike="noStrike">
                <a:solidFill>
                  <a:srgbClr val="ff3399"/>
                </a:solidFill>
                <a:latin typeface="Comic Sans MS"/>
              </a:rPr>
              <a:t>. However we can define even a fair scheduler which induces an infinite loop with probability &gt; 0. The idea is to have a scheduler that “gives up” after </a:t>
            </a:r>
            <a:r>
              <a:rPr b="0" lang="en-US" sz="2000" spc="-1" strike="noStrike">
                <a:solidFill>
                  <a:srgbClr val="ccffff"/>
                </a:solidFill>
                <a:latin typeface="Comic Sans MS"/>
              </a:rPr>
              <a:t>n</a:t>
            </a:r>
            <a:r>
              <a:rPr b="0" lang="en-US" sz="2000" spc="-1" strike="noStrike">
                <a:solidFill>
                  <a:srgbClr val="ff3399"/>
                </a:solidFill>
                <a:latin typeface="Comic Sans MS"/>
              </a:rPr>
              <a:t> attempts when the process keep choosing the “wrong” fork, but that increases (by </a:t>
            </a:r>
            <a:r>
              <a:rPr b="0" lang="en-US" sz="2000" spc="-1" strike="noStrike">
                <a:solidFill>
                  <a:srgbClr val="ccffff"/>
                </a:solidFill>
                <a:latin typeface="Comic Sans MS"/>
              </a:rPr>
              <a:t>f</a:t>
            </a:r>
            <a:r>
              <a:rPr b="0" lang="en-US" sz="2000" spc="-1" strike="noStrike">
                <a:solidFill>
                  <a:srgbClr val="ff3399"/>
                </a:solidFill>
                <a:latin typeface="Comic Sans MS"/>
              </a:rPr>
              <a:t>) its “stubborness” at every round.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Comic Sans MS"/>
              </a:rPr>
              <a:t>With a suitable choice of </a:t>
            </a:r>
            <a:r>
              <a:rPr b="0" lang="en-US" sz="2000" spc="-1" strike="noStrike">
                <a:solidFill>
                  <a:srgbClr val="ccffff"/>
                </a:solidFill>
                <a:latin typeface="Comic Sans MS"/>
              </a:rPr>
              <a:t>n</a:t>
            </a:r>
            <a:r>
              <a:rPr b="0" lang="en-US" sz="2000" spc="-1" strike="noStrike">
                <a:solidFill>
                  <a:srgbClr val="9966ff"/>
                </a:solidFill>
                <a:latin typeface="Comic Sans MS"/>
              </a:rPr>
              <a:t> and</a:t>
            </a:r>
            <a:r>
              <a:rPr b="0" lang="en-US" sz="2000" spc="-1" strike="noStrike">
                <a:solidFill>
                  <a:srgbClr val="ccffff"/>
                </a:solidFill>
                <a:latin typeface="Comic Sans MS"/>
              </a:rPr>
              <a:t> f</a:t>
            </a:r>
            <a:r>
              <a:rPr b="0" lang="en-US" sz="2000" spc="-1" strike="noStrike">
                <a:solidFill>
                  <a:srgbClr val="9966ff"/>
                </a:solidFill>
                <a:latin typeface="Comic Sans MS"/>
              </a:rPr>
              <a:t> we have that the probability of a loop is   p/4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68E7-6473-4BBC-801C-890B6819E46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47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mic Sans MS"/>
              </a:rPr>
              <a:t>Solution for the Generalized DP</a:t>
            </a:r>
            <a:endParaRPr b="0" lang="en-US" sz="40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90600" y="1314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ffff"/>
                </a:solidFill>
                <a:latin typeface="Comic Sans MS"/>
              </a:rPr>
              <a:t>As we have seen, the algorithm of Lehmann and Rabin does not work on general graphs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33cc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cc33"/>
                </a:solidFill>
                <a:latin typeface="Comic Sans MS"/>
              </a:rPr>
              <a:t>However, it is easy to modify the algorithm so that it works in general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Comic Sans MS"/>
              </a:rPr>
              <a:t>The idea is to reduce the problem to the pairwise disconnected cycles case: 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Each fork is initially associated with one token. Each phil needs to acquire a token in order to participate to the competition. After this initial phase, the algorithm is the same as the Lehmann &amp; Rabin’s</a:t>
            </a: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ff9933"/>
                </a:solidFill>
                <a:latin typeface="Comic Sans MS"/>
              </a:rPr>
              <a:t>	</a:t>
            </a:r>
            <a:r>
              <a:rPr b="1" lang="en-US" sz="2200" spc="-1" strike="noStrike">
                <a:solidFill>
                  <a:srgbClr val="ff3399"/>
                </a:solidFill>
                <a:latin typeface="Comic Sans MS"/>
              </a:rPr>
              <a:t>Theorem:</a:t>
            </a:r>
            <a:r>
              <a:rPr b="0" lang="en-US" sz="1800" spc="-1" strike="noStrike">
                <a:solidFill>
                  <a:srgbClr val="ff3399"/>
                </a:solidFill>
                <a:latin typeface="Comic Sans MS"/>
              </a:rPr>
              <a:t> The competing phils determine a graph in which all cycles are pairwise disconnected</a:t>
            </a: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Comic Sans MS"/>
              </a:rPr>
              <a:t>     </a:t>
            </a:r>
            <a:r>
              <a:rPr b="0" lang="en-US" sz="1800" spc="-1" strike="noStrike">
                <a:solidFill>
                  <a:srgbClr val="9966ff"/>
                </a:solidFill>
                <a:latin typeface="Comic Sans MS"/>
              </a:rPr>
              <a:t>Proof: By case analysis. To have a situation with two connected cycles we would need a node with two tokens.</a:t>
            </a: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D6C9-359C-4717-8F81-5D41CB4E320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ining Phils: generalized cas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606600" y="2033280"/>
            <a:ext cx="5037120" cy="3882600"/>
            <a:chOff x="606600" y="2033280"/>
            <a:chExt cx="5037120" cy="3882600"/>
          </a:xfrm>
        </p:grpSpPr>
        <p:sp>
          <p:nvSpPr>
            <p:cNvPr id="274" name=""/>
            <p:cNvSpPr/>
            <p:nvPr/>
          </p:nvSpPr>
          <p:spPr>
            <a:xfrm>
              <a:off x="2649600" y="3824280"/>
              <a:ext cx="336600" cy="31212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5580000" y="4425480"/>
              <a:ext cx="1800" cy="1933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499000" y="4392360"/>
              <a:ext cx="14472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122640" y="2428920"/>
              <a:ext cx="1440" cy="306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959040" y="4489200"/>
              <a:ext cx="2163600" cy="1001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3122640" y="4489200"/>
              <a:ext cx="2165400" cy="1001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959040" y="2428920"/>
              <a:ext cx="2163600" cy="2059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122640" y="2428920"/>
              <a:ext cx="2165400" cy="2059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751040" y="301608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95880" y="517824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295880" y="301608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582920" y="5176800"/>
              <a:ext cx="336240" cy="31212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959040" y="4489200"/>
              <a:ext cx="4329000" cy="14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335400" y="404640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3121200" y="5722560"/>
              <a:ext cx="1440" cy="1933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051360" y="5722920"/>
              <a:ext cx="144360" cy="12960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687240" y="4392000"/>
              <a:ext cx="1800" cy="1933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6600" y="4359240"/>
              <a:ext cx="144360" cy="12960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3122640" y="2033280"/>
              <a:ext cx="1440" cy="1933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49560" y="2033640"/>
              <a:ext cx="14436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919600" y="403200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11073600">
              <a:off x="3071880" y="4184640"/>
              <a:ext cx="395280" cy="1692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rot="4467600">
              <a:off x="2976840" y="426348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rot="18067200">
              <a:off x="2873880" y="409320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rot="13974600">
              <a:off x="2958840" y="396000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890800" y="424332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rot="11073600">
              <a:off x="2919600" y="426816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rot="4467600">
              <a:off x="2806560" y="4144680"/>
              <a:ext cx="39492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rot="18067200">
              <a:off x="2800800" y="409320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rot="13974600">
              <a:off x="2774520" y="426312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724120" y="3851280"/>
              <a:ext cx="792360" cy="8107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6033960" y="1698480"/>
            <a:ext cx="2624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Comic Sans MS"/>
              </a:rPr>
              <a:t>Reduction to the classic case: each fork is initially associated with a token. Each phil needs to acquire a token in order to participate to the competition. The competing phils determine a set of subgraphs in which each subgraph contains at most one cyc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601560" y="2039760"/>
            <a:ext cx="5037120" cy="3882960"/>
            <a:chOff x="601560" y="2039760"/>
            <a:chExt cx="5037120" cy="3882960"/>
          </a:xfrm>
        </p:grpSpPr>
        <p:sp>
          <p:nvSpPr>
            <p:cNvPr id="307" name=""/>
            <p:cNvSpPr/>
            <p:nvPr/>
          </p:nvSpPr>
          <p:spPr>
            <a:xfrm>
              <a:off x="2644560" y="383040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cc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5576760" y="4431960"/>
              <a:ext cx="0" cy="19368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494320" y="4398840"/>
              <a:ext cx="14436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117600" y="2435040"/>
              <a:ext cx="1800" cy="306216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954000" y="4495680"/>
              <a:ext cx="2163600" cy="1001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3117600" y="4495680"/>
              <a:ext cx="2165400" cy="100152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954000" y="2435040"/>
              <a:ext cx="2163600" cy="206064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117600" y="2435040"/>
              <a:ext cx="2165400" cy="206064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746000" y="302220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cc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290840" y="518436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cc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290840" y="302220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cc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577880" y="518292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954000" y="4495680"/>
              <a:ext cx="4329000" cy="14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330360" y="405252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116160" y="5729040"/>
              <a:ext cx="1440" cy="19368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046320" y="5729040"/>
              <a:ext cx="144360" cy="13032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682560" y="4398840"/>
              <a:ext cx="1440" cy="19368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01560" y="4365360"/>
              <a:ext cx="144360" cy="13032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3117600" y="2039760"/>
              <a:ext cx="1800" cy="19368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044520" y="2039760"/>
              <a:ext cx="14472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914560" y="403848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rot="11073600">
              <a:off x="3066480" y="419076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rot="4467600">
              <a:off x="2971440" y="426996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18067200">
              <a:off x="2868120" y="410004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rot="13974600">
              <a:off x="2954160" y="396648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886120" y="424944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11073600">
              <a:off x="2914200" y="427500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rot="4467600">
              <a:off x="2801520" y="415116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rot="18067200">
              <a:off x="2795040" y="410004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rot="13974600">
              <a:off x="2770200" y="426960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719440" y="3857400"/>
              <a:ext cx="792000" cy="8110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DB82-8C82-43A3-8D95-46966B65283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" restart="whenNotActive" nodeType="interactiveSeq" fill="hold">
                <p:stCondLst>
                  <p:cond evt="onClick">
                    <p:tgtEl>
                      <p:spTgt spid="306"/>
                    </p:tgtEl>
                  </p:cond>
                </p:stCondLst>
                <p:childTnLst>
                  <p:par>
                    <p:cTn id="191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Encoding </a:t>
            </a:r>
            <a:r>
              <a:rPr b="0" lang="en-US" sz="4400" spc="-1" strike="noStrike">
                <a:solidFill>
                  <a:srgbClr val="ccffff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into </a:t>
            </a:r>
            <a:r>
              <a:rPr b="0" lang="en-US" sz="4400" spc="-1" strike="noStrike">
                <a:solidFill>
                  <a:srgbClr val="ccffff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 baseline="-25000">
                <a:solidFill>
                  <a:srgbClr val="ccffff"/>
                </a:solidFill>
                <a:latin typeface="Comic Sans MS"/>
              </a:rPr>
              <a:t>pa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Comic Sans MS"/>
              </a:rPr>
              <a:t>[[ ]] :  </a:t>
            </a:r>
            <a:r>
              <a:rPr b="1" lang="en-US" sz="2400" spc="-1" strike="noStrike">
                <a:solidFill>
                  <a:srgbClr val="66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3333ff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66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66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66ffff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 baseline="-25000">
                <a:solidFill>
                  <a:srgbClr val="66ffff"/>
                </a:solidFill>
                <a:latin typeface="Comic Sans MS"/>
              </a:rPr>
              <a:t>pa</a:t>
            </a:r>
            <a:r>
              <a:rPr b="1" lang="en-US" sz="2400" spc="-1" strike="noStrike">
                <a:solidFill>
                  <a:srgbClr val="66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Comic Sans MS"/>
              </a:rPr>
              <a:t>Fully distributed</a:t>
            </a:r>
            <a:r>
              <a:rPr b="0" lang="en-US" sz="2400" spc="-1" strike="noStrike">
                <a:solidFill>
                  <a:srgbClr val="66ff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66ff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66ff66"/>
                </a:solidFill>
                <a:latin typeface="Comic Sans MS"/>
              </a:rPr>
              <a:t>[[ P | Q ]]  =  [[ P ]]  |  [[ Q ]]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Comic Sans MS"/>
              </a:rPr>
              <a:t>Uniform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[[ P </a:t>
            </a:r>
            <a:r>
              <a:rPr b="0" lang="en-US" sz="2000" spc="-1" strike="noStrike">
                <a:solidFill>
                  <a:srgbClr val="ffff66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 ]]   =  [[ P ]] </a:t>
            </a:r>
            <a:r>
              <a:rPr b="0" lang="en-US" sz="2000" spc="-1" strike="noStrike">
                <a:solidFill>
                  <a:srgbClr val="ffff66"/>
                </a:solidFill>
                <a:latin typeface="Symbol"/>
                <a:ea typeface="Symbol"/>
              </a:rPr>
              <a:t>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Comic Sans MS"/>
              </a:rPr>
              <a:t>Correct wrt a notion of probabilistic testing semantic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66ff"/>
                </a:solidFill>
                <a:latin typeface="Comic Sans MS"/>
              </a:rPr>
              <a:t>P must O     iff     [[ P ]] must [[ O ]] with prob 1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047A-4109-43D8-BEA7-C2108D9D4FF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Encoding </a:t>
            </a:r>
            <a:r>
              <a:rPr b="0" lang="en-US" sz="4400" spc="-1" strike="noStrike">
                <a:solidFill>
                  <a:srgbClr val="ccffff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into </a:t>
            </a:r>
            <a:r>
              <a:rPr b="0" lang="en-US" sz="4400" spc="-1" strike="noStrike">
                <a:solidFill>
                  <a:srgbClr val="ccffff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 baseline="-25000">
                <a:solidFill>
                  <a:srgbClr val="ccffff"/>
                </a:solidFill>
                <a:latin typeface="Comic Sans MS"/>
              </a:rPr>
              <a:t>pa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0600" y="952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Idea: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66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ff"/>
                </a:solidFill>
                <a:latin typeface="Comic Sans MS"/>
              </a:rPr>
              <a:t>Every mixed choice is translated into a parallel comp. of processes corresponding to the branches, plus a lock </a:t>
            </a:r>
            <a:r>
              <a:rPr b="0" lang="en-US" sz="1800" spc="-1" strike="noStrike">
                <a:solidFill>
                  <a:srgbClr val="ccffff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66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ff"/>
                </a:solidFill>
                <a:latin typeface="Comic Sans MS"/>
              </a:rPr>
              <a:t>The input processes compete for acquiring both its own lock and the lock of the partner</a:t>
            </a: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66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ff"/>
                </a:solidFill>
                <a:latin typeface="Comic Sans MS"/>
              </a:rPr>
              <a:t>The input process which succeeds first, establishes the communication. The other alternatives are discarded </a:t>
            </a: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</p:txBody>
      </p:sp>
      <p:sp>
        <p:nvSpPr>
          <p:cNvPr id="88" name=""/>
          <p:cNvSpPr/>
          <p:nvPr/>
        </p:nvSpPr>
        <p:spPr>
          <a:xfrm>
            <a:off x="4005360" y="4057560"/>
            <a:ext cx="1001520" cy="231840"/>
          </a:xfrm>
          <a:custGeom>
            <a:avLst/>
            <a:gdLst>
              <a:gd name="textAreaLeft" fmla="*/ 124920 w 1001520"/>
              <a:gd name="textAreaRight" fmla="*/ 876600 w 1001520"/>
              <a:gd name="textAreaTop" fmla="*/ 57960 h 231840"/>
              <a:gd name="textAreaBottom" fmla="*/ 173880 h 2318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278080" y="3753000"/>
            <a:ext cx="73980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17880" y="3753000"/>
            <a:ext cx="0" cy="782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2277720" y="4057560"/>
            <a:ext cx="739800" cy="47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89160" y="400680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17880" y="3701880"/>
            <a:ext cx="88920" cy="101880"/>
          </a:xfrm>
          <a:prstGeom prst="ellipse">
            <a:avLst/>
          </a:prstGeom>
          <a:solidFill>
            <a:srgbClr val="cc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73240" y="453564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06800" y="3568680"/>
            <a:ext cx="3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74760" y="44528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84960" y="387360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000840" y="3803760"/>
            <a:ext cx="73980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740640" y="3803760"/>
            <a:ext cx="0" cy="782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6000480" y="4108320"/>
            <a:ext cx="739800" cy="47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911920" y="405756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40640" y="375300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696000" y="458640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78600" y="3506760"/>
            <a:ext cx="61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P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43960" y="4056120"/>
            <a:ext cx="4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Q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42120" y="4006800"/>
            <a:ext cx="69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757200" y="343836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757200" y="463716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631840" y="393552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344600" y="5600880"/>
            <a:ext cx="7161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00080" y="5335560"/>
            <a:ext cx="775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Comic Sans MS"/>
              </a:rPr>
              <a:t>The problem is reduced to a generalized dining philosophers problem where each fork (lock) can be adjacent to more than two philosoph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467080" y="4586400"/>
            <a:ext cx="506160" cy="50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378160" y="458640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2278080" y="4057200"/>
            <a:ext cx="100080" cy="528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78600" y="463716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978520" y="4107960"/>
            <a:ext cx="100080" cy="528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6167520" y="4637160"/>
            <a:ext cx="528480" cy="50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15720" y="460692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653080" y="4268880"/>
            <a:ext cx="69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’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906520" y="471024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4687920"/>
            <a:ext cx="36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8909-B51C-47C5-9574-88A58152527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mic Sans MS"/>
              </a:rPr>
              <a:t>Dining Philosophers: classic case</a:t>
            </a:r>
            <a:endParaRPr b="0" lang="en-US" sz="40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82480" y="1550520"/>
            <a:ext cx="8066160" cy="40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Each fork is shared by exactly two philosopher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2898720" y="2289240"/>
            <a:ext cx="3476160" cy="3482640"/>
            <a:chOff x="2898720" y="2289240"/>
            <a:chExt cx="3476160" cy="3482640"/>
          </a:xfrm>
        </p:grpSpPr>
        <p:sp>
          <p:nvSpPr>
            <p:cNvPr id="125" name=""/>
            <p:cNvSpPr/>
            <p:nvPr/>
          </p:nvSpPr>
          <p:spPr>
            <a:xfrm>
              <a:off x="3237120" y="2911680"/>
              <a:ext cx="2741040" cy="2127600"/>
            </a:xfrm>
            <a:prstGeom prst="triangle">
              <a:avLst>
                <a:gd name="adj" fmla="val 50000"/>
              </a:avLst>
            </a:prstGeom>
            <a:solidFill>
              <a:srgbClr val="00004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383800" y="3346560"/>
              <a:ext cx="594720" cy="54252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237120" y="3346560"/>
              <a:ext cx="595080" cy="54252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361400" y="5229360"/>
              <a:ext cx="594720" cy="54252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6317640" y="4839120"/>
              <a:ext cx="0" cy="4489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247080" y="4827240"/>
              <a:ext cx="127800" cy="30132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2968560" y="4919040"/>
              <a:ext cx="0" cy="4489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898720" y="4906800"/>
              <a:ext cx="127800" cy="30168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4601880" y="2300760"/>
              <a:ext cx="0" cy="4489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31320" y="2289240"/>
              <a:ext cx="128160" cy="30132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451040" y="4048920"/>
              <a:ext cx="349920" cy="14724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66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11073600">
              <a:off x="4585680" y="4181400"/>
              <a:ext cx="349920" cy="1468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66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4467600">
              <a:off x="4505760" y="4248000"/>
              <a:ext cx="342720" cy="1504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66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18067200">
              <a:off x="4413600" y="4100760"/>
              <a:ext cx="342720" cy="1504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66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13974600">
              <a:off x="4489560" y="3985560"/>
              <a:ext cx="342720" cy="1504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66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425840" y="4232520"/>
              <a:ext cx="349920" cy="14724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66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11073600">
              <a:off x="4450680" y="4253760"/>
              <a:ext cx="349920" cy="14724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66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4467600">
              <a:off x="4354920" y="4144680"/>
              <a:ext cx="342720" cy="1504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66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18067200">
              <a:off x="4348800" y="4100760"/>
              <a:ext cx="342720" cy="1504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66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13974600">
              <a:off x="4326480" y="4248360"/>
              <a:ext cx="342720" cy="1504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66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249800" y="3901680"/>
              <a:ext cx="702000" cy="7038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F90E-F156-4EE1-8AF7-D123D63F907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76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The algorithm of Lehmann and Rabin</a:t>
            </a:r>
            <a:endParaRPr b="0" lang="en-US" sz="36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4720" y="1333080"/>
            <a:ext cx="830592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Think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choose first_fork in {left,right}   %commit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if taken(first_fork) then goto 3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take(first_fork)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if taken(first_fork) then {release(firstfork); goto 2}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take(second_fork)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eat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release(second_fork)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release(first_fork)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goto</a:t>
            </a:r>
            <a:r>
              <a:rPr b="0" lang="en-US" sz="2800" spc="-1" strike="noStrike">
                <a:solidFill>
                  <a:srgbClr val="66ffff"/>
                </a:solidFill>
                <a:latin typeface="Comic Sans MS"/>
              </a:rPr>
              <a:t> 1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E848-D2DA-46B0-8107-BDE577E877C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blems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Wrt to our encoding goal, the algorithm of Lehmann and Rabin has two problems: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839880" indent="-49536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Comic Sans MS"/>
              </a:rPr>
              <a:t>It only works for certain kinds of graphs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839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839880" indent="-49536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It works only for </a:t>
            </a:r>
            <a:r>
              <a:rPr b="1" lang="en-US" sz="2200" spc="-1" strike="noStrike">
                <a:solidFill>
                  <a:srgbClr val="ffff00"/>
                </a:solidFill>
                <a:latin typeface="Comic Sans MS"/>
              </a:rPr>
              <a:t>fair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edulers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839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ff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Problem 2 however can be solved by replacing the busy waiting in step 3 with suspension.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839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9966ff"/>
                </a:solidFill>
                <a:latin typeface="Comic Sans MS"/>
              </a:rPr>
              <a:t>[Duflot, Friburg, Picaronny 2002] – see also Herescu’s PhD thesis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58D4-34C3-4537-BCE1-E1542410860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523800" y="1452600"/>
            <a:ext cx="8367840" cy="46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Think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choose first_fork in {left,right}   %commit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if taken(first_fork) then wait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take(first_fork)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if taken(first_fork) then goto 2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take(second_fork)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eat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release(second_fork)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release(first_fork)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goto</a:t>
            </a:r>
            <a:r>
              <a:rPr b="0" lang="en-US" sz="2800" spc="-1" strike="noStrike">
                <a:solidFill>
                  <a:srgbClr val="66ffff"/>
                </a:solidFill>
                <a:latin typeface="Comic Sans MS"/>
              </a:rPr>
              <a:t> 1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504720" y="1461960"/>
            <a:ext cx="8367840" cy="46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Thi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choose first_fork in {left,right}   %comm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if taken(first_fork) then goto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take(first_for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if taken(first_fork) then goto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take(second_fork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release(second_fork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release(first_for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goto</a:t>
            </a:r>
            <a:r>
              <a:rPr b="0" lang="en-US" sz="2800" spc="-1" strike="noStrike">
                <a:solidFill>
                  <a:srgbClr val="66ffff"/>
                </a:solidFill>
                <a:latin typeface="Comic Sans MS"/>
              </a:rPr>
              <a:t>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0120" y="123840"/>
            <a:ext cx="777888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The algorithm of Lehmann and Rabin</a:t>
            </a:r>
            <a:br>
              <a:rPr sz="2800"/>
            </a:br>
            <a:r>
              <a:rPr b="0" lang="en-US" sz="2800" spc="-1" strike="noStrike">
                <a:solidFill>
                  <a:srgbClr val="ff6699"/>
                </a:solidFill>
                <a:latin typeface="Comic Sans MS"/>
              </a:rPr>
              <a:t>Modified so to avoid the need for fair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732960" y="133200"/>
            <a:ext cx="75502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The algorithm of Lehmann and Rabin</a:t>
            </a:r>
            <a:endParaRPr b="0" lang="en-US" sz="32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07AC-9363-4A5E-A33E-17EA4CD6EB3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ining Phils: generalized cas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55" name=""/>
          <p:cNvSpPr/>
          <p:nvPr/>
        </p:nvSpPr>
        <p:spPr>
          <a:xfrm>
            <a:off x="475560" y="1262160"/>
            <a:ext cx="833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ach fork can be shared by more than two philosophers</a:t>
            </a:r>
            <a:r>
              <a:rPr b="0" lang="en-US" sz="2400" spc="-1" strike="noStrike">
                <a:solidFill>
                  <a:srgbClr val="ffffff"/>
                </a:solidFill>
                <a:latin typeface="Webdings"/>
                <a:ea typeface="Webdings"/>
              </a:rPr>
              <a:t>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035080" y="2176200"/>
            <a:ext cx="5037120" cy="3882600"/>
            <a:chOff x="2035080" y="2176200"/>
            <a:chExt cx="5037120" cy="3882600"/>
          </a:xfrm>
        </p:grpSpPr>
        <p:sp>
          <p:nvSpPr>
            <p:cNvPr id="157" name=""/>
            <p:cNvSpPr/>
            <p:nvPr/>
          </p:nvSpPr>
          <p:spPr>
            <a:xfrm>
              <a:off x="4078080" y="3967200"/>
              <a:ext cx="336600" cy="31212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7008480" y="4568400"/>
              <a:ext cx="1800" cy="1933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927480" y="4535280"/>
              <a:ext cx="14472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551120" y="2571840"/>
              <a:ext cx="1440" cy="306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387520" y="4632120"/>
              <a:ext cx="2163600" cy="1001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551120" y="4632120"/>
              <a:ext cx="2165400" cy="1001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2387520" y="2571840"/>
              <a:ext cx="2163600" cy="2059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551120" y="2571840"/>
              <a:ext cx="2165400" cy="2059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179520" y="315900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24360" y="532116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724360" y="315900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11400" y="5319720"/>
              <a:ext cx="336240" cy="31212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387520" y="4632120"/>
              <a:ext cx="4329000" cy="14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763880" y="418932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4549680" y="5865480"/>
              <a:ext cx="1440" cy="1933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79840" y="5865840"/>
              <a:ext cx="144360" cy="12960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2115720" y="4534920"/>
              <a:ext cx="1800" cy="1933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35080" y="4502160"/>
              <a:ext cx="144360" cy="12960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4551120" y="2176200"/>
              <a:ext cx="1440" cy="1933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478040" y="2176560"/>
              <a:ext cx="14436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348080" y="417492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1073600">
              <a:off x="4500360" y="4327560"/>
              <a:ext cx="395280" cy="1692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4467600">
              <a:off x="4405320" y="440640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18067200">
              <a:off x="4302360" y="423612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13974600">
              <a:off x="4387320" y="410292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319280" y="438624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11073600">
              <a:off x="4348080" y="441108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4467600">
              <a:off x="4235040" y="4287600"/>
              <a:ext cx="39492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18067200">
              <a:off x="4229280" y="423612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13974600">
              <a:off x="4203000" y="440604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152600" y="3994200"/>
              <a:ext cx="792360" cy="8107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2030400" y="2182680"/>
            <a:ext cx="5037120" cy="3882960"/>
            <a:chOff x="2030400" y="2182680"/>
            <a:chExt cx="5037120" cy="3882960"/>
          </a:xfrm>
        </p:grpSpPr>
        <p:sp>
          <p:nvSpPr>
            <p:cNvPr id="189" name=""/>
            <p:cNvSpPr/>
            <p:nvPr/>
          </p:nvSpPr>
          <p:spPr>
            <a:xfrm>
              <a:off x="4073400" y="397332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7005600" y="4574880"/>
              <a:ext cx="0" cy="19368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923160" y="4541760"/>
              <a:ext cx="14436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46440" y="2577960"/>
              <a:ext cx="1800" cy="306216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382840" y="4638600"/>
              <a:ext cx="2163600" cy="100152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4546440" y="4638600"/>
              <a:ext cx="2165400" cy="100152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2382840" y="2577960"/>
              <a:ext cx="2163600" cy="206064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546440" y="2577960"/>
              <a:ext cx="2165400" cy="206064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174840" y="316512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719680" y="532728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719680" y="316512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006720" y="532584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382840" y="4638600"/>
              <a:ext cx="4329000" cy="14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759200" y="419544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4545000" y="5871960"/>
              <a:ext cx="1440" cy="19368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475160" y="5871960"/>
              <a:ext cx="144360" cy="13032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2111400" y="4541760"/>
              <a:ext cx="1440" cy="19368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030400" y="4508280"/>
              <a:ext cx="144360" cy="13032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4546440" y="2182680"/>
              <a:ext cx="1800" cy="19368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473360" y="2182680"/>
              <a:ext cx="14472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343400" y="418140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1073600">
              <a:off x="4495320" y="433368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4467600">
              <a:off x="4400280" y="441288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18067200">
              <a:off x="4296960" y="424296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13974600">
              <a:off x="4383000" y="410940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14960" y="439236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11073600">
              <a:off x="4343040" y="441792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rot="4467600">
              <a:off x="4230360" y="429408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18067200">
              <a:off x="4223880" y="424296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13974600">
              <a:off x="4199040" y="441252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48280" y="4000320"/>
              <a:ext cx="792000" cy="8110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D3E8-B60D-499E-BB82-D114FC7C2CA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ining Phils: generalized cas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Comic Sans MS"/>
              </a:rPr>
              <a:t>Theorem:</a:t>
            </a:r>
            <a:r>
              <a:rPr b="0" lang="en-US" sz="3200" spc="-1" strike="noStrike">
                <a:solidFill>
                  <a:srgbClr val="66ffff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66ffff"/>
                </a:solidFill>
                <a:latin typeface="Comic Sans MS"/>
              </a:rPr>
              <a:t>The algorithm of Lehmann and Rabin is deadlock-free </a:t>
            </a: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if and only if</a:t>
            </a:r>
            <a:r>
              <a:rPr b="0" lang="en-US" sz="2600" spc="-1" strike="noStrike">
                <a:solidFill>
                  <a:srgbClr val="66ffff"/>
                </a:solidFill>
                <a:latin typeface="Comic Sans MS"/>
              </a:rPr>
              <a:t> all cycles are pairwise disconnected</a:t>
            </a:r>
            <a:endParaRPr b="0" lang="en-US" sz="2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33cc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cc33"/>
                </a:solidFill>
                <a:latin typeface="Comic Sans MS"/>
              </a:rPr>
              <a:t>There are essentially three ways in which two cycles can be connected:</a:t>
            </a:r>
            <a:endParaRPr b="0" lang="en-US" sz="2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22" name=""/>
          <p:cNvSpPr/>
          <p:nvPr/>
        </p:nvSpPr>
        <p:spPr>
          <a:xfrm>
            <a:off x="1219320" y="4648320"/>
            <a:ext cx="761760" cy="685800"/>
          </a:xfrm>
          <a:prstGeom prst="hexagon">
            <a:avLst>
              <a:gd name="adj" fmla="val 27769"/>
              <a:gd name="vf" fmla="val 115470"/>
            </a:avLst>
          </a:prstGeom>
          <a:noFill/>
          <a:ln w="284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81080" y="4952880"/>
            <a:ext cx="533520" cy="0"/>
          </a:xfrm>
          <a:prstGeom prst="line">
            <a:avLst/>
          </a:prstGeom>
          <a:ln w="284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514600" y="4648320"/>
            <a:ext cx="762120" cy="685800"/>
          </a:xfrm>
          <a:prstGeom prst="hexagon">
            <a:avLst>
              <a:gd name="adj" fmla="val 27782"/>
              <a:gd name="vf" fmla="val 115470"/>
            </a:avLst>
          </a:prstGeom>
          <a:noFill/>
          <a:ln w="284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809880" y="4648320"/>
            <a:ext cx="762120" cy="685800"/>
          </a:xfrm>
          <a:prstGeom prst="hexagon">
            <a:avLst>
              <a:gd name="adj" fmla="val 27782"/>
              <a:gd name="vf" fmla="val 115470"/>
            </a:avLst>
          </a:prstGeom>
          <a:noFill/>
          <a:ln w="284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0" y="4648320"/>
            <a:ext cx="762120" cy="685800"/>
          </a:xfrm>
          <a:prstGeom prst="hexagon">
            <a:avLst>
              <a:gd name="adj" fmla="val 27782"/>
              <a:gd name="vf" fmla="val 115470"/>
            </a:avLst>
          </a:prstGeom>
          <a:noFill/>
          <a:ln w="284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477120" y="4648320"/>
            <a:ext cx="761760" cy="685800"/>
          </a:xfrm>
          <a:prstGeom prst="hexagon">
            <a:avLst>
              <a:gd name="adj" fmla="val 27769"/>
              <a:gd name="vf" fmla="val 115470"/>
            </a:avLst>
          </a:prstGeom>
          <a:noFill/>
          <a:ln w="284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95880" y="4648320"/>
            <a:ext cx="762120" cy="685800"/>
          </a:xfrm>
          <a:prstGeom prst="hexagon">
            <a:avLst>
              <a:gd name="adj" fmla="val 27782"/>
              <a:gd name="vf" fmla="val 115470"/>
            </a:avLst>
          </a:prstGeom>
          <a:noFill/>
          <a:ln w="284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1C80-5304-4DEC-8CCA-C8B3273F9B9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23:17:22Z</dcterms:created>
  <dc:creator>catuscia</dc:creator>
  <dc:description/>
  <dc:language>en-US</dc:language>
  <cp:lastModifiedBy>catuscia</cp:lastModifiedBy>
  <dcterms:modified xsi:type="dcterms:W3CDTF">2004-07-10T05:22:19Z</dcterms:modified>
  <cp:revision>146</cp:revision>
  <dc:subject/>
  <dc:title>Concurrency 5</dc:title>
</cp:coreProperties>
</file>