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ED52-559B-4270-B8C5-23A4F562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DCF-FB77-4ADC-9CBA-BD7C570F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86F6-B7D7-430D-B174-47E2D520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F45-6D74-4644-B1C3-238610BE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0D74-D9C4-40CE-BAA8-DB4D35E1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1A0D-DC09-4294-9D47-50A4EC17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E858-2FF4-4FCC-A756-ACA6B1D8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A510-10AC-4764-9A78-D3D2323A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8C0F-DA51-4E01-B498-FE99D58D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4F8B-AAE3-4BAC-AF9B-5D0EC2F4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27CF-6F9F-4A0A-ABA6-E30957FD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3006-318E-430B-A022-E5F11371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77D7-2CE1-4DC6-864E-0C5DB694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69C5-A823-4501-8990-883E325B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7F7E-84FE-4BE0-BF27-194EBFD5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8E33-81E8-48E0-AB5B-E33E619D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BAC8-C376-43B9-8FC4-EA519509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4E1-93FB-42BB-AC47-9F810D5A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D610-3479-45EF-9B0E-A24FDEF5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4384-E91B-429F-8EE0-E4269A4A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8B7-8ED4-4C1F-8E49-05C1C949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5F2B-0609-44BA-9B42-5D531C40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6CCD-1368-4918-8B34-1E0B744F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5040-BF58-4CDF-B853-C743332A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7760" y="6619680"/>
            <a:ext cx="21812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3440" y="6619680"/>
            <a:ext cx="284796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7400" y="6619680"/>
            <a:ext cx="21528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4FA1-6974-477E-9733-03FF0149F1E0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C43B-65D0-4A6F-AD5B-8A3818D0B712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b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8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Encoding the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 into </a:t>
            </a:r>
            <a:br>
              <a:rPr sz="3200"/>
            </a:b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the probabilistic asynchronous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 Each cycle can be considered separately. On each of  them the classic algorithm is deadlock-free. Some additional care must be taken for the arcs that are not part of the cycle.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Only 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By analysis of the three possible cases. Actually they are all similar. We  illustrate the first case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676520" y="4495680"/>
            <a:ext cx="3047400" cy="1028880"/>
            <a:chOff x="1676520" y="4495680"/>
            <a:chExt cx="3047400" cy="1028880"/>
          </a:xfrm>
        </p:grpSpPr>
        <p:sp>
          <p:nvSpPr>
            <p:cNvPr id="232" name=""/>
            <p:cNvSpPr/>
            <p:nvPr/>
          </p:nvSpPr>
          <p:spPr>
            <a:xfrm>
              <a:off x="167652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19160" y="5029200"/>
              <a:ext cx="799920" cy="1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8128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867280" y="541008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8006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96840" y="51879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t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55000" y="4552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com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742840" y="525780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426708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60020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1617480" y="519336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05704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8AEE-89D0-4933-A0B1-D8CB471312B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The initial situation has probability p &gt; 0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The scheduler forces the processes to loo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Hence the system has a deadlock (livelock) with probability 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Note that this scheduler is 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not fair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. However we can define even a fair scheduler which induces an infinite loop with probability &gt; 0. The idea is to have a scheduler that “gives up” after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 attempts when the process keep choosing the “wrong” fork, but that increases (by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) its “stubborness” at every round.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With a suitable choice of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and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 f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we have that the probability of a loop is   p/4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CD6C-0DD8-406C-86A2-6C5D1E9737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Solution for the Generalized DP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060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As we have seen, the algorithm of Lehmann and Rabin does not work on general graphs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However, it is easy to modify the algorithm so that it works in general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The idea is to reduce the problem to the pairwise disconnected cycles case: 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Each fork is initially associated with one token. Each phil needs to acquire a token in order to participate to the competition. After this initial phase, the algorithm is the same as the Lehmann &amp; Rabin’s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The competing phils determine a graph in which all cycles are pairwise disconnected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9966ff"/>
                </a:solidFill>
                <a:latin typeface="Comic Sans MS"/>
              </a:rPr>
              <a:t>Proof: By case analysis. To have a situation with two connected cycles we would need a node with two tokens.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1319-778D-40E1-A80E-FFA87A10CA4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06600" y="2033280"/>
            <a:ext cx="5037120" cy="3882600"/>
            <a:chOff x="606600" y="2033280"/>
            <a:chExt cx="5037120" cy="3882600"/>
          </a:xfrm>
        </p:grpSpPr>
        <p:sp>
          <p:nvSpPr>
            <p:cNvPr id="274" name=""/>
            <p:cNvSpPr/>
            <p:nvPr/>
          </p:nvSpPr>
          <p:spPr>
            <a:xfrm>
              <a:off x="2649600" y="382428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580000" y="442548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99000" y="43923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22640" y="242892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59040" y="448920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122640" y="448920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959040" y="242892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22640" y="242892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5104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95880" y="51782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9588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82920" y="517680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59040" y="44892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35400" y="40464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121200" y="572256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51360" y="572292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87240" y="43920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6600" y="43592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122640" y="20332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9560" y="20336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19600" y="40320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1073600">
              <a:off x="3071880" y="418464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4467600">
              <a:off x="2976840" y="426348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8067200">
              <a:off x="287388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74600">
              <a:off x="2958840" y="39600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90800" y="42433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1073600">
              <a:off x="2919600" y="426816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4467600">
              <a:off x="2806560" y="414468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8067200">
              <a:off x="280080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3974600">
              <a:off x="2774520" y="4263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24120" y="385128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6033960" y="1698480"/>
            <a:ext cx="2624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Reduction to the classic case: each fork is initially associated with a token. Each phil needs to acquire a token in order to participate to the competition. The competing phils determine a set of subgraphs in which each subgraph contains at most one cy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01560" y="2039760"/>
            <a:ext cx="5037120" cy="3882960"/>
            <a:chOff x="601560" y="2039760"/>
            <a:chExt cx="5037120" cy="3882960"/>
          </a:xfrm>
        </p:grpSpPr>
        <p:sp>
          <p:nvSpPr>
            <p:cNvPr id="307" name=""/>
            <p:cNvSpPr/>
            <p:nvPr/>
          </p:nvSpPr>
          <p:spPr>
            <a:xfrm>
              <a:off x="2644560" y="38304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576760" y="443196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94320" y="43988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17600" y="243504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54000" y="449568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117600" y="449568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954000" y="243504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17600" y="243504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4600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90840" y="518436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9084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77880" y="51829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54000" y="449568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30360" y="40525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116160" y="57290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46320" y="572904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82560" y="43988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1560" y="43653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117600" y="203976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44520" y="20397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14560" y="40384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1073600">
              <a:off x="3066480" y="41907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4467600">
              <a:off x="2971440" y="4269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8067200">
              <a:off x="286812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3974600">
              <a:off x="2954160" y="39664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86120" y="42494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1073600">
              <a:off x="2914200" y="42750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4467600">
              <a:off x="2801520" y="41511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8067200">
              <a:off x="279504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3974600">
              <a:off x="2770200" y="42696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19440" y="385740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ACD0-B6A9-4303-94F4-23061E3E19D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[[ ]] : 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66ffff"/>
                </a:solidFill>
                <a:latin typeface="Comic Sans MS"/>
              </a:rPr>
              <a:t>pa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Fully distributed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[[ P | Q ]]  =  [[ P ]]  |  [[ Q ]]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Unifor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[[ P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]]   =  [[ P ]]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Correct wrt a notion of probabilistic testing semantic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66ff"/>
                </a:solidFill>
                <a:latin typeface="Comic Sans MS"/>
              </a:rPr>
              <a:t>P must O     iff     [[ P ]] must [[ O ]] with prob 1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8BA8-2328-4B12-B799-FD14ED186F5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0600" y="95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Every mixed choice is translated into a parallel comp. of processes corresponding to the branches, plus a lock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es compete for acquiring both its own lock and the lock of the partner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 which succeeds first, establishes the communication. The other alternatives are discarded 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4005360" y="4057560"/>
            <a:ext cx="1001520" cy="231840"/>
          </a:xfrm>
          <a:custGeom>
            <a:avLst/>
            <a:gdLst>
              <a:gd name="textAreaLeft" fmla="*/ 124920 w 1001520"/>
              <a:gd name="textAreaRight" fmla="*/ 876600 w 1001520"/>
              <a:gd name="textAreaTop" fmla="*/ 57960 h 231840"/>
              <a:gd name="textAreaBottom" fmla="*/ 173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78080" y="375300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17880" y="375300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277720" y="405756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89160" y="40068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17880" y="3701880"/>
            <a:ext cx="88920" cy="1018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3240" y="453564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6800" y="35686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74760" y="445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84960" y="3873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00840" y="380376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40640" y="380376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000480" y="410832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11920" y="40575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40640" y="37530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9600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78600" y="35067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960" y="40561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42120" y="400680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57200" y="34383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57200" y="46371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1840" y="39355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44600" y="5600880"/>
            <a:ext cx="716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00080" y="533556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The problem is reduced to a generalized dining philosophers problem where each fork (lock) can be adjacent to more than two philosop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467080" y="4586400"/>
            <a:ext cx="50616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7816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278080" y="405720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78600" y="46371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978520" y="410796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67520" y="4637160"/>
            <a:ext cx="52848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15720" y="46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3080" y="426888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06520" y="471024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468792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08E-C2C5-4167-9DA1-529517AB17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Dining Philosophers: classic case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2480" y="1550520"/>
            <a:ext cx="806616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898720" y="2289240"/>
            <a:ext cx="3476160" cy="3482640"/>
            <a:chOff x="2898720" y="2289240"/>
            <a:chExt cx="3476160" cy="3482640"/>
          </a:xfrm>
        </p:grpSpPr>
        <p:sp>
          <p:nvSpPr>
            <p:cNvPr id="125" name=""/>
            <p:cNvSpPr/>
            <p:nvPr/>
          </p:nvSpPr>
          <p:spPr>
            <a:xfrm>
              <a:off x="3237120" y="2911680"/>
              <a:ext cx="2741040" cy="2127600"/>
            </a:xfrm>
            <a:prstGeom prst="triangle">
              <a:avLst>
                <a:gd name="adj" fmla="val 50000"/>
              </a:avLst>
            </a:prstGeom>
            <a:solidFill>
              <a:srgbClr val="00004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83800" y="33465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37120" y="3346560"/>
              <a:ext cx="59508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61400" y="52293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317640" y="483912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47080" y="4827240"/>
              <a:ext cx="12780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968560" y="491904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98720" y="4906800"/>
              <a:ext cx="127800" cy="30168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601880" y="230076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31320" y="2289240"/>
              <a:ext cx="12816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51040" y="40489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1073600">
              <a:off x="4585680" y="4181400"/>
              <a:ext cx="349920" cy="146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4467600">
              <a:off x="4505760" y="424800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8067200">
              <a:off x="44136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3974600">
              <a:off x="4489560" y="39855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25840" y="42325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1073600">
              <a:off x="4450680" y="425376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4467600">
              <a:off x="4354920" y="414468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8067200">
              <a:off x="43488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3974600">
              <a:off x="4326480" y="42483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49800" y="3901680"/>
              <a:ext cx="702000" cy="703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CD87-A02E-42A2-8238-0CB0A84B0C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4720" y="1333080"/>
            <a:ext cx="83059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{release(firstfork); goto 2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865-EA6D-4560-BD95-7A420D40D0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Wrt to our encoding goal, the algorithm of Lehmann and Rabin has two problem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It only works for certain kinds of graph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t works only for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fair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eduler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Problem 2 however can be solved by replacing the busy waiting in step 3 with suspension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[Duflot, Friburg, Picaronny 2002] – see also Herescu’s PhD thesi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B3EC-47BF-4CE2-9EE3-1471E67643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23800" y="1452600"/>
            <a:ext cx="836784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f taken(first_fork) then wa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504720" y="1461960"/>
            <a:ext cx="836784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0120" y="123840"/>
            <a:ext cx="777888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Modified so to avoid the need for fair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732960" y="133200"/>
            <a:ext cx="75502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59A2-3943-4B3C-A365-B0ED987EBC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75560" y="1262160"/>
            <a:ext cx="83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fork can be shared by more than two philosophers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035080" y="2176200"/>
            <a:ext cx="5037120" cy="3882600"/>
            <a:chOff x="2035080" y="2176200"/>
            <a:chExt cx="5037120" cy="3882600"/>
          </a:xfrm>
        </p:grpSpPr>
        <p:sp>
          <p:nvSpPr>
            <p:cNvPr id="157" name=""/>
            <p:cNvSpPr/>
            <p:nvPr/>
          </p:nvSpPr>
          <p:spPr>
            <a:xfrm>
              <a:off x="4078080" y="396720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008480" y="45684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27480" y="45352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51120" y="257184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87520" y="463212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551120" y="463212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387520" y="257184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51120" y="257184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7952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5321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11400" y="531972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87520" y="463212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63880" y="418932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549680" y="58654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79840" y="58658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15720" y="453492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35080" y="450216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551120" y="217620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78040" y="21765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8080" y="417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1073600">
              <a:off x="4500360" y="432756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4467600">
              <a:off x="4405320" y="44064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8067200">
              <a:off x="430236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974600">
              <a:off x="4387320" y="41029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19280" y="438624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1073600">
              <a:off x="4348080" y="4411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4467600">
              <a:off x="4235040" y="428760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8067200">
              <a:off x="422928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3974600">
              <a:off x="4203000" y="44060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2600" y="399420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030400" y="2182680"/>
            <a:ext cx="5037120" cy="3882960"/>
            <a:chOff x="2030400" y="2182680"/>
            <a:chExt cx="5037120" cy="3882960"/>
          </a:xfrm>
        </p:grpSpPr>
        <p:sp>
          <p:nvSpPr>
            <p:cNvPr id="189" name=""/>
            <p:cNvSpPr/>
            <p:nvPr/>
          </p:nvSpPr>
          <p:spPr>
            <a:xfrm>
              <a:off x="4073400" y="39733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005600" y="457488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160" y="45417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46440" y="257796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82840" y="4638600"/>
              <a:ext cx="21636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546440" y="463860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382840" y="257796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46440" y="257796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7484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9680" y="532728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1968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06720" y="53258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82840" y="46386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59200" y="41954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545000" y="58719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75160" y="58719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111400" y="45417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30400" y="450828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546440" y="218268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73360" y="21826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41814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1073600">
              <a:off x="4495320" y="43336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4467600">
              <a:off x="4400280" y="44128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067200">
              <a:off x="429696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3974600">
              <a:off x="4383000" y="41094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14960" y="43923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1073600">
              <a:off x="4343040" y="44179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4467600">
              <a:off x="4230360" y="42940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8067200">
              <a:off x="422388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3974600">
              <a:off x="4199040" y="44125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48280" y="400032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9E42-B7A7-4857-8547-83C78421123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The algorithm of Lehmann and Rabin is deadlock-free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if and only if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 all cycles are pairwise disconnected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33"/>
                </a:solidFill>
                <a:latin typeface="Comic Sans MS"/>
              </a:rPr>
              <a:t>There are essentially three ways in which two cycles can be connected: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4952880"/>
            <a:ext cx="533520" cy="0"/>
          </a:xfrm>
          <a:prstGeom prst="line">
            <a:avLst/>
          </a:prstGeom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EB0-E3B0-4FB7-9725-2B8F2F4F329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0T05:22:19Z</dcterms:modified>
  <cp:revision>146</cp:revision>
  <dc:subject/>
  <dc:title>Concurrency 5</dc:title>
</cp:coreProperties>
</file>