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D55-6D3E-4719-8ECC-D897B4AB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2C6-4609-4885-949F-6532CEC0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A81-3483-45C9-8539-4BE68889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128-B093-4BDF-B0F3-29A51A32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D85-8A55-4BE0-9418-92B924F4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8B1-CF75-4AB9-A7E3-A7E4768A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034-524E-4682-A51E-5881BB1B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64A-104A-4530-B95D-F4D08A71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124-E91C-46E7-81C6-F67E2B73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346-41C1-4141-AFB1-2FA90C7B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BA09-B5D5-409D-A1AF-B789E680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0E8-B836-4227-993B-D4D5665E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993F-218C-41F8-B07E-1BB5A99E270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6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Progress statements: </a:t>
            </a:r>
            <a:br>
              <a:rPr sz="2800"/>
            </a:b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A tool for verification of probabilistic autom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Progress statement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oposed by Lynch and Segala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formal method to analyse probabilistic algorithm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Definition (progress statement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Given sets of states S, T, and a class of adversaries A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–A,p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under any adversary in A, from any state in S, we eventually reach a state in T with probability at least p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Furthermore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unless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whenever from a state in S we do not reach a state in T, we remain in S (possibly in a different state of S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0F9A-3BF7-4ACB-9457-59DD9EFB28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1800" y="136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ome useful properti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f A is history-insensitive ,  S –A,p-&gt; T, and T –A,q-&gt; U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 –A,pq-&gt; U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and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–A,p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ere p = min{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S –A,1-&gt; S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A is history-insensitive and   S –A,p-&gt; T   and   S unless T, and p &gt; 0, th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 –A,1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4D97-CE4E-461B-A674-B9188DB5F3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insensiti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a class of adversaries A is history-insensitive if: for every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, and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, there exists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 such that,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,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b10d"/>
                </a:solidFill>
                <a:latin typeface="Comic Sans MS"/>
              </a:rPr>
              <a:t>Proposition:</a:t>
            </a: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 The class of fair adversaries is history-insensitiv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Proof: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Given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, define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.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learl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is still fai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142-3066-4FAB-B722-CF8BA0E5F3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An example of verification using the progress statements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example we consider is the randomized  algorithm of Lehmann and Rabin for the dining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We will show that under a fair adversary scheduler we have deadlock-freedom (and livelock-freedom), i.e. if a philosopher gets hungry, then with probability 1 some philosopher (not necessarily the same) will eventually eat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9AF-DEAB-425C-BCFC-8B322C4F0A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573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Comic Sans MS"/>
              </a:rPr>
              <a:t>State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8080"/>
                </a:solidFill>
                <a:uFillTx/>
                <a:latin typeface="Comic Sans MS"/>
              </a:rPr>
              <a:t>descript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think  or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et hungry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flip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ady to tos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W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wait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waiting for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secon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hecking second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ping first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a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pre-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xi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second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m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move to 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ning philosophers: the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790560" y="2143080"/>
            <a:ext cx="6810480" cy="224784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86880" y="2874960"/>
            <a:ext cx="183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37600" y="2806560"/>
            <a:ext cx="11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A50-B71B-4F26-B552-AF20B68BF1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96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0520"/>
            <a:ext cx="84866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Let us introduce the following global (sets of) state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ry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T={F,W,S,D,P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Ea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C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R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at least one phil is in T,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ll the others are in T, R or 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Flip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F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Pre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ne phil is in 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Goo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rocess is in a ‘’good state’’, i.e. in {W,S}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his second fork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is not the first fork for the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eighbor (i.e. the neighbor is not committed to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We want to show that  Try –A,1-&gt; Eat   for A = fair adv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0DC-0B08-42E1-8777-0D5F8AC3AC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can prove that, for the class of fair adversaries A (omitted in the following notation)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ry  -1-&gt;  RT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T  -1-&gt;  Fli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ip  -1/2-&gt; 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od  -1/4-&gt; 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e  -1-&gt; 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Using the properties of progress statements we deriv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/8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ince we also have  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unless Eat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,   we can conclud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1C50-194B-44D5-96A8-D215208D87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9:58:27Z</dcterms:modified>
  <cp:revision>133</cp:revision>
  <dc:subject/>
  <dc:title>Concurrency 5</dc:title>
</cp:coreProperties>
</file>