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184-9D44-4428-9B9B-5AD33996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138-3CE4-433B-BA87-B8EC3942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FC9-6D7C-4D0E-97A3-7EB15F56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57F-4325-44A2-9E87-62506A89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9E3-B53D-4FE4-83A6-5A5A51D1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D33-25CE-4021-BF47-277A3EB6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747-CB48-4B58-A8B8-70F92B54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9C7-A13F-4884-A97A-CE62C6E5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CD6-4CDA-4F81-8DCD-7AAD072C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96E-10A1-4CCB-8EC1-CE34790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1F6-C701-4F56-A662-CC0DF530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C7D-1630-40E5-B947-6043CF0B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87D0-641A-4572-9A8F-3D429342A7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6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ogress statements: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 tool for verification of probabilistic autom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formal method to analyse probabilistic algorithm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Definition (progress statement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Given sets of states S, T, and a class of adversaries A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–A,p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under any adversary in A, from any state in S, we eventually reach a state in T with probability at least 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Furthermore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unless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51B-CBE5-4769-B050-BC8DE0E3B8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1CC-34BA-4F87-8F06-89ED442A71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: for every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, and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, there exists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 such that,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,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b10d"/>
                </a:solidFill>
                <a:latin typeface="Comic Sans MS"/>
              </a:rPr>
              <a:t>Proposition:</a:t>
            </a: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 The class of fair adversaries is history-insensitiv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of: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Given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, define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.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learl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is still fai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C23-6F3D-429C-8D5E-A8F2D6B7AF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An example of verification using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example we consider is the randomized  algorithm of Lehmann and Rabin for the dining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E2B-8891-41B0-AD98-B196DC5610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ning philosophers: th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2143080"/>
            <a:ext cx="6810480" cy="224784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6880" y="2874960"/>
            <a:ext cx="183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37600" y="2806560"/>
            <a:ext cx="11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FF3-A4E8-4A08-8033-7F123A0B6C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052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DC2-2CC5-4BB6-9059-8AEBD5BFAE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 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 we can conclud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EC4-684D-4C39-85A0-504073127A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9:58:27Z</dcterms:modified>
  <cp:revision>133</cp:revision>
  <dc:subject/>
  <dc:title>Concurrency 5</dc:title>
</cp:coreProperties>
</file>