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CD5-7C3B-40D3-845C-6BA9C58F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570-E1DF-4483-B414-4CDBEA68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4DB-D862-405B-A197-E8EF4359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BE4-6804-48E2-A180-39F62220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688-F722-42A8-AC76-6FB4597E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10F-745B-43B7-A579-D013C19D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F84-3C80-4CC6-8F4D-57766D18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61D-50F7-4920-A2F2-9A6D803A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BF9-3C0E-4B8E-8675-2BD9658A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CA9-CE9E-4F0D-87C9-45183FA4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AAC-EB9E-4AEC-B099-4A096C2F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691-FC67-4D21-941C-F289BBA5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75EB-1753-4CA5-A242-7AF9514D43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4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lems in distributed systems for which 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only randomized solutions ex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of the algorit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ssumption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&gt; ma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ro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tim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M,prof)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if a committee is enabled then a professor will eventually attend a meeting with probability 1 (W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 if a professor’s transition from thinking to waiting does not depend on the random draws performed by other professors, then a committee meeting which is enabled infinitely often will eventually be established (S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EA3-E577-4CFF-9323-4EF372975D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ce of the assumption o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ssumption 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is an assumption about the degree of synchronism (in the sense of cooperation) of the system. In Distributed Algorithms there are three models of coopera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Partially 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Synchronous (lock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assumption corresponds to (2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ence this algorithm would not be suitable for implementing the synchronization mechanism of CSP or CCS in a fully distributed setting, since we need an asynchronous cooperation model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07C-7539-43C0-A83C-F5BD1F5793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11520" y="1344600"/>
            <a:ext cx="276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37160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70280"/>
            <a:ext cx="4460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0" y="3405240"/>
            <a:ext cx="614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080" y="3432240"/>
            <a:ext cx="85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03480" y="4052520"/>
            <a:ext cx="888840" cy="19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2543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1700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4922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4560" y="222552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6920" y="140652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25900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2701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7320" y="121932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160" y="1714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1701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3160" y="2359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7680" y="226224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17800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57680" y="150012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7480" y="22334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840" y="141444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8748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804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9160" y="22669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1680" y="230652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0240" y="122724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0160" y="17226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300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6080" y="23670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2249640"/>
            <a:ext cx="1094040" cy="70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8840" y="2165400"/>
            <a:ext cx="1216080" cy="780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148752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22208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1401840"/>
            <a:ext cx="168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21924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1400" y="219240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22543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2654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0" y="12142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44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800" y="1697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8720" y="23544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6200" y="2251080"/>
            <a:ext cx="109404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4360" y="21668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148896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2264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720" y="140328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7692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7400" y="225576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7160" y="22766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0560" y="1216080"/>
            <a:ext cx="25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77960" y="1711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1880" y="1698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6760" y="23558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6960" y="310824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384192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302256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381312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7320" y="381312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960" y="38750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8840" y="38955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9520" y="283536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360" y="3330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2280" y="331776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4640" y="39751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9880" y="31161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384984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2400" y="303048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38210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0600" y="38210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9240" y="39211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39038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284328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2360" y="3338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7920" y="3983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240" y="31035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83400" y="383688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05760" y="301788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3400" y="38084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3960" y="380844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2600" y="38894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39099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5800" y="28306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50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90360" y="3313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21280" y="3970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8760" y="31050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8920" y="383868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301932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8920" y="38098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380988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9960" y="389088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0640" y="38926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1320" y="283212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30520" y="3327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74080" y="3314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07520" y="3971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6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of Joung and Smolka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livelock in absence of the assumption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387036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4760" y="378612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38782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8040" y="37940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3240" y="38656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1400" y="37814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38760" y="38671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7828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3880" y="138276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78640" y="140184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297324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7840" y="299232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524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797360"/>
            <a:ext cx="8747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s 3, 5 and  6 are represented with  a filled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 1, 2 and 8 are represented with a white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Lines 4 and 7 are never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3D5-932F-4D8A-A7DD-2ED0E131FC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)  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3CF-A271-496A-86A4-D81FE9A8F7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047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Starvation freedo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Robustness wrt a large class of adversaries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Adversaries decide who does the next move (scheduler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Fully distributed: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 no centralized control or memory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mic Sans MS"/>
              </a:rPr>
              <a:t>Symmetric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All philosophers run the same code and are in the same initial stat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 same holds for the for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62E-02DA-4988-BF90-6F7753B409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Francez and Rodeh did propose a  “deterministic” solution using CSP. The solu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3DF-0BAD-40DB-A851-A09F3CA114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andomly choose fork in {left,right}   %commi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fork) then goto 3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other(fork)) then {release(fork); goto 2}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B69-2AD5-4F90-BFED-3E68BD6E07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65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120" y="2238480"/>
            <a:ext cx="826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711-EBCE-4EFB-8778-7AB40376BE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The committee coordination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escription of the problem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In a certain university, professors have organized themselves into committees. Each committee has a fixed membership roster of two or more professors. From time to time a professor may decide to attend a committee meeting. He then starts waiting and continues to wait until a  meeting of a committee in which he is member is established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Mutual exclusion:</a:t>
            </a: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 No two committees meet simultaneously if they have a common memb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Weak Interaction Fairness (WIF) :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if all professors of a committee are waiting (i.e. the committee meeting is enabled) , then eventually some professor will attend a committee meeting (not necessarily the same).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Strong Interaction Fairness (SIF)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 A committee meetig that is enabled infinitely often will be established infinitely often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EAE-ACE3-42FB-8EC2-1E724773CE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ittee coordination 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 for which requirement among WIF and SIF do we have a correspondence with the synchronization mechanisms used in process calculi, like (the theory of) CSP and </a:t>
            </a: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eneral case equivalent to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ultiway synchronization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, like the mechanism used in (the Theory of) CS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Binary case equivalent to the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synchronization among two partner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, like in CCS a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66E-EA1B-42AB-A3E2-A37AFCBB3F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Joung and Smol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waiting do {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ndomly choose a committee M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inc,inc) =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 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lse { wai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time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no-op,dec) = 0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 else try another committee    }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74F-C17A-475C-AB33-E9002ACF19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2:10:50Z</dcterms:modified>
  <cp:revision>121</cp:revision>
  <dc:subject/>
  <dc:title>Concurrency 5</dc:title>
</cp:coreProperties>
</file>