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4814C-DBEF-46A6-90D5-0EBD225E1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66AE9-CDD2-4B81-84DE-DDEADE81F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09F87-CE0D-4168-847B-0125C178F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C136E-B546-4F41-B375-1F2B05E87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055C7-8455-41FA-B857-12A7827D8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D2153-50D4-4224-921F-37360DDD4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6C2C3-10EA-48A5-9864-ECA2A1606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3869F-37E2-4887-9FDF-67807CB21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1D485-3C7B-402C-BAEC-EF9B3DA00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F6D44-1692-4D94-889E-EF1E92511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3265E-4F43-4C53-ADAE-CA704E7B0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28B23-E2ED-4BC1-84BC-D080CD796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C682-DB6C-42AF-B149-8276307CBD37}"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 11</a:t>
            </a:r>
            <a:br>
              <a:rPr sz="3600"/>
            </a:br>
            <a:r>
              <a:rPr b="0" lang="en-US" sz="3600" spc="-1" strike="noStrike">
                <a:solidFill>
                  <a:srgbClr val="cc0066"/>
                </a:solidFill>
                <a:latin typeface="Comic Sans MS"/>
              </a:rPr>
              <a:t>The pi-calculus expressiveness hierarchy </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B0BD267-1C09-4F1A-B09E-4525C1266F9C}"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0BD8D26-A427-4E6B-839C-E45CD1C36647}"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8E3E970-8BCE-4F34-A73C-57A7A0BB86B6}"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22C8412F-24AE-4343-BCF9-8F4F377421BA}"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9"/>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2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7"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B4F56B8-149A-4F2F-90DC-6F4D3D41CB73}"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29"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0"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1"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68F9EA9-F6E8-42F5-89B8-0AAE3D2B61A3}"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6"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681504E-4388-4AE3-A537-904346435CFB}"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39"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9" idx="7"/>
            <a:endCxn id="140"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2" name=""/>
          <p:cNvCxnSpPr>
            <a:stCxn id="140" idx="3"/>
            <a:endCxn id="139"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3"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4"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5"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6"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7"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341D46F-FEB9-48B8-9EC2-9BD7E48B6445}"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18FECDD-7F7B-4C13-9E60-1D4DB8F05D82}"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2" name=""/>
          <p:cNvGrpSpPr/>
          <p:nvPr/>
        </p:nvGrpSpPr>
        <p:grpSpPr>
          <a:xfrm>
            <a:off x="3381480" y="4043520"/>
            <a:ext cx="1990800" cy="1836360"/>
            <a:chOff x="3381480" y="4043520"/>
            <a:chExt cx="1990800" cy="1836360"/>
          </a:xfrm>
        </p:grpSpPr>
        <p:sp>
          <p:nvSpPr>
            <p:cNvPr id="153"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C4C345A-6476-4B90-AE3D-7E682C9C11B8}"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1A190D4-FEF6-4B50-AB65-4A0CED1490B7}"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2"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3"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
          <p:cNvGrpSpPr/>
          <p:nvPr/>
        </p:nvGrpSpPr>
        <p:grpSpPr>
          <a:xfrm>
            <a:off x="2820960" y="2287440"/>
            <a:ext cx="3539880" cy="3439800"/>
            <a:chOff x="2820960" y="2287440"/>
            <a:chExt cx="3539880" cy="3439800"/>
          </a:xfrm>
        </p:grpSpPr>
        <p:sp>
          <p:nvSpPr>
            <p:cNvPr id="16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3125520" y="2592360"/>
            <a:ext cx="2878200" cy="2895120"/>
            <a:chOff x="3125520" y="2592360"/>
            <a:chExt cx="2878200" cy="2895120"/>
          </a:xfrm>
        </p:grpSpPr>
        <p:cxnSp>
          <p:nvCxnSpPr>
            <p:cNvPr id="175"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6"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7"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78" name=""/>
          <p:cNvGrpSpPr/>
          <p:nvPr/>
        </p:nvGrpSpPr>
        <p:grpSpPr>
          <a:xfrm>
            <a:off x="3125520" y="2592000"/>
            <a:ext cx="3043440" cy="2738160"/>
            <a:chOff x="3125520" y="2592000"/>
            <a:chExt cx="3043440" cy="2738160"/>
          </a:xfrm>
        </p:grpSpPr>
        <p:cxnSp>
          <p:nvCxnSpPr>
            <p:cNvPr id="179"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0"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1"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2" name=""/>
          <p:cNvGrpSpPr/>
          <p:nvPr/>
        </p:nvGrpSpPr>
        <p:grpSpPr>
          <a:xfrm>
            <a:off x="3201840" y="2592360"/>
            <a:ext cx="2878200" cy="2895120"/>
            <a:chOff x="3201840" y="2592360"/>
            <a:chExt cx="2878200" cy="2895120"/>
          </a:xfrm>
        </p:grpSpPr>
        <p:cxnSp>
          <p:nvCxnSpPr>
            <p:cNvPr id="183"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4"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5"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6" name=""/>
          <p:cNvGrpSpPr/>
          <p:nvPr/>
        </p:nvGrpSpPr>
        <p:grpSpPr>
          <a:xfrm>
            <a:off x="3125520" y="2669040"/>
            <a:ext cx="3043440" cy="2738160"/>
            <a:chOff x="3125520" y="2669040"/>
            <a:chExt cx="3043440" cy="2738160"/>
          </a:xfrm>
        </p:grpSpPr>
        <p:cxnSp>
          <p:nvCxnSpPr>
            <p:cNvPr id="187"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88"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89"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0"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1"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2" name=""/>
          <p:cNvGrpSpPr/>
          <p:nvPr/>
        </p:nvGrpSpPr>
        <p:grpSpPr>
          <a:xfrm>
            <a:off x="2820960" y="2287440"/>
            <a:ext cx="3539880" cy="3439800"/>
            <a:chOff x="2820960" y="2287440"/>
            <a:chExt cx="3539880" cy="3439800"/>
          </a:xfrm>
        </p:grpSpPr>
        <p:sp>
          <p:nvSpPr>
            <p:cNvPr id="193"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2"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3"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4"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5"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52BAFF2-1DF1-430C-A637-CCBA52D57095}"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7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8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04"/>
                                        </p:tgtEl>
                                        <p:attrNameLst>
                                          <p:attrName>style.visibility</p:attrName>
                                        </p:attrNameLst>
                                      </p:cBhvr>
                                      <p:to>
                                        <p:strVal val="visible"/>
                                      </p:to>
                                    </p:set>
                                  </p:childTnLst>
                                </p:cTn>
                              </p:par>
                            </p:childTnLst>
                          </p:cTn>
                        </p:par>
                        <p:par>
                          <p:cTn id="167" fill="hold">
                            <p:stCondLst>
                              <p:cond delay="500"/>
                            </p:stCondLst>
                            <p:childTnLst>
                              <p:par>
                                <p:cTn id="168" nodeType="afterEffect" fill="hold" presetClass="entr" presetID="1">
                                  <p:stCondLst>
                                    <p:cond delay="0"/>
                                  </p:stCondLst>
                                  <p:childTnLst>
                                    <p:set>
                                      <p:cBhvr>
                                        <p:cTn id="169" dur="1" fill="hold">
                                          <p:stCondLst>
                                            <p:cond delay="499"/>
                                          </p:stCondLst>
                                        </p:cTn>
                                        <p:tgtEl>
                                          <p:spTgt spid="201"/>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05"/>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499"/>
                                          </p:stCondLst>
                                        </p:cTn>
                                        <p:tgtEl>
                                          <p:spTgt spid="190"/>
                                        </p:tgtEl>
                                        <p:attrNameLst>
                                          <p:attrName>style.visibility</p:attrName>
                                        </p:attrNameLst>
                                      </p:cBhvr>
                                      <p:to>
                                        <p:strVal val="visible"/>
                                      </p:to>
                                    </p:set>
                                  </p:childTnLst>
                                </p:cTn>
                              </p:par>
                            </p:childTnLst>
                          </p:cTn>
                        </p:par>
                        <p:par>
                          <p:cTn id="177" fill="hold">
                            <p:stCondLst>
                              <p:cond delay="1000"/>
                            </p:stCondLst>
                            <p:childTnLst>
                              <p:par>
                                <p:cTn id="178" nodeType="afterEffect" fill="hold" presetClass="entr" presetID="1">
                                  <p:stCondLst>
                                    <p:cond delay="0"/>
                                  </p:stCondLst>
                                  <p:childTnLst>
                                    <p:set>
                                      <p:cBhvr>
                                        <p:cTn id="179" dur="1" fill="hold">
                                          <p:stCondLst>
                                            <p:cond delay="499"/>
                                          </p:stCondLst>
                                        </p:cTn>
                                        <p:tgtEl>
                                          <p:spTgt spid="202"/>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03"/>
                                        </p:tgtEl>
                                        <p:attrNameLst>
                                          <p:attrName>style.visibility</p:attrName>
                                        </p:attrNameLst>
                                      </p:cBhvr>
                                      <p:to>
                                        <p:strVal val="visible"/>
                                      </p:to>
                                    </p:set>
                                  </p:childTnLst>
                                </p:cTn>
                              </p:par>
                            </p:childTnLst>
                          </p:cTn>
                        </p:par>
                        <p:par>
                          <p:cTn id="184" fill="hold">
                            <p:stCondLst>
                              <p:cond delay="500"/>
                            </p:stCondLst>
                            <p:childTnLst>
                              <p:par>
                                <p:cTn id="185" nodeType="afterEffect" fill="hold" presetClass="entr" presetID="1">
                                  <p:stCondLst>
                                    <p:cond delay="0"/>
                                  </p:stCondLst>
                                  <p:childTnLst>
                                    <p:set>
                                      <p:cBhvr>
                                        <p:cTn id="18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7"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08"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0452F91-072C-4B87-8011-69365F0A5C3A}"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E13D361-1623-4F22-83EC-0A405477BC88}"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if we replace coupled bisimulation byb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three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of n symmetric processes, program them in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 to complete the graph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C18707D5-EC52-48EB-AB4F-A799E38A3CBB}"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7338FDD-615D-458D-BE31-3787E077C3AE}"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83D1C66-655B-4F82-8F85-CE6135D579A3}"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8AFAE29-20E3-4F20-9C4B-91404B4CFD0A}"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E7CA695-7DD2-4672-902F-711370927CD4}"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CCEFC62-F696-4E92-A997-63F75C74AAB6}"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the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C3C0C02-FD64-4848-8A4A-6451B74689A7}"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D144674-AEAC-42BF-A80F-959D78F59AEB}"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12-16T01:17:20Z</dcterms:modified>
  <cp:revision>100</cp:revision>
  <dc:subject/>
  <dc:title>Concurrency 5</dc:title>
</cp:coreProperties>
</file>