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push.wav" ContentType="audio/x-wav"/>
  <Override PartName="/ppt/media/image22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5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6.png" ContentType="image/png"/>
  <Override PartName="/ppt/media/image29.png" ContentType="image/png"/>
  <Override PartName="/ppt/media/image11.png" ContentType="image/png"/>
  <Override PartName="/ppt/media/image7.png" ContentType="image/png"/>
  <Override PartName="/ppt/media/image9.png" ContentType="image/png"/>
  <Override PartName="/ppt/media/image2.png" ContentType="image/png"/>
  <Override PartName="/ppt/media/suction.wav" ContentType="audio/x-wav"/>
  <Override PartName="/ppt/media/image25.png" ContentType="image/png"/>
  <Override PartName="/ppt/media/image1.png" ContentType="image/png"/>
  <Override PartName="/ppt/media/image24.png" ContentType="image/png"/>
  <Override PartName="/ppt/media/image8.png" ContentType="image/png"/>
  <Override PartName="/ppt/media/image12.png" ContentType="image/png"/>
  <Override PartName="/ppt/media/image13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381D-82F9-466B-BC90-3ED72C694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5F19-110C-4E1B-9B17-C360328CC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7BB3-45C0-4714-8B11-AAEC6FDD3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083C-7406-4E0E-A064-5D574CB2F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D26D-4466-4CDD-8769-AC4106A98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8703-5FC3-4359-8DCD-18C48B7B7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F41E-1616-408C-B5F1-B69119C10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4E5E-1EDD-439A-BFE6-077A8FBD9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5BF6-5F26-474F-993D-D4A94B896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B6C1-4CD3-43CC-99F9-C3D9C6C9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250F-5EF1-4659-8E72-BB18E7611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577A-40B0-44AC-8B21-AC637FD2B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5D175-181E-44B3-9FE3-06F2101312B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lix.polytechnique.fr/~catuscia/teaching/Pisa/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l.cam.ac.uk/users/rm135/" TargetMode="External"/><Relationship Id="rId2" Type="http://schemas.openxmlformats.org/officeDocument/2006/relationships/hyperlink" Target="http://www.cis.upenn.edu/%7Ebcpierce/" TargetMode="External"/><Relationship Id="rId3" Type="http://schemas.openxmlformats.org/officeDocument/2006/relationships/hyperlink" Target="http://www.cis.upenn.edu/%7Ebcpierce/papers/crchandbook.ps" TargetMode="External"/><Relationship Id="rId4" Type="http://schemas.openxmlformats.org/officeDocument/2006/relationships/image" Target="../media/image1.png"/><Relationship Id="rId5" Type="http://schemas.openxmlformats.org/officeDocument/2006/relationships/hyperlink" Target="file:///../../papers_and_books/intro.ps" TargetMode="External"/><Relationship Id="rId6" Type="http://schemas.openxmlformats.org/officeDocument/2006/relationships/hyperlink" Target="file:///../../papers_and_books/BRICS-RS-99-42.ps" TargetMode="External"/><Relationship Id="rId7" Type="http://schemas.openxmlformats.org/officeDocument/2006/relationships/hyperlink" Target="file:///../../papers_and_books/BRICS-RS-99-42.ps" TargetMode="External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000" y="932040"/>
            <a:ext cx="8642160" cy="14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urse 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babilistic Methods in Concurrency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oncurrent Languages for Probabilistic Asynchronous Communication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23760" y="2776680"/>
            <a:ext cx="731520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Lecture 1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The pi-calculus and the asynchronous pi-calculus.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Catuscia Palamidessi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INRIA Futurs &amp; LIX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France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catuscia@lix.polytechnique.fr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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calculus: syntax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57080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Names: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Free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Bound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cc0066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Comic Sans MS"/>
              </a:rPr>
              <a:t>Input and restriction are binder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Exercise: give the formal definition of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Example: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lpha conversion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Example: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114640" y="1662120"/>
            <a:ext cx="687240" cy="2919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2152800" y="2392200"/>
            <a:ext cx="649080" cy="2336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2114640" y="2046240"/>
            <a:ext cx="666720" cy="2304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5570640" y="3006720"/>
            <a:ext cx="2012760" cy="2379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2459160" y="3621240"/>
            <a:ext cx="4046400" cy="2365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6"/>
          <a:stretch/>
        </p:blipFill>
        <p:spPr>
          <a:xfrm>
            <a:off x="1576440" y="4159080"/>
            <a:ext cx="4981680" cy="2462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7"/>
          <a:stretch/>
        </p:blipFill>
        <p:spPr>
          <a:xfrm>
            <a:off x="2382840" y="5079960"/>
            <a:ext cx="4106880" cy="2476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8"/>
          <a:stretch/>
        </p:blipFill>
        <p:spPr>
          <a:xfrm>
            <a:off x="2421000" y="5656320"/>
            <a:ext cx="1984320" cy="21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775A-7D72-448D-8FB0-6CC656B6613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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calculus: structural equivalenc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1520" y="1585800"/>
            <a:ext cx="814716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Introduced to simplify the  description of the operational semantics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If  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mr10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          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  then  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cmmi10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cmmi10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+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+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!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!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Some presentations include other equivalences, for instance: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cmmi10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0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  ,    (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|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R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(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R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cmmi10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+ 0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  ,    (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+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+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R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+ (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+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R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  ,  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+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y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 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y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 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  ,      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  if  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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fn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(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cmmi10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 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(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   if  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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fn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(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   </a:t>
            </a:r>
            <a:r>
              <a:rPr b="0" lang="en-US" sz="1600" spc="-1" strike="noStrike">
                <a:solidFill>
                  <a:srgbClr val="990033"/>
                </a:solidFill>
                <a:latin typeface="Comic Sans MS"/>
              </a:rPr>
              <a:t>(scope extrusion)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EBFC-4563-4D09-AFD1-5D634006037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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alculus: operational semantic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The operational semantics of the </a:t>
            </a:r>
            <a:r>
              <a:rPr b="0" lang="en-US" sz="1600" spc="-1" strike="noStrike">
                <a:solidFill>
                  <a:srgbClr val="3333ff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-calculus is defined as a labeled transition system. Transitions have the form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Here  </a:t>
            </a:r>
            <a:r>
              <a:rPr b="0" i="1" lang="en-US" sz="1600" spc="-1" strike="noStrike">
                <a:solidFill>
                  <a:srgbClr val="3333ff"/>
                </a:solidFill>
                <a:latin typeface="cmr10"/>
              </a:rPr>
              <a:t>P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  and  </a:t>
            </a:r>
            <a:r>
              <a:rPr b="0" i="1" lang="en-US" sz="1600" spc="-1" strike="noStrike">
                <a:solidFill>
                  <a:srgbClr val="3333ff"/>
                </a:solidFill>
                <a:latin typeface="cmr10"/>
              </a:rPr>
              <a:t>Q 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 are processes and </a:t>
            </a:r>
            <a:r>
              <a:rPr b="0" lang="en-US" sz="1600" spc="-1" strike="noStrike">
                <a:solidFill>
                  <a:srgbClr val="3333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 is an action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There are various operational semantics for the </a:t>
            </a:r>
            <a:r>
              <a:rPr b="0" lang="en-US" sz="1600" spc="-1" strike="noStrike">
                <a:solidFill>
                  <a:srgbClr val="3333ff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-calculus. We describe here the 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late semantics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. Actions are defined as follows: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727440" y="2276640"/>
            <a:ext cx="887400" cy="2840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2575080" y="4081320"/>
            <a:ext cx="3848040" cy="1590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F7C4-AF14-4270-BD2F-08460F00306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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culus: late semantic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46000" y="1623960"/>
            <a:ext cx="3162600" cy="5936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5302080" y="2046240"/>
            <a:ext cx="2560680" cy="29242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798120" y="5388120"/>
            <a:ext cx="6861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Questions:  1) Why the side condition in Par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   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2) Could we write x(z) in L-Com and avoid the substitution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770040" y="2698920"/>
            <a:ext cx="3956040" cy="2311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A605-E62D-4039-8BF1-979C7A60C81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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culus: early semantic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459160" y="2162160"/>
            <a:ext cx="3162240" cy="5936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5224320" y="2890800"/>
            <a:ext cx="2560680" cy="29242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615960" y="2928960"/>
            <a:ext cx="4019400" cy="2886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654120" y="13557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7480" y="1009800"/>
            <a:ext cx="4156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New kind of action: free input x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Add E-input and replace L-Com by E-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BFB8-0A2F-4062-976C-FAF41AD41E1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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alculus: late bisimula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539640" y="2046240"/>
            <a:ext cx="8209080" cy="29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C930-960E-4FCE-AE7D-9BF77DC4020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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alculus: early bisimula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677880" y="1522440"/>
            <a:ext cx="7738920" cy="273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74D8-91F6-4BC7-B307-EE8D57071E1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ate vs early bisimu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Late bisimulation is strictly more discriminating than early bisimulation.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Comic Sans MS"/>
              </a:rPr>
              <a:t>Example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768320" y="2430360"/>
            <a:ext cx="4788000" cy="12034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561960" y="437976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Exercise: write a similar example without using the match operator (i.e. the if-then-else). Hint: use synchro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E785-040C-4525-8AD2-FA548BCF2AB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gruence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424160" y="3160800"/>
            <a:ext cx="6324480" cy="11937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116000" y="1739880"/>
            <a:ext cx="61070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Question: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are  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 baseline="-25000">
                <a:solidFill>
                  <a:srgbClr val="3333ff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, 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 baseline="-25000">
                <a:solidFill>
                  <a:srgbClr val="3333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congruenc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125360" y="2441520"/>
            <a:ext cx="347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mic Sans MS"/>
              </a:rPr>
              <a:t>Answer: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Comic Sans MS"/>
              </a:rPr>
              <a:t>No.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Example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16000" y="4697280"/>
            <a:ext cx="752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There are other equivalences which are defined to be congruences.  In particular  Open bisimul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Cfr. lecture by D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A99E-633F-4AD5-96BE-EE399DF8163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asynchronous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calculu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5920" y="13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If P | Q is interpreted as the composition of two remote processes P and Q, then the mechanism of synchronous communication seems unrealistic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   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Comic Sans MS"/>
              </a:rPr>
              <a:t>Synchronization combined with choice seems even less realistic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In a distributed system, communication is asynchronous  (exchange of messages). The send takes place independently of the readiness of a receiver, and it is not blocking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The asynchnous </a:t>
            </a:r>
            <a:r>
              <a:rPr b="0" lang="en-US" sz="1600" spc="-1" strike="noStrike">
                <a:solidFill>
                  <a:srgbClr val="3333ff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-calculus: A calculus for representing asynchnous communication. It was introduced independently by Honda-Tokoro [1991] and by Boudol [1992] 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921040" y="1969920"/>
            <a:ext cx="2496960" cy="255600"/>
          </a:xfrm>
          <a:prstGeom prst="rect">
            <a:avLst/>
          </a:prstGeom>
          <a:ln w="0">
            <a:noFill/>
          </a:ln>
        </p:spPr>
      </p:pic>
      <p:grpSp>
        <p:nvGrpSpPr>
          <p:cNvPr id="195" name=""/>
          <p:cNvGrpSpPr/>
          <p:nvPr/>
        </p:nvGrpSpPr>
        <p:grpSpPr>
          <a:xfrm>
            <a:off x="1538280" y="2727720"/>
            <a:ext cx="5146200" cy="1048680"/>
            <a:chOff x="1538280" y="2727720"/>
            <a:chExt cx="5146200" cy="1048680"/>
          </a:xfrm>
        </p:grpSpPr>
        <p:grpSp>
          <p:nvGrpSpPr>
            <p:cNvPr id="196" name=""/>
            <p:cNvGrpSpPr/>
            <p:nvPr/>
          </p:nvGrpSpPr>
          <p:grpSpPr>
            <a:xfrm>
              <a:off x="1538280" y="2727720"/>
              <a:ext cx="5146200" cy="1048680"/>
              <a:chOff x="1538280" y="2727720"/>
              <a:chExt cx="5146200" cy="1048680"/>
            </a:xfrm>
          </p:grpSpPr>
          <p:grpSp>
            <p:nvGrpSpPr>
              <p:cNvPr id="197" name=""/>
              <p:cNvGrpSpPr/>
              <p:nvPr/>
            </p:nvGrpSpPr>
            <p:grpSpPr>
              <a:xfrm>
                <a:off x="5216400" y="2727720"/>
                <a:ext cx="657720" cy="491400"/>
                <a:chOff x="5216400" y="2727720"/>
                <a:chExt cx="657720" cy="491400"/>
              </a:xfrm>
            </p:grpSpPr>
            <p:sp>
              <p:nvSpPr>
                <p:cNvPr id="198" name=""/>
                <p:cNvSpPr/>
                <p:nvPr/>
              </p:nvSpPr>
              <p:spPr>
                <a:xfrm flipV="1">
                  <a:off x="5216400" y="3062880"/>
                  <a:ext cx="657720" cy="156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rot="20797800">
                  <a:off x="5425200" y="2754000"/>
                  <a:ext cx="269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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1538280" y="2913120"/>
                <a:ext cx="5146200" cy="863280"/>
                <a:chOff x="1538280" y="2913120"/>
                <a:chExt cx="5146200" cy="863280"/>
              </a:xfrm>
            </p:grpSpPr>
            <p:pic>
              <p:nvPicPr>
                <p:cNvPr id="201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538280" y="3201480"/>
                  <a:ext cx="3487680" cy="2224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202" name=""/>
                <p:cNvGrpSpPr/>
                <p:nvPr/>
              </p:nvGrpSpPr>
              <p:grpSpPr>
                <a:xfrm>
                  <a:off x="5216400" y="3139200"/>
                  <a:ext cx="662040" cy="457200"/>
                  <a:chOff x="5216400" y="3139200"/>
                  <a:chExt cx="662040" cy="457200"/>
                </a:xfrm>
              </p:grpSpPr>
              <p:sp>
                <p:nvSpPr>
                  <p:cNvPr id="203" name=""/>
                  <p:cNvSpPr/>
                  <p:nvPr/>
                </p:nvSpPr>
                <p:spPr>
                  <a:xfrm>
                    <a:off x="5216400" y="3458160"/>
                    <a:ext cx="662040" cy="1382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 rot="708600">
                    <a:off x="5517720" y="3162960"/>
                    <a:ext cx="26928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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05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050520" y="2913120"/>
                  <a:ext cx="633960" cy="222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6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050520" y="3553920"/>
                  <a:ext cx="624600" cy="222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pic>
          <p:nvPicPr>
            <p:cNvPr id="207" name="" descr=""/>
            <p:cNvPicPr/>
            <p:nvPr/>
          </p:nvPicPr>
          <p:blipFill>
            <a:blip r:embed="rId5"/>
            <a:stretch/>
          </p:blipFill>
          <p:spPr>
            <a:xfrm>
              <a:off x="1538280" y="3196440"/>
              <a:ext cx="3487680" cy="22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BAB6-6BD4-45D1-8856-F8277124C6B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1880" y="125280"/>
            <a:ext cx="7917120" cy="8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dministrativi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53760" y="1201680"/>
            <a:ext cx="8026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Comic Sans MS"/>
                <a:ea typeface="Arial"/>
              </a:rPr>
              <a:t>Homepage of the course: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  <a:ea typeface="Arial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ea typeface="Arial"/>
                <a:hlinkClick r:id="rId1"/>
              </a:rPr>
              <a:t>www.lix.polytechnique.fr/~catuscia/teaching/Pisa/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9144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914400" indent="-457200">
              <a:spcBef>
                <a:spcPts val="451"/>
              </a:spcBef>
              <a:buClr>
                <a:srgbClr val="009999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Slides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914400" indent="-457200">
              <a:spcBef>
                <a:spcPts val="451"/>
              </a:spcBef>
              <a:buClr>
                <a:srgbClr val="009999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Some copies of the papers/books used as references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799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Comic Sans MS"/>
              </a:rPr>
              <a:t>Exam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  <a:ea typeface="Arial"/>
              </a:rPr>
              <a:t>Schedule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5" name=""/>
          <p:cNvSpPr/>
          <p:nvPr/>
        </p:nvSpPr>
        <p:spPr>
          <a:xfrm>
            <a:off x="6415200" y="50418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C235-EADD-4C32-9C0E-757FCD8FDA4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asynchronous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calculus: syntax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77440" y="1623960"/>
            <a:ext cx="84106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Comic Sans MS"/>
              </a:rPr>
              <a:t>It differs from the </a:t>
            </a:r>
            <a:r>
              <a:rPr b="1" lang="en-US" sz="1800" spc="-1" strike="noStrike">
                <a:solidFill>
                  <a:srgbClr val="3333ff"/>
                </a:solidFill>
                <a:latin typeface="Symbol"/>
                <a:ea typeface="Symbol"/>
              </a:rPr>
              <a:t></a:t>
            </a:r>
            <a:r>
              <a:rPr b="1" lang="en-US" sz="1800" spc="-1" strike="noStrike">
                <a:solidFill>
                  <a:srgbClr val="3333ff"/>
                </a:solidFill>
                <a:latin typeface="Comic Sans MS"/>
              </a:rPr>
              <a:t>-calculus for the absence of the output prefix (replaced by output action) and also for the absence of the +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4" marL="2171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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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action prefixes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(input, silent)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x, y are channel names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inact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 baseline="-25000">
                <a:solidFill>
                  <a:srgbClr val="3333ff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prefix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 baseline="-25000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output act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parallel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restriction,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new name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replicat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230480" y="2506680"/>
            <a:ext cx="2447640" cy="365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1576440" y="3736800"/>
            <a:ext cx="2095560" cy="209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E51E-030E-4849-A59A-758439D6C1E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synchronous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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calculus: OS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57080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The operational semantics of the asynchronous  </a:t>
            </a:r>
            <a:r>
              <a:rPr b="0" lang="en-US" sz="1600" spc="-1" strike="noStrike">
                <a:solidFill>
                  <a:srgbClr val="00808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-calculus (</a:t>
            </a:r>
            <a:r>
              <a:rPr b="0" lang="en-US" sz="1600" spc="-1" strike="noStrike">
                <a:solidFill>
                  <a:srgbClr val="00808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 baseline="-25000">
                <a:solidFill>
                  <a:srgbClr val="008080"/>
                </a:solidFill>
                <a:latin typeface="Comic Sans MS"/>
              </a:rPr>
              <a:t>a</a:t>
            </a: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) are the same as those of the (synchronous) </a:t>
            </a:r>
            <a:r>
              <a:rPr b="0" lang="en-US" sz="1600" spc="-1" strike="noStrike">
                <a:solidFill>
                  <a:srgbClr val="00808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-calculus  (</a:t>
            </a:r>
            <a:r>
              <a:rPr b="0" lang="en-US" sz="1600" spc="-1" strike="noStrike">
                <a:solidFill>
                  <a:srgbClr val="00808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), we only eliminate the rule for + and replace the output rule with the following: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Comic Sans MS"/>
              </a:rPr>
              <a:t>The early and late bisimulations are obtained as usual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The interpretation is as follows: 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349"/>
              </a:spcBef>
              <a:buClr>
                <a:srgbClr val="3333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The send takes place when the output action is at the top-level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349"/>
              </a:spcBef>
              <a:buClr>
                <a:srgbClr val="3333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The receive takes place when the output action matches a corresponding input, i.e. when we apply the rule comm or close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265560" y="2584440"/>
            <a:ext cx="1882800" cy="5018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6723000" y="4465800"/>
            <a:ext cx="1565280" cy="2174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1835280" y="5643720"/>
            <a:ext cx="5146560" cy="242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D3CB-B61D-4A50-8E3E-9D014DEFFDA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lan of the l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1880" y="1393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Comic Sans MS"/>
              </a:rPr>
              <a:t>The pi-calculus and the asynchonous pi-calculus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The pi-calculus hierarchy: encodings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762120" indent="-30492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Comic Sans MS"/>
              </a:rPr>
              <a:t>Encoding of output prefix in the asynchonous pi-calculus 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62120" indent="-30492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Comic Sans MS"/>
              </a:rPr>
              <a:t>Encoding of input guarded choice in the asynchonous pi-calculus 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99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9900"/>
                </a:solidFill>
                <a:latin typeface="Comic Sans MS"/>
              </a:rPr>
              <a:t>The pi-calculus hierarchy: separation results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762120" indent="-304920">
              <a:lnSpc>
                <a:spcPct val="80000"/>
              </a:lnSpc>
              <a:spcBef>
                <a:spcPts val="400"/>
              </a:spcBef>
              <a:buClr>
                <a:srgbClr val="6699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9900"/>
                </a:solidFill>
                <a:latin typeface="Comic Sans MS"/>
              </a:rPr>
              <a:t>Separation between the pi-calculus and the asynchonous pi-calculus 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62120" indent="-304920">
              <a:lnSpc>
                <a:spcPct val="80000"/>
              </a:lnSpc>
              <a:spcBef>
                <a:spcPts val="400"/>
              </a:spcBef>
              <a:buClr>
                <a:srgbClr val="6699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9900"/>
                </a:solidFill>
                <a:latin typeface="Comic Sans MS"/>
              </a:rPr>
              <a:t>Separation between the pi-calculus and CCS 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Comic Sans MS"/>
              </a:rPr>
              <a:t>Problems in distributed algorithms for which only randomized solutions exists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Basics of Measure Theory and Probability Theory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Probabilistic Automata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Comic Sans MS"/>
              </a:rPr>
              <a:t>The probabilistic pi-calculus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Comic Sans MS"/>
              </a:rPr>
              <a:t>Encoding of the pi-calculus into the asynchronous pi-calculus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Other uses of randomization: randomized protocols for anonymity and contract signing.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Comic Sans MS"/>
              </a:rPr>
              <a:t>A proof search specification of the pi-calculus (speaker: Dale Miller)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D9AA-2ECF-4158-9729-F4857E4A6A3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calcul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85960" y="1599840"/>
            <a:ext cx="74498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Milner, Parrow, Walker 1989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A concurrent calculus where the communication structure among existing processes can change over time.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914400" indent="-45720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mic Sans MS"/>
              </a:rPr>
              <a:t>Link mobility.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4" marL="21718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998720" y="3467160"/>
            <a:ext cx="1437840" cy="2133720"/>
            <a:chOff x="1998720" y="3467160"/>
            <a:chExt cx="1437840" cy="2133720"/>
          </a:xfrm>
        </p:grpSpPr>
        <p:sp>
          <p:nvSpPr>
            <p:cNvPr id="51" name=""/>
            <p:cNvSpPr/>
            <p:nvPr/>
          </p:nvSpPr>
          <p:spPr>
            <a:xfrm>
              <a:off x="2898720" y="5200920"/>
              <a:ext cx="537840" cy="247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898720" y="5448600"/>
              <a:ext cx="17424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262320" y="5456520"/>
              <a:ext cx="17424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898720" y="5042160"/>
              <a:ext cx="363240" cy="158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98720" y="3583080"/>
              <a:ext cx="363240" cy="6969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100240" y="3467160"/>
              <a:ext cx="174240" cy="231840"/>
            </a:xfrm>
            <a:prstGeom prst="sun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100240" y="3888000"/>
              <a:ext cx="8676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00240" y="3902400"/>
              <a:ext cx="17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41200" y="4105440"/>
              <a:ext cx="27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361960" y="3699000"/>
              <a:ext cx="536400" cy="1146240"/>
            </a:xfrm>
            <a:prstGeom prst="line">
              <a:avLst/>
            </a:prstGeom>
            <a:ln w="28440">
              <a:solidFill>
                <a:srgbClr val="990033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1998720" y="3467160"/>
            <a:ext cx="4962600" cy="2141280"/>
            <a:chOff x="1998720" y="3467160"/>
            <a:chExt cx="4962600" cy="2141280"/>
          </a:xfrm>
        </p:grpSpPr>
        <p:sp>
          <p:nvSpPr>
            <p:cNvPr id="62" name=""/>
            <p:cNvSpPr/>
            <p:nvPr/>
          </p:nvSpPr>
          <p:spPr>
            <a:xfrm>
              <a:off x="4233960" y="5208480"/>
              <a:ext cx="538200" cy="247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233960" y="5456160"/>
              <a:ext cx="17460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597560" y="5464080"/>
              <a:ext cx="17460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233960" y="5049720"/>
              <a:ext cx="363600" cy="158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998720" y="3582720"/>
              <a:ext cx="363600" cy="6969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100240" y="3467160"/>
              <a:ext cx="174600" cy="231480"/>
            </a:xfrm>
            <a:prstGeom prst="sun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00240" y="3887640"/>
              <a:ext cx="8748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100240" y="3902040"/>
              <a:ext cx="17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041560" y="4105080"/>
              <a:ext cx="27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62320" y="3663720"/>
              <a:ext cx="1871640" cy="1189080"/>
            </a:xfrm>
            <a:prstGeom prst="line">
              <a:avLst/>
            </a:prstGeom>
            <a:ln w="28440">
              <a:solidFill>
                <a:srgbClr val="990033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597720" y="3605040"/>
              <a:ext cx="363600" cy="6969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699240" y="3489120"/>
              <a:ext cx="174600" cy="231840"/>
            </a:xfrm>
            <a:prstGeom prst="sun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699240" y="3909960"/>
              <a:ext cx="8748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699240" y="3924360"/>
              <a:ext cx="17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640560" y="4127400"/>
              <a:ext cx="27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362320" y="3582720"/>
              <a:ext cx="4235400" cy="0"/>
            </a:xfrm>
            <a:prstGeom prst="line">
              <a:avLst/>
            </a:prstGeom>
            <a:ln w="28440">
              <a:solidFill>
                <a:srgbClr val="990033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1989000" y="3479760"/>
            <a:ext cx="4962240" cy="2133360"/>
            <a:chOff x="1989000" y="3479760"/>
            <a:chExt cx="4962240" cy="2133360"/>
          </a:xfrm>
        </p:grpSpPr>
        <p:sp>
          <p:nvSpPr>
            <p:cNvPr id="79" name=""/>
            <p:cNvSpPr/>
            <p:nvPr/>
          </p:nvSpPr>
          <p:spPr>
            <a:xfrm>
              <a:off x="4887720" y="5213160"/>
              <a:ext cx="538200" cy="247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87720" y="5460840"/>
              <a:ext cx="17460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251320" y="5468760"/>
              <a:ext cx="17460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887720" y="5054400"/>
              <a:ext cx="363600" cy="158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989000" y="3595320"/>
              <a:ext cx="363240" cy="6969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090520" y="3479760"/>
              <a:ext cx="174600" cy="231480"/>
            </a:xfrm>
            <a:prstGeom prst="sun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090520" y="3900240"/>
              <a:ext cx="8712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090520" y="3914640"/>
              <a:ext cx="17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31840" y="4117680"/>
              <a:ext cx="27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587640" y="3617640"/>
              <a:ext cx="363600" cy="6969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689520" y="3501720"/>
              <a:ext cx="174600" cy="231840"/>
            </a:xfrm>
            <a:prstGeom prst="sun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689520" y="3922560"/>
              <a:ext cx="8712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689520" y="3936960"/>
              <a:ext cx="17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630840" y="4140000"/>
              <a:ext cx="27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5366880" y="3710880"/>
              <a:ext cx="1263960" cy="1141560"/>
            </a:xfrm>
            <a:prstGeom prst="line">
              <a:avLst/>
            </a:prstGeom>
            <a:ln w="28440">
              <a:solidFill>
                <a:srgbClr val="990033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882880" y="47721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17960" y="3583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9B9F-1377-4DFF-8EC6-5F958514BE7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calculus: scope extrus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1880" y="14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 private channel name can be communicated and its scope can be extended to include the recipient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Channel: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the name can be used to communicat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-3477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Privacy: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no one else can interfere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n example of link mobility: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8" name=""/>
          <p:cNvSpPr/>
          <p:nvPr/>
        </p:nvSpPr>
        <p:spPr>
          <a:xfrm>
            <a:off x="3868200" y="4735440"/>
            <a:ext cx="3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804920" y="473544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93920" y="5221440"/>
            <a:ext cx="276480" cy="24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359240" y="4111560"/>
            <a:ext cx="276120" cy="247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418000" y="5221440"/>
            <a:ext cx="276480" cy="24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"/>
          <p:cNvCxnSpPr>
            <a:stCxn id="100" idx="7"/>
            <a:endCxn id="101" idx="3"/>
          </p:cNvCxnSpPr>
          <p:nvPr/>
        </p:nvCxnSpPr>
        <p:spPr>
          <a:xfrm flipV="1">
            <a:off x="3430440" y="4322160"/>
            <a:ext cx="969120" cy="93564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cxnSp>
        <p:nvCxnSpPr>
          <p:cNvPr id="104" name=""/>
          <p:cNvCxnSpPr>
            <a:stCxn id="101" idx="5"/>
            <a:endCxn id="102" idx="1"/>
          </p:cNvCxnSpPr>
          <p:nvPr/>
        </p:nvCxnSpPr>
        <p:spPr>
          <a:xfrm>
            <a:off x="4595400" y="4322520"/>
            <a:ext cx="862920" cy="93564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sp>
        <p:nvSpPr>
          <p:cNvPr id="105" name=""/>
          <p:cNvSpPr/>
          <p:nvPr/>
        </p:nvSpPr>
        <p:spPr>
          <a:xfrm>
            <a:off x="5697000" y="5180040"/>
            <a:ext cx="33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242960" y="36622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33920" y="531036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75080" y="5003640"/>
            <a:ext cx="1439640" cy="1189080"/>
          </a:xfrm>
          <a:custGeom>
            <a:avLst/>
            <a:gdLst/>
            <a:ahLst/>
            <a:rect l="l" t="t" r="r" b="b"/>
            <a:pathLst>
              <a:path w="907" h="749">
                <a:moveTo>
                  <a:pt x="129" y="556"/>
                </a:moveTo>
                <a:cubicBezTo>
                  <a:pt x="72" y="467"/>
                  <a:pt x="0" y="282"/>
                  <a:pt x="32" y="193"/>
                </a:cubicBezTo>
                <a:cubicBezTo>
                  <a:pt x="64" y="104"/>
                  <a:pt x="217" y="48"/>
                  <a:pt x="322" y="24"/>
                </a:cubicBezTo>
                <a:cubicBezTo>
                  <a:pt x="427" y="0"/>
                  <a:pt x="576" y="12"/>
                  <a:pt x="661" y="48"/>
                </a:cubicBezTo>
                <a:cubicBezTo>
                  <a:pt x="746" y="84"/>
                  <a:pt x="794" y="168"/>
                  <a:pt x="830" y="241"/>
                </a:cubicBezTo>
                <a:cubicBezTo>
                  <a:pt x="866" y="314"/>
                  <a:pt x="907" y="406"/>
                  <a:pt x="879" y="483"/>
                </a:cubicBezTo>
                <a:cubicBezTo>
                  <a:pt x="851" y="560"/>
                  <a:pt x="746" y="661"/>
                  <a:pt x="661" y="701"/>
                </a:cubicBezTo>
                <a:cubicBezTo>
                  <a:pt x="576" y="741"/>
                  <a:pt x="460" y="749"/>
                  <a:pt x="371" y="725"/>
                </a:cubicBezTo>
                <a:cubicBezTo>
                  <a:pt x="282" y="701"/>
                  <a:pt x="186" y="645"/>
                  <a:pt x="129" y="556"/>
                </a:cubicBezTo>
                <a:close/>
              </a:path>
            </a:pathLst>
          </a:custGeom>
          <a:noFill/>
          <a:ln w="28440">
            <a:solidFill>
              <a:srgbClr val="cc00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66640" y="5541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9F65-0256-465F-BEBB-66D72F61AA1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calculus: scope extrus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1880" y="14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 private channel name can be communicated and its scope can be extended to include the recipient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Channel: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the name can be used to communicat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-3477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Privacy: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no one else can interfere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n example of link mobility: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2" name=""/>
          <p:cNvSpPr/>
          <p:nvPr/>
        </p:nvSpPr>
        <p:spPr>
          <a:xfrm>
            <a:off x="3868200" y="4735440"/>
            <a:ext cx="3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804920" y="473544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"/>
          <p:cNvCxnSpPr>
            <a:stCxn id="115" idx="0"/>
            <a:endCxn id="116" idx="2"/>
          </p:cNvCxnSpPr>
          <p:nvPr/>
        </p:nvCxnSpPr>
        <p:spPr>
          <a:xfrm flipH="1" flipV="1" rot="5400000">
            <a:off x="3352320" y="4214160"/>
            <a:ext cx="986760" cy="1027800"/>
          </a:xfrm>
          <a:prstGeom prst="curvedConnector2">
            <a:avLst/>
          </a:prstGeom>
          <a:ln w="28440">
            <a:solidFill>
              <a:srgbClr val="990033"/>
            </a:solidFill>
            <a:prstDash val="dash"/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3388680" y="4071960"/>
            <a:ext cx="29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193920" y="5221440"/>
            <a:ext cx="276480" cy="24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359240" y="4111560"/>
            <a:ext cx="276120" cy="247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18000" y="5221440"/>
            <a:ext cx="276480" cy="24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5" idx="7"/>
            <a:endCxn id="116" idx="3"/>
          </p:cNvCxnSpPr>
          <p:nvPr/>
        </p:nvCxnSpPr>
        <p:spPr>
          <a:xfrm flipV="1">
            <a:off x="3430440" y="4322160"/>
            <a:ext cx="969120" cy="93564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cxnSp>
        <p:nvCxnSpPr>
          <p:cNvPr id="120" name=""/>
          <p:cNvCxnSpPr>
            <a:stCxn id="116" idx="5"/>
            <a:endCxn id="118" idx="1"/>
          </p:cNvCxnSpPr>
          <p:nvPr/>
        </p:nvCxnSpPr>
        <p:spPr>
          <a:xfrm>
            <a:off x="4595400" y="4322520"/>
            <a:ext cx="862920" cy="93564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sp>
        <p:nvSpPr>
          <p:cNvPr id="121" name=""/>
          <p:cNvSpPr/>
          <p:nvPr/>
        </p:nvSpPr>
        <p:spPr>
          <a:xfrm>
            <a:off x="5697000" y="5180040"/>
            <a:ext cx="33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42960" y="36622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833920" y="531036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75080" y="5003640"/>
            <a:ext cx="1439640" cy="1189080"/>
          </a:xfrm>
          <a:custGeom>
            <a:avLst/>
            <a:gdLst/>
            <a:ahLst/>
            <a:rect l="l" t="t" r="r" b="b"/>
            <a:pathLst>
              <a:path w="907" h="749">
                <a:moveTo>
                  <a:pt x="129" y="556"/>
                </a:moveTo>
                <a:cubicBezTo>
                  <a:pt x="72" y="467"/>
                  <a:pt x="0" y="282"/>
                  <a:pt x="32" y="193"/>
                </a:cubicBezTo>
                <a:cubicBezTo>
                  <a:pt x="64" y="104"/>
                  <a:pt x="217" y="48"/>
                  <a:pt x="322" y="24"/>
                </a:cubicBezTo>
                <a:cubicBezTo>
                  <a:pt x="427" y="0"/>
                  <a:pt x="576" y="12"/>
                  <a:pt x="661" y="48"/>
                </a:cubicBezTo>
                <a:cubicBezTo>
                  <a:pt x="746" y="84"/>
                  <a:pt x="794" y="168"/>
                  <a:pt x="830" y="241"/>
                </a:cubicBezTo>
                <a:cubicBezTo>
                  <a:pt x="866" y="314"/>
                  <a:pt x="907" y="406"/>
                  <a:pt x="879" y="483"/>
                </a:cubicBezTo>
                <a:cubicBezTo>
                  <a:pt x="851" y="560"/>
                  <a:pt x="746" y="661"/>
                  <a:pt x="661" y="701"/>
                </a:cubicBezTo>
                <a:cubicBezTo>
                  <a:pt x="576" y="741"/>
                  <a:pt x="460" y="749"/>
                  <a:pt x="371" y="725"/>
                </a:cubicBezTo>
                <a:cubicBezTo>
                  <a:pt x="282" y="701"/>
                  <a:pt x="186" y="645"/>
                  <a:pt x="129" y="556"/>
                </a:cubicBezTo>
                <a:close/>
              </a:path>
            </a:pathLst>
          </a:custGeom>
          <a:noFill/>
          <a:ln w="28440">
            <a:solidFill>
              <a:srgbClr val="cc00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646360" y="3473280"/>
            <a:ext cx="2341440" cy="2362320"/>
          </a:xfrm>
          <a:custGeom>
            <a:avLst/>
            <a:gdLst/>
            <a:ahLst/>
            <a:rect l="l" t="t" r="r" b="b"/>
            <a:pathLst>
              <a:path w="1475" h="1488">
                <a:moveTo>
                  <a:pt x="197" y="1472"/>
                </a:moveTo>
                <a:cubicBezTo>
                  <a:pt x="112" y="1456"/>
                  <a:pt x="56" y="1428"/>
                  <a:pt x="28" y="1327"/>
                </a:cubicBezTo>
                <a:cubicBezTo>
                  <a:pt x="0" y="1226"/>
                  <a:pt x="4" y="1012"/>
                  <a:pt x="28" y="867"/>
                </a:cubicBezTo>
                <a:cubicBezTo>
                  <a:pt x="52" y="722"/>
                  <a:pt x="60" y="585"/>
                  <a:pt x="173" y="456"/>
                </a:cubicBezTo>
                <a:cubicBezTo>
                  <a:pt x="286" y="327"/>
                  <a:pt x="540" y="166"/>
                  <a:pt x="705" y="93"/>
                </a:cubicBezTo>
                <a:cubicBezTo>
                  <a:pt x="870" y="20"/>
                  <a:pt x="1048" y="0"/>
                  <a:pt x="1165" y="20"/>
                </a:cubicBezTo>
                <a:cubicBezTo>
                  <a:pt x="1282" y="40"/>
                  <a:pt x="1359" y="129"/>
                  <a:pt x="1407" y="214"/>
                </a:cubicBezTo>
                <a:cubicBezTo>
                  <a:pt x="1455" y="299"/>
                  <a:pt x="1475" y="419"/>
                  <a:pt x="1455" y="528"/>
                </a:cubicBezTo>
                <a:cubicBezTo>
                  <a:pt x="1435" y="637"/>
                  <a:pt x="1379" y="750"/>
                  <a:pt x="1286" y="867"/>
                </a:cubicBezTo>
                <a:cubicBezTo>
                  <a:pt x="1193" y="984"/>
                  <a:pt x="1023" y="1137"/>
                  <a:pt x="898" y="1230"/>
                </a:cubicBezTo>
                <a:cubicBezTo>
                  <a:pt x="773" y="1323"/>
                  <a:pt x="653" y="1380"/>
                  <a:pt x="536" y="1424"/>
                </a:cubicBezTo>
                <a:cubicBezTo>
                  <a:pt x="419" y="1468"/>
                  <a:pt x="282" y="1488"/>
                  <a:pt x="197" y="1472"/>
                </a:cubicBezTo>
                <a:close/>
              </a:path>
            </a:pathLst>
          </a:custGeom>
          <a:noFill/>
          <a:ln w="28440">
            <a:solidFill>
              <a:srgbClr val="cc00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B984-A4E9-45C5-948C-1A91ADB8371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suction.wav"/>
                                        </p:tgtEl>
                                      </p:cMediaNode>
                                    </p:audio>
                                    <p:animEffect filter="diamond(in)" transition="out">
                                      <p:cBhvr additive="repl">
                                        <p:cTn id="5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calculus: scope extrus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1880" y="14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 private channel name can be communicated and its scope can be extended to include the recipient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Channel: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the name can be used to communicat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-3477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Privacy: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no one else can interfere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n example of link mobility: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28" name=""/>
          <p:cNvSpPr/>
          <p:nvPr/>
        </p:nvSpPr>
        <p:spPr>
          <a:xfrm>
            <a:off x="3868200" y="4735440"/>
            <a:ext cx="3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804920" y="473544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31" idx="6"/>
            <a:endCxn id="132" idx="7"/>
          </p:cNvCxnSpPr>
          <p:nvPr/>
        </p:nvCxnSpPr>
        <p:spPr>
          <a:xfrm>
            <a:off x="4635000" y="4235400"/>
            <a:ext cx="1019880" cy="1023120"/>
          </a:xfrm>
          <a:prstGeom prst="curvedConnector2">
            <a:avLst/>
          </a:prstGeom>
          <a:ln w="28440">
            <a:solidFill>
              <a:srgbClr val="990033"/>
            </a:solidFill>
            <a:prstDash val="dash"/>
            <a:miter/>
            <a:tailEnd len="med" type="triangle" w="med"/>
          </a:ln>
        </p:spPr>
      </p:cxnSp>
      <p:sp>
        <p:nvSpPr>
          <p:cNvPr id="133" name=""/>
          <p:cNvSpPr/>
          <p:nvPr/>
        </p:nvSpPr>
        <p:spPr>
          <a:xfrm>
            <a:off x="5384160" y="4224240"/>
            <a:ext cx="29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/>
          <p:nvPr/>
        </p:nvCxnSpPr>
        <p:spPr>
          <a:xfrm>
            <a:off x="3471480" y="5344920"/>
            <a:ext cx="1948320" cy="1080"/>
          </a:xfrm>
          <a:prstGeom prst="straightConnector1">
            <a:avLst/>
          </a:prstGeom>
          <a:ln w="28440">
            <a:solidFill>
              <a:srgbClr val="990033"/>
            </a:solidFill>
            <a:miter/>
          </a:ln>
        </p:spPr>
      </p:cxnSp>
      <p:sp>
        <p:nvSpPr>
          <p:cNvPr id="135" name=""/>
          <p:cNvSpPr/>
          <p:nvPr/>
        </p:nvSpPr>
        <p:spPr>
          <a:xfrm>
            <a:off x="4369680" y="5345280"/>
            <a:ext cx="29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93920" y="5221440"/>
            <a:ext cx="276480" cy="24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359240" y="4111560"/>
            <a:ext cx="276120" cy="247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8000" y="5221440"/>
            <a:ext cx="276480" cy="24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6" idx="7"/>
            <a:endCxn id="131" idx="3"/>
          </p:cNvCxnSpPr>
          <p:nvPr/>
        </p:nvCxnSpPr>
        <p:spPr>
          <a:xfrm flipV="1">
            <a:off x="3430440" y="4322160"/>
            <a:ext cx="969120" cy="93564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cxnSp>
        <p:nvCxnSpPr>
          <p:cNvPr id="138" name=""/>
          <p:cNvCxnSpPr>
            <a:stCxn id="131" idx="5"/>
            <a:endCxn id="132" idx="1"/>
          </p:cNvCxnSpPr>
          <p:nvPr/>
        </p:nvCxnSpPr>
        <p:spPr>
          <a:xfrm>
            <a:off x="4595400" y="4322520"/>
            <a:ext cx="862920" cy="93564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sp>
        <p:nvSpPr>
          <p:cNvPr id="139" name=""/>
          <p:cNvSpPr/>
          <p:nvPr/>
        </p:nvSpPr>
        <p:spPr>
          <a:xfrm>
            <a:off x="5697000" y="5180040"/>
            <a:ext cx="33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242960" y="36622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833920" y="527220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75080" y="3390840"/>
            <a:ext cx="3878280" cy="2573280"/>
          </a:xfrm>
          <a:custGeom>
            <a:avLst/>
            <a:gdLst/>
            <a:ahLst/>
            <a:rect l="l" t="t" r="r" b="b"/>
            <a:pathLst>
              <a:path w="2427" h="1802">
                <a:moveTo>
                  <a:pt x="109" y="1589"/>
                </a:moveTo>
                <a:cubicBezTo>
                  <a:pt x="4" y="1460"/>
                  <a:pt x="0" y="1185"/>
                  <a:pt x="36" y="1008"/>
                </a:cubicBezTo>
                <a:cubicBezTo>
                  <a:pt x="72" y="831"/>
                  <a:pt x="201" y="665"/>
                  <a:pt x="326" y="524"/>
                </a:cubicBezTo>
                <a:cubicBezTo>
                  <a:pt x="451" y="383"/>
                  <a:pt x="609" y="246"/>
                  <a:pt x="786" y="161"/>
                </a:cubicBezTo>
                <a:cubicBezTo>
                  <a:pt x="963" y="76"/>
                  <a:pt x="1210" y="0"/>
                  <a:pt x="1391" y="16"/>
                </a:cubicBezTo>
                <a:cubicBezTo>
                  <a:pt x="1572" y="32"/>
                  <a:pt x="1742" y="153"/>
                  <a:pt x="1875" y="258"/>
                </a:cubicBezTo>
                <a:cubicBezTo>
                  <a:pt x="2008" y="363"/>
                  <a:pt x="2112" y="484"/>
                  <a:pt x="2189" y="645"/>
                </a:cubicBezTo>
                <a:cubicBezTo>
                  <a:pt x="2266" y="806"/>
                  <a:pt x="2322" y="1061"/>
                  <a:pt x="2334" y="1226"/>
                </a:cubicBezTo>
                <a:cubicBezTo>
                  <a:pt x="2346" y="1391"/>
                  <a:pt x="2427" y="1552"/>
                  <a:pt x="2262" y="1637"/>
                </a:cubicBezTo>
                <a:cubicBezTo>
                  <a:pt x="2097" y="1722"/>
                  <a:pt x="1608" y="1710"/>
                  <a:pt x="1342" y="1734"/>
                </a:cubicBezTo>
                <a:cubicBezTo>
                  <a:pt x="1076" y="1758"/>
                  <a:pt x="875" y="1802"/>
                  <a:pt x="665" y="1782"/>
                </a:cubicBezTo>
                <a:cubicBezTo>
                  <a:pt x="455" y="1762"/>
                  <a:pt x="214" y="1718"/>
                  <a:pt x="109" y="1589"/>
                </a:cubicBezTo>
                <a:close/>
              </a:path>
            </a:pathLst>
          </a:custGeom>
          <a:noFill/>
          <a:ln w="28440">
            <a:solidFill>
              <a:srgbClr val="cc00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46360" y="3473280"/>
            <a:ext cx="2341440" cy="2362320"/>
          </a:xfrm>
          <a:custGeom>
            <a:avLst/>
            <a:gdLst/>
            <a:ahLst/>
            <a:rect l="l" t="t" r="r" b="b"/>
            <a:pathLst>
              <a:path w="1475" h="1488">
                <a:moveTo>
                  <a:pt x="197" y="1472"/>
                </a:moveTo>
                <a:cubicBezTo>
                  <a:pt x="112" y="1456"/>
                  <a:pt x="56" y="1428"/>
                  <a:pt x="28" y="1327"/>
                </a:cubicBezTo>
                <a:cubicBezTo>
                  <a:pt x="0" y="1226"/>
                  <a:pt x="4" y="1012"/>
                  <a:pt x="28" y="867"/>
                </a:cubicBezTo>
                <a:cubicBezTo>
                  <a:pt x="52" y="722"/>
                  <a:pt x="60" y="585"/>
                  <a:pt x="173" y="456"/>
                </a:cubicBezTo>
                <a:cubicBezTo>
                  <a:pt x="286" y="327"/>
                  <a:pt x="540" y="166"/>
                  <a:pt x="705" y="93"/>
                </a:cubicBezTo>
                <a:cubicBezTo>
                  <a:pt x="870" y="20"/>
                  <a:pt x="1048" y="0"/>
                  <a:pt x="1165" y="20"/>
                </a:cubicBezTo>
                <a:cubicBezTo>
                  <a:pt x="1282" y="40"/>
                  <a:pt x="1359" y="129"/>
                  <a:pt x="1407" y="214"/>
                </a:cubicBezTo>
                <a:cubicBezTo>
                  <a:pt x="1455" y="299"/>
                  <a:pt x="1475" y="419"/>
                  <a:pt x="1455" y="528"/>
                </a:cubicBezTo>
                <a:cubicBezTo>
                  <a:pt x="1435" y="637"/>
                  <a:pt x="1379" y="750"/>
                  <a:pt x="1286" y="867"/>
                </a:cubicBezTo>
                <a:cubicBezTo>
                  <a:pt x="1193" y="984"/>
                  <a:pt x="1023" y="1137"/>
                  <a:pt x="898" y="1230"/>
                </a:cubicBezTo>
                <a:cubicBezTo>
                  <a:pt x="773" y="1323"/>
                  <a:pt x="653" y="1380"/>
                  <a:pt x="536" y="1424"/>
                </a:cubicBezTo>
                <a:cubicBezTo>
                  <a:pt x="419" y="1468"/>
                  <a:pt x="282" y="1488"/>
                  <a:pt x="197" y="1472"/>
                </a:cubicBezTo>
                <a:close/>
              </a:path>
            </a:pathLst>
          </a:custGeom>
          <a:noFill/>
          <a:ln w="28440">
            <a:solidFill>
              <a:srgbClr val="cc00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4924-CDC8-4069-A06C-2E7429588EB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suction.wav"/>
                                        </p:tgtEl>
                                      </p:cMediaNode>
                                    </p:audio>
                                    <p:animEffect filter="diamond(in)" transition="out">
                                      <p:cBhvr additive="repl">
                                        <p:cTn id="7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alculus: some suggested bibliograph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1880" y="15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Robin Milner</a:t>
            </a: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. </a:t>
            </a:r>
            <a:r>
              <a:rPr b="0" i="1" lang="en-US" sz="2000" spc="-1" strike="noStrike">
                <a:solidFill>
                  <a:srgbClr val="006699"/>
                </a:solidFill>
                <a:latin typeface="Comic Sans MS"/>
              </a:rPr>
              <a:t>Communicating and mobile systems: the pi-calculus</a:t>
            </a: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. Cambridge University Press, 1999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Benjamin Pierce</a:t>
            </a: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.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3"/>
              </a:rPr>
              <a:t>Foundational Calculi for Programming Languages</a:t>
            </a: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. Chapter in the </a:t>
            </a:r>
            <a:r>
              <a:rPr b="0" i="1" lang="en-US" sz="2000" spc="-1" strike="noStrike">
                <a:solidFill>
                  <a:srgbClr val="006699"/>
                </a:solidFill>
                <a:latin typeface="Comic Sans MS"/>
              </a:rPr>
              <a:t>CRC Handbook of Computer Science and Engineering</a:t>
            </a: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, 1996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Davide Sangiorgi and David Walker. </a:t>
            </a:r>
            <a:r>
              <a:rPr b="0" i="1" lang="en-US" sz="2000" spc="-1" strike="noStrike">
                <a:solidFill>
                  <a:srgbClr val="006699"/>
                </a:solidFill>
                <a:latin typeface="Comic Sans MS"/>
              </a:rPr>
              <a:t>The pi-calculus. A Theory of Mobile Processes</a:t>
            </a: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. Cambridge University Press, 2001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Joachim Parrow.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5"/>
              </a:rPr>
              <a:t>An Introduction to the pi-Calculus</a:t>
            </a: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. In Handbook of Process Algebra, ed. Bergstra, Ponse, Smolka, pages 479-543, Elsevier 2001.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6"/>
              </a:rPr>
              <a:t>BRICS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7"/>
              </a:rPr>
              <a:t> RS 99-42</a:t>
            </a: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7870-9CD8-4EE7-8507-AED21D4D5FC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calculus: synta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77440" y="1623960"/>
            <a:ext cx="84106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Comic Sans MS"/>
              </a:rPr>
              <a:t>Similar to CCS with value passing, but values are channel names, and recursion is replaced by replication ( ! )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4" marL="2171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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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action prefixes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(input, output, silent)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x, y are channel names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inact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 baseline="-25000">
                <a:solidFill>
                  <a:srgbClr val="3333ff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prefix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 baseline="-25000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parallel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sum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restriction,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new name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replicat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93720" y="2584440"/>
            <a:ext cx="3168720" cy="3650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1422360" y="3774960"/>
            <a:ext cx="2305080" cy="219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6F92-0040-45C1-B50F-231032C84B7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23:17:22Z</dcterms:created>
  <dc:creator>catuscia</dc:creator>
  <dc:description/>
  <dc:language>en-US</dc:language>
  <cp:lastModifiedBy>catuscia</cp:lastModifiedBy>
  <dcterms:modified xsi:type="dcterms:W3CDTF">2004-07-05T21:44:42Z</dcterms:modified>
  <cp:revision>61</cp:revision>
  <dc:subject/>
  <dc:title>Concurrency 5</dc:title>
</cp:coreProperties>
</file>