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777413" cy="6645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777600" cy="66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538600" y="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088800" y="498240"/>
            <a:ext cx="3598920" cy="24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538600" y="631332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1684-2B07-4B39-B4A6-F1690362D96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089160" y="498600"/>
            <a:ext cx="3598920" cy="2492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8EB-073F-4C87-A2D0-3DBCE19E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716-B126-4569-B172-36D0B9E2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E3A-05B0-449C-ADEB-1F8F7835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EDE-ECF1-40C5-A7FB-26F96062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5CF-4FC5-43DE-AD0B-E9D9D64C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FA0-49E3-4655-B302-6F4997A7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5B6-6F31-4283-8CB5-AFC6044C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A83-83F2-4FA1-9F95-4F264F13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115560"/>
            <a:ext cx="9906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6CD-DF08-4AC6-BE72-23F4B29F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4A4-D980-4EF5-AA3B-3067DA8F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CFB-F81A-4DD9-A648-3BC7A740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53B-96E3-4471-8C5A-672F73EE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08640"/>
            <a:ext cx="42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PRI 3 Dec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30864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uscia Palamid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83120" y="6524280"/>
            <a:ext cx="20638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0808-2FE9-4AB1-805B-CDA30C0CD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41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086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18080" y="3114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Why Probability and Nondeterminism?</a:t>
            </a:r>
            <a:br>
              <a:rPr sz="4000"/>
            </a:b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Concurrency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heduling within parallel com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known behavior of the enviro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derspec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nvironment may be stochas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cesses may flip c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A13-63C9-46A5-B829-38DE44A196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17360" y="1483920"/>
            <a:ext cx="96710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ample 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 of objects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fiel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ubset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satisfy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clusion of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mp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Comic Sans MS"/>
              </a:rPr>
              <a:t>Closure under countable interse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Measure 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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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or each countable collectio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 pairwise disjoint sets of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Sub-)probability mea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sure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= 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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 generated b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malles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-field that includes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1447920"/>
            <a:ext cx="4133880" cy="2376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27760" y="7620120"/>
            <a:ext cx="397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70680" y="1773360"/>
            <a:ext cx="372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xample: set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78240" y="2492280"/>
            <a:ext cx="38491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tudy probabiliti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s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which sets can I meas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BB3-3F8F-43DA-9895-5C53C6C7E8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y not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lip a fair coin infinitely many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,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orem: there is no probability measure o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719-EEF0-45D5-9ABC-03621903F9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8760" y="4581360"/>
            <a:ext cx="912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8760" y="4653000"/>
            <a:ext cx="9205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measure on cones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extends uniquely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o a measure on the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-field generated by c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1000" y="3772080"/>
            <a:ext cx="4111560" cy="2450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3763800"/>
            <a:ext cx="2857680" cy="1128960"/>
          </a:xfrm>
          <a:custGeom>
            <a:avLst/>
            <a:gdLst/>
            <a:ahLst/>
            <a:rect l="l" t="t" r="r" b="b"/>
            <a:pathLst>
              <a:path w="1662" h="711">
                <a:moveTo>
                  <a:pt x="0" y="424"/>
                </a:moveTo>
                <a:lnTo>
                  <a:pt x="395" y="0"/>
                </a:lnTo>
                <a:lnTo>
                  <a:pt x="1662" y="0"/>
                </a:lnTo>
                <a:lnTo>
                  <a:pt x="1662" y="711"/>
                </a:lnTo>
                <a:lnTo>
                  <a:pt x="366" y="711"/>
                </a:lnTo>
                <a:lnTo>
                  <a:pt x="0" y="424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90640" y="5013360"/>
            <a:ext cx="1767240" cy="647640"/>
          </a:xfrm>
          <a:custGeom>
            <a:avLst/>
            <a:gdLst/>
            <a:ahLst/>
            <a:rect l="l" t="t" r="r" b="b"/>
            <a:pathLst>
              <a:path w="1027" h="408">
                <a:moveTo>
                  <a:pt x="0" y="181"/>
                </a:moveTo>
                <a:lnTo>
                  <a:pt x="272" y="0"/>
                </a:lnTo>
                <a:lnTo>
                  <a:pt x="1027" y="10"/>
                </a:lnTo>
                <a:lnTo>
                  <a:pt x="1027" y="408"/>
                </a:lnTo>
                <a:lnTo>
                  <a:pt x="181" y="408"/>
                </a:lnTo>
                <a:lnTo>
                  <a:pt x="0" y="181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2320" y="3821040"/>
            <a:ext cx="4012560" cy="2387880"/>
            <a:chOff x="382320" y="3821040"/>
            <a:chExt cx="4012560" cy="2387880"/>
          </a:xfrm>
        </p:grpSpPr>
        <p:sp>
          <p:nvSpPr>
            <p:cNvPr id="293" name=""/>
            <p:cNvSpPr/>
            <p:nvPr/>
          </p:nvSpPr>
          <p:spPr>
            <a:xfrm>
              <a:off x="539280" y="4121280"/>
              <a:ext cx="180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2320" y="46893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66000" y="4152960"/>
              <a:ext cx="5436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7560" y="53211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72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07200" y="443088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072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07200" y="57038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26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26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28640" y="4451400"/>
              <a:ext cx="882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8640" y="4908600"/>
              <a:ext cx="825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885680" y="4093920"/>
              <a:ext cx="77040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85680" y="4348080"/>
              <a:ext cx="7704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941120" y="5314680"/>
              <a:ext cx="7700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41120" y="5568840"/>
              <a:ext cx="77004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1640" y="404352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1640" y="526428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2200" y="436572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2960" y="520380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29240" y="388476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83240" y="568008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40280" y="399420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40280" y="521352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06240" y="40752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90040" y="42782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23520" y="52880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6240" y="5570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1160" y="44784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37680" y="5111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24480" y="4802040"/>
              <a:ext cx="61920" cy="257400"/>
            </a:xfrm>
            <a:custGeom>
              <a:avLst/>
              <a:gdLst/>
              <a:ahLst/>
              <a:rect l="l" t="t" r="r" b="b"/>
              <a:pathLst>
                <a:path w="54" h="243">
                  <a:moveTo>
                    <a:pt x="7" y="0"/>
                  </a:moveTo>
                  <a:cubicBezTo>
                    <a:pt x="15" y="20"/>
                    <a:pt x="54" y="83"/>
                    <a:pt x="53" y="123"/>
                  </a:cubicBezTo>
                  <a:cubicBezTo>
                    <a:pt x="52" y="163"/>
                    <a:pt x="11" y="218"/>
                    <a:pt x="0" y="24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76840" y="4284720"/>
              <a:ext cx="460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06000" y="5518080"/>
              <a:ext cx="532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Cones and Measur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3320" y="1412640"/>
            <a:ext cx="631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e of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t of executions with prefix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present event “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easure of a c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duct edges of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264280" y="1989000"/>
            <a:ext cx="4290480" cy="2448000"/>
            <a:chOff x="5264280" y="1989000"/>
            <a:chExt cx="4290480" cy="2448000"/>
          </a:xfrm>
        </p:grpSpPr>
        <p:sp>
          <p:nvSpPr>
            <p:cNvPr id="329" name=""/>
            <p:cNvSpPr/>
            <p:nvPr/>
          </p:nvSpPr>
          <p:spPr>
            <a:xfrm>
              <a:off x="5264280" y="1989000"/>
              <a:ext cx="4290480" cy="2448000"/>
            </a:xfrm>
            <a:custGeom>
              <a:avLst/>
              <a:gdLst/>
              <a:ahLst/>
              <a:rect l="l" t="t" r="r" b="b"/>
              <a:pathLst>
                <a:path w="2495" h="1542">
                  <a:moveTo>
                    <a:pt x="2404" y="1542"/>
                  </a:moveTo>
                  <a:lnTo>
                    <a:pt x="0" y="771"/>
                  </a:lnTo>
                  <a:lnTo>
                    <a:pt x="2404" y="0"/>
                  </a:lnTo>
                  <a:lnTo>
                    <a:pt x="2495" y="181"/>
                  </a:lnTo>
                  <a:lnTo>
                    <a:pt x="2404" y="408"/>
                  </a:lnTo>
                  <a:lnTo>
                    <a:pt x="2495" y="635"/>
                  </a:lnTo>
                  <a:lnTo>
                    <a:pt x="2359" y="862"/>
                  </a:lnTo>
                  <a:lnTo>
                    <a:pt x="2449" y="1134"/>
                  </a:lnTo>
                  <a:lnTo>
                    <a:pt x="2359" y="1315"/>
                  </a:lnTo>
                  <a:lnTo>
                    <a:pt x="2404" y="1542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00160" y="2636640"/>
              <a:ext cx="2154600" cy="1152360"/>
            </a:xfrm>
            <a:custGeom>
              <a:avLst/>
              <a:gdLst/>
              <a:ahLst/>
              <a:rect l="l" t="t" r="r" b="b"/>
              <a:pathLst>
                <a:path w="1253" h="726">
                  <a:moveTo>
                    <a:pt x="1207" y="726"/>
                  </a:moveTo>
                  <a:lnTo>
                    <a:pt x="0" y="365"/>
                  </a:lnTo>
                  <a:lnTo>
                    <a:pt x="1162" y="0"/>
                  </a:lnTo>
                  <a:lnTo>
                    <a:pt x="1253" y="227"/>
                  </a:lnTo>
                  <a:lnTo>
                    <a:pt x="1117" y="454"/>
                  </a:lnTo>
                  <a:lnTo>
                    <a:pt x="1207" y="726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64280" y="3127320"/>
              <a:ext cx="2135880" cy="241200"/>
            </a:xfrm>
            <a:custGeom>
              <a:avLst/>
              <a:gdLst/>
              <a:ahLst/>
              <a:rect l="l" t="t" r="r" b="b"/>
              <a:pathLst>
                <a:path w="1242" h="152">
                  <a:moveTo>
                    <a:pt x="0" y="54"/>
                  </a:moveTo>
                  <a:cubicBezTo>
                    <a:pt x="68" y="61"/>
                    <a:pt x="295" y="107"/>
                    <a:pt x="408" y="99"/>
                  </a:cubicBezTo>
                  <a:cubicBezTo>
                    <a:pt x="521" y="91"/>
                    <a:pt x="597" y="0"/>
                    <a:pt x="680" y="8"/>
                  </a:cubicBezTo>
                  <a:cubicBezTo>
                    <a:pt x="763" y="16"/>
                    <a:pt x="813" y="138"/>
                    <a:pt x="907" y="145"/>
                  </a:cubicBezTo>
                  <a:cubicBezTo>
                    <a:pt x="1001" y="152"/>
                    <a:pt x="1172" y="71"/>
                    <a:pt x="1242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94480" y="2923920"/>
              <a:ext cx="5472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46400" y="2781000"/>
              <a:ext cx="405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 flipV="1">
            <a:off x="741240" y="4437000"/>
            <a:ext cx="882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960" y="4910040"/>
            <a:ext cx="8254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936800" y="5316480"/>
            <a:ext cx="770040" cy="25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C12-B80B-4229-BA1E-122C90D154D9}" type="slidenum">
              <a:t>12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s of Event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62040" y="1483920"/>
            <a:ext cx="8578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ventually 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lea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n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mo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lement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+1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exact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previous two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infinite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any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 times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r all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ecution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 and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nothing is scheduled af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t consisting of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tersected complement of cones that extend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713-13AD-4475-BC83-FA921CE3F7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44720" y="2666880"/>
            <a:ext cx="647532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8760" y="3962520"/>
            <a:ext cx="6475320" cy="21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Schedulers - Resolution of nondeterminis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8916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Schedul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nction        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(E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H)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s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robabilistic executio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generated by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from state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0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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C89-EFE2-4185-86AD-F85BDB2119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825480" y="5105520"/>
            <a:ext cx="4705200" cy="10666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68520" y="1523880"/>
            <a:ext cx="7446960" cy="1224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0440" y="15775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:: = 0  |  P|P  |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P + P |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  X  |  let X = P in X |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819000" y="46530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st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548640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62040" y="2997360"/>
            <a:ext cx="3192120" cy="1431720"/>
            <a:chOff x="662040" y="2997360"/>
            <a:chExt cx="3192120" cy="1431720"/>
          </a:xfrm>
        </p:grpSpPr>
        <p:sp>
          <p:nvSpPr>
            <p:cNvPr id="350" name=""/>
            <p:cNvSpPr/>
            <p:nvPr/>
          </p:nvSpPr>
          <p:spPr>
            <a:xfrm>
              <a:off x="878400" y="3421080"/>
              <a:ext cx="2495880" cy="1008000"/>
            </a:xfrm>
            <a:prstGeom prst="rect">
              <a:avLst/>
            </a:prstGeom>
            <a:solidFill>
              <a:srgbClr val="ff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040" y="3373560"/>
              <a:ext cx="2889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P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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9560" y="2997360"/>
              <a:ext cx="30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f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91800" y="3906720"/>
              <a:ext cx="231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0440" y="3830760"/>
              <a:ext cx="3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23200" y="5638680"/>
            <a:ext cx="328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1-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13000" y="556272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3352680"/>
            <a:ext cx="255888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21160" y="34243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2895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determini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3957480"/>
            <a:ext cx="231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9625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73960" y="40384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+ 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33526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5B3-9D6A-4FB9-A7E8-EE4E8C592B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08403 -0.00024 E">
                                      <p:cBhvr>
                                        <p:cTn id="331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95360" y="3429000"/>
            <a:ext cx="536580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7800" y="29718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0240" y="403848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0240" y="1752480"/>
            <a:ext cx="255924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360" y="18241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0240" y="1295280"/>
            <a:ext cx="30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e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5480" y="2357280"/>
            <a:ext cx="231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8520" y="23623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52960" y="4191120"/>
            <a:ext cx="168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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60320" y="411480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8160" y="24382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|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50960" y="17524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3560" y="3581280"/>
            <a:ext cx="1871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65120" y="3581280"/>
            <a:ext cx="115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98040" y="3583080"/>
            <a:ext cx="896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5600" y="4191120"/>
            <a:ext cx="1437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15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21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1752480"/>
            <a:ext cx="478764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79720" y="1295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27400" y="2362320"/>
            <a:ext cx="27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51520" y="2514600"/>
            <a:ext cx="16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84800" y="243828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40320" y="1905120"/>
            <a:ext cx="255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613480" y="1981080"/>
            <a:ext cx="790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1880" y="2514600"/>
            <a:ext cx="678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034960" y="1828800"/>
            <a:ext cx="825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23560" y="251460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5360" y="5105520"/>
            <a:ext cx="5365800" cy="121896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800" y="4724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0240" y="579132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58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888640" y="5791320"/>
            <a:ext cx="330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3560" y="533412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[ let X = P in X / X ]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1520" y="5181480"/>
            <a:ext cx="372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30920" y="5867280"/>
            <a:ext cx="400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98320" y="2133720"/>
            <a:ext cx="1267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, 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69320" y="586728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840" y="5867280"/>
            <a:ext cx="1590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X = 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074-D1AD-4784-A0B1-A8640CD8E2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Bisimulation Re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7000" y="1557000"/>
            <a:ext cx="95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e have the following obj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hey should extend the corresponding relations in the non probabilistic cas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Keep definitions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ere are the key differenc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6C8-6224-4A3D-84DA-F36F7118B4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ong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800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9264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98448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211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30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4" name=""/>
            <p:cNvCxnSpPr>
              <a:stCxn id="409" idx="3"/>
              <a:endCxn id="418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35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73720" y="416556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FDE-4834-4C23-90CF-6C9C786A52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trong Bisimulation on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35680" y="2128680"/>
            <a:ext cx="4705200" cy="229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73720" y="419112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800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3760" y="397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75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55" idx="3"/>
              <a:endCxn id="464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80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9372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9372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A85-FD03-4E10-ADBF-D712C8FA91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7960" y="1616040"/>
            <a:ext cx="43941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4280" y="1700280"/>
            <a:ext cx="856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A47-2695-408F-A1DA-9EA2A234BF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obabilistic Bisimu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997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se two Probabilistic Automata are not bisimi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t they satisfy the same formulas of a logic PCT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logic observes probability bounds on reachability proper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similar if we match transitions with convex combinations of transi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382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7168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31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809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415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18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796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577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050840" y="2449440"/>
            <a:ext cx="1486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628280" y="2449440"/>
            <a:ext cx="9082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88880" y="2449440"/>
            <a:ext cx="330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19360" y="2449440"/>
            <a:ext cx="247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0180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0180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5912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54120" y="3059280"/>
            <a:ext cx="247680" cy="75960"/>
          </a:xfrm>
          <a:custGeom>
            <a:avLst/>
            <a:gdLst/>
            <a:ahLst/>
            <a:rect l="l" t="t" r="r" b="b"/>
            <a:pathLst>
              <a:path w="144" h="48">
                <a:moveTo>
                  <a:pt x="0" y="0"/>
                </a:moveTo>
                <a:cubicBezTo>
                  <a:pt x="36" y="24"/>
                  <a:pt x="72" y="48"/>
                  <a:pt x="96" y="48"/>
                </a:cubicBezTo>
                <a:cubicBezTo>
                  <a:pt x="120" y="48"/>
                  <a:pt x="132" y="2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3228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853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806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84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7104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839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96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434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7724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087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865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9851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629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756040" y="2449440"/>
            <a:ext cx="1485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334200" y="2449440"/>
            <a:ext cx="90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0736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0736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6432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3748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90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858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891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020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2864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068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193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342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245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50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0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28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981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92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591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494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190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272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9716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054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746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564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259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342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033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32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02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810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4798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66760" y="3141720"/>
            <a:ext cx="1092240" cy="13669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08120" y="2924280"/>
            <a:ext cx="1069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09200" y="3716280"/>
            <a:ext cx="1195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it-IT" sz="2800" spc="-1" strike="noStrike" baseline="3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15000" y="3044880"/>
            <a:ext cx="77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808-042D-447F-A880-3D54BAFD72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030640" y="4745160"/>
            <a:ext cx="4757760" cy="134784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30640" y="2133720"/>
            <a:ext cx="471024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eak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775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397836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08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09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14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39760" y="4797360"/>
            <a:ext cx="50418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18480" y="4668840"/>
            <a:ext cx="981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19E-562C-44FD-88FC-C85D4C6604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ak bisimulation 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41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3040" y="1447920"/>
            <a:ext cx="7759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62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63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29372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76A-AF85-4280-AEDF-360B5E78BA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285920" y="5734080"/>
            <a:ext cx="6319800" cy="503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25720" y="1628640"/>
            <a:ext cx="3900600" cy="8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Weak Transi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41240" y="2707920"/>
            <a:ext cx="84204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re is a probabilistic execution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157920" y="1628640"/>
            <a:ext cx="3448080" cy="648000"/>
            <a:chOff x="3157920" y="1628640"/>
            <a:chExt cx="3448080" cy="648000"/>
          </a:xfrm>
        </p:grpSpPr>
        <p:sp>
          <p:nvSpPr>
            <p:cNvPr id="681" name=""/>
            <p:cNvSpPr/>
            <p:nvPr/>
          </p:nvSpPr>
          <p:spPr>
            <a:xfrm>
              <a:off x="3157920" y="170028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00640" y="1700280"/>
              <a:ext cx="405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75680" y="16286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618000" y="1947960"/>
              <a:ext cx="2596680" cy="220320"/>
              <a:chOff x="3618000" y="1947960"/>
              <a:chExt cx="2596680" cy="22032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3618000" y="2023920"/>
                <a:ext cx="2558520" cy="76320"/>
                <a:chOff x="3618000" y="2023920"/>
                <a:chExt cx="2558520" cy="763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618000" y="202392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8000" y="210024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6114960" y="1947960"/>
                <a:ext cx="9756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116400" y="2058480"/>
                <a:ext cx="9828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4910400" y="3452760"/>
            <a:ext cx="198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is fin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03560" y="4037040"/>
            <a:ext cx="2275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s trace is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16880" y="4629240"/>
            <a:ext cx="2571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starts from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84120" y="5213520"/>
            <a:ext cx="2237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leads to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85920" y="5805360"/>
            <a:ext cx="63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66480" y="5702400"/>
            <a:ext cx="96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C5C-DDE6-4826-968E-554A17993B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the probabilistic CCS is an extension of CCS (to define what this means is part of the exerci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probabilistic bisimulation is an extension of bi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Write the Lehmann-Rabin algorithm in probabilistic CCS (without using guarded cho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06A-0962-46E7-AA97-48D42490A5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12800" y="2413080"/>
            <a:ext cx="702000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1240" y="1557360"/>
            <a:ext cx="842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52080" y="2421000"/>
            <a:ext cx="5703120" cy="2283480"/>
            <a:chOff x="2152080" y="2421000"/>
            <a:chExt cx="5703120" cy="2283480"/>
          </a:xfrm>
        </p:grpSpPr>
        <p:sp>
          <p:nvSpPr>
            <p:cNvPr id="71" name=""/>
            <p:cNvSpPr/>
            <p:nvPr/>
          </p:nvSpPr>
          <p:spPr>
            <a:xfrm>
              <a:off x="5691960" y="4249800"/>
              <a:ext cx="911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5208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6244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09120" y="32864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52280" y="2482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6244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5228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72920" y="2816280"/>
              <a:ext cx="222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4240" y="281628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72920" y="3044880"/>
              <a:ext cx="825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0960" y="3730680"/>
              <a:ext cx="9903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728520" y="2968560"/>
              <a:ext cx="107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14240" y="426420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65000" y="24368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9880" y="3106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0360" y="37926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78280" y="29545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75480" y="242100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49360" y="31212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32440" y="325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400" spc="-1" strike="noStrike">
                  <a:solidFill>
                    <a:srgbClr val="efdc51"/>
                  </a:solidFill>
                  <a:latin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10880" y="4924440"/>
            <a:ext cx="68616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xecution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efdc51"/>
                </a:solidFill>
                <a:latin typeface="Times New Roman"/>
              </a:rPr>
              <a:t>ch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coffee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5480" y="5533920"/>
            <a:ext cx="4251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race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 n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52760" y="2820960"/>
            <a:ext cx="2260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6520" y="4268880"/>
            <a:ext cx="218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48280" y="31179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A8D-C1F1-481D-9C40-425F1E479F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76200" y="1616040"/>
            <a:ext cx="4525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200" y="1663560"/>
            <a:ext cx="864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c(</a:t>
            </a:r>
            <a:r>
              <a:rPr b="0" i="1" lang="it-IT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90E-E922-4DC2-B0E6-729E60EB59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1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B2B-C748-4EF2-8662-DB5870923F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38400" y="1905120"/>
            <a:ext cx="7800480" cy="3311280"/>
            <a:chOff x="1238400" y="1905120"/>
            <a:chExt cx="7800480" cy="3311280"/>
          </a:xfrm>
        </p:grpSpPr>
        <p:sp>
          <p:nvSpPr>
            <p:cNvPr id="139" name=""/>
            <p:cNvSpPr/>
            <p:nvPr/>
          </p:nvSpPr>
          <p:spPr>
            <a:xfrm>
              <a:off x="1238400" y="1905120"/>
              <a:ext cx="7800480" cy="3311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56640" y="31766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136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28120" y="4243320"/>
              <a:ext cx="45108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4292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7800" y="2443320"/>
              <a:ext cx="1733400" cy="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5800" y="2265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5800" y="4281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80960" y="21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80960" y="262404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80960" y="39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0960" y="452916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3800" y="204804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96280" y="1949400"/>
              <a:ext cx="3893400" cy="1395360"/>
            </a:xfrm>
            <a:custGeom>
              <a:avLst/>
              <a:gdLst/>
              <a:ahLst/>
              <a:rect l="l" t="t" r="r" b="b"/>
              <a:pathLst>
                <a:path w="2264" h="879">
                  <a:moveTo>
                    <a:pt x="0" y="879"/>
                  </a:moveTo>
                  <a:cubicBezTo>
                    <a:pt x="196" y="749"/>
                    <a:pt x="802" y="196"/>
                    <a:pt x="1179" y="98"/>
                  </a:cubicBezTo>
                  <a:cubicBezTo>
                    <a:pt x="1556" y="0"/>
                    <a:pt x="2038" y="250"/>
                    <a:pt x="2264" y="29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96280" y="2265480"/>
              <a:ext cx="3876120" cy="2171520"/>
            </a:xfrm>
            <a:custGeom>
              <a:avLst/>
              <a:gdLst/>
              <a:ahLst/>
              <a:rect l="l" t="t" r="r" b="b"/>
              <a:pathLst>
                <a:path w="2254" h="1368">
                  <a:moveTo>
                    <a:pt x="0" y="680"/>
                  </a:moveTo>
                  <a:cubicBezTo>
                    <a:pt x="224" y="586"/>
                    <a:pt x="971" y="0"/>
                    <a:pt x="1347" y="115"/>
                  </a:cubicBezTo>
                  <a:cubicBezTo>
                    <a:pt x="1723" y="230"/>
                    <a:pt x="2065" y="1107"/>
                    <a:pt x="2254" y="1368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6280" y="3632040"/>
              <a:ext cx="3900600" cy="1552680"/>
            </a:xfrm>
            <a:custGeom>
              <a:avLst/>
              <a:gdLst/>
              <a:ahLst/>
              <a:rect l="l" t="t" r="r" b="b"/>
              <a:pathLst>
                <a:path w="2268" h="978">
                  <a:moveTo>
                    <a:pt x="0" y="0"/>
                  </a:moveTo>
                  <a:cubicBezTo>
                    <a:pt x="196" y="143"/>
                    <a:pt x="796" y="736"/>
                    <a:pt x="1174" y="857"/>
                  </a:cubicBezTo>
                  <a:cubicBezTo>
                    <a:pt x="1552" y="978"/>
                    <a:pt x="2040" y="753"/>
                    <a:pt x="2268" y="726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6280" y="2768760"/>
              <a:ext cx="3900600" cy="1965240"/>
            </a:xfrm>
            <a:custGeom>
              <a:avLst/>
              <a:gdLst/>
              <a:ahLst/>
              <a:rect l="l" t="t" r="r" b="b"/>
              <a:pathLst>
                <a:path w="2268" h="1238">
                  <a:moveTo>
                    <a:pt x="0" y="544"/>
                  </a:moveTo>
                  <a:cubicBezTo>
                    <a:pt x="229" y="645"/>
                    <a:pt x="998" y="1238"/>
                    <a:pt x="1376" y="1147"/>
                  </a:cubicBezTo>
                  <a:cubicBezTo>
                    <a:pt x="1754" y="1056"/>
                    <a:pt x="2082" y="239"/>
                    <a:pt x="2268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53000" y="4275000"/>
              <a:ext cx="18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2520" y="4137120"/>
              <a:ext cx="180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3320" y="2481120"/>
              <a:ext cx="157680" cy="16524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0" y="0"/>
                  </a:moveTo>
                  <a:cubicBezTo>
                    <a:pt x="14" y="4"/>
                    <a:pt x="76" y="10"/>
                    <a:pt x="84" y="27"/>
                  </a:cubicBezTo>
                  <a:cubicBezTo>
                    <a:pt x="92" y="44"/>
                    <a:pt x="54" y="88"/>
                    <a:pt x="46" y="104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8520" y="4254480"/>
              <a:ext cx="122040" cy="243000"/>
            </a:xfrm>
            <a:custGeom>
              <a:avLst/>
              <a:gdLst/>
              <a:ahLst/>
              <a:rect l="l" t="t" r="r" b="b"/>
              <a:pathLst>
                <a:path w="71" h="153">
                  <a:moveTo>
                    <a:pt x="45" y="0"/>
                  </a:moveTo>
                  <a:cubicBezTo>
                    <a:pt x="48" y="14"/>
                    <a:pt x="71" y="61"/>
                    <a:pt x="64" y="86"/>
                  </a:cubicBezTo>
                  <a:cubicBezTo>
                    <a:pt x="57" y="111"/>
                    <a:pt x="13" y="139"/>
                    <a:pt x="0" y="15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8AD-36C5-4302-B2AD-D279CB3E02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6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265400" y="5300640"/>
            <a:ext cx="683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at is the probability of beep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007-9926-4B90-8DE4-9364D50C0E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95320" y="3933720"/>
            <a:ext cx="811548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5320" y="1557360"/>
            <a:ext cx="8115480" cy="215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75720" y="16462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74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5080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50800" y="30402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2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8360" y="1860480"/>
            <a:ext cx="189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8360" y="1860480"/>
            <a:ext cx="1981080" cy="131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37240" y="1860480"/>
            <a:ext cx="173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43600" y="1711080"/>
            <a:ext cx="1645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87"/>
                </a:moveTo>
                <a:arcTo wR="10800" hR="10800" stAng="-35996" swAng="5435996"/>
                <a:lnTo>
                  <a:pt x="10800" y="10800"/>
                </a:lnTo>
                <a:close/>
              </a:path>
              <a:path fill="none" w="21600" h="21600">
                <a:moveTo>
                  <a:pt x="21599" y="10687"/>
                </a:moveTo>
                <a:arcTo wR="10800" hR="10800" stAng="-35996" swAng="543599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81920" y="14889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29600" y="2614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93280" y="54180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9192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83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836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795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038320" y="5664240"/>
            <a:ext cx="13622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78360" y="571500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978360" y="4401720"/>
            <a:ext cx="1815840" cy="13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54800" y="4299120"/>
            <a:ext cx="173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43600" y="5564160"/>
            <a:ext cx="1645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64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6400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45240" y="564048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26320" y="568944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6800" y="4522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81920" y="57355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0800" y="38815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47960" y="414972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47960" y="299736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10120" y="14860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905120"/>
            <a:ext cx="156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3600" y="14731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38880" y="1460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19160" y="190800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7960" y="1860480"/>
            <a:ext cx="187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66040" y="1860480"/>
            <a:ext cx="17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06640" y="566100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008600" y="4397400"/>
            <a:ext cx="17938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8560" y="4300560"/>
            <a:ext cx="1716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29280" y="1623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747280" y="4071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E87-254C-429C-A0C7-B3F072121B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39880" y="1969920"/>
            <a:ext cx="6164280" cy="3672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86760" y="34034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13320" y="2565360"/>
            <a:ext cx="637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20520" y="4317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148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71480" y="29462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7148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71480" y="485136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7012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7012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308320" y="2974680"/>
            <a:ext cx="13208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8320" y="3660840"/>
            <a:ext cx="12380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041720" y="2441520"/>
            <a:ext cx="1155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1720" y="2822400"/>
            <a:ext cx="1155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24160" y="4270320"/>
            <a:ext cx="11559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4160" y="4651200"/>
            <a:ext cx="1155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5480" y="23652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5480" y="41940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73480" y="288432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3720" y="410364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07240" y="2198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89680" y="486576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23800" y="23511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23800" y="41799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5160" y="2473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5160" y="27781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5160" y="4302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5160" y="4759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8960" y="3159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40734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00280" y="3500280"/>
            <a:ext cx="93600" cy="385920"/>
          </a:xfrm>
          <a:custGeom>
            <a:avLst/>
            <a:gdLst/>
            <a:ahLst/>
            <a:rect l="l" t="t" r="r" b="b"/>
            <a:pathLst>
              <a:path w="54" h="243">
                <a:moveTo>
                  <a:pt x="7" y="0"/>
                </a:moveTo>
                <a:cubicBezTo>
                  <a:pt x="15" y="20"/>
                  <a:pt x="54" y="83"/>
                  <a:pt x="53" y="123"/>
                </a:cubicBezTo>
                <a:cubicBezTo>
                  <a:pt x="52" y="163"/>
                  <a:pt x="11" y="218"/>
                  <a:pt x="0" y="24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29000" y="2727360"/>
            <a:ext cx="6984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73640" y="4573440"/>
            <a:ext cx="7920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04200" y="22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24000" y="40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/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62880" y="2492280"/>
            <a:ext cx="390600" cy="86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462520" y="3357720"/>
            <a:ext cx="390600" cy="86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22640" y="3213000"/>
            <a:ext cx="140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95320" y="1196640"/>
            <a:ext cx="600876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95320" y="3789360"/>
            <a:ext cx="631980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09760" y="2957400"/>
            <a:ext cx="1360440" cy="70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60800" y="2412720"/>
            <a:ext cx="1168560" cy="4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4200" y="235728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35320" y="3668760"/>
            <a:ext cx="1214280" cy="9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46480" y="4252680"/>
            <a:ext cx="11527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4200" y="418932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5320" y="1197000"/>
            <a:ext cx="8893080" cy="5184720"/>
          </a:xfrm>
          <a:custGeom>
            <a:avLst/>
            <a:gdLst/>
            <a:ahLst/>
            <a:rect l="l" t="t" r="r" b="b"/>
            <a:pathLst>
              <a:path w="5171" h="3266">
                <a:moveTo>
                  <a:pt x="0" y="1633"/>
                </a:moveTo>
                <a:lnTo>
                  <a:pt x="3493" y="0"/>
                </a:lnTo>
                <a:lnTo>
                  <a:pt x="5171" y="0"/>
                </a:lnTo>
                <a:lnTo>
                  <a:pt x="5171" y="3266"/>
                </a:lnTo>
                <a:lnTo>
                  <a:pt x="3674" y="3266"/>
                </a:lnTo>
                <a:lnTo>
                  <a:pt x="0" y="1633"/>
                </a:lnTo>
                <a:close/>
              </a:path>
            </a:pathLst>
          </a:custGeom>
          <a:gradFill rotWithShape="0">
            <a:gsLst>
              <a:gs pos="0">
                <a:srgbClr val="ffcc99">
                  <a:alpha val="50196"/>
                </a:srgbClr>
              </a:gs>
              <a:gs pos="100000">
                <a:srgbClr val="755e46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192-7B9E-4EB5-AC45-CE6135D9B3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7:04:53Z</dcterms:created>
  <dc:creator>Roberto Segala</dc:creator>
  <dc:description/>
  <dc:language>en-US</dc:language>
  <cp:lastModifiedBy>Catuscia Palamidessi</cp:lastModifiedBy>
  <cp:lastPrinted>2007-12-03T08:33:30Z</cp:lastPrinted>
  <dcterms:modified xsi:type="dcterms:W3CDTF">2007-12-03T09:02:10Z</dcterms:modified>
  <cp:revision>160</cp:revision>
  <dc:subject/>
  <dc:title>Probabilitic Automata  and Compositionality</dc:title>
</cp:coreProperties>
</file>