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ush.wav" ContentType="audio/x-wav"/>
  <Override PartName="/ppt/media/suction.wav" ContentType="audio/x-wav"/>
  <Override PartName="/ppt/media/wind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EC1D-4D2B-4458-8D1F-FC172EF5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8AF6-4E0D-45DA-94B6-DEB59637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8E16-F9E8-437C-A0F0-7483318D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6DB-4319-43D0-A6A0-259EB456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7A7-16B2-4E8D-9449-C134DD82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EBD-EA48-4425-B2BA-C9FBC4AD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FD4B-4496-4F3C-801E-1EB4A410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6E34-46D4-4DFB-A0A1-31CDA044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FFD9-A513-4BBD-A5A1-4F2AB720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DE09-7A52-4A68-AA64-0A436F58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687E-BC21-47AD-A389-9040AD28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E6C4-31C1-4F49-922F-00F5D8D9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5154-0DC0-411C-9376-4148D18D8FE0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suction.wav"/><Relationship Id="rId3" Type="http://schemas.openxmlformats.org/officeDocument/2006/relationships/audio" Target="../media/wind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PRI – Course on Concurr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Probabilistic methods in Concurren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NRIA Futurs and LIX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http://pauillac.inria.fr/~leifer/teaching/mpri-concurrency-2004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1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1800" y="136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ome useful properti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f A is history-insensitive ,  S –A,p-&gt; T, and T –A,q-&gt; U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S –A,pq-&gt; U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and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–A,p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ere p = min{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S –A,1-&gt; S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f A is history-insensitive and   S –A,p-&gt; T   and   S unless T, and p &gt; 0, the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S –A,1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9AD-F0CB-435F-850D-0E09470D0CC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-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1360" y="2099880"/>
            <a:ext cx="775044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We will show that under a fair adversary scheduler we have deadlock-freedom (and livelock-freedom), i.e. if a philosopher gets hungry, then with probability 1 some philosopher (not necessarily the same) will eventually eat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In this proof we will use the progress statements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40C4-1541-4170-BBDB-C950805A28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44600" y="13442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Comic Sans MS"/>
              </a:rPr>
              <a:t>State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action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008080"/>
                </a:solidFill>
                <a:uFillTx/>
                <a:latin typeface="Comic Sans MS"/>
              </a:rPr>
              <a:t>description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ink  or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eminder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94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get hungry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flip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eady to tos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wait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waiting for first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secon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hecking second resourc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ping first resourc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at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pre-critical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xit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ritical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 first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 second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rem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move to reminder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s and actions in the algorithm of Lehmann and Rabi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438120" y="2611440"/>
            <a:ext cx="6810480" cy="184320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73920" y="3162240"/>
            <a:ext cx="184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81840" y="3324240"/>
            <a:ext cx="1121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915-499F-4BEA-AF81-E6B6753575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96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 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41400"/>
            <a:ext cx="8380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Let us introduce the following global (sets of) stat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T={F,W,S,D,P}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Ea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C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R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at least one phil is in T,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ll the others are in T, R or 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Flip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F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Pre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ne phil is in P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Good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rocess is in a ‘’good state’’, i.e. in {W,S}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while his second fork 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is not the first fork for th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eighbor (i.e. the neighbor is not committed to 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want to show that  Try –A,1-&gt; Eat   for A = fair adv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F4D8-7C22-4B93-8443-9754B7280F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 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can prove that, for the class of fair adversaries A (omitted in the following notation)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ry  -1-&gt;  RT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T  -1-&gt;  Flip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lip  -1/2-&gt; 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Good  -1/4-&gt; 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e  -1-&gt; 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Using the properties of progress statements we deriv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/8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ince we also have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unless Eat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,  we can conclude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F20-2E40-45CD-8499-31E5402BA8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[[ ]] : 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Comic Sans MS"/>
              </a:rPr>
              <a:t>pa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Fully distributed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[ P | Q ]]  =  [[ P ]]  |  [[ Q ]]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7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7200"/>
                </a:solidFill>
                <a:latin typeface="Comic Sans MS"/>
              </a:rPr>
              <a:t>Unifor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2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547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547200"/>
                </a:solidFill>
                <a:latin typeface="Comic Sans MS"/>
              </a:rPr>
              <a:t>[[ P </a:t>
            </a:r>
            <a:r>
              <a:rPr b="0" lang="en-US" sz="2000" spc="-1" strike="noStrike">
                <a:solidFill>
                  <a:srgbClr val="5472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547200"/>
                </a:solidFill>
                <a:latin typeface="Comic Sans MS"/>
              </a:rPr>
              <a:t> ]]   =  [[ P ]] </a:t>
            </a:r>
            <a:r>
              <a:rPr b="0" lang="en-US" sz="2000" spc="-1" strike="noStrike">
                <a:solidFill>
                  <a:srgbClr val="5472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5028"/>
                </a:solidFill>
                <a:latin typeface="Comic Sans MS"/>
              </a:rPr>
              <a:t>Correct wrt a notion of probabilistic testing semantic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502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P must O     iff     [[ P ]] must [[ O ]] with prob 1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234-FE51-4838-9AC5-BB2A5B94E4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0600" y="95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very mixed choice is translated into a parallel comp. of processes corresponding to the branches, plus a lock f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he input processes compete for acquiring both its own lock and the lock of the partne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he input process which succeeds first, establishes the communication. The other alternatives are discarded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4005360" y="4057560"/>
            <a:ext cx="1001520" cy="231840"/>
          </a:xfrm>
          <a:custGeom>
            <a:avLst/>
            <a:gdLst>
              <a:gd name="textAreaLeft" fmla="*/ 124920 w 1001520"/>
              <a:gd name="textAreaRight" fmla="*/ 876600 w 1001520"/>
              <a:gd name="textAreaTop" fmla="*/ 57960 h 231840"/>
              <a:gd name="textAreaBottom" fmla="*/ 173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278080" y="3753000"/>
            <a:ext cx="739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17880" y="375300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277720" y="4057560"/>
            <a:ext cx="73980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89160" y="40068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17880" y="3701880"/>
            <a:ext cx="88920" cy="1018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3240" y="453564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06800" y="35686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74760" y="445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84960" y="3873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00840" y="3803760"/>
            <a:ext cx="739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40640" y="38037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000480" y="4108320"/>
            <a:ext cx="73980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11920" y="40575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40640" y="37530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78600" y="35067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960" y="40561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42120" y="400680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57200" y="34383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57200" y="46371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31840" y="39355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44600" y="5600880"/>
            <a:ext cx="716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00080" y="533556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The problem is reduced to a generalized dining philosophers problem where each fork (lock) can be adjacent to more than two philosop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467080" y="4586400"/>
            <a:ext cx="50616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7816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278080" y="4057200"/>
            <a:ext cx="10008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78600" y="46371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978520" y="4107960"/>
            <a:ext cx="10008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167520" y="4637160"/>
            <a:ext cx="5284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15720" y="46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3080" y="426888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06520" y="471024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76960" y="468792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9B3-A992-4644-A5C6-C60ECE84F65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rt to our encoding goal, the algorithm of Lehmann and Rabin has two problem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t works only for </a:t>
            </a:r>
            <a:r>
              <a:rPr b="1" lang="en-US" sz="2200" spc="-1" strike="noStrike">
                <a:solidFill>
                  <a:srgbClr val="006600"/>
                </a:solidFill>
                <a:latin typeface="Comic Sans MS"/>
              </a:rPr>
              <a:t>fair</a:t>
            </a: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cheduler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It only works for certain kinds of graph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5100"/>
                </a:solidFill>
                <a:latin typeface="Comic Sans MS"/>
              </a:rPr>
              <a:t>Problem 1 however can be solved easily by replacing the busy waiting in step 3 with suspension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6004b"/>
                </a:solidFill>
                <a:latin typeface="Comic Sans MS"/>
              </a:rPr>
              <a:t>[Duflot, Friburg, Picaronny 2002] – see also Herescu’s PhD thesi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D486-FE07-4DE3-B85F-4292F325C95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3400" y="182088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goto 3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2E5-9F3C-4569-B8F1-842990E2DFC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950156"/>
                </a:solidFill>
                <a:latin typeface="Comic Sans MS"/>
              </a:rPr>
              <a:t>modified so to eliminate the need of fairn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3400" y="182088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</a:t>
            </a:r>
            <a:r>
              <a:rPr b="0" lang="en-US" sz="2100" spc="-1" strike="noStrike">
                <a:solidFill>
                  <a:srgbClr val="950156"/>
                </a:solidFill>
                <a:latin typeface="Comic Sans MS"/>
              </a:rPr>
              <a:t>wa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50156"/>
                </a:solidFill>
                <a:latin typeface="Comic Sans MS"/>
              </a:rPr>
              <a:t>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A7C7-F457-4131-AEFB-372E714610A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lling the gap between th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alculus and the asynchronou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calculus is strictly more expressive than the asynchronous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calculus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On the other hand, the asynchronous </a:t>
            </a:r>
            <a:r>
              <a:rPr b="0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-calculus can be implemented in a distributed way while the (synchronous) </a:t>
            </a:r>
            <a:r>
              <a:rPr b="0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-calculus canno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167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It is possible to enrich the asynchronous </a:t>
            </a:r>
            <a:r>
              <a:rPr b="0" lang="en-US" sz="2000" spc="-1" strike="noStrike">
                <a:solidFill>
                  <a:srgbClr val="167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-calculus with a mechanism of probabilistic (internal) choice so to achieve the same expressive power than the </a:t>
            </a:r>
            <a:r>
              <a:rPr b="0" lang="en-US" sz="2000" spc="-1" strike="noStrike">
                <a:solidFill>
                  <a:srgbClr val="167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-calculu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The idea is to implement the mixed choice construct via a randomized algorithm which is based on an extension of the solution of Lehmann and Rabin to the Dining Philosopher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F7A-A2D4-4F3E-8F42-CA501AA970B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related to generic grap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620640" y="151596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n the general case, Each fork can be shared by more than two philosophers</a:t>
            </a:r>
            <a:r>
              <a:rPr b="0" lang="en-US" sz="1800" spc="-1" strike="noStrike">
                <a:solidFill>
                  <a:srgbClr val="333399"/>
                </a:solidFill>
                <a:latin typeface="Webdings"/>
                <a:ea typeface="Webdings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35080" y="2176200"/>
            <a:ext cx="5037120" cy="3882600"/>
            <a:chOff x="2035080" y="2176200"/>
            <a:chExt cx="5037120" cy="3882600"/>
          </a:xfrm>
        </p:grpSpPr>
        <p:sp>
          <p:nvSpPr>
            <p:cNvPr id="141" name=""/>
            <p:cNvSpPr/>
            <p:nvPr/>
          </p:nvSpPr>
          <p:spPr>
            <a:xfrm>
              <a:off x="4078080" y="396720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008480" y="45684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27480" y="45352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51120" y="2571840"/>
              <a:ext cx="1440" cy="30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87520" y="4632120"/>
              <a:ext cx="216360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551120" y="4632120"/>
              <a:ext cx="216540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387520" y="2571840"/>
              <a:ext cx="216360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1120" y="2571840"/>
              <a:ext cx="216540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7952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24360" y="5321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2436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11400" y="531972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87520" y="4632120"/>
              <a:ext cx="4329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63880" y="418932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49680" y="58654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79840" y="58658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115720" y="453492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35080" y="450216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551120" y="217620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78040" y="21765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48080" y="417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1073600">
              <a:off x="4500360" y="432756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4467600">
              <a:off x="4405320" y="44064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8067200">
              <a:off x="430236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3974600">
              <a:off x="4387320" y="41029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19280" y="438624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1073600">
              <a:off x="4348080" y="4411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4467600">
              <a:off x="4235040" y="428760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8067200">
              <a:off x="422928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3974600">
              <a:off x="4203000" y="44060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2600" y="3994200"/>
              <a:ext cx="792360" cy="81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030400" y="2182680"/>
            <a:ext cx="5037120" cy="3882960"/>
            <a:chOff x="2030400" y="2182680"/>
            <a:chExt cx="5037120" cy="3882960"/>
          </a:xfrm>
        </p:grpSpPr>
        <p:sp>
          <p:nvSpPr>
            <p:cNvPr id="173" name=""/>
            <p:cNvSpPr/>
            <p:nvPr/>
          </p:nvSpPr>
          <p:spPr>
            <a:xfrm>
              <a:off x="4073400" y="39733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005600" y="4574880"/>
              <a:ext cx="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23160" y="45417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46440" y="2577960"/>
              <a:ext cx="1800" cy="306216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82840" y="4638600"/>
              <a:ext cx="21636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546440" y="4638600"/>
              <a:ext cx="21654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382840" y="2577960"/>
              <a:ext cx="2163600" cy="206064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46440" y="2577960"/>
              <a:ext cx="2165400" cy="206064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7484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19680" y="532728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1968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06720" y="53258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82840" y="4638600"/>
              <a:ext cx="4329000" cy="1440"/>
            </a:xfrm>
            <a:prstGeom prst="line">
              <a:avLst/>
            </a:prstGeom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59200" y="41954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545000" y="5871960"/>
              <a:ext cx="144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75160" y="58719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111400" y="4541760"/>
              <a:ext cx="144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30400" y="450828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546440" y="2182680"/>
              <a:ext cx="180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73360" y="21826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43400" y="41814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1073600">
              <a:off x="4495320" y="43336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4467600">
              <a:off x="4400280" y="44128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067200">
              <a:off x="429696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3974600">
              <a:off x="4383000" y="41094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14960" y="43923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1073600">
              <a:off x="4343040" y="44179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4467600">
              <a:off x="4230360" y="42940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8067200">
              <a:off x="422388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3974600">
              <a:off x="4199040" y="44125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48280" y="4000320"/>
              <a:ext cx="792000" cy="811080"/>
            </a:xfrm>
            <a:prstGeom prst="ellipse">
              <a:avLst/>
            </a:prstGeom>
            <a:noFill/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3C50-6099-46FB-8643-A05788FCAB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ning philosophers on generic grap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The algorithm of Lehmann and Rabin is deadlock-free if and only if all cycles are pairwise disconnected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167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7600"/>
                </a:solidFill>
                <a:latin typeface="Comic Sans MS"/>
              </a:rPr>
              <a:t>There are essentially three ways in which two cycles can be connected: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4973760"/>
            <a:ext cx="533520" cy="0"/>
          </a:xfrm>
          <a:prstGeom prst="line">
            <a:avLst/>
          </a:prstGeom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466884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60440" y="52801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74680" y="49338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80960" y="46101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38440" y="46148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33560" y="4948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47800" y="52736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67040" y="4964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52894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33720" y="5281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1800" y="49467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54240" y="46134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46069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70320" y="494172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35440" y="46022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27720" y="495936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30800" y="46324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4638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1320" y="5292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5308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37160" y="494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32640" y="46162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54640" y="4611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58080" y="494820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95800" y="46134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81560" y="4948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06960" y="5272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38680" y="5288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91360" y="494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83280" y="4597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07240" y="49309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32640" y="52862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32680" y="52833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10280" y="52833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D3E-E9B6-422E-B2CF-32F41E9C073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f part)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Each cycle can be considered separately. On each of  them the classic algorithm is deadlock-free. Some additional care must be taken for the arcs that are not part of the cycl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60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600a0"/>
                </a:solidFill>
                <a:latin typeface="Comic Sans MS"/>
              </a:rPr>
              <a:t>Only if part)</a:t>
            </a:r>
            <a:r>
              <a:rPr b="0" lang="en-US" sz="2000" spc="-1" strike="noStrike">
                <a:solidFill>
                  <a:srgbClr val="7600a0"/>
                </a:solidFill>
                <a:latin typeface="Comic Sans MS"/>
              </a:rPr>
              <a:t> By analysis of the three possible cases. Actually they are all similar. We  illustrate the first cas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676520" y="4495680"/>
            <a:ext cx="3047400" cy="1028880"/>
            <a:chOff x="1676520" y="4495680"/>
            <a:chExt cx="3047400" cy="1028880"/>
          </a:xfrm>
        </p:grpSpPr>
        <p:sp>
          <p:nvSpPr>
            <p:cNvPr id="266" name=""/>
            <p:cNvSpPr/>
            <p:nvPr/>
          </p:nvSpPr>
          <p:spPr>
            <a:xfrm>
              <a:off x="167652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19160" y="5029200"/>
              <a:ext cx="799920" cy="1440"/>
            </a:xfrm>
            <a:prstGeom prst="line">
              <a:avLst/>
            </a:prstGeom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8128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867280" y="5410080"/>
            <a:ext cx="30492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48006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96840" y="51879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55000" y="4552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om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42840" y="525780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60020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1617480" y="519336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5704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24200" y="4443480"/>
            <a:ext cx="88920" cy="1062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5760" y="4968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75000" y="4449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11240" y="548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84600" y="49798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90840" y="54738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81560" y="4457880"/>
            <a:ext cx="88920" cy="8856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33640" y="44546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37000" y="4991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38680" y="548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81560" y="54720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75320" y="49816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2ED7-A4F8-43A4-913D-089335ABA69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of of the theorem (only-if part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The initial situation has probability p &gt; 0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Comic Sans MS"/>
              </a:rPr>
              <a:t>The scheduler forces the processes to loo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mic Sans MS"/>
              </a:rPr>
              <a:t>Hence the system has a deadlock (livelock) with probability 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Note that this scheduler is </a:t>
            </a:r>
            <a:r>
              <a:rPr b="1" lang="en-US" sz="2200" spc="-1" strike="noStrike">
                <a:solidFill>
                  <a:srgbClr val="7a5100"/>
                </a:solidFill>
                <a:latin typeface="Comic Sans MS"/>
              </a:rPr>
              <a:t>not fair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. However we can define even a fair scheduler which induces an infinite loop with probability &gt; 0. The idea is to have a scheduler that “gives up” after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 attempts when the process keep choosing the “wrong” fork, but that increases (by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) its “stubborness” at every round.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5015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With a suitable choice of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and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 we have that the probability of a loop is   p/4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627-F2C6-4716-A46A-1F8BCFD135C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ution for the DP on generic graph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060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s we have seen, the algorithm of Lehmann and Rabin does not work on general graph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However, it is easy to modify the algorithm so that it works in general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The idea is to reduce the problem to the pairwise disconnected cycles case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7a5100"/>
                </a:solidFill>
                <a:latin typeface="Comic Sans MS"/>
              </a:rPr>
              <a:t>Each fork is initially associated with one token. Each phil needs to acquire a token in order to participate to the competition. After this initial phase, the algorithm is the same as the Lehmann &amp; Rabin’s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950156"/>
                </a:solidFill>
                <a:latin typeface="Comic Sans MS"/>
              </a:rPr>
              <a:t>Theorem:</a:t>
            </a:r>
            <a:r>
              <a:rPr b="0" lang="en-US" sz="1800" spc="-1" strike="noStrike">
                <a:solidFill>
                  <a:srgbClr val="950156"/>
                </a:solidFill>
                <a:latin typeface="Comic Sans MS"/>
              </a:rPr>
              <a:t> The competing phils determine a graph in which all cycles are pairwise disconnected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950156"/>
                </a:solidFill>
                <a:latin typeface="Comic Sans MS"/>
              </a:rPr>
              <a:t>Proof: By case analysis. To have a situation with two connected cycles we would need a node with two tokens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86C-C92B-4090-9738-B5F832AF9B0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153120" y="2133720"/>
            <a:ext cx="271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Comic Sans MS"/>
              </a:rPr>
              <a:t>Reduction to the classic case: each fork is initially associated with a to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ution for the DP on generic graph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01480" y="2030040"/>
            <a:ext cx="5037120" cy="3882600"/>
            <a:chOff x="501480" y="2030040"/>
            <a:chExt cx="5037120" cy="3882600"/>
          </a:xfrm>
        </p:grpSpPr>
        <p:sp>
          <p:nvSpPr>
            <p:cNvPr id="304" name=""/>
            <p:cNvSpPr/>
            <p:nvPr/>
          </p:nvSpPr>
          <p:spPr>
            <a:xfrm>
              <a:off x="2544480" y="382104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474880" y="4422240"/>
              <a:ext cx="180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93880" y="438912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17520" y="2425680"/>
              <a:ext cx="1440" cy="306180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3920" y="4485960"/>
              <a:ext cx="21636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017520" y="4485960"/>
              <a:ext cx="21654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853920" y="2425680"/>
              <a:ext cx="2163600" cy="20599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17520" y="2425680"/>
              <a:ext cx="2165400" cy="20599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45920" y="30128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90760" y="5175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90760" y="30128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77800" y="517356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3920" y="4485960"/>
              <a:ext cx="4329000" cy="1440"/>
            </a:xfrm>
            <a:prstGeom prst="line">
              <a:avLst/>
            </a:prstGeom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30280" y="4043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016080" y="5719320"/>
              <a:ext cx="144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46240" y="571968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82120" y="4388760"/>
              <a:ext cx="180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1480" y="435600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017520" y="2030040"/>
              <a:ext cx="144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44440" y="203040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4480" y="402876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1073600">
              <a:off x="2966760" y="418140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4467600">
              <a:off x="2871720" y="42602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8067200">
              <a:off x="2768760" y="40899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3974600">
              <a:off x="2853720" y="39567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85680" y="4240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1073600">
              <a:off x="2814480" y="426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4467600">
              <a:off x="2701440" y="414144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8067200">
              <a:off x="2695680" y="40899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3974600">
              <a:off x="2669400" y="425988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19000" y="3848040"/>
              <a:ext cx="792360" cy="810720"/>
            </a:xfrm>
            <a:prstGeom prst="ellipse">
              <a:avLst/>
            </a:prstGeom>
            <a:noFill/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540160" y="3827520"/>
            <a:ext cx="33624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472000" y="4429080"/>
            <a:ext cx="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89560" y="4395960"/>
            <a:ext cx="14436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13200" y="2432160"/>
            <a:ext cx="1440" cy="306216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49240" y="4492800"/>
            <a:ext cx="2163960" cy="100152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013200" y="4492800"/>
            <a:ext cx="2165400" cy="100152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849240" y="2432160"/>
            <a:ext cx="2163960" cy="206064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13200" y="2432160"/>
            <a:ext cx="2165400" cy="206064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41600" y="301932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86080" y="518148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86080" y="301932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73120" y="518004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49240" y="4492800"/>
            <a:ext cx="4329360" cy="1440"/>
          </a:xfrm>
          <a:prstGeom prst="line">
            <a:avLst/>
          </a:prstGeom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25960" y="4049640"/>
            <a:ext cx="336240" cy="31284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011400" y="5726160"/>
            <a:ext cx="180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941560" y="5726160"/>
            <a:ext cx="14472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77800" y="4395960"/>
            <a:ext cx="180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6800" y="4362480"/>
            <a:ext cx="144720" cy="13032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013200" y="2036880"/>
            <a:ext cx="144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40120" y="2036880"/>
            <a:ext cx="14436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09800" y="403560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1073600">
            <a:off x="2962080" y="41878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4467600">
            <a:off x="2866680" y="42670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8067200">
            <a:off x="2763360" y="409680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3974600">
            <a:off x="2849400" y="396396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81360" y="424656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1073600">
            <a:off x="2809800" y="427176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4467600">
            <a:off x="2696760" y="41482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8067200">
            <a:off x="2690640" y="409752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3974600">
            <a:off x="2665440" y="426672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614680" y="3854520"/>
            <a:ext cx="792000" cy="811080"/>
          </a:xfrm>
          <a:prstGeom prst="ellipse">
            <a:avLst/>
          </a:prstGeom>
          <a:noFill/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5484960"/>
            <a:ext cx="158760" cy="160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07040" y="4511520"/>
            <a:ext cx="158760" cy="16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06800" y="2306520"/>
            <a:ext cx="158760" cy="16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19280" y="4254480"/>
            <a:ext cx="158760" cy="160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46280" y="382104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017880" y="2416320"/>
            <a:ext cx="1440" cy="30621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191120" y="518328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008160" y="4486320"/>
            <a:ext cx="2165400" cy="10015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191120" y="301320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19320" y="2425680"/>
            <a:ext cx="2165400" cy="2060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44480" y="301320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865080" y="2427120"/>
            <a:ext cx="2163960" cy="2060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32600" y="3278160"/>
            <a:ext cx="275580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Each phil needs to acquire a token in order to participate to the competition. The competing phils determine a set of subgraphs in which each subgraph contains at most one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0E4-C7E5-423E-9984-DE9F7CC8781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animMotion origin="layout" path="M 0.0073 -2.59259E-006 C -0.00746 -0.01227 -0.02204 -0.02453 -0.02395 -0.03865 C -0.02586 -0.05278 0.00018 -0.06528 -0.00434 -0.08518 C -0.00885 -0.10509 -0.05 -0.13426 -0.05086 -0.1581 C -0.05173 -0.18194 -0.0309 -0.20486 -0.01007 -0.22778 E">
                                      <p:cBhvr>
                                        <p:cTn id="262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animMotion origin="layout" path="M 0.00365 -4.44444E-006 C 0.00799 0.03264 0.01233 0.06528 0.00591 0.07292 C -0.00052 0.08056 -0.01893 0.04213 -0.03473 0.04653 C -0.05052 0.05093 -0.07968 0.09005 -0.0894 0.09908 E">
                                      <p:cBhvr>
                                        <p:cTn id="277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Motion origin="layout" path="M 0.00034 -0.0007 C 0.03611 -0.04491 0.07187 -0.08889 0.0783 -0.08125 C 0.08472 -0.07361 0.0342 0.02777 0.03871 0.04583 C 0.04323 0.06389 0.08958 0.01643 0.10503 0.02731 C 0.12048 0.03819 0.12725 0.09652 0.13177 0.11111 E">
                                      <p:cBhvr>
                                        <p:cTn id="294" dur="1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animMotion origin="layout" path="M -1.66667E-006 5.18519E-006 C 0.0059 -0.02337 0.0118 -0.04675 0.01736 -0.05439 C 0.02291 -0.06203 0.02587 -0.04143 0.03368 -0.04652 C 0.04149 -0.05161 0.06423 -0.07383 0.06389 -0.08541 C 0.06354 -0.09698 0.03385 -0.10231 0.03142 -0.11643 C 0.02899 -0.13055 0.03871 -0.16457 0.04878 -0.17059 C 0.05885 -0.17661 0.08246 -0.15346 0.09184 -0.15207 C 0.10121 -0.15069 0.1026 -0.16087 0.10469 -0.16272 E">
                                      <p:cBhvr>
                                        <p:cTn id="315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dining philosoph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432080"/>
            <a:ext cx="8339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philosopher needs exactly two f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philosopher can access only one fork at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200" y="1684440"/>
            <a:ext cx="82008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27400" y="3592440"/>
            <a:ext cx="2060640" cy="160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40200" y="3919680"/>
            <a:ext cx="4478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27400" y="3919680"/>
            <a:ext cx="4460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71960" y="5335560"/>
            <a:ext cx="44748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543640" y="5041800"/>
            <a:ext cx="0" cy="33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9640" y="5032440"/>
            <a:ext cx="96840" cy="22680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024360" y="510192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59200" y="5079960"/>
            <a:ext cx="9684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53040" y="313344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00480" y="3124080"/>
            <a:ext cx="9540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444816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1073600">
            <a:off x="4241520" y="454572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4467600">
            <a:off x="4180320" y="459792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067200">
            <a:off x="411228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3974600">
            <a:off x="4168440" y="4399920"/>
            <a:ext cx="2588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21280" y="4586400"/>
            <a:ext cx="261720" cy="10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1073600">
            <a:off x="4140000" y="4601880"/>
            <a:ext cx="261720" cy="11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4467600">
            <a:off x="4067640" y="452016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8067200">
            <a:off x="406296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3974600">
            <a:off x="4046400" y="4597200"/>
            <a:ext cx="257040" cy="1141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87720" y="4336920"/>
            <a:ext cx="528840" cy="5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010-3DD9-42E3-9E45-64198F6BF66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21920" y="1441440"/>
            <a:ext cx="818532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Deadlock freedom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(aka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progres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if there is a hungry philosopher, a philosopher will eventually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Starvation freedom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every hungry philosopher will eventually eat (but we won’t consider this property here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omic Sans MS"/>
              </a:rPr>
              <a:t>Robustness wrt a large class of adversaries: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 Adversaries decide who does the next move (schedulers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8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86600"/>
                </a:solidFill>
                <a:latin typeface="Comic Sans MS"/>
              </a:rPr>
              <a:t>Fully distributed:</a:t>
            </a:r>
            <a:r>
              <a:rPr b="0" lang="en-US" sz="2000" spc="-1" strike="noStrike">
                <a:solidFill>
                  <a:srgbClr val="386600"/>
                </a:solidFill>
                <a:latin typeface="Comic Sans MS"/>
              </a:rPr>
              <a:t> no centralized control or memo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5028"/>
                </a:solidFill>
                <a:latin typeface="Comic Sans MS"/>
              </a:rPr>
              <a:t>Symmetric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All philosophers run the same code and are in the same initial sta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The same holds for the fork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577800" y="395280"/>
            <a:ext cx="8256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nded properties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FAC-07A5-41F6-A386-5CF5C96384D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63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existence of a “deterministic”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Lehman and Rabin have shown that there does not exist a “deterministic” (i.e. non-probabilistic) solution to the dining philosophers, satisfying all properties listed in previous slid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The proof proceeds by proving that for every possible program we can define an adversary (scheduler) which preserves the initial symmet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5100"/>
                </a:solidFill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  Francez and Rodeh did propose a  “deterministic” solution using CSP, similar to the solution in CCS seen in Lecture 6. The explanation to this apparent contradiction is that CSP cannot be implemented in a fully distributed wa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C98-1610-4314-AC14-0D9B8AA7C4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404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abilistic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5960" y="158580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goto 3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05B4-7825-4B31-AC48-DFF0DF13B7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5160" y="279000"/>
            <a:ext cx="8812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rectness of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120" y="1918800"/>
            <a:ext cx="826308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every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ai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adversary, if a philosopher becomes hungry, then a philosopher (not necessarily the same) will eventually eat with probability 1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Proof</a:t>
            </a: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 The original proof is not fully formalized and it is difficult to follow. There is a proof by Segala and Lynch, using progress statements, which is easier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b542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5425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7b5425"/>
                </a:solidFill>
                <a:latin typeface="Comic Sans MS"/>
              </a:rPr>
              <a:t>  why the fairness requirement? Can we write a variant of the algorithm which does not require fairness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1FFD-5868-43B0-B8E9-A8D48897E4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rogress statement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posed by Lynch and Segala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 formal method to analyze probabilistic algorithm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omic Sans MS"/>
              </a:rPr>
              <a:t>Definition (progress statements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Given sets of states S, T, and a class of adversaries A, we wri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S –A,p-&gt; 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if, under any adversary in A, from any state in S, we eventually reach a state in T with probability at least p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Furthermore, we wri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S unless 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if, whenever from a state in S we do not reach a state in T, we remain in S (possibly in a different state of S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DFA2-5D1E-4A24-8210-CAD1B5FECD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tory insensitiv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Definition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A class of adversaries A is history-insensitive iff for every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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 and every execution fragment e, there exists an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 such that for every execution fragment e’,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ee’) =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(e’) hold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roposition: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The class of fair adversaries is history-insensitiv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5028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s fair, then for every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, the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defined as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(e’) =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ee’)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s still fair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B5E-6ACF-44D9-9C67-7F729A53768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5-01-31T20:59:47Z</dcterms:modified>
  <cp:revision>141</cp:revision>
  <dc:subject/>
  <dc:title>Concurrency 5</dc:title>
</cp:coreProperties>
</file>