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291638"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F806B-45EC-4600-A4FE-096D4C8CA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E56A8-8C45-4F31-A851-15B0B1277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38E51-A34F-44BE-9CDA-C37F162B3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F86F4-D67E-4FF4-A0E5-2579F5EB2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DC813-9158-4F27-A4AA-9623C1E33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DF7C0-F794-4AD1-8C60-6706C5B17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802A3-7070-428F-AA18-F1FC5D96A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33222-0682-45D3-94BE-40A21B24E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B7DAC-4A02-4977-8D97-EE6E5E982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B4A0-593E-48CD-AE17-AAE095023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A3067-417E-45DE-86A3-7E8B657D7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69BE-F5BA-47FC-98E5-D51E92717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0AA9-280F-4F28-B690-6D63135ED19F}"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s 11 and 12</a:t>
            </a:r>
            <a:br>
              <a:rPr sz="3600"/>
            </a:br>
            <a:r>
              <a:rPr b="0" lang="en-US" sz="3600" spc="-1" strike="noStrike">
                <a:solidFill>
                  <a:srgbClr val="cc0066"/>
                </a:solidFill>
                <a:latin typeface="Comic Sans MS"/>
              </a:rPr>
              <a:t>The pi-calculus expressiveness hierarchy</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F32E081-6A7E-414D-9D22-8539861A4FE1}"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F146734-A236-4B9B-9B42-D53F9A349D0A}"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F847AF1-B337-4BF0-A4D1-C4DA80D60CE3}"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126" name=""/>
          <p:cNvSpPr/>
          <p:nvPr/>
        </p:nvSpPr>
        <p:spPr>
          <a:xfrm>
            <a:off x="2958480" y="339084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Palamidessi</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E2CE3280-3227-4FF7-8E85-83BF9754C21A}"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2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6">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8"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31A7998-77ED-4E2F-BC90-CE0E92DD6AE5}"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30"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1"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2"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93E401F-AA1F-4A2C-8D2E-27949C388591}"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7"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fontScale="88000"/>
          </a:bodyPr>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pic>
        <p:nvPicPr>
          <p:cNvPr id="138" name="" descr=""/>
          <p:cNvPicPr/>
          <p:nvPr/>
        </p:nvPicPr>
        <p:blipFill>
          <a:blip r:embed="rId1"/>
          <a:stretch/>
        </p:blipFill>
        <p:spPr>
          <a:xfrm>
            <a:off x="1384200" y="3851280"/>
            <a:ext cx="5943600" cy="812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837A72B-A178-4B26-99DA-58D619B82D4E}"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41"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7"/>
            <a:endCxn id="142"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4" name=""/>
          <p:cNvCxnSpPr>
            <a:stCxn id="142" idx="3"/>
            <a:endCxn id="141"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5"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6"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7"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8"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9"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0D58387-3CA2-449D-9B13-F1797D835D71}"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B9EE9A0-7006-43CF-B935-75170B54B01E}"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4" name=""/>
          <p:cNvGrpSpPr/>
          <p:nvPr/>
        </p:nvGrpSpPr>
        <p:grpSpPr>
          <a:xfrm>
            <a:off x="3381480" y="4043520"/>
            <a:ext cx="1990800" cy="1836360"/>
            <a:chOff x="3381480" y="4043520"/>
            <a:chExt cx="1990800" cy="1836360"/>
          </a:xfrm>
        </p:grpSpPr>
        <p:sp>
          <p:nvSpPr>
            <p:cNvPr id="155"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C12465E-2D58-4A2F-96F4-0149F2F3AC58}"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A89690E-A6C2-449F-9B07-8C1D326EC0E0}"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4"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5"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
          <p:cNvGrpSpPr/>
          <p:nvPr/>
        </p:nvGrpSpPr>
        <p:grpSpPr>
          <a:xfrm>
            <a:off x="2820960" y="2287440"/>
            <a:ext cx="3539880" cy="3439800"/>
            <a:chOff x="2820960" y="2287440"/>
            <a:chExt cx="3539880" cy="3439800"/>
          </a:xfrm>
        </p:grpSpPr>
        <p:sp>
          <p:nvSpPr>
            <p:cNvPr id="168"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3125520" y="2592360"/>
            <a:ext cx="2878200" cy="2895120"/>
            <a:chOff x="3125520" y="2592360"/>
            <a:chExt cx="2878200" cy="2895120"/>
          </a:xfrm>
        </p:grpSpPr>
        <p:cxnSp>
          <p:nvCxnSpPr>
            <p:cNvPr id="177"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8"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9"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80" name=""/>
          <p:cNvGrpSpPr/>
          <p:nvPr/>
        </p:nvGrpSpPr>
        <p:grpSpPr>
          <a:xfrm>
            <a:off x="3125520" y="2592000"/>
            <a:ext cx="3043440" cy="2738160"/>
            <a:chOff x="3125520" y="2592000"/>
            <a:chExt cx="3043440" cy="2738160"/>
          </a:xfrm>
        </p:grpSpPr>
        <p:cxnSp>
          <p:nvCxnSpPr>
            <p:cNvPr id="181"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2"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3"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4" name=""/>
          <p:cNvGrpSpPr/>
          <p:nvPr/>
        </p:nvGrpSpPr>
        <p:grpSpPr>
          <a:xfrm>
            <a:off x="3201840" y="2592360"/>
            <a:ext cx="2878200" cy="2895120"/>
            <a:chOff x="3201840" y="2592360"/>
            <a:chExt cx="2878200" cy="2895120"/>
          </a:xfrm>
        </p:grpSpPr>
        <p:cxnSp>
          <p:nvCxnSpPr>
            <p:cNvPr id="185"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6"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7"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8" name=""/>
          <p:cNvGrpSpPr/>
          <p:nvPr/>
        </p:nvGrpSpPr>
        <p:grpSpPr>
          <a:xfrm>
            <a:off x="3125520" y="2669040"/>
            <a:ext cx="3043440" cy="2738160"/>
            <a:chOff x="3125520" y="2669040"/>
            <a:chExt cx="3043440" cy="2738160"/>
          </a:xfrm>
        </p:grpSpPr>
        <p:cxnSp>
          <p:nvCxnSpPr>
            <p:cNvPr id="189"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90"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91"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2"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3"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4" name=""/>
          <p:cNvGrpSpPr/>
          <p:nvPr/>
        </p:nvGrpSpPr>
        <p:grpSpPr>
          <a:xfrm>
            <a:off x="2820960" y="2287440"/>
            <a:ext cx="3539880" cy="3439800"/>
            <a:chOff x="2820960" y="2287440"/>
            <a:chExt cx="3539880" cy="3439800"/>
          </a:xfrm>
        </p:grpSpPr>
        <p:sp>
          <p:nvSpPr>
            <p:cNvPr id="195"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5"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6"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7"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A2F0BB7-6824-4987-A373-7ED2301889B4}"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7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8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8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6"/>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203"/>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07"/>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499"/>
                                          </p:stCondLst>
                                        </p:cTn>
                                        <p:tgtEl>
                                          <p:spTgt spid="192"/>
                                        </p:tgtEl>
                                        <p:attrNameLst>
                                          <p:attrName>style.visibility</p:attrName>
                                        </p:attrNameLst>
                                      </p:cBhvr>
                                      <p:to>
                                        <p:strVal val="visible"/>
                                      </p:to>
                                    </p:set>
                                  </p:childTnLst>
                                </p:cTn>
                              </p:par>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0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05"/>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0"/>
                                  </p:stCondLst>
                                  <p:childTnLst>
                                    <p:set>
                                      <p:cBhvr>
                                        <p:cTn id="194"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9"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10"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628C0A9-6373-452B-85B0-293E43F53BBA}"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DE311B1-05A5-41B7-8C45-3B65E5417CC1}"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second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 if we replace coupled bisimulation by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which makes the graph fully connected</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eneralize previous exercise to the case of n arbitrary nodes</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0C3E213-DF8A-4CA2-B863-C349A78639F9}"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8298806-B0D3-4F2A-B0CA-A4284617D5CB}"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87CD8BD-D865-4D40-8538-1108417BD0B7}"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a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9DED762-7034-4786-A46A-F6FA8B91800D}"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18E67E9-982D-4AA7-BE54-BFCE73006D46}"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89567E4-A681-4376-B1A2-42252F6DC457}"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92D34A3-4A60-4D50-9526-024D0C456C94}"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40C3FA6-BF05-4D16-B8A3-B771A495EAE7}"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5-01-06T04:55:08Z</dcterms:modified>
  <cp:revision>111</cp:revision>
  <dc:subject/>
  <dc:title>Concurrency 5</dc:title>
</cp:coreProperties>
</file>