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291638" cy="7005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DC4A0-C6A2-43D4-9AAE-83FBFCF95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ED7DD-C1F7-4803-B011-F173892EA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0B4C1-647E-4210-92AA-E9CF2D15A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C9F37-3D04-444E-B075-737B52563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1CDB3-476A-46DF-8729-96EE2D47A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39E59-A3DC-4C16-A135-11387ED8B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45830-C1FA-4A74-82BB-A8F292EE1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ADA51-4422-44FA-9FAC-0C34F9EDA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3E7C9-D2DC-481A-9D7E-C72FD529D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643DB-9C0F-4788-8EB8-485FF97A4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C5BA4-F34B-4433-A368-C6D0D9651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65D70-7987-48AA-841B-3E1B130B5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9A9F-8982-4BD8-AE0E-398308D3C4F7}"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s 11 and 12</a:t>
            </a:r>
            <a:br>
              <a:rPr sz="3600"/>
            </a:br>
            <a:r>
              <a:rPr b="0" lang="en-US" sz="3600" spc="-1" strike="noStrike">
                <a:solidFill>
                  <a:srgbClr val="cc0066"/>
                </a:solidFill>
                <a:latin typeface="Comic Sans MS"/>
              </a:rPr>
              <a:t>The pi-calculus expressiveness hierarchy</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D9F0429-D55F-46E5-8BDE-23281373FA30}"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07B0661-2182-4C33-883E-E39430C972A5}"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458902F-9ECC-487E-AFAA-7AF975500ACA}"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126" name=""/>
          <p:cNvSpPr/>
          <p:nvPr/>
        </p:nvSpPr>
        <p:spPr>
          <a:xfrm>
            <a:off x="2958480" y="339084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Palamidessi</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E9333C79-5142-4344-8BA5-D7D8C0779EE7}"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6"/>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2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6">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8"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64602C0-D8C1-4B62-B4B2-1D9A34396473}"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30"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1"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2"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B6D94FD-E9BF-4F2B-A461-AB02A122D1AC}"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7"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fontScale="88000"/>
          </a:bodyPr>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pic>
        <p:nvPicPr>
          <p:cNvPr id="138" name="" descr=""/>
          <p:cNvPicPr/>
          <p:nvPr/>
        </p:nvPicPr>
        <p:blipFill>
          <a:blip r:embed="rId1"/>
          <a:stretch/>
        </p:blipFill>
        <p:spPr>
          <a:xfrm>
            <a:off x="1384200" y="3851280"/>
            <a:ext cx="5943600" cy="812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2121E6A-E779-4BA9-A72E-58D13725B53E}"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41"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3" name=""/>
          <p:cNvCxnSpPr>
            <a:stCxn id="141" idx="7"/>
            <a:endCxn id="142"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4" name=""/>
          <p:cNvCxnSpPr>
            <a:stCxn id="142" idx="3"/>
            <a:endCxn id="141"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5"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6"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7"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8"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9"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E74D6B1-A95E-4D39-9237-264833C85A8C}"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CAC7C6E-8345-41DB-B01D-3AFC28F850D2}"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4" name=""/>
          <p:cNvGrpSpPr/>
          <p:nvPr/>
        </p:nvGrpSpPr>
        <p:grpSpPr>
          <a:xfrm>
            <a:off x="3381480" y="4043520"/>
            <a:ext cx="1990800" cy="1836360"/>
            <a:chOff x="3381480" y="4043520"/>
            <a:chExt cx="1990800" cy="1836360"/>
          </a:xfrm>
        </p:grpSpPr>
        <p:sp>
          <p:nvSpPr>
            <p:cNvPr id="155"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82BFD66-281F-4E4C-9514-6FC91240B3C1}"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D4F2FAC-36EF-4006-A9F6-04012AD0460C}"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4"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5"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
          <p:cNvGrpSpPr/>
          <p:nvPr/>
        </p:nvGrpSpPr>
        <p:grpSpPr>
          <a:xfrm>
            <a:off x="2820960" y="2287440"/>
            <a:ext cx="3539880" cy="3439800"/>
            <a:chOff x="2820960" y="2287440"/>
            <a:chExt cx="3539880" cy="3439800"/>
          </a:xfrm>
        </p:grpSpPr>
        <p:sp>
          <p:nvSpPr>
            <p:cNvPr id="168"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3125520" y="2592360"/>
            <a:ext cx="2878200" cy="2895120"/>
            <a:chOff x="3125520" y="2592360"/>
            <a:chExt cx="2878200" cy="2895120"/>
          </a:xfrm>
        </p:grpSpPr>
        <p:cxnSp>
          <p:nvCxnSpPr>
            <p:cNvPr id="177"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8"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9"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80" name=""/>
          <p:cNvGrpSpPr/>
          <p:nvPr/>
        </p:nvGrpSpPr>
        <p:grpSpPr>
          <a:xfrm>
            <a:off x="3125520" y="2592000"/>
            <a:ext cx="3043440" cy="2738160"/>
            <a:chOff x="3125520" y="2592000"/>
            <a:chExt cx="3043440" cy="2738160"/>
          </a:xfrm>
        </p:grpSpPr>
        <p:cxnSp>
          <p:nvCxnSpPr>
            <p:cNvPr id="181"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2"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3"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4" name=""/>
          <p:cNvGrpSpPr/>
          <p:nvPr/>
        </p:nvGrpSpPr>
        <p:grpSpPr>
          <a:xfrm>
            <a:off x="3201840" y="2592360"/>
            <a:ext cx="2878200" cy="2895120"/>
            <a:chOff x="3201840" y="2592360"/>
            <a:chExt cx="2878200" cy="2895120"/>
          </a:xfrm>
        </p:grpSpPr>
        <p:cxnSp>
          <p:nvCxnSpPr>
            <p:cNvPr id="185"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6"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7"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8" name=""/>
          <p:cNvGrpSpPr/>
          <p:nvPr/>
        </p:nvGrpSpPr>
        <p:grpSpPr>
          <a:xfrm>
            <a:off x="3125520" y="2669040"/>
            <a:ext cx="3043440" cy="2738160"/>
            <a:chOff x="3125520" y="2669040"/>
            <a:chExt cx="3043440" cy="2738160"/>
          </a:xfrm>
        </p:grpSpPr>
        <p:cxnSp>
          <p:nvCxnSpPr>
            <p:cNvPr id="189"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90"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91"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2"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3"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4" name=""/>
          <p:cNvGrpSpPr/>
          <p:nvPr/>
        </p:nvGrpSpPr>
        <p:grpSpPr>
          <a:xfrm>
            <a:off x="2820960" y="2287440"/>
            <a:ext cx="3539880" cy="3439800"/>
            <a:chOff x="2820960" y="2287440"/>
            <a:chExt cx="3539880" cy="3439800"/>
          </a:xfrm>
        </p:grpSpPr>
        <p:sp>
          <p:nvSpPr>
            <p:cNvPr id="195"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5"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6"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7"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E9EF999-1C75-4B76-882C-D32D2BBEBF0F}"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7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8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8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06"/>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203"/>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07"/>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499"/>
                                          </p:stCondLst>
                                        </p:cTn>
                                        <p:tgtEl>
                                          <p:spTgt spid="192"/>
                                        </p:tgtEl>
                                        <p:attrNameLst>
                                          <p:attrName>style.visibility</p:attrName>
                                        </p:attrNameLst>
                                      </p:cBhvr>
                                      <p:to>
                                        <p:strVal val="visible"/>
                                      </p:to>
                                    </p:set>
                                  </p:childTnLst>
                                </p:cTn>
                              </p:par>
                            </p:childTnLst>
                          </p:cTn>
                        </p:par>
                        <p:par>
                          <p:cTn id="185" fill="hold">
                            <p:stCondLst>
                              <p:cond delay="1000"/>
                            </p:stCondLst>
                            <p:childTnLst>
                              <p:par>
                                <p:cTn id="186" nodeType="afterEffect" fill="hold" presetClass="entr" presetID="1">
                                  <p:stCondLst>
                                    <p:cond delay="0"/>
                                  </p:stCondLst>
                                  <p:childTnLst>
                                    <p:set>
                                      <p:cBhvr>
                                        <p:cTn id="187" dur="1" fill="hold">
                                          <p:stCondLst>
                                            <p:cond delay="499"/>
                                          </p:stCondLst>
                                        </p:cTn>
                                        <p:tgtEl>
                                          <p:spTgt spid="204"/>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05"/>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0"/>
                                  </p:stCondLst>
                                  <p:childTnLst>
                                    <p:set>
                                      <p:cBhvr>
                                        <p:cTn id="194"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9"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10"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61200ED-416B-44F7-B21F-D315EF0B9B0A}"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4D28F0C-C3B9-4918-9FDD-32BFC8F4CC8B}"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second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 if we replace coupled bisimulation by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which makes the graph fully connected</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eneralize previous exercise to the case of n arbitrary nodes</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C543995-ED9F-407D-B262-9046A5D6847D}"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ACEE4C7-8F6F-497A-AF21-133AD8DD6B66}"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46E0F98-FD1A-46DA-B5C9-E9178254BBF2}"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a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D607C2B-54EB-490E-838C-A980479E5695}"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705FC09-DDA4-440A-8A2C-A73D552E5C02}"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E962CC9-8D4B-45B6-9DCD-30187B133E40}"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8DEE030-04A2-4E89-840C-7EE561F9462C}"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BBBADA2-6FAA-47D0-B180-A8D71B2FFB95}"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5-01-06T04:55:08Z</dcterms:modified>
  <cp:revision>111</cp:revision>
  <dc:subject/>
  <dc:title>Concurrency 5</dc:title>
</cp:coreProperties>
</file>