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5DDD-3979-4F06-AFC3-E400A613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3EAE-6D86-492F-B0E2-73C12AA7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9B1-3C83-48ED-92D2-69A9999C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97F-3F89-48CC-AF78-1E6D73FA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0BC3-C657-469B-855D-04C3D598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335A-5A97-47EA-ABE7-C7BF3599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370A-4326-4A28-AD5E-3EF2674A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BFBA-67BC-4A5C-BDE5-9DEEFA3C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DF61-FBF6-4ED9-887F-6DEE391D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78C-8ECE-470B-A73E-7237C9AA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D1B3-B02D-4E2E-A783-3BED57ED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5D3A-B0B8-452E-99ED-C80AF6A4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E03C-1068-4E91-85E1-F3178BF328D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cy 8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Note: the material of today’s lecture is partly from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R. Milner, J. Parrow, D. Walker. Modal Logics for Mobile Processes. </a:t>
            </a:r>
            <a:r>
              <a:rPr b="0" i="1" lang="en-US" sz="1400" spc="-1" strike="noStrike">
                <a:solidFill>
                  <a:srgbClr val="990033"/>
                </a:solidFill>
                <a:latin typeface="Comic Sans MS"/>
              </a:rPr>
              <a:t>Theoretical Computer Science</a:t>
            </a: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990033"/>
                </a:solidFill>
                <a:latin typeface="Comic Sans MS"/>
              </a:rPr>
              <a:t>114</a:t>
            </a: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:149-171, 1993. http://www.sics.se/~joachim/modmob.ps.Z</a:t>
            </a: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Similar to CCS with value passing, but values are channel names, and recursion is replaced by replication ( ! 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out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u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93720" y="2584440"/>
            <a:ext cx="3168720" cy="36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22360" y="3774960"/>
            <a:ext cx="2305080" cy="21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3EFB-7403-46AA-9391-A6392E01111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Names: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re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oun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cc00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Input and restriction are bind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Exercise: give the formal definition of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lpha convers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14640" y="1662120"/>
            <a:ext cx="687240" cy="291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152800" y="2392200"/>
            <a:ext cx="649080" cy="233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998720" y="3697200"/>
            <a:ext cx="4992480" cy="665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998720" y="5079960"/>
            <a:ext cx="4800600" cy="682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114640" y="2046240"/>
            <a:ext cx="666720" cy="230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5570640" y="3006720"/>
            <a:ext cx="2012760" cy="23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B5D3-313C-4C80-83F6-45D10E2146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tructural equival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1520" y="15858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ntroduced to simplify the  description of the operational semantic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mr10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       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then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presentations include other equivalences, for instance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,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 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if 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: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if 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: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(scope extrusion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5F32-D22E-4E09-97A9-53D67686F1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lculus: operational semanti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early operational semantics of the </a:t>
            </a:r>
            <a:r>
              <a:rPr b="0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-calculus is defined as a labeled transition system. Transitions have the form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Here  </a:t>
            </a:r>
            <a:r>
              <a:rPr b="0" i="1" lang="en-US" sz="1800" spc="-1" strike="noStrike">
                <a:solidFill>
                  <a:srgbClr val="3333ff"/>
                </a:solidFill>
                <a:latin typeface="cmr10"/>
              </a:rPr>
              <a:t>P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 and  </a:t>
            </a:r>
            <a:r>
              <a:rPr b="0" i="1" lang="en-US" sz="1800" spc="-1" strike="noStrike">
                <a:solidFill>
                  <a:srgbClr val="3333ff"/>
                </a:solidFill>
                <a:latin typeface="cmr10"/>
              </a:rPr>
              <a:t>Q 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are processes and </a:t>
            </a:r>
            <a:r>
              <a:rPr b="0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is an action, where actions are defined as follows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727440" y="2392200"/>
            <a:ext cx="990720" cy="317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77960" y="3743280"/>
            <a:ext cx="4494240" cy="187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BFCA-38AE-4E19-AA8E-BB8077C079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early operational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75040" y="5003640"/>
            <a:ext cx="3417840" cy="641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5760" y="1863720"/>
            <a:ext cx="4019400" cy="2913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533840" y="1816200"/>
            <a:ext cx="3917880" cy="288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15C6-500E-48CE-B1F7-F8AC78B7BC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early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mic Sans MS"/>
              </a:rPr>
              <a:t>Question: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is </a:t>
            </a:r>
            <a:r>
              <a:rPr b="0" lang="en-US" sz="1600" spc="-1" strike="noStrike">
                <a:solidFill>
                  <a:srgbClr val="3333ff"/>
                </a:solidFill>
                <a:latin typeface="cmsy10"/>
              </a:rPr>
              <a:t>»</a:t>
            </a:r>
            <a:r>
              <a:rPr b="0" lang="en-US" sz="1600" spc="-1" strike="noStrike" baseline="-25000">
                <a:solidFill>
                  <a:srgbClr val="3333ff"/>
                </a:solidFill>
                <a:latin typeface="Comic Sans MS"/>
              </a:rPr>
              <a:t>E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a congruence?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Comic Sans MS"/>
              </a:rPr>
              <a:t>Answer: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No.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Example: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77920" y="5248440"/>
            <a:ext cx="4249800" cy="801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7880" y="1522440"/>
            <a:ext cx="773892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B16D-0FF9-460C-A4C9-5259969DFE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late semanti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late operational semantics is obtained by replacing rules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E-Input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and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E-Com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by the following: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8320" y="2200320"/>
            <a:ext cx="5453280" cy="665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93640" y="3414600"/>
            <a:ext cx="6921720" cy="246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3F14-E7C1-4FBC-B631-88A31EC70F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te vs early bisim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Late bisimulation is strictly more discriminating than early bisimulation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Exampl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54120" y="2852640"/>
            <a:ext cx="7181640" cy="246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93A-C237-4828-B61A-299BA56F34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3-11-23T08:15:47Z</dcterms:modified>
  <cp:revision>63</cp:revision>
  <dc:subject/>
  <dc:title>Concurrency 5</dc:title>
</cp:coreProperties>
</file>