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9590088" cy="7304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7C6F-9B2B-4127-BD2E-1A4834461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60EA-FD06-4047-9930-DC75C9768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BACD-F004-4C46-86CD-22947F042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CAE4-662E-48BF-AF58-CAF00C110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F606-71DF-4E1A-A8BF-2ACBB6F92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DCA5-F720-4C74-81B3-99304E0F0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1E06-3753-49E4-89F2-C5830DF5E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0576-9683-4416-900C-E468C4785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A21A-5A82-4A69-98C4-9C3E46915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8816-5FD0-4D0C-BDCC-3E7F2EFB1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0EC5-52D2-4DEA-B9DB-13413F0A3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AF93-AB7B-43D4-BA3F-1DE6FC35B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601DE-B155-4FD0-B60C-17F5B55A1B9D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catuscia@lix.polytechnique.fr" TargetMode="External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currency 8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14400" y="3200400"/>
            <a:ext cx="7315200" cy="30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The </a:t>
            </a:r>
            <a:r>
              <a:rPr b="0" lang="en-US" sz="3200" spc="-1" strike="noStrike">
                <a:solidFill>
                  <a:srgbClr val="3333ff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-calculus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Catuscia Palamidessi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Comic Sans MS"/>
                <a:hlinkClick r:id="rId1"/>
              </a:rPr>
              <a:t>catuscia@lix.polytechnique.fr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33"/>
                </a:solidFill>
                <a:latin typeface="Comic Sans MS"/>
              </a:rPr>
              <a:t>Note: the material of today’s lecture is partly from</a:t>
            </a:r>
            <a:r>
              <a:rPr b="0" lang="en-US" sz="2000" spc="-1" strike="noStrike">
                <a:solidFill>
                  <a:srgbClr val="990033"/>
                </a:solidFill>
                <a:latin typeface="Comic Sans MS"/>
              </a:rPr>
              <a:t>: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33"/>
                </a:solidFill>
                <a:latin typeface="Comic Sans MS"/>
              </a:rPr>
              <a:t>R. Milner, J. Parrow, D. Walker. Modal Logics for Mobile Processes. </a:t>
            </a:r>
            <a:r>
              <a:rPr b="0" i="1" lang="en-US" sz="1400" spc="-1" strike="noStrike">
                <a:solidFill>
                  <a:srgbClr val="990033"/>
                </a:solidFill>
                <a:latin typeface="Comic Sans MS"/>
              </a:rPr>
              <a:t>Theoretical Computer Science</a:t>
            </a:r>
            <a:r>
              <a:rPr b="0" lang="en-US" sz="1400" spc="-1" strike="noStrike">
                <a:solidFill>
                  <a:srgbClr val="990033"/>
                </a:solidFill>
                <a:latin typeface="Comic Sans MS"/>
              </a:rPr>
              <a:t> </a:t>
            </a:r>
            <a:r>
              <a:rPr b="1" lang="en-US" sz="1400" spc="-1" strike="noStrike">
                <a:solidFill>
                  <a:srgbClr val="990033"/>
                </a:solidFill>
                <a:latin typeface="Comic Sans MS"/>
              </a:rPr>
              <a:t>114</a:t>
            </a:r>
            <a:r>
              <a:rPr b="0" lang="en-US" sz="1400" spc="-1" strike="noStrike">
                <a:solidFill>
                  <a:srgbClr val="990033"/>
                </a:solidFill>
                <a:latin typeface="Comic Sans MS"/>
              </a:rPr>
              <a:t>:149-171, 1993. http://www.sics.se/~joachim/modmob.ps.Z</a:t>
            </a:r>
            <a:endParaRPr b="0" lang="en-US" sz="1400" spc="-1" strike="noStrike">
              <a:solidFill>
                <a:srgbClr val="3333ff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-calculus: syntax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77440" y="1623960"/>
            <a:ext cx="84106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Comic Sans MS"/>
              </a:rPr>
              <a:t>Similar to CCS with value passing, but values are channel names, and recursion is replaced by replication ( ! )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4" marL="2171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Symbol"/>
                <a:ea typeface="Symbol"/>
              </a:rPr>
              <a:t></a:t>
            </a:r>
            <a:r>
              <a:rPr b="0" lang="en-US" sz="2400" spc="-1" strike="noStrike">
                <a:solidFill>
                  <a:srgbClr val="3333ff"/>
                </a:solidFill>
                <a:latin typeface="Symbol"/>
                <a:ea typeface="Symbol"/>
              </a:rPr>
              <a:t>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action prefixes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(input, output, silent)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x, y are channel names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inaction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 baseline="-25000">
                <a:solidFill>
                  <a:srgbClr val="3333ff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prefix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 baseline="-25000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parallel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sum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restriction,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new name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replication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93720" y="2584440"/>
            <a:ext cx="3168720" cy="3650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422360" y="3774960"/>
            <a:ext cx="2305080" cy="2197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currency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3F36-C7C3-4243-821A-CAB8FBCF0F0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 Novembre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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-calculus: syntax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570800" cy="46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Names: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Free 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Bound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cc0066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66"/>
                </a:solidFill>
                <a:latin typeface="Comic Sans MS"/>
              </a:rPr>
              <a:t>Input and restriction are binder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0066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Exercise: give the formal definition of 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Example: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Alpha conversion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Example: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114640" y="1662120"/>
            <a:ext cx="687240" cy="2919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152800" y="2392200"/>
            <a:ext cx="649080" cy="2336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1998720" y="3697200"/>
            <a:ext cx="4992480" cy="6652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1998720" y="5079960"/>
            <a:ext cx="4800600" cy="6825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2114640" y="2046240"/>
            <a:ext cx="666720" cy="230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6"/>
          <a:stretch/>
        </p:blipFill>
        <p:spPr>
          <a:xfrm>
            <a:off x="5570640" y="3006720"/>
            <a:ext cx="2012760" cy="237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currency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13EB-EF3A-434A-97D3-CFF56F69EEB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 Novembre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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-calculus: structural equivalenc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1520" y="1585800"/>
            <a:ext cx="814716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Introduced to simplify the  description of the operational semantics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If  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mr10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sy10"/>
              </a:rPr>
              <a:t>´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Q           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  then  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sy10"/>
              </a:rPr>
              <a:t>´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Q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cmmi10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|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Q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sy10"/>
              </a:rPr>
              <a:t>´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Q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|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cmmi10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+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Q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sy10"/>
              </a:rPr>
              <a:t>´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Q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+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!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sy10"/>
              </a:rPr>
              <a:t>´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| !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Some presentations include other equivalences, for instance: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cmmi10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| 0 </a:t>
            </a:r>
            <a:r>
              <a:rPr b="0" lang="en-US" sz="1600" spc="-1" strike="noStrike">
                <a:solidFill>
                  <a:srgbClr val="333399"/>
                </a:solidFill>
                <a:latin typeface="cmsy10"/>
              </a:rPr>
              <a:t>´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  ,    (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|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Q 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) |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R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sy10"/>
              </a:rPr>
              <a:t>´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| (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Q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|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R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) 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cmmi10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+ 0 </a:t>
            </a:r>
            <a:r>
              <a:rPr b="0" lang="en-US" sz="1600" spc="-1" strike="noStrike">
                <a:solidFill>
                  <a:srgbClr val="333399"/>
                </a:solidFill>
                <a:latin typeface="cmsy10"/>
              </a:rPr>
              <a:t>´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  ,    (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+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Q 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) +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R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sy10"/>
              </a:rPr>
              <a:t>´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+ (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Q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+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R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)   ,  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+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sy10"/>
              </a:rPr>
              <a:t>´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(</a:t>
            </a:r>
            <a:r>
              <a:rPr b="0" lang="en-US" sz="1600" spc="-1" strike="noStrike">
                <a:solidFill>
                  <a:srgbClr val="333399"/>
                </a:solidFill>
                <a:latin typeface="Symbol"/>
                <a:ea typeface="Symbol"/>
              </a:rPr>
              <a:t>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x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) (</a:t>
            </a:r>
            <a:r>
              <a:rPr b="0" lang="en-US" sz="1600" spc="-1" strike="noStrike">
                <a:solidFill>
                  <a:srgbClr val="333399"/>
                </a:solidFill>
                <a:latin typeface="Symbol"/>
                <a:ea typeface="Symbol"/>
              </a:rPr>
              <a:t>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y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)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sy10"/>
              </a:rPr>
              <a:t>´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 (</a:t>
            </a:r>
            <a:r>
              <a:rPr b="0" lang="en-US" sz="1600" spc="-1" strike="noStrike">
                <a:solidFill>
                  <a:srgbClr val="333399"/>
                </a:solidFill>
                <a:latin typeface="Symbol"/>
                <a:ea typeface="Symbol"/>
              </a:rPr>
              <a:t>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y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) (</a:t>
            </a:r>
            <a:r>
              <a:rPr b="0" lang="en-US" sz="1600" spc="-1" strike="noStrike">
                <a:solidFill>
                  <a:srgbClr val="333399"/>
                </a:solidFill>
                <a:latin typeface="Symbol"/>
                <a:ea typeface="Symbol"/>
              </a:rPr>
              <a:t>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 x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)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  ,      (</a:t>
            </a:r>
            <a:r>
              <a:rPr b="0" lang="en-US" sz="1600" spc="-1" strike="noStrike">
                <a:solidFill>
                  <a:srgbClr val="333399"/>
                </a:solidFill>
                <a:latin typeface="Symbol"/>
                <a:ea typeface="Symbol"/>
              </a:rPr>
              <a:t>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x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)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sy10"/>
              </a:rPr>
              <a:t>´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  if  </a:t>
            </a:r>
            <a:r>
              <a:rPr b="0" lang="en-US" sz="1600" spc="-1" strike="noStrike">
                <a:solidFill>
                  <a:srgbClr val="333399"/>
                </a:solidFill>
                <a:latin typeface="cmsy10"/>
              </a:rPr>
              <a:t>: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x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sy10"/>
              </a:rPr>
              <a:t>2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fn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(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)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cmmi10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|  (</a:t>
            </a:r>
            <a:r>
              <a:rPr b="0" lang="en-US" sz="1600" spc="-1" strike="noStrike">
                <a:solidFill>
                  <a:srgbClr val="333399"/>
                </a:solidFill>
                <a:latin typeface="Symbol"/>
                <a:ea typeface="Symbol"/>
              </a:rPr>
              <a:t>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x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)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Q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sy10"/>
              </a:rPr>
              <a:t>´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(</a:t>
            </a:r>
            <a:r>
              <a:rPr b="0" lang="en-US" sz="1600" spc="-1" strike="noStrike">
                <a:solidFill>
                  <a:srgbClr val="333399"/>
                </a:solidFill>
                <a:latin typeface="Symbol"/>
                <a:ea typeface="Symbol"/>
              </a:rPr>
              <a:t>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x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) (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|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Q 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)    if  </a:t>
            </a:r>
            <a:r>
              <a:rPr b="0" lang="en-US" sz="1600" spc="-1" strike="noStrike">
                <a:solidFill>
                  <a:srgbClr val="333399"/>
                </a:solidFill>
                <a:latin typeface="cmsy10"/>
              </a:rPr>
              <a:t>: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x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sy10"/>
              </a:rPr>
              <a:t>2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fn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(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)    </a:t>
            </a:r>
            <a:r>
              <a:rPr b="0" lang="en-US" sz="1600" spc="-1" strike="noStrike">
                <a:solidFill>
                  <a:srgbClr val="990033"/>
                </a:solidFill>
                <a:latin typeface="Comic Sans MS"/>
              </a:rPr>
              <a:t>(scope extrusion)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currency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C152-2D76-46DD-AF9F-50D8456BC9E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 Novembre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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alculus: operational semantic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The early operational semantics of the </a:t>
            </a:r>
            <a:r>
              <a:rPr b="0" lang="en-US" sz="1800" spc="-1" strike="noStrike">
                <a:solidFill>
                  <a:srgbClr val="3333ff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-calculus is defined as a labeled transition system. Transitions have the form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Here  </a:t>
            </a:r>
            <a:r>
              <a:rPr b="0" i="1" lang="en-US" sz="1800" spc="-1" strike="noStrike">
                <a:solidFill>
                  <a:srgbClr val="3333ff"/>
                </a:solidFill>
                <a:latin typeface="cmr10"/>
              </a:rPr>
              <a:t>P</a:t>
            </a: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  and  </a:t>
            </a:r>
            <a:r>
              <a:rPr b="0" i="1" lang="en-US" sz="1800" spc="-1" strike="noStrike">
                <a:solidFill>
                  <a:srgbClr val="3333ff"/>
                </a:solidFill>
                <a:latin typeface="cmr10"/>
              </a:rPr>
              <a:t>Q </a:t>
            </a: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 are processes and </a:t>
            </a:r>
            <a:r>
              <a:rPr b="0" lang="en-US" sz="1800" spc="-1" strike="noStrike">
                <a:solidFill>
                  <a:srgbClr val="3333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 is an action, where actions are defined as follows: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727440" y="2392200"/>
            <a:ext cx="990720" cy="3175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2577960" y="3743280"/>
            <a:ext cx="4494240" cy="1874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currency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D954-5CE9-407C-B78B-4FDD38B5B35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 Novembre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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lculus: early operational semantic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075040" y="5003640"/>
            <a:ext cx="3417840" cy="6415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55760" y="1863720"/>
            <a:ext cx="4019400" cy="29131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4533840" y="1816200"/>
            <a:ext cx="3917880" cy="288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currency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FBBE-FECE-46A9-965E-378F6EF29F87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 Novembre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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alculus: early bisimulatio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Comic Sans MS"/>
              </a:rPr>
              <a:t>Question:</a:t>
            </a:r>
            <a:r>
              <a:rPr b="0" lang="en-US" sz="1600" spc="-1" strike="noStrike">
                <a:solidFill>
                  <a:srgbClr val="3333ff"/>
                </a:solidFill>
                <a:latin typeface="Comic Sans MS"/>
              </a:rPr>
              <a:t> is </a:t>
            </a:r>
            <a:r>
              <a:rPr b="0" lang="en-US" sz="1600" spc="-1" strike="noStrike">
                <a:solidFill>
                  <a:srgbClr val="3333ff"/>
                </a:solidFill>
                <a:latin typeface="cmsy10"/>
              </a:rPr>
              <a:t>»</a:t>
            </a:r>
            <a:r>
              <a:rPr b="0" lang="en-US" sz="1600" spc="-1" strike="noStrike" baseline="-25000">
                <a:solidFill>
                  <a:srgbClr val="3333ff"/>
                </a:solidFill>
                <a:latin typeface="Comic Sans MS"/>
              </a:rPr>
              <a:t>E</a:t>
            </a:r>
            <a:r>
              <a:rPr b="0" lang="en-US" sz="1600" spc="-1" strike="noStrike">
                <a:solidFill>
                  <a:srgbClr val="3333ff"/>
                </a:solidFill>
                <a:latin typeface="Comic Sans MS"/>
              </a:rPr>
              <a:t> a congruence?</a:t>
            </a: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3333ff"/>
                </a:solidFill>
                <a:latin typeface="Comic Sans MS"/>
              </a:rPr>
              <a:t>Answer:</a:t>
            </a:r>
            <a:r>
              <a:rPr b="0" lang="en-US" sz="16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cc0066"/>
                </a:solidFill>
                <a:latin typeface="Comic Sans MS"/>
              </a:rPr>
              <a:t>No.</a:t>
            </a:r>
            <a:r>
              <a:rPr b="0" lang="en-US" sz="1600" spc="-1" strike="noStrike">
                <a:solidFill>
                  <a:srgbClr val="3333ff"/>
                </a:solidFill>
                <a:latin typeface="Comic Sans MS"/>
              </a:rPr>
              <a:t> Example: </a:t>
            </a: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177920" y="5248440"/>
            <a:ext cx="4249800" cy="8013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77880" y="1522440"/>
            <a:ext cx="7738920" cy="2732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currency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448F-D3A3-406A-90C8-42CB678966A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 Novembre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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alculus: late semantic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4716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Comic Sans MS"/>
              </a:rPr>
              <a:t>The late operational semantics is obtained by replacing rules </a:t>
            </a:r>
            <a:r>
              <a:rPr b="0" lang="en-US" sz="1600" spc="-1" strike="noStrike">
                <a:solidFill>
                  <a:srgbClr val="3333ff"/>
                </a:solidFill>
                <a:latin typeface="Arial"/>
                <a:ea typeface="Arial"/>
              </a:rPr>
              <a:t>E-Input</a:t>
            </a:r>
            <a:r>
              <a:rPr b="0" lang="en-US" sz="1600" spc="-1" strike="noStrike">
                <a:solidFill>
                  <a:srgbClr val="3333ff"/>
                </a:solidFill>
                <a:latin typeface="Comic Sans MS"/>
              </a:rPr>
              <a:t> and </a:t>
            </a:r>
            <a:r>
              <a:rPr b="0" lang="en-US" sz="1600" spc="-1" strike="noStrike">
                <a:solidFill>
                  <a:srgbClr val="3333ff"/>
                </a:solidFill>
                <a:latin typeface="Arial"/>
                <a:ea typeface="Arial"/>
              </a:rPr>
              <a:t>E-Com</a:t>
            </a:r>
            <a:r>
              <a:rPr b="0" lang="en-US" sz="1600" spc="-1" strike="noStrike">
                <a:solidFill>
                  <a:srgbClr val="3333ff"/>
                </a:solidFill>
                <a:latin typeface="Comic Sans MS"/>
              </a:rPr>
              <a:t> by the following: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768320" y="2200320"/>
            <a:ext cx="5453280" cy="6652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593640" y="3414600"/>
            <a:ext cx="6921720" cy="246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currency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DE1A-AC5B-40E7-B94B-DD65FB88317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 Novembre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ate vs early bisimul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Late bisimulation is strictly more discriminating than early bisimulation.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Comic Sans MS"/>
              </a:rPr>
              <a:t>Example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654120" y="2852640"/>
            <a:ext cx="7181640" cy="246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currency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ABF6-4EEE-4006-BC55-9163F791EE2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 Novembre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9T23:17:22Z</dcterms:created>
  <dc:creator>catuscia</dc:creator>
  <dc:description/>
  <dc:language>en-US</dc:language>
  <cp:lastModifiedBy>catuscia</cp:lastModifiedBy>
  <dcterms:modified xsi:type="dcterms:W3CDTF">2003-11-23T08:15:47Z</dcterms:modified>
  <cp:revision>63</cp:revision>
  <dc:subject/>
  <dc:title>Concurrency 5</dc:title>
</cp:coreProperties>
</file>