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uction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A53-882D-479A-A921-487E7A06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6BD-B7C9-4EE6-96EB-C441164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9B3-B0F1-4ADA-BC23-D3D7555B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45B-F00E-479E-ABC2-20D663FC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ACC-14D6-45B5-B721-9321139B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FD1-0931-47FA-B7F3-B7A70479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281-2FAF-428B-9FBF-A61FA38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7DF-4479-4375-A036-04344FCE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ED8-F0C2-41EF-A65F-BE6E56E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8E1-856E-43A9-958B-1EB4B69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CEB-0064-4FC1-9949-CD162AC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2D0-BBDD-4570-AACF-574CE97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A7CF-0BFF-4324-8F0A-F42052FD25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pressive Power of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0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ransition system      P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can be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x(y)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y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(y), or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ule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npu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(y)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[z/y]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utpu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pen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35160" y="48117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08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94360" y="31989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9320" y="385128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520" y="469584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7120" y="531036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531-A3D4-4C2B-9D9B-B1550B737E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Clos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|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(P’ |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’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2008080"/>
            <a:ext cx="33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Q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89680" y="2660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134-FE88-42A8-BAD0-C2F8CEDA6C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CCS  is  a Turing-complete formalism. We will show this by proving that we can simulate in CCS the Random Access Machines, which are a Turing-complete formalis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Defin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A RAM is a computational model composed b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finite set of registers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ich store natural numbers, one for each register, and can be updated (incremented or decremented) and tested for zero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program (1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... ,(m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where the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’s are instructions of either of the following two form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cr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   : add 1 to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cJump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s)  : if the content of the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s not zero, then decreas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by one and go to next intruction. Otherwise jump to instruction 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93C-99AE-483B-8942-4F8F7BC055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The state of a RAM   R  is a tuple (j,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) where j is the index of the current instruction and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are the contents of the regist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The execution is defined by a transition relation among states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(j’, 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Meaning that the RAM goes from state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to state (j’, 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 by executing the action I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 in the program of 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We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assume that the execution terminates if a special  instruction index is reached.  We also assume that the first register (r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) will initially contain the input of the program, and that it will contain the output when the program terminates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6C2-0F7C-44CE-A0F4-F2F836CF83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931680"/>
            <a:ext cx="864072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Theorem: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 Every computable function can be  expressed as the input-output relation computed by a RAM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We define now a CCS process which encodes a given RAM  R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Each register is encoded by a labeled instance of a counter: 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 baseline="30000">
                <a:solidFill>
                  <a:srgbClr val="333399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repr. r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with content k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60000"/>
              </a:lnSpc>
              <a:spcBef>
                <a:spcPts val="349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The program of  R  is encoded as a set of CCS definitions: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Succ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+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s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DecJump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,s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7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Assume input k, so the initial configuration is (1,k,0,...,0). The CCS process encoding R is: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[ (1,k,0,...,0) ]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R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= 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 (Instr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...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where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,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represent the vectors of the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,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zero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.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Theorem (correctness of the encoding):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   if and only if    [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 [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  <a:ea typeface="Arial"/>
              </a:rPr>
              <a:t>Proof: Exerci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417000" y="50418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5C9-09FA-4F00-B164-74C9BB6D96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3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4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81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76E-3223-4B1F-B347-7D576A757F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7"/>
            <a:endCxn id="10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5"/>
            <a:endCxn id="10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5CE-133D-412A-A161-923366471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18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7"/>
            <a:endCxn id="118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5"/>
            <a:endCxn id="120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512-224B-44D1-AF98-CB9A0327C7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6"/>
            <a:endCxn id="134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7"/>
            <a:endCxn id="13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3" idx="5"/>
            <a:endCxn id="13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79E-C368-41AD-A90A-F5F19ECF3D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4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imilar to CCS with value passing, but values are channel names, and recursion is replaced by replication (!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:=  x(y) |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y |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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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+ P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x)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!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BEE-E372-4DEA-8842-EF4336AC19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7:34:24Z</dcterms:modified>
  <cp:revision>44</cp:revision>
  <dc:subject/>
  <dc:title>Concurrency 5</dc:title>
</cp:coreProperties>
</file>