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443-429A-478B-A3B4-F74CE237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2B9-2010-4375-9714-5680D489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747-917B-4005-9C3B-11AA3AE9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32C-3EC9-4D01-881F-11834601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D62-394B-4BEC-AA97-3A41799D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6FD-5267-4DD7-AC8E-7EAAE1E0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BD2-5FAE-419C-A11B-423F708B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B40-47F8-47E8-B9F2-4CF18B04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283-9F9C-4169-AE66-8A12BA4E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1A4-472A-4499-AE83-6DB42BF1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448-B930-4B2F-AE33-6C1DC094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316-85BE-40A3-A043-C7F72A4A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3F51-553B-4C3E-B81F-891CB2CE87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6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pecification and Verification in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t is possible in CCS to create structures which grow and shrink dynamically. Examples include unbounded queues and stacks, and counters.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pecification of a Counte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counter is an object that can b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ested for zero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zero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cremented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in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cremented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de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zero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+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dec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-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 &gt; 0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2AA-96CE-40E0-9A71-E51DD1DF1D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 A structure obtained by linking together a process B and n copies of a process C specifi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B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B^C) + zero.B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C^C) + dec.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D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d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C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B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P^Q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z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d’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(P(z,d,i’,z’,d’) | Q(z’,d’, inc,zero,dec)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Note: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B, C and D stand for B(z,d,inc,zero,dec), C(z,d,inc,zero,dec), and D(z,d,inc,zero,dec) respectively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(P^Q) stands for (P^Q)(z,d,inc,zero,dec)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:   ^ is associative, i.e.   P^(Q^R)  =   (P^Q)^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6568920" y="2698920"/>
            <a:ext cx="922320" cy="960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660760"/>
            <a:ext cx="730080" cy="99360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652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6248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6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68920" y="34290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31120" y="30830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37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9124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7568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14560" y="267336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67920" y="3006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2360" y="33908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040" y="3429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01800" y="2968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0960" y="3429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6560" y="296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40960" y="262260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34E-31C3-4D90-B973-862C57D202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390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efinition:   C</a:t>
            </a:r>
            <a:r>
              <a:rPr b="0" lang="en-US" sz="1600" spc="-1" strike="noStrike" baseline="30000">
                <a:solidFill>
                  <a:srgbClr val="333399"/>
                </a:solidFill>
                <a:latin typeface="Comic Sans MS"/>
              </a:rPr>
              <a:t>(n)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B^C^C^...^C    (n times)  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Theorem (Correctness): C</a:t>
            </a:r>
            <a:r>
              <a:rPr b="0" lang="en-US" sz="1800" spc="-1" strike="noStrike" baseline="30000">
                <a:solidFill>
                  <a:srgbClr val="cc0066"/>
                </a:solidFill>
                <a:latin typeface="Comic Sans MS"/>
              </a:rPr>
              <a:t>(n)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Count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roof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:   (1)    C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D^C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2)    B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B^B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3)   B^B = B     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We can now prove that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zero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an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                    for n &gt; 0        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definition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^C) + de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D)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expansion law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+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de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the lemma above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Hence 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 satisfies the same equations as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. By the unique solution law we can conclude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 = 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47C-342E-403A-AA2F-8FEA0BDA5F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1,...,n are tasks identifiers. Tasks have to be executed repeatedly,in a cyclic order. There can be more than one task executed at the same time, but the next instance of Task i cannot start before previous instance has finished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Specification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We us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 the signal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r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to Taks k and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as the signal that Task k ha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erminate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sume: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X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1,...,n } are the tasks in progres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ask i is next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ScSpec(i+1,XU{i}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EDF-2251-48E7-9F7E-4482F57773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mplementation: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We build the scheduler, Sched, as a ring of n cells each linked to one task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ell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a.C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.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D + d.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d.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Note: A stands for A(a,b,c,d), B stands for B(a,b,c,d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e will also use 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A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B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efini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...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 ( A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{ D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1}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Theorem 1 (Correctness of the implementation wrt the specification):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Sched = ScSpec(1,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4CA-03C0-4A85-BA0D-6DD1CC6497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he meaning of the various cells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: Task i is next, and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ext, but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but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and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efini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-{i} } )     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U {i} 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} )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  <a:ea typeface="Arial"/>
              </a:rPr>
              <a:t>Proposition 2:    Sched(i,X) = ScSpec(i,X)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heorem 1 is a particular case of Proposition 2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D2F-34F5-431F-B900-883220294B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2960" y="2162160"/>
            <a:ext cx="37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783400">
            <a:off x="6416280" y="254484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07080" y="1892160"/>
            <a:ext cx="1152720" cy="493920"/>
          </a:xfrm>
          <a:prstGeom prst="leftArrowCallout">
            <a:avLst>
              <a:gd name="adj1" fmla="val 25002"/>
              <a:gd name="adj2" fmla="val 25000"/>
              <a:gd name="adj3" fmla="val 3889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EFE-3BA0-44C9-A758-0CC8EEB2CA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81600">
            <a:off x="6684840" y="30063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15200" y="25066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CDB-D06E-428B-83C1-0F7F99D340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3556800">
            <a:off x="6877800" y="42717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7040" y="189216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83440" y="354492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A34-F0DA-4E4D-A7C8-D9E7C0A5BB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7760" y="240840"/>
            <a:ext cx="8493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 possible future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60920" y="53499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80240" y="5079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5080" y="465768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45240" y="52722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7040" y="193032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36920" y="243036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3611160" y="13158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4200" y="208440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77080" y="212256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43F-B8CE-4063-BE3E-80BB8C02FE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1520" y="1469520"/>
            <a:ext cx="826308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 2:    Sched(i,X) = ScSpec(i,X)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Proof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Lemma 3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1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D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A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2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B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Proof: By exapansion law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 4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a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i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Sched(i+1,XU{i}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+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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Proof: By Expansion law and Lemma 3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From Lemma 4 and the Definition law we obtain that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  <a:ea typeface="Arial"/>
              </a:rPr>
              <a:t>Sched(i,X) = ScSpec(i,X)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1F9-B11A-4BE4-925F-B620E120D2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6:06:16Z</dcterms:modified>
  <cp:revision>31</cp:revision>
  <dc:subject/>
  <dc:title>Concurrency 5</dc:title>
</cp:coreProperties>
</file>