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29D-3216-4689-9F6A-22C76923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A01-A5E6-4531-A96B-21CF2552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86B-8F49-44B2-A173-2E2031CC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78B-2267-4D33-A569-0DD0FE48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8DE-6C07-4827-82B1-2D8C0484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070-D0A4-4A12-A0DC-2565AF10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440-F9D1-4148-A424-215855D6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801-4816-45D8-995C-6BE19EE4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F05-1FAA-46FA-9544-A76EB024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986-CB6E-4927-B94E-335BC5EB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DC3-7CA6-4475-9AFA-8C0988AE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70B-FCF1-48F0-9358-78F302C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D299-93D1-49B5-B72F-43D891E170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6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pecification and Verification in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t is possible in CCS to create structures which grow and shrink dynamically. Examples include unbounded queues and stacks, and counters.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pecification of a Counte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counter is an object that can b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ested for zero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zero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cremented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in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cremented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de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zero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+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dec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-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 &gt; 0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1B9-C2B1-4B29-AAF0-044351C041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 A structure obtained by linking together a process B and n copies of a process C specifi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B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B^C) + zero.B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C^C) + dec.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D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d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C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B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P^Q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z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d’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(P(z,d,i’,z’,d’) | Q(z’,d’, inc,zero,dec)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Note: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B, C and D stand for B(z,d,inc,zero,dec), C(z,d,inc,zero,dec), and D(z,d,inc,zero,dec) respectively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(P^Q) stands for (P^Q)(z,d,inc,zero,dec)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:   ^ is associative, i.e.   P^(Q^R)  =   (P^Q)^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6568920" y="2698920"/>
            <a:ext cx="922320" cy="960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660760"/>
            <a:ext cx="730080" cy="99360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652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6248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6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8920" y="34290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31120" y="30830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37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9124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7568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14560" y="267336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67920" y="3006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2360" y="33908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040" y="3429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01800" y="2968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0960" y="3429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6560" y="296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40960" y="262260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D28-FF36-466E-BE12-6E0CAA0BE3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390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efinition:   C</a:t>
            </a:r>
            <a:r>
              <a:rPr b="0" lang="en-US" sz="1600" spc="-1" strike="noStrike" baseline="30000">
                <a:solidFill>
                  <a:srgbClr val="333399"/>
                </a:solidFill>
                <a:latin typeface="Comic Sans MS"/>
              </a:rPr>
              <a:t>(n)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B^C^C^...^C    (n times)  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Theorem (Correctness): C</a:t>
            </a:r>
            <a:r>
              <a:rPr b="0" lang="en-US" sz="1800" spc="-1" strike="noStrike" baseline="30000">
                <a:solidFill>
                  <a:srgbClr val="cc0066"/>
                </a:solidFill>
                <a:latin typeface="Comic Sans MS"/>
              </a:rPr>
              <a:t>(n)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Count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roof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:   (1)    C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D^C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2)    B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B^B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3)   B^B = B     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We can now prove that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zero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an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                    for n &gt; 0        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definition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^C) + de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D)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expansion law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+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de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the lemma above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Hence 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 satisfies the same equations as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. By the unique solution law we can conclude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 = 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7EC-FBC9-4E25-BA90-F388B5D3A4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1,...,n are tasks identifiers. Tasks have to be executed repeatedly,in a cyclic order. There can be more than one task executed at the same time, but the next instance of Task i cannot start before previous instance has finished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pecification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We us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 the signal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r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to Taks k and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as the signal that Task k ha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erminate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sume: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X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1,...,n } are the tasks in progres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ask i is next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ScSpec(i+1,XU{i}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C3F-F895-430C-B036-8F17CF1196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mplementation: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We build the scheduler, Sched, as a ring of n cells each linked to one task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ell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a.C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.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D + d.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d.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ote: A stands for A(a,b,c,d), B stands for B(a,b,c,d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e will also use 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A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B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efini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...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 ( A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{ D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1}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Theorem 1 (Correctness of the implementation wrt the specification):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Sched = ScSpec(1,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937-E433-46E7-B3C9-89B3281B45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he meaning of the various cells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: Task i is next, and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ext, but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but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and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efini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-{i} } )     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U {i} 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} )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  <a:ea typeface="Arial"/>
              </a:rPr>
              <a:t>Proposition 2:    Sched(i,X) = ScSpec(i,X)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heorem 1 is a particular case of Proposition 2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CD0-4769-42AE-8FDF-8D50D59184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2960" y="2162160"/>
            <a:ext cx="37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783400">
            <a:off x="6416280" y="254484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07080" y="1892160"/>
            <a:ext cx="1152720" cy="493920"/>
          </a:xfrm>
          <a:prstGeom prst="leftArrowCallout">
            <a:avLst>
              <a:gd name="adj1" fmla="val 25002"/>
              <a:gd name="adj2" fmla="val 25000"/>
              <a:gd name="adj3" fmla="val 3889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9C4-72AA-43EE-8338-76178944A9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81600">
            <a:off x="6684840" y="30063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15200" y="25066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FFF-129B-4C10-BA63-66FF50C364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3556800">
            <a:off x="6877800" y="42717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7040" y="189216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83440" y="354492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725-F1E9-40A0-B518-246B36DDE7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7760" y="240840"/>
            <a:ext cx="8493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 possible future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60920" y="53499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80240" y="5079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5080" y="465768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45240" y="52722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193032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36920" y="243036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3611160" y="13158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4200" y="208440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7080" y="212256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9A7-202B-46D4-84C5-D19FA8E14B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1520" y="1469520"/>
            <a:ext cx="826308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 2:    Sched(i,X) = ScSpec(i,X)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Proof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Lemma 3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1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D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A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2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B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Proof: By exapansion law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 4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a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i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Sched(i+1,XU{i}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+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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Proof: By Expansion law and Lemma 3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From Lemma 4 and the Definition law we obtain that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  <a:ea typeface="Arial"/>
              </a:rPr>
              <a:t>Sched(i,X) = ScSpec(i,X)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678-CCCA-4336-90C2-0A06D695A6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6:06:16Z</dcterms:modified>
  <cp:revision>31</cp:revision>
  <dc:subject/>
  <dc:title>Concurrency 5</dc:title>
</cp:coreProperties>
</file>