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F3C2-1F04-4C1F-8C5E-882438E53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7A04-A392-4501-8FE6-FD12A681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B2C5-FA86-45C7-AEED-9ADF296FB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85BE-0DCD-4423-8AA5-CE48C0890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C5C3-3881-4237-8F05-4EBD729B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C4D6-7D82-4A71-9F52-C1BD661C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ED41-AC37-411F-BED2-22685A4A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A5C2-76BF-48B7-89CD-292BEDA0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D591-E046-4A69-B237-EE12F4A5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A866-CEBC-41BB-B53B-708D7C5C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7D95-199A-4942-95C3-326A8DCE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8D48-0CDD-4605-8817-A5FF86F1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A9A0-4067-4A68-BBD3-70FCF8C7CAB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cy 6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3152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Specification and Verification in CCS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catuscia@lix.polytechnique.fr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It is possible in CCS to create structures which grow and shrink dynamically. Examples include unbounded queues and stacks, and counters.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pecification of a Counte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 counter is an object that can b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tested for zero  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Comic Sans MS"/>
              </a:rPr>
              <a:t>zero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incremented  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Comic Sans MS"/>
              </a:rPr>
              <a:t>inc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decremented 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Comic Sans MS"/>
              </a:rPr>
              <a:t>dec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Count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inc.Count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+ zero. Count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Count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n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inc.Count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n+1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+ dec. Count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n-1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n &gt; 0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6B47-0C24-47DA-A813-6C1EF6131B4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Implementation: A structure obtained by linking together a process B and n copies of a process C specified as follows: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B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 inc.(B^C) + zero.B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C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 inc.(C^C) + dec.D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D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Comic Sans MS"/>
                <a:ea typeface="Arial"/>
              </a:rPr>
              <a:t>d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.C +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Comic Sans MS"/>
                <a:ea typeface="Arial"/>
              </a:rPr>
              <a:t>z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.B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P^Q 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 i’)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 z’)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 d’)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  <a:ea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(P(z,d,i’,z’,d’) | Q(z’,d’, inc,zero,dec))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Note: </a:t>
            </a:r>
            <a:r>
              <a:rPr b="0" lang="en-US" sz="1200" spc="-1" strike="noStrike">
                <a:solidFill>
                  <a:srgbClr val="333399"/>
                </a:solidFill>
                <a:latin typeface="Comic Sans MS"/>
                <a:ea typeface="Arial"/>
              </a:rPr>
              <a:t>B, C and D stand for B(z,d,inc,zero,dec), C(z,d,inc,zero,dec), and D(z,d,inc,zero,dec) respectively.</a:t>
            </a:r>
            <a:endParaRPr b="0" lang="en-US" sz="12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Comic Sans MS"/>
                <a:ea typeface="Arial"/>
              </a:rPr>
              <a:t>(P^Q) stands for (P^Q)(z,d,inc,zero,dec).</a:t>
            </a:r>
            <a:endParaRPr b="0" lang="en-US" sz="12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  <a:ea typeface="Arial"/>
              </a:rPr>
              <a:t>Proposition:   ^ is associative, i.e.   P^(Q^R)  =   (P^Q)^R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6568920" y="2698920"/>
            <a:ext cx="922320" cy="960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2660760"/>
            <a:ext cx="730080" cy="99360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86520" y="3429000"/>
            <a:ext cx="7596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62480" y="3121200"/>
            <a:ext cx="7632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86520" y="2814480"/>
            <a:ext cx="75960" cy="78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68920" y="3429000"/>
            <a:ext cx="7632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531120" y="3083040"/>
            <a:ext cx="7596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337520" y="2814480"/>
            <a:ext cx="75960" cy="78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491240" y="3121200"/>
            <a:ext cx="7632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75680" y="3429000"/>
            <a:ext cx="7596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414560" y="267336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67920" y="300672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52360" y="339084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377040" y="3429000"/>
            <a:ext cx="2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301800" y="29685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40960" y="342900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16560" y="296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40960" y="262260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7448-27D4-472A-92C0-4526FFB2A55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3904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Implementation: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Definition:   C</a:t>
            </a:r>
            <a:r>
              <a:rPr b="0" lang="en-US" sz="1600" spc="-1" strike="noStrike" baseline="30000">
                <a:solidFill>
                  <a:srgbClr val="333399"/>
                </a:solidFill>
                <a:latin typeface="Comic Sans MS"/>
              </a:rPr>
              <a:t>(n)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B^C^C^...^C    (n times)  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Theorem (Correctness): C</a:t>
            </a:r>
            <a:r>
              <a:rPr b="0" lang="en-US" sz="1800" spc="-1" strike="noStrike" baseline="30000">
                <a:solidFill>
                  <a:srgbClr val="cc0066"/>
                </a:solidFill>
                <a:latin typeface="Comic Sans MS"/>
              </a:rPr>
              <a:t>(n)</a:t>
            </a: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Count</a:t>
            </a:r>
            <a:r>
              <a:rPr b="0" lang="en-US" sz="1600" spc="-1" strike="noStrike" baseline="-25000">
                <a:solidFill>
                  <a:srgbClr val="cc0066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Comic Sans MS"/>
              </a:rPr>
              <a:t>Proof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Lemma:   (1)    C^D 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 D^C        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         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(2)    B^D 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 B^B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   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      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(3)   B^B = B             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omic Sans MS"/>
                <a:ea typeface="Arial"/>
              </a:rPr>
              <a:t>We can now prove that</a:t>
            </a:r>
            <a:endParaRPr b="0" lang="en-US" sz="12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0)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 =  inc. 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1)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+ zero. 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0)    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and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n)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 =  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n-1)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^C                    for n &gt; 0               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  <a:ea typeface="Arial"/>
              </a:rPr>
              <a:t>by definition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      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=  inc. (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n-1)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^C^C) + dec. (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n-1)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^D) 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  <a:ea typeface="Arial"/>
              </a:rPr>
              <a:t>by expansion law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   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=  inc. 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n+1)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+ dec. 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n-1)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  <a:ea typeface="Arial"/>
              </a:rPr>
              <a:t>by the lemma above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omic Sans MS"/>
                <a:ea typeface="Arial"/>
              </a:rPr>
              <a:t>Hence C</a:t>
            </a:r>
            <a:r>
              <a:rPr b="0" lang="en-US" sz="12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n)</a:t>
            </a:r>
            <a:r>
              <a:rPr b="0" lang="en-US" sz="1200" spc="-1" strike="noStrike">
                <a:solidFill>
                  <a:srgbClr val="008000"/>
                </a:solidFill>
                <a:latin typeface="Comic Sans MS"/>
                <a:ea typeface="Arial"/>
              </a:rPr>
              <a:t> satisfies the same equations as </a:t>
            </a:r>
            <a:r>
              <a:rPr b="0" lang="en-US" sz="1200" spc="-1" strike="noStrike">
                <a:solidFill>
                  <a:srgbClr val="008000"/>
                </a:solidFill>
                <a:latin typeface="Comic Sans MS"/>
              </a:rPr>
              <a:t>Count</a:t>
            </a:r>
            <a:r>
              <a:rPr b="0" lang="en-US" sz="1200" spc="-1" strike="noStrike" baseline="-25000">
                <a:solidFill>
                  <a:srgbClr val="008000"/>
                </a:solidFill>
                <a:latin typeface="Comic Sans MS"/>
              </a:rPr>
              <a:t>n</a:t>
            </a:r>
            <a:r>
              <a:rPr b="0" lang="en-US" sz="1200" spc="-1" strike="noStrike">
                <a:solidFill>
                  <a:srgbClr val="008000"/>
                </a:solidFill>
                <a:latin typeface="Comic Sans MS"/>
                <a:ea typeface="Arial"/>
              </a:rPr>
              <a:t>. By the unique solution law we can conclude </a:t>
            </a:r>
            <a:r>
              <a:rPr b="0" lang="en-US" sz="1200" spc="-1" strike="noStrike">
                <a:solidFill>
                  <a:srgbClr val="008000"/>
                </a:solidFill>
                <a:latin typeface="Comic Sans MS"/>
              </a:rPr>
              <a:t>C</a:t>
            </a:r>
            <a:r>
              <a:rPr b="0" lang="en-US" sz="1200" spc="-1" strike="noStrike" baseline="30000">
                <a:solidFill>
                  <a:srgbClr val="008000"/>
                </a:solidFill>
                <a:latin typeface="Comic Sans MS"/>
              </a:rPr>
              <a:t>(n)</a:t>
            </a:r>
            <a:r>
              <a:rPr b="0" lang="en-US" sz="1200" spc="-1" strike="noStrike">
                <a:solidFill>
                  <a:srgbClr val="008000"/>
                </a:solidFill>
                <a:latin typeface="Comic Sans MS"/>
              </a:rPr>
              <a:t> = Count</a:t>
            </a:r>
            <a:r>
              <a:rPr b="0" lang="en-US" sz="1200" spc="-1" strike="noStrike" baseline="-25000">
                <a:solidFill>
                  <a:srgbClr val="008000"/>
                </a:solidFill>
                <a:latin typeface="Comic Sans MS"/>
              </a:rPr>
              <a:t>n   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</a:rPr>
              <a:t>□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BE79-3480-45F6-B136-0D1D1700692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xample: A distributed schedul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1,...,n are tasks identifiers. Tasks have to be executed repeatedly,in a cyclic order. There can be more than one task executed at the same time, but the next instance of Task i cannot start before previous instance has finished.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Specification: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We use: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a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as the signal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tart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to Taks k and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b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as the signal that Task k has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terminated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Assume: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X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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{1,...,n } are the tasks in progress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Task i is next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cSpec(i,X) 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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{ b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. ScSpec(i,X-{k}) | k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X}   if  i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X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cSpec(i,X) 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a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.ScSpec(i+1,XU{i})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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{ b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. ScSpec(i,X-{k}) | k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X}   if  i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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X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D8C4-FB86-44C7-A524-4D4455A2D9A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xample: A distributed schedul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Implementation: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 We build the scheduler, Sched, as a ring of n cells each linked to one task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ell: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a.C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c.E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b.D + d.B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B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b.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d.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Note: A stands for A(a,b,c,d), B stands for B(a,b,c,d), etc.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We will also use A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for A(a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,b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,c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,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c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-1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, B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for B(a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,b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,c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,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c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-1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, etc.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Definitio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Sched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(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)...(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) ( A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|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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{ D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| k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1}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Arial"/>
              </a:rPr>
              <a:t>Theorem 1 (Correctness of the implementation wrt the specification): 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Arial"/>
              </a:rPr>
              <a:t>Sched = ScSpec(1,</a:t>
            </a:r>
            <a:r>
              <a:rPr b="0" lang="en-US" sz="2000" spc="-1" strike="noStrike">
                <a:solidFill>
                  <a:srgbClr val="cc0066"/>
                </a:solidFill>
                <a:latin typeface="Symbol"/>
                <a:ea typeface="Symbol"/>
              </a:rPr>
              <a:t>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Arial"/>
              </a:rPr>
              <a:t>)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0C51-6609-4D24-BE55-97B49A8A26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cheduler: Proof of correctness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The meaning of the various cells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Arial"/>
                <a:ea typeface="Arial"/>
              </a:rPr>
              <a:t>i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: Task i is next, and it is ready to initi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Arial"/>
                <a:ea typeface="Arial"/>
              </a:rPr>
              <a:t>i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: Task i is next, but it is not ready to initi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D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Arial"/>
                <a:ea typeface="Arial"/>
              </a:rPr>
              <a:t>i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: Task i is not next, but it is ready to initi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Arial"/>
                <a:ea typeface="Arial"/>
              </a:rPr>
              <a:t>i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: Task i is not next, and it is not ready to initi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Definition: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Sched(i,X)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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)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(B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i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|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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{D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| k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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X} |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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{E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m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| m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X-{i} } )         if  i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X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Sched(i,X)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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)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(A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i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|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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{D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| k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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X U {i} } |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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{ E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m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| m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X } )    if  i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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X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Arial"/>
                <a:ea typeface="Arial"/>
              </a:rPr>
              <a:t>Proposition 2:    Sched(i,X) = ScSpec(i,X)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Theorem 1 is a particular case of Proposition 2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4B09-188B-40E7-BFA7-4C08BCE372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ementation of the scheduler: how it wor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2362320" y="1752480"/>
            <a:ext cx="4343400" cy="419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34290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19810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91120" y="137160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38680" y="19810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54864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49528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342900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48006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2057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48520" y="25909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228600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1371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24280" y="1371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17524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1752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34320" y="3962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34320" y="3581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33526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92960" y="2162160"/>
            <a:ext cx="374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ff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41880" y="32767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65360" y="16002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00520" y="277668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80120" y="16765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18200" y="388620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783400">
            <a:off x="6416280" y="254484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53360" y="534996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84800" y="56563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00720" y="4965840"/>
            <a:ext cx="76320" cy="759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4360" y="5541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76840" y="531036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6400" y="569448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00520" y="45036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880600" y="5079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07080" y="1892160"/>
            <a:ext cx="1152720" cy="493920"/>
          </a:xfrm>
          <a:prstGeom prst="leftArrowCallout">
            <a:avLst>
              <a:gd name="adj1" fmla="val 25002"/>
              <a:gd name="adj2" fmla="val 25000"/>
              <a:gd name="adj3" fmla="val 38897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2BA4-DC1C-4D68-AD4B-9F201034C9D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ementation of the scheduler: how it wor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1752480"/>
            <a:ext cx="4343400" cy="419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34290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19810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137160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19810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54864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9528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42900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48006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2057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2590920"/>
            <a:ext cx="75960" cy="759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7220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0080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1371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1371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14800" y="17524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1752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3962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34320" y="3581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2940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33526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84680" y="21337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41880" y="32767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65360" y="16002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00520" y="277668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cc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80120" y="16765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18200" y="388620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8981600">
            <a:off x="6684840" y="3006360"/>
            <a:ext cx="609840" cy="228600"/>
          </a:xfrm>
          <a:prstGeom prst="leftArrow">
            <a:avLst>
              <a:gd name="adj1" fmla="val 50000"/>
              <a:gd name="adj2" fmla="val 66693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53360" y="534996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84800" y="56563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00720" y="4965840"/>
            <a:ext cx="76320" cy="759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24360" y="5541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76840" y="531036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16400" y="569448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00520" y="45036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80600" y="5079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98760" y="2738520"/>
            <a:ext cx="51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99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15200" y="250668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81FF-A3E6-4254-A16B-9343BC6C51C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ementation of the scheduler: how it wor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1752480"/>
            <a:ext cx="4343400" cy="419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34290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19810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137160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38680" y="19810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54864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15000" y="49528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48520" y="342900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48006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15000" y="205740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48520" y="25909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72200" y="19810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0080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1371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24280" y="1371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17524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52880" y="1752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34320" y="3962520"/>
            <a:ext cx="75960" cy="759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934320" y="3581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2940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84680" y="21337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41880" y="32767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65360" y="16002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00520" y="277668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80120" y="16765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cc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18200" y="388620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cc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53360" y="534996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84800" y="56563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00720" y="4965840"/>
            <a:ext cx="76320" cy="759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24360" y="5541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76840" y="531036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6400" y="569448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00520" y="45036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880600" y="5079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98760" y="2738520"/>
            <a:ext cx="51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99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3556800">
            <a:off x="6877800" y="4271760"/>
            <a:ext cx="609840" cy="228600"/>
          </a:xfrm>
          <a:prstGeom prst="leftArrow">
            <a:avLst>
              <a:gd name="adj1" fmla="val 50000"/>
              <a:gd name="adj2" fmla="val 66693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77040" y="189216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183440" y="3544920"/>
            <a:ext cx="1152360" cy="493560"/>
          </a:xfrm>
          <a:prstGeom prst="leftArrowCallout">
            <a:avLst>
              <a:gd name="adj1" fmla="val 25002"/>
              <a:gd name="adj2" fmla="val 25000"/>
              <a:gd name="adj3" fmla="val 38913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A854-BCDC-4C5F-B165-6795B352E16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47760" y="240840"/>
            <a:ext cx="84931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ementation of the scheduler: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 possible future configur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752480"/>
            <a:ext cx="4343400" cy="419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81080" y="34290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19810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91120" y="137160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8680" y="19810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14800" y="54864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15000" y="49528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248520" y="342900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14600" y="48006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15000" y="2057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25909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72200" y="19810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0080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137160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1371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17524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52880" y="1752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34320" y="3962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3581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2940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29400" y="33526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484680" y="21337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41880" y="32767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65360" y="16002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00520" y="277668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0120" y="16765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cc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18200" y="388620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53360" y="5349960"/>
            <a:ext cx="75960" cy="759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84800" y="56563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00720" y="4965840"/>
            <a:ext cx="76320" cy="759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24360" y="5541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460920" y="534996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cc0066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16400" y="569448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00520" y="45036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80240" y="50799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75080" y="4657680"/>
            <a:ext cx="51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9999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45240" y="527220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77040" y="193032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36920" y="2430360"/>
            <a:ext cx="51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99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0800000">
            <a:off x="3611160" y="131580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354200" y="2084400"/>
            <a:ext cx="51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9999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77080" y="2122560"/>
            <a:ext cx="1152360" cy="493560"/>
          </a:xfrm>
          <a:prstGeom prst="leftArrowCallout">
            <a:avLst>
              <a:gd name="adj1" fmla="val 25002"/>
              <a:gd name="adj2" fmla="val 25000"/>
              <a:gd name="adj3" fmla="val 38913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DB7E-207B-4A64-BF35-DA4DD5DFDDA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cheduler: Proof of Correctnes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1520" y="1469520"/>
            <a:ext cx="826308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  <a:ea typeface="Arial"/>
              </a:rPr>
              <a:t>Proposition 2:    Sched(i,X) = ScSpec(i,X)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Proof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Lemma 3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(1)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(</a:t>
            </a:r>
            <a:r>
              <a:rPr b="0" lang="en-US" sz="14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 c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i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)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( C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</a:rPr>
              <a:t>i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 | D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</a:rPr>
              <a:t>i+1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) = </a:t>
            </a:r>
            <a:r>
              <a:rPr b="0" lang="en-US" sz="1400" spc="-1" strike="noStrike">
                <a:solidFill>
                  <a:srgbClr val="333399"/>
                </a:solidFill>
                <a:latin typeface="Symbol"/>
                <a:ea typeface="Symbol"/>
              </a:rPr>
              <a:t>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(</a:t>
            </a:r>
            <a:r>
              <a:rPr b="0" lang="en-US" sz="14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 c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i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)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( E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</a:rPr>
              <a:t>i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 | A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</a:rPr>
              <a:t>i+1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(2)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(</a:t>
            </a:r>
            <a:r>
              <a:rPr b="0" lang="en-US" sz="14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 c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i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)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( C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</a:rPr>
              <a:t>i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 | E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</a:rPr>
              <a:t>i+1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) = </a:t>
            </a:r>
            <a:r>
              <a:rPr b="0" lang="en-US" sz="1400" spc="-1" strike="noStrike">
                <a:solidFill>
                  <a:srgbClr val="333399"/>
                </a:solidFill>
                <a:latin typeface="Symbol"/>
                <a:ea typeface="Symbol"/>
              </a:rPr>
              <a:t>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(</a:t>
            </a:r>
            <a:r>
              <a:rPr b="0" lang="en-US" sz="14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 c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i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)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( E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</a:rPr>
              <a:t>i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 | B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</a:rPr>
              <a:t>i+1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Proof: By exapansion law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Lemma 4</a:t>
            </a:r>
            <a:endParaRPr b="0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Sched(i,X) =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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 { b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Comic Sans MS"/>
                <a:ea typeface="Arial"/>
              </a:rPr>
              <a:t>k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. Sched(i,X-{k}) | k 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 X }   if  i 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 X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Sched(i,X) =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a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Comic Sans MS"/>
                <a:ea typeface="Arial"/>
              </a:rPr>
              <a:t>i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.Sched(i+1,XU{i})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+</a:t>
            </a:r>
            <a:endParaRPr b="0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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 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{ b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Comic Sans MS"/>
                <a:ea typeface="Arial"/>
              </a:rPr>
              <a:t>k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. Sched(i,X-{k}) | k 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 X }   if  i 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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 X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omic Sans MS"/>
                <a:ea typeface="Arial"/>
              </a:rPr>
              <a:t>Proof: By Expansion law and Lemma 3</a:t>
            </a:r>
            <a:endParaRPr b="0" lang="en-US" sz="12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From Lemma 4 and the Definition law we obtain that </a:t>
            </a:r>
            <a:r>
              <a:rPr b="0" lang="en-US" sz="1600" spc="-1" strike="noStrike">
                <a:solidFill>
                  <a:srgbClr val="cc0066"/>
                </a:solidFill>
                <a:latin typeface="Arial"/>
                <a:ea typeface="Arial"/>
              </a:rPr>
              <a:t>Sched(i,X) = ScSpec(i,X)</a:t>
            </a:r>
            <a:r>
              <a:rPr b="0" lang="en-US" sz="16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      </a:t>
            </a: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□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76D4-A6EB-4018-9E63-6E384108FF5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3-11-23T16:06:16Z</dcterms:modified>
  <cp:revision>31</cp:revision>
  <dc:subject/>
  <dc:title>Concurrency 5</dc:title>
</cp:coreProperties>
</file>