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C06-DB7F-44C5-87EB-BCB02FF5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490-1459-4679-9AF7-D90E9A3A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24A-8C1B-4553-BF5C-3678C65D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952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34604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952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3843000"/>
            <a:ext cx="267840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600-5FAB-427F-AD32-F87664B8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D65-A4D7-4CAE-B438-DE0D9B87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ED5-84A4-42C5-9214-1E6B0832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344-7377-40CE-ACE4-186306B7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411-26B0-4C5B-8541-C9D8B3C5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929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1F6-63E9-4D86-9E4C-BE6D55CD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19D-38C4-4EEC-9257-5522666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9600" y="384300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A80-BFB5-4DAE-BC99-C23E58D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92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9600" y="1346040"/>
            <a:ext cx="405936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3000"/>
            <a:ext cx="831852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980-E743-420F-B842-2FBA729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520" y="6534000"/>
            <a:ext cx="2819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19880"/>
            <a:ext cx="181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D2D5-B2C6-4CA5-B21E-225B4944164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papers/Prob_asy_pi/report.ps" TargetMode="External"/><Relationship Id="rId2" Type="http://schemas.openxmlformats.org/officeDocument/2006/relationships/hyperlink" Target="http://www.lix.polytechnique.fr/~catuscia/papers/Prob_asy_pi/report.ps" TargetMode="External"/><Relationship Id="rId3" Type="http://schemas.openxmlformats.org/officeDocument/2006/relationships/hyperlink" Target="http://www.lix.polytechnique.fr/~catuscia/papers/prob_enc/report.ps" TargetMode="External"/><Relationship Id="rId4" Type="http://schemas.openxmlformats.org/officeDocument/2006/relationships/hyperlink" Target="http://www.lix.polytechnique.fr/~catuscia/papers/prob_enc/report.ps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0292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MPA School on Security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Specification and verification of randomized security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56880" y="424152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Catuscia Palamidessi, INRIA &amp; L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 of the cour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lix.polytechnique.fr/~catuscia/teaching/CIMPA_School_0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BCD-1BDB-44D8-A54F-127706739E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1040" y="2054160"/>
            <a:ext cx="8574120" cy="30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EC3-CF88-4432-A1D9-D28D78447C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1600" y="1544760"/>
            <a:ext cx="8353440" cy="31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247-F275-408A-AA97-AAC2F02CA2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326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DA4-7BA9-406A-B47E-3B56D0BA24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1692000"/>
            <a:ext cx="7680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41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Arial"/>
                <a:ea typeface="Arial"/>
              </a:rPr>
              <a:t>Overview of the basic notions of Probability theory and Measur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babilistic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2aa6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Probabilistic </a:t>
            </a:r>
            <a:r>
              <a:rPr b="1" lang="en-US" sz="2800" spc="-1" strike="noStrike">
                <a:solidFill>
                  <a:srgbClr val="2aa62a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2aa62a"/>
                </a:solidFill>
                <a:latin typeface="Arial"/>
                <a:ea typeface="Arial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  <a:ea typeface="Arial"/>
              </a:rPr>
              <a:t>Applications to the specification and verification of randomized securit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Fair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7EA-2265-4781-B2E6-CEF126606B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security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certain number of security protocols use randomized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0068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66"/>
                </a:solidFill>
                <a:latin typeface="Arial"/>
              </a:rPr>
              <a:t>Anonym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Crowds [Reiter and Rubin,1998]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 (anonymity of the s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Onion Routing [Syverson, Goldschlag and Reed, 199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0068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866"/>
                </a:solidFill>
                <a:latin typeface="Arial"/>
              </a:rPr>
              <a:t>Freenet [Clarke et al.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Clr>
                <a:srgbClr val="0068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66"/>
                </a:solidFill>
                <a:latin typeface="Arial"/>
              </a:rPr>
              <a:t>anonymous information storage and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spcAft>
                <a:spcPts val="6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Contract Signing protocol [Ben-Or et al., 199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babilistic non-repudiation protocol [Markowitch and Roggeman, 199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artial Secrets Exchange protocol [Even, Goldreich and Lempel, 198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411-5A2B-48D0-8C22-988D8D65E2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75438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feren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M. Herescu, C. Palamidessi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ilistic asynchronous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 J. Tiuryn, ed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. of FOSSACS 2000 (Part of ETAPS 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ol. 1784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N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146--160. Springer-Verlag, 200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apers/Prob_asy_pi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Palamidessi, O.M. Herescu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Randomized Distributed Encoding of the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-Calculus with Mixed Choi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ppear in Theoretical Computer Sci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hort version in Proc. of IFIP-TCS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ges 537-549, Kluwer, 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lix.polytechnique.fr/~catuscia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papers/prob_enc/report.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CCB-525A-4879-AABC-3AAD44AC75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riginally developed as an intermediate language for the fully distributed implementation of the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-cal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mixed choice mechanism of the p-calculus cannot be implemented in a fully distributed way deterministically, but can be done in a randomized way. Correctness is achieved with probability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tly, we use it as a framework to model the correctness of security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specify security properties which require a probabilistic formul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represent randomized 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012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o prove their correctness, i.e. t verify that they satisfy the intende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A24-F914-4085-9CA9-3E4DD8DEC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14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ilar to the asynchronous p-calculus of Amadio,Castellani and Sangiorgi, the only difference is that the input-guarded choice is probabi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286000"/>
            <a:ext cx="6716520" cy="825480"/>
            <a:chOff x="685800" y="2286000"/>
            <a:chExt cx="6716520" cy="8254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0"/>
              <a:ext cx="3846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36280" y="2743200"/>
              <a:ext cx="20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put | silent 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3429000"/>
            <a:ext cx="6758280" cy="2641680"/>
            <a:chOff x="685800" y="3429000"/>
            <a:chExt cx="6758280" cy="26416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02588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8440" y="3886200"/>
              <a:ext cx="2105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in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robabilistic 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new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866"/>
                  </a:solidFill>
                  <a:latin typeface="Arial"/>
                </a:rPr>
                <a:t>re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9320" y="3429000"/>
            <a:ext cx="4025880" cy="26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2C8-5514-4F43-8E52-D3697E5D6F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the probabilistic automata of Segala and Ly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68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nondeterministic and probabilist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00"/>
                </a:solidFill>
                <a:latin typeface="Arial"/>
              </a:rPr>
              <a:t>nondeterminism associated to a scheduler (adver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probabilistic behavior associated to the choice of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125"/>
              </a:spcAft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roups, probabilistic distributions,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1676520"/>
            <a:ext cx="2903040" cy="2393640"/>
            <a:chOff x="5486400" y="1676520"/>
            <a:chExt cx="2903040" cy="2393640"/>
          </a:xfrm>
        </p:grpSpPr>
        <p:grpSp>
          <p:nvGrpSpPr>
            <p:cNvPr id="63" name=""/>
            <p:cNvGrpSpPr/>
            <p:nvPr/>
          </p:nvGrpSpPr>
          <p:grpSpPr>
            <a:xfrm>
              <a:off x="5489280" y="1676520"/>
              <a:ext cx="2900160" cy="2393280"/>
              <a:chOff x="5489280" y="1676520"/>
              <a:chExt cx="2900160" cy="2393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5989320" y="177156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4920" y="177156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74920" y="177156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74920" y="177156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582520" y="177156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81320" y="16765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928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95720" y="2662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03680" y="237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38560" y="266220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8136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964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7019280" y="294624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27440" y="294624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004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6412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07508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400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3864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57640" y="388116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26040" y="388116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87760" y="28508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10208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5136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9424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486400" y="1676520"/>
              <a:ext cx="2900160" cy="2393280"/>
              <a:chOff x="5486400" y="1676520"/>
              <a:chExt cx="2900160" cy="239328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986080" y="177156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72400" y="177156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72400" y="177156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72400" y="177156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580000" y="177156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78440" y="16765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4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9284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0800" y="237312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35680" y="26622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78480" y="201744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16760" y="198576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016400" y="294624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24560" y="294624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7160" y="1946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61240" y="22208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72200" y="23302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31120" y="218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36120" y="203040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7547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3160" y="388116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84880" y="285120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9200" y="3423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48480" y="32860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91360" y="326520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5989320" y="177156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5280" y="1771560"/>
              <a:ext cx="95688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5280" y="1771560"/>
              <a:ext cx="14220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5280" y="1771560"/>
              <a:ext cx="40608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582520" y="177156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1676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928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57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04040" y="237312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8920" y="2662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81360" y="2017800"/>
              <a:ext cx="16308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9640" y="1986120"/>
              <a:ext cx="30744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19280" y="2946240"/>
              <a:ext cx="261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7440" y="2946240"/>
              <a:ext cx="52380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040" y="1946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3760" y="22208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5080" y="23302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000" y="218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38640" y="2030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8000" y="3881520"/>
              <a:ext cx="18504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6040" y="388152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7760" y="2851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080" y="34243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1360" y="32860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4240" y="3265560"/>
              <a:ext cx="29016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696000" y="3946680"/>
            <a:ext cx="1621080" cy="536400"/>
          </a:xfrm>
          <a:custGeom>
            <a:avLst/>
            <a:gdLst/>
            <a:ahLst/>
            <a:rect l="l" t="t" r="r" b="b"/>
            <a:pathLst>
              <a:path w="1021" h="338">
                <a:moveTo>
                  <a:pt x="37" y="8"/>
                </a:moveTo>
                <a:cubicBezTo>
                  <a:pt x="24" y="60"/>
                  <a:pt x="0" y="147"/>
                  <a:pt x="52" y="180"/>
                </a:cubicBezTo>
                <a:cubicBezTo>
                  <a:pt x="83" y="228"/>
                  <a:pt x="127" y="237"/>
                  <a:pt x="181" y="245"/>
                </a:cubicBezTo>
                <a:cubicBezTo>
                  <a:pt x="255" y="239"/>
                  <a:pt x="323" y="229"/>
                  <a:pt x="397" y="238"/>
                </a:cubicBezTo>
                <a:cubicBezTo>
                  <a:pt x="417" y="251"/>
                  <a:pt x="431" y="265"/>
                  <a:pt x="448" y="281"/>
                </a:cubicBezTo>
                <a:cubicBezTo>
                  <a:pt x="456" y="308"/>
                  <a:pt x="454" y="338"/>
                  <a:pt x="484" y="310"/>
                </a:cubicBezTo>
                <a:cubicBezTo>
                  <a:pt x="493" y="280"/>
                  <a:pt x="505" y="276"/>
                  <a:pt x="534" y="267"/>
                </a:cubicBezTo>
                <a:cubicBezTo>
                  <a:pt x="567" y="232"/>
                  <a:pt x="626" y="229"/>
                  <a:pt x="671" y="224"/>
                </a:cubicBezTo>
                <a:cubicBezTo>
                  <a:pt x="743" y="233"/>
                  <a:pt x="811" y="231"/>
                  <a:pt x="880" y="209"/>
                </a:cubicBezTo>
                <a:cubicBezTo>
                  <a:pt x="887" y="204"/>
                  <a:pt x="893" y="199"/>
                  <a:pt x="901" y="195"/>
                </a:cubicBezTo>
                <a:cubicBezTo>
                  <a:pt x="908" y="192"/>
                  <a:pt x="916" y="192"/>
                  <a:pt x="923" y="188"/>
                </a:cubicBezTo>
                <a:cubicBezTo>
                  <a:pt x="955" y="168"/>
                  <a:pt x="976" y="135"/>
                  <a:pt x="1002" y="108"/>
                </a:cubicBezTo>
                <a:cubicBezTo>
                  <a:pt x="1007" y="94"/>
                  <a:pt x="1011" y="79"/>
                  <a:pt x="1016" y="65"/>
                </a:cubicBezTo>
                <a:cubicBezTo>
                  <a:pt x="1021" y="51"/>
                  <a:pt x="1007" y="36"/>
                  <a:pt x="1002" y="22"/>
                </a:cubicBezTo>
                <a:cubicBezTo>
                  <a:pt x="1000" y="15"/>
                  <a:pt x="995" y="0"/>
                  <a:pt x="995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289240"/>
            <a:ext cx="870120" cy="823680"/>
          </a:xfrm>
          <a:custGeom>
            <a:avLst/>
            <a:gdLst/>
            <a:ahLst/>
            <a:rect l="l" t="t" r="r" b="b"/>
            <a:pathLst>
              <a:path w="548" h="519">
                <a:moveTo>
                  <a:pt x="65" y="0"/>
                </a:moveTo>
                <a:cubicBezTo>
                  <a:pt x="49" y="16"/>
                  <a:pt x="38" y="34"/>
                  <a:pt x="22" y="51"/>
                </a:cubicBezTo>
                <a:cubicBezTo>
                  <a:pt x="14" y="72"/>
                  <a:pt x="0" y="116"/>
                  <a:pt x="0" y="116"/>
                </a:cubicBezTo>
                <a:cubicBezTo>
                  <a:pt x="9" y="206"/>
                  <a:pt x="14" y="236"/>
                  <a:pt x="101" y="260"/>
                </a:cubicBezTo>
                <a:cubicBezTo>
                  <a:pt x="137" y="284"/>
                  <a:pt x="136" y="287"/>
                  <a:pt x="151" y="332"/>
                </a:cubicBezTo>
                <a:cubicBezTo>
                  <a:pt x="156" y="346"/>
                  <a:pt x="166" y="375"/>
                  <a:pt x="166" y="375"/>
                </a:cubicBezTo>
                <a:cubicBezTo>
                  <a:pt x="163" y="382"/>
                  <a:pt x="162" y="389"/>
                  <a:pt x="158" y="396"/>
                </a:cubicBezTo>
                <a:cubicBezTo>
                  <a:pt x="150" y="411"/>
                  <a:pt x="114" y="446"/>
                  <a:pt x="130" y="440"/>
                </a:cubicBezTo>
                <a:cubicBezTo>
                  <a:pt x="162" y="428"/>
                  <a:pt x="196" y="419"/>
                  <a:pt x="230" y="411"/>
                </a:cubicBezTo>
                <a:cubicBezTo>
                  <a:pt x="276" y="426"/>
                  <a:pt x="301" y="469"/>
                  <a:pt x="346" y="483"/>
                </a:cubicBezTo>
                <a:cubicBezTo>
                  <a:pt x="367" y="497"/>
                  <a:pt x="379" y="511"/>
                  <a:pt x="403" y="519"/>
                </a:cubicBezTo>
                <a:cubicBezTo>
                  <a:pt x="470" y="512"/>
                  <a:pt x="482" y="501"/>
                  <a:pt x="540" y="483"/>
                </a:cubicBezTo>
                <a:cubicBezTo>
                  <a:pt x="548" y="459"/>
                  <a:pt x="547" y="469"/>
                  <a:pt x="547" y="45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37480" y="2449440"/>
            <a:ext cx="857160" cy="628560"/>
          </a:xfrm>
          <a:custGeom>
            <a:avLst/>
            <a:gdLst/>
            <a:ahLst/>
            <a:rect l="l" t="t" r="r" b="b"/>
            <a:pathLst>
              <a:path w="540" h="396">
                <a:moveTo>
                  <a:pt x="0" y="382"/>
                </a:moveTo>
                <a:cubicBezTo>
                  <a:pt x="52" y="375"/>
                  <a:pt x="40" y="370"/>
                  <a:pt x="80" y="382"/>
                </a:cubicBezTo>
                <a:cubicBezTo>
                  <a:pt x="94" y="386"/>
                  <a:pt x="123" y="396"/>
                  <a:pt x="123" y="396"/>
                </a:cubicBezTo>
                <a:cubicBezTo>
                  <a:pt x="152" y="389"/>
                  <a:pt x="180" y="381"/>
                  <a:pt x="209" y="375"/>
                </a:cubicBezTo>
                <a:cubicBezTo>
                  <a:pt x="240" y="354"/>
                  <a:pt x="260" y="350"/>
                  <a:pt x="281" y="317"/>
                </a:cubicBezTo>
                <a:cubicBezTo>
                  <a:pt x="306" y="325"/>
                  <a:pt x="313" y="336"/>
                  <a:pt x="332" y="353"/>
                </a:cubicBezTo>
                <a:cubicBezTo>
                  <a:pt x="336" y="333"/>
                  <a:pt x="332" y="309"/>
                  <a:pt x="346" y="295"/>
                </a:cubicBezTo>
                <a:cubicBezTo>
                  <a:pt x="392" y="249"/>
                  <a:pt x="374" y="279"/>
                  <a:pt x="411" y="259"/>
                </a:cubicBezTo>
                <a:cubicBezTo>
                  <a:pt x="444" y="241"/>
                  <a:pt x="471" y="221"/>
                  <a:pt x="497" y="195"/>
                </a:cubicBezTo>
                <a:cubicBezTo>
                  <a:pt x="506" y="166"/>
                  <a:pt x="524" y="166"/>
                  <a:pt x="533" y="137"/>
                </a:cubicBezTo>
                <a:cubicBezTo>
                  <a:pt x="535" y="120"/>
                  <a:pt x="540" y="104"/>
                  <a:pt x="540" y="87"/>
                </a:cubicBezTo>
                <a:cubicBezTo>
                  <a:pt x="540" y="58"/>
                  <a:pt x="533" y="0"/>
                  <a:pt x="533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124080"/>
            <a:ext cx="2057400" cy="2514600"/>
          </a:xfrm>
          <a:custGeom>
            <a:avLst/>
            <a:gdLst/>
            <a:ahLst/>
            <a:rect l="l" t="t" r="r" b="b"/>
            <a:pathLst>
              <a:path w="1296" h="1584">
                <a:moveTo>
                  <a:pt x="0" y="0"/>
                </a:moveTo>
                <a:cubicBezTo>
                  <a:pt x="100" y="452"/>
                  <a:pt x="200" y="904"/>
                  <a:pt x="336" y="1104"/>
                </a:cubicBezTo>
                <a:cubicBezTo>
                  <a:pt x="472" y="1304"/>
                  <a:pt x="656" y="1120"/>
                  <a:pt x="816" y="1200"/>
                </a:cubicBezTo>
                <a:cubicBezTo>
                  <a:pt x="976" y="1280"/>
                  <a:pt x="1216" y="1520"/>
                  <a:pt x="1296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4648320"/>
            <a:ext cx="1800" cy="99036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624"/>
                </a:moveTo>
                <a:cubicBezTo>
                  <a:pt x="0" y="364"/>
                  <a:pt x="0" y="104"/>
                  <a:pt x="0" y="0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3124080"/>
            <a:ext cx="1346400" cy="2514600"/>
          </a:xfrm>
          <a:custGeom>
            <a:avLst/>
            <a:gdLst/>
            <a:ahLst/>
            <a:rect l="l" t="t" r="r" b="b"/>
            <a:pathLst>
              <a:path w="848" h="1584">
                <a:moveTo>
                  <a:pt x="528" y="0"/>
                </a:moveTo>
                <a:cubicBezTo>
                  <a:pt x="656" y="216"/>
                  <a:pt x="784" y="432"/>
                  <a:pt x="816" y="576"/>
                </a:cubicBezTo>
                <a:cubicBezTo>
                  <a:pt x="848" y="720"/>
                  <a:pt x="784" y="760"/>
                  <a:pt x="720" y="864"/>
                </a:cubicBezTo>
                <a:cubicBezTo>
                  <a:pt x="656" y="968"/>
                  <a:pt x="552" y="1080"/>
                  <a:pt x="432" y="1200"/>
                </a:cubicBezTo>
                <a:cubicBezTo>
                  <a:pt x="312" y="1320"/>
                  <a:pt x="72" y="1520"/>
                  <a:pt x="0" y="1584"/>
                </a:cubicBezTo>
              </a:path>
            </a:pathLst>
          </a:custGeom>
          <a:noFill/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8400" y="571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0DF-CE54-4E59-A59B-7FB86CB365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114800"/>
            <a:ext cx="2445120" cy="1676160"/>
            <a:chOff x="3124080" y="4114800"/>
            <a:chExt cx="2445120" cy="1676160"/>
          </a:xfrm>
        </p:grpSpPr>
        <p:sp>
          <p:nvSpPr>
            <p:cNvPr id="150" name=""/>
            <p:cNvSpPr/>
            <p:nvPr/>
          </p:nvSpPr>
          <p:spPr>
            <a:xfrm>
              <a:off x="4267080" y="411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5840" y="5638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548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360" y="4267080"/>
              <a:ext cx="9907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62160" y="426708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360" y="4267080"/>
              <a:ext cx="9144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04960" y="537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77920" y="4740120"/>
              <a:ext cx="938160" cy="10152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cubicBezTo>
                    <a:pt x="50" y="10"/>
                    <a:pt x="93" y="40"/>
                    <a:pt x="144" y="50"/>
                  </a:cubicBezTo>
                  <a:cubicBezTo>
                    <a:pt x="201" y="61"/>
                    <a:pt x="168" y="56"/>
                    <a:pt x="245" y="64"/>
                  </a:cubicBezTo>
                  <a:cubicBezTo>
                    <a:pt x="347" y="59"/>
                    <a:pt x="446" y="51"/>
                    <a:pt x="547" y="43"/>
                  </a:cubicBezTo>
                  <a:cubicBezTo>
                    <a:pt x="581" y="35"/>
                    <a:pt x="566" y="36"/>
                    <a:pt x="591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8080" y="475776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112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1840" y="495288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0240" y="51814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9720" y="53337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9040" y="5029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603440"/>
            <a:ext cx="685800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9FB-9540-4C53-8032-602D824C22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29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st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us: operational 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46040"/>
            <a:ext cx="831852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33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security protoc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3FB-3592-4AFD-A232-71560DC925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angalore, 2 Feb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21:34:05Z</dcterms:created>
  <dc:creator>INRIA </dc:creator>
  <dc:description/>
  <dc:language>en-US</dc:language>
  <cp:lastModifiedBy>INRIA </cp:lastModifiedBy>
  <dcterms:modified xsi:type="dcterms:W3CDTF">2005-02-02T00:32:44Z</dcterms:modified>
  <cp:revision>11</cp:revision>
  <dc:subject/>
  <dc:title>CIMPA School on Security   Specification and verification of randomized security protocols   Lecture 2</dc:title>
</cp:coreProperties>
</file>