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E41-1502-4822-966C-08F8BDFA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27A-B160-4D6B-B7A9-C4EA8A4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10C-6397-412B-8B6F-FF280B88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73B-489C-48FE-867C-3489846C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C9CB-EF91-4272-8282-2ADFE622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72F7-74B4-43C5-8CDE-CA69C702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CBD-CCCB-40DD-BBB9-291393F3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7BB-BAC9-4EFE-B259-82BF456F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69CA-3CAE-4F21-9F01-D2C3527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659B-952A-4ABE-89AC-F006BD50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5970-B854-4418-BA52-4C85B51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A41-724A-4886-A3FF-34A75FBD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ED4-4B21-46E0-BC8A-DE043C9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2732-6BCF-4A06-8B9B-61D7680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7BE2-BD9D-489F-BA9D-5EAB07B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C29B-A803-4BDB-9DA5-CEBD0EFF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ACC3-5A26-4555-A32B-3B37C67A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1D9-5504-438A-8ED8-19E0189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7A8-3537-41DB-8A42-04A306CD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BEE-1711-4A66-BF56-224D7A32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2CC-71F8-40CE-9097-54890D8E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D9E-D46A-4CBA-AE39-429308DE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A3D-6537-417C-B363-69F3FC0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88D-1797-4CFA-ADCC-81DA94A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7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7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795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795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6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49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39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3097-929B-4890-A45C-5FB4A049A1B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D895-A6F9-407E-9BFC-2503858C29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ECA1-6810-4E9A-A9B6-8C583F130D4B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12A4-5EC5-40FC-9B2D-59BCDEC2B9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din L Cl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E 597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ecember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henomenon produces some interesting behavior for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(P) + Prob(-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2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Prob(P) = Prob(-P) =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  Prob(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72B-7ACD-44DD-96E8-533D66D6AD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59455-8AF2-4441-8FD5-291BA2435F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for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2 conjugate bases, a photon polarized with respect to one and measured in another reveals zero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ac: this loss is permanent; the system “jumps” to a state of the measurement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measurement in the original basis reveals the actual st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3BC-8126-41C6-AA25-4A4B873A96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C647B-CB77-45B9-B97B-F2C3E1CAE0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bit string composed from 2 distinct quantum alphab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ssible to retrieve the entire string without knowing the correct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measurements by an intruder will necessarily alter polarization resulting in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1160" y="4191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2680" y="434340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8880" y="3067200"/>
            <a:ext cx="46080" cy="457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7080" y="29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7008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794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0320" y="505764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1760" y="232416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AFF-53F8-41B8-AB8E-B0E213921F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EEBDD-493C-4F26-8066-8BCCF38E76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jugate 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tephen Wiesner (late 60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O ’82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ntum Cryptography, or unforgeable subway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s H. Bennett, Gilles Brassard: use photon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ansm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988-85EE-48C5-812E-90AE3382C0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07A33-62F1-4B0A-B2A2-A5AB99DFAB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Key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mental Quantum Cryptograph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ennett, Bessette, Brassard, Salvail, Smolin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Al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gree on a secure random key of arbitrary length potentially for use in a one-time p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254-571E-4706-A4F1-EB5282BB01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810DC-AF38-402E-A305-1EB7863F85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over the Quantum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Reconcil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A8E-5E77-410B-8755-AD3B036F58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14F22-58C7-4485-8B4D-EA68B98E1F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Quantum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2767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0" idx="6"/>
            <a:endCxn id="215" idx="1"/>
          </p:cNvCxnSpPr>
          <p:nvPr/>
        </p:nvCxnSpPr>
        <p:spPr>
          <a:xfrm>
            <a:off x="761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3"/>
            <a:endCxn id="212" idx="1"/>
          </p:cNvCxnSpPr>
          <p:nvPr/>
        </p:nvCxnSpPr>
        <p:spPr>
          <a:xfrm>
            <a:off x="2057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3" idx="1"/>
          </p:cNvCxnSpPr>
          <p:nvPr/>
        </p:nvCxnSpPr>
        <p:spPr>
          <a:xfrm>
            <a:off x="281916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705720" y="3200400"/>
            <a:ext cx="676080" cy="457200"/>
          </a:xfrm>
          <a:prstGeom prst="triangle">
            <a:avLst>
              <a:gd name="adj" fmla="val 50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5"/>
            <a:endCxn id="220" idx="2"/>
          </p:cNvCxnSpPr>
          <p:nvPr/>
        </p:nvCxnSpPr>
        <p:spPr>
          <a:xfrm flipV="1">
            <a:off x="7213680" y="289512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8" idx="5"/>
            <a:endCxn id="222" idx="2"/>
          </p:cNvCxnSpPr>
          <p:nvPr/>
        </p:nvCxnSpPr>
        <p:spPr>
          <a:xfrm>
            <a:off x="7213680" y="342900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1523880" y="3162240"/>
            <a:ext cx="304920" cy="5335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5" idx="3"/>
            <a:endCxn id="223" idx="1"/>
          </p:cNvCxnSpPr>
          <p:nvPr/>
        </p:nvCxnSpPr>
        <p:spPr>
          <a:xfrm>
            <a:off x="13712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1" idx="1"/>
          </p:cNvCxnSpPr>
          <p:nvPr/>
        </p:nvCxnSpPr>
        <p:spPr>
          <a:xfrm>
            <a:off x="18284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7" idx="3"/>
            <a:endCxn id="218" idx="1"/>
          </p:cNvCxnSpPr>
          <p:nvPr/>
        </p:nvCxnSpPr>
        <p:spPr>
          <a:xfrm>
            <a:off x="6019560" y="3428640"/>
            <a:ext cx="85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076640" y="3276720"/>
            <a:ext cx="990720" cy="3045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4"/>
            <a:endCxn id="227" idx="1"/>
          </p:cNvCxnSpPr>
          <p:nvPr/>
        </p:nvCxnSpPr>
        <p:spPr>
          <a:xfrm>
            <a:off x="5067000" y="342864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3"/>
            <a:endCxn id="228" idx="1"/>
          </p:cNvCxnSpPr>
          <p:nvPr/>
        </p:nvCxnSpPr>
        <p:spPr>
          <a:xfrm>
            <a:off x="3276720" y="3428640"/>
            <a:ext cx="800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8229600" y="259092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365760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720" y="4800600"/>
            <a:ext cx="10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971440" y="38095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29200" y="38095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2360" y="242244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air op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(~32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8440" y="249876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lla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72560" y="426708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360" y="356544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52520" y="21337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5146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808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574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920" y="45561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n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43560" y="455616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A5E-D206-4FA4-B8A7-AE82F12287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716EF-BAFD-4982-866D-1A7A78CFD5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sends random sequence of 4 types of polarized photons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chan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orizontal, vertical, right-circular, left-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measures each in a random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ull sequence, Bob tells Alice the bases he used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informs Bob which bases were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discard the data from incorrectly measured pho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larization data is converted to a bit string      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 = ↶ = 0 and ↕ = ↷ 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5BD-295D-4B4A-AF0B-EB6E3F42C1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1B0D5-F9C6-49A7-8A40-73829F5B21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7272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4130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98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9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4956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D3C-3AD2-4254-B491-1C1083BA67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19358-D77B-41BA-A224-EF09EDA7F7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Reconcil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s compared and errors eliminated by performing parity checks over the 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string permutations are partitioned into blocks believed to contain 1 error or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sective search is performed on blocks with incorrect parity to eliminate th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st bit of each block whose parity was exposed is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ocess is repeated with larger and larger block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ends when a number of parity checks of random subsets of the entire string ag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741-75CE-4CE8-9F04-A1F49626BB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4DC80-0CF6-4429-8B50-C4B3B8597E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09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s for Quantum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Key Distribution (QK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s on QK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A9B-DE22-46DB-9CBF-2EF3B21252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57E69-25F2-4370-A6E6-7FC84C6B49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following class is randomly and publicly chos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 where Eve’s expected deterministic information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, and an arbitrary securit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’s expected information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less t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the final shared key between Alice and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vacy Ampl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35160" y="2438280"/>
                <a:ext cx="307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26040" y="4343400"/>
                <a:ext cx="69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762-78AE-4458-B989-35EB3366D4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F8291-EDB5-440F-88CD-CE419DA20A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ing QK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ept/Resend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splitting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Eve’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DDE-4429-4362-8885-98E09969D6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4275C-EFA9-46CE-B316-1FCCF1B5CF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Eve to determine the value of each bit with prob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25% of intercepted pulses will generate errors when read by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rrors are assumed to be the result of intercept/re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a conservative estimate of Eve’s information on the raw quantum transmission (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cted errors)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cept/Resend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200988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52680" y="5562720"/>
                <a:ext cx="243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966-4D78-4349-88E8-B466CE9FAB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D9F6E-94E2-4CE4-B807-9353A0789F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s with Intercept/Res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457280"/>
          <a:ext cx="792504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57280"/>
                    <a:ext cx="79250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185-9703-42E9-9149-0A8EBE6B16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C3ABA-F76E-4891-AF5F-71C692F855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msplit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, each pulse sent by Alice would consist of exactly 1 ph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expected photons per pulse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 is able to learn a constant fraction of the bits by splitting a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lses, the number of bits lost to Eve through beamsplitting is estimated to be less th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429000" y="454644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μ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F31-1DFF-489A-A705-9A050834E6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76120-D141-4373-9330-B7CBC81E02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ing Eve’s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bit error ra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pulse intenst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 is expected to learn a fraction of the raw ke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can estimate the number of leaked bits and use this to eliminate Eve’s information in the privacy amplification s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72080" y="243828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572000"/>
                <a:ext cx="487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ρ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08E-6401-464C-8656-7CB71F1E73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B70FA-2C55-41BE-A0D4-8423D78BEC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Oblivious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tein-Podolsky-Rosen (EPR)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1D0-7946-44C9-9612-839E183F0F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069FB-72E9-46C6-B4A6-B03DD10C06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e for privacy in the face of unlimited compu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cryptographic schemes based on unproven mathematical principles like the existence of a practical trapdoor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’s quantum factoring algorithm could break RSA in polynomi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cryptography realizable with current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D35-1D2C-470F-86DB-93BD5A5FB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C6DC8-BFB3-454B-B1D3-968A5FD593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ns are the discrete bundles of energy that make up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electromagnetic waves with electric and magnetic fields represented by vectors perpendicular both to each other and the direction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havior of the electric field vector determines the polarization of a phot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C85-F131-4E71-8616-C69D98A5FC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AE642-D907-46F6-8A31-FD386DE51C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r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is always parallel to a fixed line, e.g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ti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rcu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creates a circle around the axis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ipt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 exist in betw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8F8-F887-4AEE-A52C-96E9FB538C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704E1-0847-4D39-B880-DE5176EDE4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ca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p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resting on the surface of the unit sphere represents a valid polarization state for a phot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x, y, and z axes represent the rectilinear, diagonal, and circular polarizations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28880" y="5765760"/>
                <a:ext cx="2361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95520" y="3093840"/>
            <a:ext cx="1262160" cy="12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12920" y="2360520"/>
            <a:ext cx="324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415-7C3A-4335-A3B8-46A6D76108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CBC4E-EA45-4437-8644-7CB2FF2984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metrically opposed points on the surface of the sphere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, {P,-P} and {Q,-Q} represent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s correspond to measurabl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jug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s are separated by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3443400"/>
            <a:ext cx="1600200" cy="6858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6520" y="3186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87D-71F5-4ACE-B0F8-076FA74C46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1A4D1-291F-4107-A535-4A7191E4CB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Uncertain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mechanics is simply the stud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senburg’s uncertainty principle places limits on the certainty of measurements on quantum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ent uncertainties are expressed as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4EA-1E99-41B1-AAA4-62419711DD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09A37-7EAC-4DA1-84B4-932DFEFA24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6002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photon in state Q, measured by {P,-P}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ngle between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6400" y="5519880"/>
                <a:ext cx="2538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86400" y="3657600"/>
                <a:ext cx="2590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572000" y="4648320"/>
            <a:ext cx="4381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-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D2A-AE13-4747-A578-91E4306E9E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1551D-6E0B-4714-9BC5-4A52366778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8:11:32Z</dcterms:created>
  <dc:creator>lorax</dc:creator>
  <dc:description/>
  <dc:language>en-US</dc:language>
  <cp:lastModifiedBy>lorax</cp:lastModifiedBy>
  <dcterms:modified xsi:type="dcterms:W3CDTF">2001-12-03T17:29:23Z</dcterms:modified>
  <cp:revision>21</cp:revision>
  <dc:subject/>
  <dc:title>PowerPoint Presentation</dc:title>
</cp:coreProperties>
</file>