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8F6-A63F-48F3-9923-E1E0BA16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D79-6477-496B-8AAF-8CAAA1DE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B66-69F7-4E6C-8F3A-30987120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E10-4EE5-4DB9-B670-55270D0F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0BFB-1593-4697-AE54-2AAC40DC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B735-4A22-4EDC-BFC7-D898064C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621E-C46B-40F4-BE60-CA534AEA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A886-2718-42E4-BC51-BBF182CA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9893-835F-4B18-B84B-2203B9B4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575E-C786-4850-B34B-0D6F56B1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43D-CA62-4F82-8E99-B0D7CAC2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FB6-8FDD-4601-9418-08888030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8F76-4253-4F50-9021-015FB1CA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6F50-799E-45ED-9FC7-6D9F4DFA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C0C0-CA5D-489E-B869-87FD45A1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57F3-78C9-4FD5-9CEB-C1238EB9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967920"/>
            <a:ext cx="25023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71B8-21FB-48C6-AF86-57EC7C18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B4B-8771-42D5-942C-DC566EA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F50-AEF7-4811-8343-53986A9A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307-E794-4F53-870D-608057D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BED-9FE3-4CEF-889A-CB1BE4E2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EC5-3133-4811-B770-1F2612FB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96792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C2A-DE8A-4D09-BB30-39A1BE7B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00200"/>
            <a:ext cx="3792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967920"/>
            <a:ext cx="77724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609-DB7D-4FD8-97EA-CBC8E655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572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5728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795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795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06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49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39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068C-E095-456C-8E31-60E4B6A35C5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1D14-9CDB-4BC6-AB24-1ACCF8E54F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51B0-EE5E-4AD7-9A8A-0B140ADAD692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89BE-27EC-4E37-82CF-E0C373C163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din L Cl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E 597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December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henomenon produces some interesting behavior for cryp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(P) + Prob(-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2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Prob(P) = Prob(-P) =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    Prob(P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CA2-65BC-43C5-91D6-0ED67FF340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4EE3D-5A06-4E8C-AAEB-EB2D9B96EB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for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2 conjugate bases, a photon polarized with respect to one and measured in another reveals zero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ac: this loss is permanent; the system “jumps” to a state of the measurement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measurement in the original basis reveals the actual st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B1B-DDAD-4F88-8B5F-D18EB09835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69B27-F4EA-46EC-8A91-7383FCE417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Quantum Cryptogra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bit string composed from 2 distinct quantum alphab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ssible to retrieve the entire string without knowing the correct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measurements by an intruder will necessarily alter polarization resulting in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1160" y="4191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52680" y="434340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28880" y="3067200"/>
            <a:ext cx="46080" cy="4572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7080" y="2933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70080" y="198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79440" y="500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0320" y="505764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1760" y="2324160"/>
            <a:ext cx="46080" cy="46080"/>
          </a:xfrm>
          <a:prstGeom prst="ellipse">
            <a:avLst/>
          </a:prstGeom>
          <a:solidFill>
            <a:srgbClr val="ffcf01"/>
          </a:solidFill>
          <a:ln w="3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62A-7508-446F-AD12-A66739347B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96D7C-0D80-46B1-BD1E-364EC853CC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jugate Cod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tephen Wiesner (late 60’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O ’82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antum Cryptography, or unforgeable subway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es H. Bennett, Gilles Brassard: use photon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ansm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7B9-41EB-452A-B05D-E439EF4D75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9C3F1-1463-4036-A6E7-3AF4C3DBC5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Key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perimental Quantum Cryptograph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Bennett, Bessette, Brassard, Salvail, Smolin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Ali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gree on a secure random key of arbitrary length potentially for use in a one-time p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0DB-888B-4183-B234-8518B547FA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A80A9-5F95-4CC1-8E29-0B41A10B41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over the Quantum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Reconcil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A53-2D0F-46C2-9B28-5CB8C33B35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5E65E-8963-4AD4-BACE-B066CBE773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Quantum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2767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0" idx="6"/>
            <a:endCxn id="215" idx="1"/>
          </p:cNvCxnSpPr>
          <p:nvPr/>
        </p:nvCxnSpPr>
        <p:spPr>
          <a:xfrm>
            <a:off x="761760" y="34286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3"/>
            <a:endCxn id="212" idx="1"/>
          </p:cNvCxnSpPr>
          <p:nvPr/>
        </p:nvCxnSpPr>
        <p:spPr>
          <a:xfrm>
            <a:off x="2057400" y="34286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2" idx="3"/>
            <a:endCxn id="213" idx="1"/>
          </p:cNvCxnSpPr>
          <p:nvPr/>
        </p:nvCxnSpPr>
        <p:spPr>
          <a:xfrm>
            <a:off x="2819160" y="3428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6705720" y="3200400"/>
            <a:ext cx="676080" cy="457200"/>
          </a:xfrm>
          <a:prstGeom prst="triangle">
            <a:avLst>
              <a:gd name="adj" fmla="val 50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5"/>
            <a:endCxn id="220" idx="2"/>
          </p:cNvCxnSpPr>
          <p:nvPr/>
        </p:nvCxnSpPr>
        <p:spPr>
          <a:xfrm flipV="1">
            <a:off x="7213680" y="289512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8" idx="5"/>
            <a:endCxn id="222" idx="2"/>
          </p:cNvCxnSpPr>
          <p:nvPr/>
        </p:nvCxnSpPr>
        <p:spPr>
          <a:xfrm>
            <a:off x="7213680" y="3429000"/>
            <a:ext cx="1016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1523880" y="3162240"/>
            <a:ext cx="304920" cy="5335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3162240"/>
            <a:ext cx="76320" cy="533520"/>
          </a:xfrm>
          <a:custGeom>
            <a:avLst/>
            <a:gdLst>
              <a:gd name="textAreaLeft" fmla="*/ 9000 w 76320"/>
              <a:gd name="textAreaRight" fmla="*/ 67320 w 76320"/>
              <a:gd name="textAreaTop" fmla="*/ 9000 h 533520"/>
              <a:gd name="textAreaBottom" fmla="*/ 524520 h 533520"/>
            </a:gdLst>
            <a:ahLst/>
            <a:rect l="textAreaLeft" t="textAreaTop" r="textAreaRight" b="textAreaBottom"/>
            <a:pathLst>
              <a:path w="21600" h="150389">
                <a:moveTo>
                  <a:pt x="3600" y="0"/>
                </a:moveTo>
                <a:arcTo wR="3600" hR="3600" stAng="0" swAng="5400000"/>
                <a:lnTo>
                  <a:pt x="0" y="146789"/>
                </a:lnTo>
                <a:arcTo wR="3600" hR="3600" stAng="16200000" swAng="5400000"/>
                <a:lnTo>
                  <a:pt x="18000" y="1503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5" idx="3"/>
            <a:endCxn id="223" idx="1"/>
          </p:cNvCxnSpPr>
          <p:nvPr/>
        </p:nvCxnSpPr>
        <p:spPr>
          <a:xfrm>
            <a:off x="13712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3"/>
            <a:endCxn id="211" idx="1"/>
          </p:cNvCxnSpPr>
          <p:nvPr/>
        </p:nvCxnSpPr>
        <p:spPr>
          <a:xfrm>
            <a:off x="1828440" y="342864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7" idx="3"/>
            <a:endCxn id="218" idx="1"/>
          </p:cNvCxnSpPr>
          <p:nvPr/>
        </p:nvCxnSpPr>
        <p:spPr>
          <a:xfrm>
            <a:off x="6019560" y="3428640"/>
            <a:ext cx="85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4076640" y="3276720"/>
            <a:ext cx="990720" cy="3045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3162240"/>
            <a:ext cx="228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4"/>
            <a:endCxn id="227" idx="1"/>
          </p:cNvCxnSpPr>
          <p:nvPr/>
        </p:nvCxnSpPr>
        <p:spPr>
          <a:xfrm>
            <a:off x="5067000" y="3428640"/>
            <a:ext cx="72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3" idx="3"/>
            <a:endCxn id="228" idx="1"/>
          </p:cNvCxnSpPr>
          <p:nvPr/>
        </p:nvCxnSpPr>
        <p:spPr>
          <a:xfrm>
            <a:off x="3276720" y="3428640"/>
            <a:ext cx="800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8229600" y="259092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3657600"/>
            <a:ext cx="304920" cy="609480"/>
          </a:xfrm>
          <a:prstGeom prst="flowChartMagneticDisk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720" y="4800600"/>
            <a:ext cx="10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971440" y="38095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29200" y="38095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2360" y="242244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air opt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(~32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8440" y="249876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lla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72560" y="426708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multi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360" y="356544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52520" y="21337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5146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3808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057400" y="38095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920" y="45561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n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43560" y="4556160"/>
            <a:ext cx="16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F87-22C9-4E9D-8B1B-1384A84A79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DC574-DF2D-433D-BFBF-F7B5BE5C7E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sends random sequence of 4 types of polarized photons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uantum chan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horizontal, vertical, right-circular, left-circ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 measures each in a random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ull sequence, Bob tells Alice the bases he used over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informs Bob which bases were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discard the data from incorrectly measured phot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larization data is converted to a bit string      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 = ↶ = 0 and ↕ = ↷ =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066-66A2-45E5-8BB4-77B27C8875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D248C-00AD-4C3D-90BB-8A62EF5242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toco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7272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4130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098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↶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9880"/>
            <a:ext cx="8458200" cy="398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495680"/>
            <a:ext cx="845820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↕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1A6-B3D2-4366-BEC4-F1971C24EC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65A9C-F8A8-42BD-9493-7D0EB01AA4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Reconcil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s compared and errors eliminated by performing parity checks over the public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string permutations are partitioned into blocks believed to contain 1 error or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sective search is performed on blocks with incorrect parity to eliminate th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ast bit of each block whose parity was exposed is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rocess is repeated with larger and larger block si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ends when a number of parity checks of random subsets of the entire string ag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76D-7D95-4520-888E-CED4E292FB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46E48-680B-425D-A3B8-C51A398D2F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092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s for Quantum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Key Distribution (QK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acks on QK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3B7-0BF0-4C8A-9B8A-82141A8ED0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8A2B8-F721-45AC-8D0D-0528D0A05F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following class is randomly and publicly chos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 where Eve’s expected deterministic information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s, and an arbitrary securit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’s expected information 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less th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be the final shared key between Alice and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vacy Ampl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035160" y="2438280"/>
                <a:ext cx="3073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226040" y="4343400"/>
                <a:ext cx="69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6CA-59B2-41CC-921B-3BEC4B62FA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79C47-C268-4F13-9C86-0E7FDCEE75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acking QK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cept/Resend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splitting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ing Eve’s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1F0-93C4-4F74-8A40-45BB95EB2C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25257-8671-45E3-AE76-0366356801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Eve to determine the value of each bit with prob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25% of intercepted pulses will generate errors when read by B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rrors are assumed to be the result of intercept/re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a conservative estimate of Eve’s information on the raw quantum transmission (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tected errors)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cept/Resend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124080" y="200988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352680" y="5562720"/>
                <a:ext cx="2438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t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2EE-E0A1-47B8-A3FD-5C34DBDDE4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53CBC-D84E-4D02-A145-41474E5FB9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s with Intercept/Res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457280"/>
          <a:ext cx="792504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57280"/>
                    <a:ext cx="79250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DDD-B8B9-4FD4-B801-409ABA6B56A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49296-E50A-4866-B63A-7B53119E24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amsplitting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ly, each pulse sent by Alice would consist of exactly 1 pho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expected photons per pulse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 is able to learn a constant fraction of the bits by splitting a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lses, the number of bits lost to Eve through beamsplitting is estimated to be less th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429000" y="454644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μ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BFF-866C-4F0B-A0EE-2EB80ADF4B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C2361-DD0B-45B4-A8A3-EDDF8B71CE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ting Eve’s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bit error ra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pulse intenst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 is expected to learn a fraction of the raw ke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 and Bob can estimate the number of leaked bits and use this to eliminate Eve’s information in the privacy amplification s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72080" y="2438280"/>
                <a:ext cx="1600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33720" y="4572000"/>
                <a:ext cx="487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Nρ</m:t>
                    </m:r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AFD-4FE3-4CD2-B49E-D0FBB1C646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0BE4B-4351-4F97-9B54-178A0B6EAF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um Oblivious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tein-Podolsky-Rosen (EPR) eff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010-D3F9-43E1-83EB-3A584BACF8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B49D4-47A9-44B8-812C-054C2B677F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e for privacy in the face of unlimited computing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cryptographic schemes based on unproven mathematical principles like the existence of a practical trapdoor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’s quantum factoring algorithm could break RSA in polynomi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cryptography realizable with current 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9FD-7398-4E98-91B8-DFEBD6F365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6227C-5E6F-4DD5-8CF2-568F2DA7A7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t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tons are the discrete bundles of energy that make up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electromagnetic waves with electric and magnetic fields represented by vectors perpendicular both to each other and the direction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havior of the electric field vector determines the polarization of a phot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7AA-F19A-4F8D-A23D-3756DD9426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458B2-4883-4E0C-AA34-482A2D3CCB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r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is always parallel to a fixed line, e.g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cti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ag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ircul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 creates a circle around the axis of tra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lipt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arizations exist in betw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17E-DCBA-4990-955D-0886296376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BB7B2-3B99-4DAD-B571-4284F166D2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oinca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ph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resting on the surface of the unit sphere represents a valid polarization state for a phot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x, y, and z axes represent the rectilinear, diagonal, and circular polarizations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28880" y="5765760"/>
                <a:ext cx="2361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844560" y="234468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73160" y="25909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16160" y="190512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37339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920" y="4724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6960" y="34606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0000" y="1590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95520" y="3093840"/>
            <a:ext cx="1262160" cy="12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5200" y="39862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5720" y="2735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-1,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28880"/>
            <a:ext cx="274644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85400" y="33796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12920" y="2360520"/>
            <a:ext cx="324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3800" y="2049480"/>
            <a:ext cx="7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3960" y="5052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0,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1280" y="33796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0,-1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F39-5C51-43A4-9DA2-11C0E568FC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427DE-4F4C-424E-A8F8-551D10F9DE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830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metrically opposed points on the surface of the sphere form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, {P,-P} and {Q,-Q} represent 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s correspond to measurable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jug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s are separated by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15880" y="3443400"/>
            <a:ext cx="1600200" cy="6858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6520" y="3186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B5F-CA00-4AC0-96E8-A52A6E6F59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4AB0D-A65E-49E6-B43C-0D77486C4C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um Uncertain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um mechanics is simply the study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mall th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isenburg’s uncertainty principle places limits on the certainty of measurements on quantum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erent uncertainties are expressed as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7D2-EE37-4FDB-B348-E3AA4C93C3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F6C18-161E-4516-BF3A-12360DF944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Polar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44560" y="2414520"/>
            <a:ext cx="2741760" cy="2743200"/>
          </a:xfrm>
          <a:prstGeom prst="ellipse">
            <a:avLst/>
          </a:prstGeom>
          <a:gradFill rotWithShape="0">
            <a:gsLst>
              <a:gs pos="0">
                <a:srgbClr val="acd7d7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73160" y="2643120"/>
            <a:ext cx="2286000" cy="228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16160" y="1956960"/>
            <a:ext cx="0" cy="358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35280" y="2643120"/>
            <a:ext cx="761760" cy="2286000"/>
          </a:xfrm>
          <a:prstGeom prst="line">
            <a:avLst/>
          </a:prstGeom>
          <a:ln w="12600">
            <a:solidFill>
              <a:srgbClr val="ff9900"/>
            </a:solidFill>
            <a:prstDash val="dash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376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1280" y="47196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8640" y="3919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3920" y="477684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760" y="160020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680" y="379080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6960" y="3510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60020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photon in state Q, measured by {P,-P}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angle between P and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86400" y="5519880"/>
                <a:ext cx="2538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486400" y="3657600"/>
                <a:ext cx="2590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572000" y="4648320"/>
            <a:ext cx="4381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behaves as -P with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00240" y="4095720"/>
            <a:ext cx="46080" cy="460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ndin L Claa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65C-F9AD-465A-8A94-7EC200FED43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8584B-9AFA-4331-A3D6-60BC5547DF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8:11:32Z</dcterms:created>
  <dc:creator>lorax</dc:creator>
  <dc:description/>
  <dc:language>en-US</dc:language>
  <cp:lastModifiedBy>lorax</cp:lastModifiedBy>
  <dcterms:modified xsi:type="dcterms:W3CDTF">2001-12-03T17:29:23Z</dcterms:modified>
  <cp:revision>21</cp:revision>
  <dc:subject/>
  <dc:title>PowerPoint Presentation</dc:title>
</cp:coreProperties>
</file>