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C95-A0D0-40C4-8573-EFE2A8C9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F09-8426-43DF-BCCA-CBD7F65F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4A9-9DBE-4381-A398-CAB6C51A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C49-5727-422C-BA90-2FA3ABC7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7BF2-0632-43C3-865E-2374A397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CF5-051B-4157-A175-2A6337DB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3D9F-2485-454F-A993-DCED151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F70F-D168-41F3-BBDD-EC33466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F58E-9AFF-41E5-8A49-03F9976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9319-C8AE-478A-BC77-726824A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F61C-E776-43D8-BCE0-9DBCACB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E8C-921D-4397-8DB5-12C834D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326-4EFC-4346-86E0-3D13EBC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87E-1CF9-4687-916D-A86C35D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5EAA-7BF3-4D72-94D6-46E2D60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5FF-B9B4-4921-9DA8-B834F148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B6FE-8AF6-4903-92A3-0FCB14AE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53D-E902-4071-93C8-E1A6E02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B21-0B84-41AA-93FD-AFCA4CF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8AD-2961-4CE2-AB8C-0582A7B3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088-65E9-4239-95D8-794E56F6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277-0180-4E1A-9766-6A0E690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2DA-C299-454F-973D-08495D4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D06-BC8A-429B-A1FF-80CEA228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7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7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79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79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6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49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39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562-D9FD-4773-A00A-5D53CCF012A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1A1-C24A-432D-A537-6E4AD6E03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9B7-4357-43FB-ACFD-8B0CE702C09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A7BD-F72C-4D1A-86B8-CA9C1D219F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din L Cl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E 597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ecember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henomenon produces some interesting behavior for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(P) + Prob(-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2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Prob(P) = Prob(-P) =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  Prob(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101-927B-4878-AC6C-ECDC816B50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8D595-BFA3-4E50-A3B7-BFDF8FE37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for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2 conjugate bases, a photon polarized with respect to one and measured in another reveals zero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ac: this loss is permanent; the system “jumps” to a state of the measurement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measurement in the original basis reveals the actual st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B0B-FD09-4585-8C70-AF1051441E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3F954-96F6-434E-A703-41AE90F28C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bit string composed from 2 distinct quantum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retrieve the entire string without knowing the correct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measurements by an intruder will necessarily alter polarization resulting in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116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434340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3067200"/>
            <a:ext cx="46080" cy="457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7080" y="29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008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94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0320" y="505764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1760" y="232416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8F5-88A5-4F54-BC57-50A513444C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E879C-7CF2-4E2F-89C8-D9CF0A383E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jugate 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ephen Wiesner (late 60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O ’82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ntum Cryptography, or unforgeable subway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s H. Bennett, Gilles Brassard: use photon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68F-B639-4E6B-A2FC-0370AB45F9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CC81E-6DFE-4EDD-88FB-9ECA0DF84B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Key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mental Quantum Cryptograph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ennett, Bessette, Brassard, Salvail, Smolin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l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gree on a secure random key of arbitrary length potentially for use in a one-time p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E3D-E792-4088-8B5C-69B10C474C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1C847-01FD-4297-94DA-A704D0C6D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over the Quantum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Reconcil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FB3-8625-4249-BC79-96E953E10F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4E978-4E8F-40A2-B236-5485D946E9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antum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767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6"/>
            <a:endCxn id="215" idx="1"/>
          </p:cNvCxnSpPr>
          <p:nvPr/>
        </p:nvCxnSpPr>
        <p:spPr>
          <a:xfrm>
            <a:off x="761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2057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281916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705720" y="3200400"/>
            <a:ext cx="676080" cy="457200"/>
          </a:xfrm>
          <a:prstGeom prst="triangle">
            <a:avLst>
              <a:gd name="adj" fmla="val 50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5"/>
            <a:endCxn id="220" idx="2"/>
          </p:cNvCxnSpPr>
          <p:nvPr/>
        </p:nvCxnSpPr>
        <p:spPr>
          <a:xfrm flipV="1">
            <a:off x="7213680" y="289512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8" idx="5"/>
            <a:endCxn id="222" idx="2"/>
          </p:cNvCxnSpPr>
          <p:nvPr/>
        </p:nvCxnSpPr>
        <p:spPr>
          <a:xfrm>
            <a:off x="7213680" y="342900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523880" y="3162240"/>
            <a:ext cx="304920" cy="533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3"/>
            <a:endCxn id="223" idx="1"/>
          </p:cNvCxnSpPr>
          <p:nvPr/>
        </p:nvCxnSpPr>
        <p:spPr>
          <a:xfrm>
            <a:off x="13712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1" idx="1"/>
          </p:cNvCxnSpPr>
          <p:nvPr/>
        </p:nvCxnSpPr>
        <p:spPr>
          <a:xfrm>
            <a:off x="18284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7" idx="3"/>
            <a:endCxn id="218" idx="1"/>
          </p:cNvCxnSpPr>
          <p:nvPr/>
        </p:nvCxnSpPr>
        <p:spPr>
          <a:xfrm>
            <a:off x="6019560" y="3428640"/>
            <a:ext cx="85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076640" y="3276720"/>
            <a:ext cx="990720" cy="3045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4"/>
            <a:endCxn id="227" idx="1"/>
          </p:cNvCxnSpPr>
          <p:nvPr/>
        </p:nvCxnSpPr>
        <p:spPr>
          <a:xfrm>
            <a:off x="5067000" y="342864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8" idx="1"/>
          </p:cNvCxnSpPr>
          <p:nvPr/>
        </p:nvCxnSpPr>
        <p:spPr>
          <a:xfrm>
            <a:off x="3276720" y="3428640"/>
            <a:ext cx="80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29600" y="259092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365760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720" y="4800600"/>
            <a:ext cx="10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971440" y="3809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29200" y="38095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2360" y="242244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air op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(~32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8440" y="24987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lla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72560" y="42670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" y="356544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52520" y="21337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5146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574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920" y="45561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3560" y="455616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358-CC79-4D0E-BF1A-C463ADD6FC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3B64F-B63E-4B01-8F49-2DA0520BB4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sends random sequence of 4 types of polarized photons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chan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orizontal, vertical, right-circular, left-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measures each in a random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ull sequence, Bob tells Alice the bases he used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informs Bob which bases were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discard the data from incorrectly measured pho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larization data is converted to a bit string      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 = ↶ = 0 and ↕ = ↷ 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CD5-75BF-481D-9855-3AC0BB8B58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AE4F2-59FC-44D5-BED5-87B33971E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7272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130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98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9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4956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BDA-BE22-483B-BC82-979C1707BB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D77F5-832A-426A-BFDB-216D8433DD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Reconcil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s compared and errors eliminated by performing parity checks over the 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string permutations are partitioned into blocks believed to contain 1 error or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sective search is performed on blocks with incorrect parity to eliminate th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st bit of each block whose parity was exposed is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ocess is repeated with larger and larger block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ends when a number of parity checks of random subsets of the entire string ag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E1D-B4AA-4FBF-8F64-E002B85B3F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6E0CE-ECDD-439B-B6E6-EEAFDC1F71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0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 for Quantum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Key Distribution (QK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s on QK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648-9129-4A9B-A26F-A594925E80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388E7-AE4E-4A5C-A29D-E88D8D0F77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following class is randomly and publicly chos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 where Eve’s expected deterministic information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, and an arbitrary securit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’s expected information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less t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the final shared key between Alice and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vacy A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35160" y="2438280"/>
                <a:ext cx="307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26040" y="4343400"/>
                <a:ext cx="69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895-42EB-4463-BA63-81B8DC2C04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BC51-078D-454B-8ABC-FAE1CED6A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ing QK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/Resend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splitt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Eve’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B9D-36BD-445E-AAD2-11B1BCBE43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A5327-1ADB-4F0B-BFDE-4F557527A7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ve to determine the value of each bit with prob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25% of intercepted pulses will generate errors when read by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rrors are assumed to be the result of intercept/re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a conservative estimate of Eve’s information on the raw quantum transmission (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cted errors)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cept/Resend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200988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2680" y="5562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0D6-D056-4956-B368-610F6E90E2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A83F5-49CA-4AB8-942B-9627B1FAD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s with Intercept/Res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457280"/>
          <a:ext cx="792504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7280"/>
                    <a:ext cx="79250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A45-52D6-4C80-8D91-FAB8266564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F41A3-D2E2-4F22-8601-F450B2E932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msplit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, each pulse sent by Alice would consist of exactly 1 ph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expected photons per pulse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 is able to learn a constant fraction of the bits by splitting a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lses, the number of bits lost to Eve through beamsplitting is estimated to be less th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429000" y="454644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μ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87E-860B-495C-B61C-2E2E38D00F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0746E-83A7-4F54-A703-C8B840C3B6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Eve’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bit error ra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pulse intenst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 is expected to learn a fraction of the raw ke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can estimate the number of leaked bits and use this to eliminate Eve’s information in the privacy amplification s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72080" y="2438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572000"/>
                <a:ext cx="487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ρ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2C8-F70A-4F0F-A4BF-1B208549E1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EFC1A-4B2A-4D96-BEC0-3BF964437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Oblivious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tein-Podolsky-Rosen (EPR)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194-BB58-4365-B0AB-CD42C889AA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1C943-6497-47F0-A070-5F5E8534C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 for privacy in the face of unlimited compu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cryptographic schemes based on unproven mathematical principles like the existence of a practical trapdoo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’s quantum factoring algorithm could break RSA in polynomi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cryptography realizable with current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386-F34A-4DD1-AAA4-EC5EDCE964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16784-16DB-4726-973D-D2CE239A8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ns are the discrete bundles of energy that make up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electromagnetic waves with electric and magnetic fields represented by vectors perpendicular both to each other and the direction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havior of the electric field vector determines the polarization of a phot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7E2-2C58-4198-90F7-662860E93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6C8EC-D0C4-437E-AD80-A62242E31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is always parallel to a fixed line, e.g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ti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creates a circle around the axis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 exist in betw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677-23D9-4B81-968D-C75FC31719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29B96-11D8-4796-A2B1-40447B558D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ca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p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resting on the surface of the unit sphere represents a valid polarization state for a phot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x, y, and z axes represent the rectilinear, diagonal, and circular polarization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28880" y="5765760"/>
                <a:ext cx="2361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95520" y="3093840"/>
            <a:ext cx="1262160" cy="12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12920" y="2360520"/>
            <a:ext cx="324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3C4-9C2C-4465-BAF4-E172839E73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8C737-3E81-4DA3-818E-756C49ABE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metrically opposed points on the surface of the sphere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, {P,-P} and {Q,-Q} represent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correspond to measur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jug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s are separated by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3443400"/>
            <a:ext cx="1600200" cy="6858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6520" y="3186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A51-FAB0-4967-B6BE-FE40083783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09931-F0FB-445C-A2A8-A03900CE6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mechanics is simply the stud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senburg’s uncertainty principle places limits on the certainty of measurements on quantum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ent uncertainties are expressed as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E38-4738-4940-822A-CBE9ED0B5B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4D671-BAC1-48F4-A06C-23C6D6BA9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photon in state Q, measured by {P,-P}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ngle between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6400" y="5519880"/>
                <a:ext cx="2538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86400" y="3657600"/>
                <a:ext cx="2590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0" y="4648320"/>
            <a:ext cx="43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-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869-AA1B-429B-8EA7-8D97B4692E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57A21-2E39-4AA6-98F7-7C0F3B96E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8:11:32Z</dcterms:created>
  <dc:creator>lorax</dc:creator>
  <dc:description/>
  <dc:language>en-US</dc:language>
  <cp:lastModifiedBy>lorax</cp:lastModifiedBy>
  <dcterms:modified xsi:type="dcterms:W3CDTF">2001-12-03T17:29:23Z</dcterms:modified>
  <cp:revision>21</cp:revision>
  <dc:subject/>
  <dc:title>PowerPoint Presentation</dc:title>
</cp:coreProperties>
</file>