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5C12F-B238-4F92-9689-8C972761D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C9C77-ED1E-44A3-92B3-E187145C0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E3A63-D409-4432-888B-53BDC2D5C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42B23-F634-4F6F-979C-453B083FA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0F7FE-AB16-42CD-A491-721077A6F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F55DE-C457-407C-B8CF-93CAAA117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E4D67-4627-4DC4-A357-7847CB20C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5177C-0277-4CF0-B4D1-0D0C42675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CDB35-55A6-436A-AC86-C3D8C5787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C97DE-4518-4FD2-A8A3-3F1FB84CB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AE73A-C0D5-43C2-B20F-897AAD644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E8C81-5ACD-4EF6-B7B1-89562C0EF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372B9-70BF-4E76-8FAF-30DEB73201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udo Random and Random Number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vek Bhatnagar and              Chaitanya Cheruv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ory</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ational Indistinguishability - Consider an ensemble (i.e. a sequence of  numbers). Now if we can generate an ensemble  which cannot be  differentiated from the first ensemble in polynomial time by any efficient procedure , the second ensemble is, for all practical purposes, equivalent to the first ensem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sembles that are computationally Indistinguishable from a uniform ensemble are called pseudorand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definition of Pseudorandom number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eterministic polynomial time algorithm which satisfies the following 2 conditions</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9480" y="1143000"/>
            <a:ext cx="77724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ational Indistinguishability - Consider an ensemble (i.e. a sequence of  numbers). Now if we can generate an ensemble  which cannot be  differentiated from the first ensemble in polynomial time by any efficient procedure , the second ensemble is, for all practical purposes, equivalent to the first ensemb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embles that are computationally Indistinguishable from a uniform ensemble are called pseudorando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definition of Pseudorandom numb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terministic polynomial time algorithm which satisfies the following 2 condition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ansion: for every s E {0,1}* , |G(s)|  &gt; |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udo randomness: the ensemble { G(s) } is pseudorandom</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ce of Pseudorandom Generato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icient amplifiers/expanders of randomn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very little randomness (a randomly chosen seed) they produce very long sequences which look random to any efficient observ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eudorandom generators allow to produce high quality random sequences at low costs making them very useful in cryptograph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produce unpredictable sequences i.e. no efficient algorithm can guess its next bit given a prefix of the sequ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ory</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way functions and Pseudorandom numb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istence of one is necessary and sufficient condition for the existence of the oth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one-way func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A Func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ete Logarith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ractical constructions based on collections of permut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ractability of the Discrete Logarithm Problem : based on the fact that it is hard to predict, given a prime P, a primitive element G, and an element Y of the group, whether there exists 0 &lt; x &lt; P/2 such that Y = G^x mod P.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fficulty of inverting RSA : based on the fact that the least significant bit constitutes a hard-core for the RSA collec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ractability of Factoring Blum Integers: based on the fact that the least significant bit constitutes a hard-core for the Rabin coll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
        <p:nvSpPr>
          <p:cNvPr id="70" name="PlaceHolder 2"/>
          <p:cNvSpPr>
            <a:spLocks noGrp="1"/>
          </p:cNvSpPr>
          <p:nvPr>
            <p:ph/>
          </p:nvPr>
        </p:nvSpPr>
        <p:spPr>
          <a:xfrm>
            <a:off x="456840" y="1143000"/>
            <a:ext cx="792468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begin by discussing the linear congruential generator - the one most commonly used for generating random integer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generate the next random integer   using the previous random integer , the integer constants, and the integer modulu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et started, the algorithm requires an initial ``seed'', which must be provided by some mea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refer to the sequence generated a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appearance of randomness is provided by performing modulo arithmetic or remainder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the next result,  , depends upon only the previous integer -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is a characteristic of linear, congruential generators which minimizes storage requirements, but at the same time, imposes restrictions on the period. </a:t>
            </a:r>
            <a:endParaRPr b="0" lang="en-US" sz="2000" spc="-1" strike="noStrike">
              <a:solidFill>
                <a:srgbClr val="000000"/>
              </a:solidFill>
              <a:latin typeface="Times New Roman"/>
            </a:endParaRPr>
          </a:p>
        </p:txBody>
      </p:sp>
      <p:pic>
        <p:nvPicPr>
          <p:cNvPr id="71" name="" descr=""/>
          <p:cNvPicPr/>
          <p:nvPr/>
        </p:nvPicPr>
        <p:blipFill>
          <a:blip r:embed="rId1"/>
          <a:stretch/>
        </p:blipFill>
        <p:spPr>
          <a:xfrm>
            <a:off x="1066680" y="2133720"/>
            <a:ext cx="6207120" cy="277560"/>
          </a:xfrm>
          <a:prstGeom prst="rect">
            <a:avLst/>
          </a:prstGeom>
          <a:ln w="0">
            <a:noFill/>
          </a:ln>
        </p:spPr>
      </p:pic>
      <p:pic>
        <p:nvPicPr>
          <p:cNvPr id="72" name="" descr=""/>
          <p:cNvPicPr/>
          <p:nvPr/>
        </p:nvPicPr>
        <p:blipFill>
          <a:blip r:embed="rId2"/>
          <a:stretch/>
        </p:blipFill>
        <p:spPr>
          <a:xfrm>
            <a:off x="4038480" y="4952880"/>
            <a:ext cx="1749600" cy="25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t>
            </a:r>
            <a:r>
              <a:rPr b="0" lang="en-US" sz="2800" spc="-1" strike="noStrike">
                <a:solidFill>
                  <a:srgbClr val="000000"/>
                </a:solidFill>
                <a:latin typeface="Times New Roman"/>
              </a:rPr>
              <a:t>X</a:t>
            </a:r>
            <a:r>
              <a:rPr b="0" lang="en-US" sz="2000" spc="-1" strike="noStrike">
                <a:solidFill>
                  <a:srgbClr val="000000"/>
                </a:solidFill>
                <a:latin typeface="Times New Roman"/>
              </a:rPr>
              <a:t>n</a:t>
            </a:r>
            <a:r>
              <a:rPr b="0" lang="en-US" sz="2400" spc="-1" strike="noStrike">
                <a:solidFill>
                  <a:srgbClr val="000000"/>
                </a:solidFill>
                <a:latin typeface="Times New Roman"/>
              </a:rPr>
              <a:t>   determined, we generate a corresponding real number as follow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ividing by m </a:t>
            </a:r>
            <a:r>
              <a:rPr b="0" lang="en-US" sz="2800" spc="-1" strike="noStrike">
                <a:solidFill>
                  <a:srgbClr val="000000"/>
                </a:solidFill>
                <a:latin typeface="Times New Roman"/>
              </a:rPr>
              <a:t>R</a:t>
            </a:r>
            <a:r>
              <a:rPr b="0" lang="en-US" sz="2400" spc="-1" strike="noStrike">
                <a:solidFill>
                  <a:srgbClr val="000000"/>
                </a:solidFill>
                <a:latin typeface="Times New Roman"/>
              </a:rPr>
              <a:t>n , the   values are then distributed on [0,1).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sire uniformity, where any particular  </a:t>
            </a:r>
            <a:r>
              <a:rPr b="0" lang="en-US" sz="2800" spc="-1" strike="noStrike">
                <a:solidFill>
                  <a:srgbClr val="000000"/>
                </a:solidFill>
                <a:latin typeface="Times New Roman"/>
              </a:rPr>
              <a:t>R</a:t>
            </a:r>
            <a:r>
              <a:rPr b="0" lang="en-US" sz="2400" spc="-1" strike="noStrike">
                <a:solidFill>
                  <a:srgbClr val="000000"/>
                </a:solidFill>
                <a:latin typeface="Times New Roman"/>
              </a:rPr>
              <a:t>n is just as likely to appear as any other </a:t>
            </a:r>
            <a:r>
              <a:rPr b="0" lang="en-US" sz="2800" spc="-1" strike="noStrike">
                <a:solidFill>
                  <a:srgbClr val="000000"/>
                </a:solidFill>
                <a:latin typeface="Times New Roman"/>
              </a:rPr>
              <a:t>R</a:t>
            </a:r>
            <a:r>
              <a:rPr b="0" lang="en-US" sz="2400" spc="-1" strike="noStrike">
                <a:solidFill>
                  <a:srgbClr val="000000"/>
                </a:solidFill>
                <a:latin typeface="Times New Roman"/>
              </a:rPr>
              <a:t>n , and the average of the </a:t>
            </a:r>
            <a:r>
              <a:rPr b="0" lang="en-US" sz="2800" spc="-1" strike="noStrike">
                <a:solidFill>
                  <a:srgbClr val="000000"/>
                </a:solidFill>
                <a:latin typeface="Times New Roman"/>
              </a:rPr>
              <a:t>R</a:t>
            </a:r>
            <a:r>
              <a:rPr b="0" lang="en-US" sz="2400" spc="-1" strike="noStrike">
                <a:solidFill>
                  <a:srgbClr val="000000"/>
                </a:solidFill>
                <a:latin typeface="Times New Roman"/>
              </a:rPr>
              <a:t>n is very close to 0.5. </a:t>
            </a:r>
            <a:endParaRPr b="0" lang="en-US" sz="2400" spc="-1" strike="noStrike">
              <a:solidFill>
                <a:srgbClr val="000000"/>
              </a:solidFill>
              <a:latin typeface="Times New Roman"/>
            </a:endParaRPr>
          </a:p>
        </p:txBody>
      </p:sp>
      <p:pic>
        <p:nvPicPr>
          <p:cNvPr id="75" name="" descr=""/>
          <p:cNvPicPr/>
          <p:nvPr/>
        </p:nvPicPr>
        <p:blipFill>
          <a:blip r:embed="rId1"/>
          <a:stretch/>
        </p:blipFill>
        <p:spPr>
          <a:xfrm>
            <a:off x="1143000" y="2895480"/>
            <a:ext cx="6846840" cy="57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1 LCG (5, 1, 16, 1)</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consider a simple example with a= 5,  c=1, m=16, and      X0 =1. The sequence of pseudorandom integers generated by this algorithm is: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5,12,13,2,11,8,9,14,7,4,5,10,3,0,1,6,15,12,13,2,11,8,9,14, ..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8" name="" descr=""/>
          <p:cNvPicPr/>
          <p:nvPr/>
        </p:nvPicPr>
        <p:blipFill>
          <a:blip r:embed="rId1"/>
          <a:stretch/>
        </p:blipFill>
        <p:spPr>
          <a:xfrm>
            <a:off x="2514600" y="3886200"/>
            <a:ext cx="3505320" cy="274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09480" y="1828800"/>
            <a:ext cx="777240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observe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eriod (the number of integers before the sequence repeats) P is 16 - exactly equal to the modulus, m. Thus, for m=16 , this sequence is of long period (the longest possible), and uniform (it completely fills the space of integers from 0-15).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quence exhibits throughout its period the pattern of alternating odd and even integer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readily apparent that the sequence is serially correlated. Due to this lack of randomness, the   values should not be used as random digits. The real numbers generated from the integer sequence are generally sufficiently random in the higher order (most significant) bits to be used in many application codes. </a:t>
            </a:r>
            <a:endParaRPr b="0" lang="en-US" sz="2000" spc="-1" strike="noStrike">
              <a:solidFill>
                <a:srgbClr val="000000"/>
              </a:solidFill>
              <a:latin typeface="Times New Roman"/>
            </a:endParaRPr>
          </a:p>
        </p:txBody>
      </p:sp>
      <p:sp>
        <p:nvSpPr>
          <p:cNvPr id="80"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171880" y="1219320"/>
            <a:ext cx="4800600" cy="5410080"/>
          </a:xfrm>
          <a:prstGeom prst="rect">
            <a:avLst/>
          </a:prstGeom>
          <a:ln w="0">
            <a:noFill/>
          </a:ln>
        </p:spPr>
      </p:pic>
      <p:sp>
        <p:nvSpPr>
          <p:cNvPr id="82" name=""/>
          <p:cNvSpPr/>
          <p:nvPr/>
        </p:nvSpPr>
        <p:spPr>
          <a:xfrm>
            <a:off x="685800" y="30492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seudorandom Numbe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 Behind Pseudorandom Numbe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seudorandom Number Generato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ks on Pseudorandom generato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s for pseudorandom function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 Random generators</a:t>
            </a:r>
            <a:endParaRPr b="0" lang="en-US" sz="3200" spc="-1" strike="noStrike">
              <a:solidFill>
                <a:srgbClr val="000000"/>
              </a:solidFill>
              <a:latin typeface="Times New Roman"/>
            </a:endParaRPr>
          </a:p>
          <a:p>
            <a:pPr marL="603360" indent="-60336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838080" y="137160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we infer the following. Because each random integer results from the previous integer alone, selecting any initial seed from 0 to 15 would just cyclically shift the above seque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all that a different choice of the initial seed does is shift the starting point in the sequence already determined by a, c and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ly, we note that the average of the real numbers is 0.4688 and the variance is  0.0830. The departure of these values from the ideal ones of 1/2 and  1/12 is due to the short period of this sequence and the rather coarse resolution of the generated real numbers. These conditions of average and variance approaching the theoretical values are necessary but not sufficient conditions for a good random number generator. </a:t>
            </a:r>
            <a:endParaRPr b="0" lang="en-US" sz="2000" spc="-1" strike="noStrike">
              <a:solidFill>
                <a:srgbClr val="000000"/>
              </a:solidFill>
              <a:latin typeface="Times New Roman"/>
            </a:endParaRPr>
          </a:p>
        </p:txBody>
      </p:sp>
      <p:sp>
        <p:nvSpPr>
          <p:cNvPr id="84" name="PlaceHolder 2"/>
          <p:cNvSpPr>
            <a:spLocks noGrp="1"/>
          </p:cNvSpPr>
          <p:nvPr>
            <p:ph type="title"/>
          </p:nvPr>
        </p:nvSpPr>
        <p:spPr>
          <a:xfrm>
            <a:off x="7621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1981080"/>
            <a:ext cx="44956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2 LCG (5, 0, 16, 1)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we take the case of c = 0 . This is termed a </a:t>
            </a:r>
            <a:r>
              <a:rPr b="0" i="1" lang="en-US" sz="2400" spc="-1" strike="noStrike">
                <a:solidFill>
                  <a:srgbClr val="000000"/>
                </a:solidFill>
                <a:latin typeface="Times New Roman"/>
              </a:rPr>
              <a:t>multiplicative congruential</a:t>
            </a:r>
            <a:r>
              <a:rPr b="0" lang="en-US" sz="2400" spc="-1" strike="noStrike">
                <a:solidFill>
                  <a:srgbClr val="000000"/>
                </a:solidFill>
                <a:latin typeface="Times New Roman"/>
              </a:rPr>
              <a:t> random number generator: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 descr=""/>
          <p:cNvPicPr/>
          <p:nvPr/>
        </p:nvPicPr>
        <p:blipFill>
          <a:blip r:embed="rId1"/>
          <a:stretch/>
        </p:blipFill>
        <p:spPr>
          <a:xfrm>
            <a:off x="1143000" y="4191120"/>
            <a:ext cx="5638680" cy="260280"/>
          </a:xfrm>
          <a:prstGeom prst="rect">
            <a:avLst/>
          </a:prstGeom>
          <a:ln w="0">
            <a:noFill/>
          </a:ln>
        </p:spPr>
      </p:pic>
      <p:pic>
        <p:nvPicPr>
          <p:cNvPr id="87" name="" descr=""/>
          <p:cNvPicPr/>
          <p:nvPr/>
        </p:nvPicPr>
        <p:blipFill>
          <a:blip r:embed="rId2"/>
          <a:stretch/>
        </p:blipFill>
        <p:spPr>
          <a:xfrm>
            <a:off x="5438880" y="2286000"/>
            <a:ext cx="3705120" cy="3151080"/>
          </a:xfrm>
          <a:prstGeom prst="rect">
            <a:avLst/>
          </a:prstGeom>
          <a:ln w="0">
            <a:noFill/>
          </a:ln>
        </p:spPr>
      </p:pic>
      <p:sp>
        <p:nvSpPr>
          <p:cNvPr id="88"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905120" y="1219320"/>
            <a:ext cx="5790960" cy="4267080"/>
          </a:xfrm>
          <a:prstGeom prst="rect">
            <a:avLst/>
          </a:prstGeom>
          <a:ln w="0">
            <a:noFill/>
          </a:ln>
        </p:spPr>
      </p:pic>
      <p:sp>
        <p:nvSpPr>
          <p:cNvPr id="90" name=""/>
          <p:cNvSpPr/>
          <p:nvPr/>
        </p:nvSpPr>
        <p:spPr>
          <a:xfrm>
            <a:off x="685800" y="30492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990720"/>
            <a:ext cx="77724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ation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w order bits are not random.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quence is correlated, as all successive integers differ by 4 from their predecessor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coarse granularity, the sequence is uniform. For example, if we divide [0,1) equally into quarter segments, then exactly one random number falls into each segment: [0, 0.25), [0.25, 0.5), [0.5, 0.75) and [0.75,1). However, at finer granularity, this uniformity breaks down - consider dividing up the domain into 8 equal segments, for exampl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wo separate issues to consider here. </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nite precision existing in all computers, which results in a round-off error to the precision with which integers can be represented, or with which the floating point divide is accomplished. </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teraction of the sequence of random numbers produced by our generator with our application. This is  particularly troublesome when an application requires n-tuples of random numbers, instead of just one random number at a time </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066680"/>
            <a:ext cx="723888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Se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ebugging, it is important to implement the algorithm to reproduce the same stream of random numbers on successive ru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itial seed should be set to a ``random'' odd value Eg.</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1143000" y="3962520"/>
            <a:ext cx="7315200" cy="457200"/>
          </a:xfrm>
          <a:prstGeom prst="rect">
            <a:avLst/>
          </a:prstGeom>
          <a:ln w="0">
            <a:noFill/>
          </a:ln>
        </p:spPr>
      </p:pic>
      <p:pic>
        <p:nvPicPr>
          <p:cNvPr id="95" name="" descr=""/>
          <p:cNvPicPr/>
          <p:nvPr/>
        </p:nvPicPr>
        <p:blipFill>
          <a:blip r:embed="rId2"/>
          <a:stretch/>
        </p:blipFill>
        <p:spPr>
          <a:xfrm>
            <a:off x="1143000" y="4876920"/>
            <a:ext cx="7315200" cy="484200"/>
          </a:xfrm>
          <a:prstGeom prst="rect">
            <a:avLst/>
          </a:prstGeom>
          <a:ln w="0">
            <a:noFill/>
          </a:ln>
        </p:spPr>
      </p:pic>
      <p:sp>
        <p:nvSpPr>
          <p:cNvPr id="96" name="PlaceHolder 2"/>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 of good LCGs Pseudo random number generato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arge value of  a is desirable to provide sufficient randomnes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arge value of m is also desired, so that the period is kept lo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mary of the salient features and the recommend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icative, congruential generators are adequate to good for many applications. They are not acceptable... for high-dimensional work..</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can be very good if speed is a major consideration. Prime modulo are best. However, modulo of the form   are faster on binary comput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8" name=""/>
          <p:cNvSpPr/>
          <p:nvPr/>
        </p:nvSpPr>
        <p:spPr>
          <a:xfrm>
            <a:off x="7621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Congruential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250</a:t>
            </a:r>
            <a:endParaRPr b="0" lang="en-US" sz="4000" spc="-1" strike="noStrike">
              <a:solidFill>
                <a:srgbClr val="000000"/>
              </a:solidFill>
              <a:latin typeface="Times New Roman"/>
            </a:endParaRPr>
          </a:p>
        </p:txBody>
      </p:sp>
      <p:sp>
        <p:nvSpPr>
          <p:cNvPr id="100" name="PlaceHolder 2"/>
          <p:cNvSpPr>
            <a:spLocks noGrp="1"/>
          </p:cNvSpPr>
          <p:nvPr>
            <p:ph/>
          </p:nvPr>
        </p:nvSpPr>
        <p:spPr>
          <a:xfrm>
            <a:off x="380520" y="914400"/>
            <a:ext cx="815364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s a shift register sequenc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several advantages over a linear congruential generat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 period 2^249</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 does not depend upon the number of bits used in the random number generat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much faster than an LCM implement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tor is built from a one bit random generator based on the following equat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x period is 2^(p-1). We will use the value of p =250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1" name="" descr=""/>
          <p:cNvPicPr/>
          <p:nvPr/>
        </p:nvPicPr>
        <p:blipFill>
          <a:blip r:embed="rId1"/>
          <a:stretch/>
        </p:blipFill>
        <p:spPr>
          <a:xfrm>
            <a:off x="1295280" y="3809880"/>
            <a:ext cx="5715000" cy="83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250</a:t>
            </a:r>
            <a:endParaRPr b="0" lang="en-US" sz="3200" spc="-1" strike="noStrike">
              <a:solidFill>
                <a:srgbClr val="000000"/>
              </a:solidFill>
              <a:latin typeface="Times New Roman"/>
            </a:endParaRPr>
          </a:p>
        </p:txBody>
      </p:sp>
      <p:sp>
        <p:nvSpPr>
          <p:cNvPr id="103"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ing most of the ci terms to be 0 we get the equ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choose q = 103 then the number generated is got by adding the previously calculated 10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bit and 250</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bi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enerate a random number of 16 or 32 bit s. This can be done by doing the above 1 bit addition for each bit in the desired random numb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exclusive-or is the same as bitwise addition all the bit operations can be don in parallel. This gives the speed advantage.</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1523880" y="2514600"/>
            <a:ext cx="4800600" cy="1066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uffling Numbers</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s it is desirable to randomize a small set of numbers so that a non-repeating sequence is obtained.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m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eanographic RAFOS floa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Important not to repeat numbers. Taking the modulus of a generator like r250 will not work as the numbers could repe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way to do this would be to put the value to be shuffled into an array and to use a random number generator to generate indices into the array to actually shuffle the numbers. The array is then accessed sequential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si Random Number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some applications pseudo random numbers are a little too rando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ortions of the domain are relatively under sampled and other portions are over sampl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si Random number generators  maintain a uniform density of coverage over the entire domain by giving up serial independence of subsequenctly generated value in order to obtain a uniform coverage of the dom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uly random</a:t>
            </a:r>
            <a:r>
              <a:rPr b="0" lang="en-US" sz="2400" spc="-1" strike="noStrike">
                <a:solidFill>
                  <a:srgbClr val="000000"/>
                </a:solidFill>
                <a:latin typeface="Times New Roman"/>
              </a:rPr>
              <a:t> - is defined as exhibiting ``true'' randomness, such as the time between ``tics'' from a Geiger counter exposed to a radioactive element</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seudorandom</a:t>
            </a:r>
            <a:r>
              <a:rPr b="0" lang="en-US" sz="2400" spc="-1" strike="noStrike">
                <a:solidFill>
                  <a:srgbClr val="000000"/>
                </a:solidFill>
                <a:latin typeface="Times New Roman"/>
              </a:rPr>
              <a:t> - is defined as having the </a:t>
            </a:r>
            <a:r>
              <a:rPr b="0" i="1" lang="en-US" sz="2400" spc="-1" strike="noStrike">
                <a:solidFill>
                  <a:srgbClr val="000000"/>
                </a:solidFill>
                <a:latin typeface="Times New Roman"/>
              </a:rPr>
              <a:t>appearance</a:t>
            </a:r>
            <a:r>
              <a:rPr b="0" lang="en-US" sz="2400" spc="-1" strike="noStrike">
                <a:solidFill>
                  <a:srgbClr val="000000"/>
                </a:solidFill>
                <a:latin typeface="Times New Roman"/>
              </a:rPr>
              <a:t> of randomness, but nevertheless exhibiting a specific, repeatable pattern.</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calculated by a computer through a deterministic process, cannot, by definition, be rand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yptanalytic Attacks on Random Number Generators</a:t>
            </a:r>
            <a:endParaRPr b="0" lang="en-US" sz="28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s of random parameters in cryptography:</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ssion key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s to be hashed with password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meters in digital signature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ces</a:t>
            </a:r>
            <a:endParaRPr b="0" lang="en-US" sz="1800" spc="-1" strike="noStrike">
              <a:solidFill>
                <a:srgbClr val="000000"/>
              </a:solidFill>
              <a:latin typeface="Times New Roman"/>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of the above are approximated using PRNGs </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rue randomness:</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ise in electrical circuit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active decay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es of Attacks on PRNGs:</a:t>
            </a:r>
            <a:endParaRPr b="0" lang="en-US" sz="28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 Cryptanalytic Attack:</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attacker can directly distinguish between PRNG numbers and random numbers (cryptanalyze the PRNG).</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Based Attack:</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attacker is able to use knowledge and control of PRNG inputs to  cryptanalyze the PRNG.</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Compromise Extension Attack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attacker can guess some information due to an earlier breach of security. The advantage of a previous attack is extend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Cryptanalytic Attacks:</a:t>
            </a:r>
            <a:endParaRPr b="0" lang="en-US" sz="28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attacker can directly cryptanalyze the PRN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ble to most PRNG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pplicable when the attacker is not able to directly see the output of the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A PRNG used to generate triple-DES keys. Here the output of the PRNG is never directly seen by an attacke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 Based Attacks:</a:t>
            </a:r>
            <a:endParaRPr b="0" lang="en-US" sz="28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n attacker used knowledge or control of the inputs to cyptanalyze the PRNG outpu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nown Input</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inputs to the PRNG, that are designed to be difficult for a user to guess, turn out to be easily deducible. Eg disk latency time. When the user is accessing a network disk, the attacker can observe the latency time. </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sen input</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actical against smartcards, applications that feed incoming messages (username/password etc) to the PRNG as entropy sample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layed Input</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ilar to chosen input, except it requires less sophistication on the part of the attacker.</a:t>
            </a:r>
            <a:endParaRPr b="0" lang="en-US" sz="1600" spc="-1" strike="noStrike">
              <a:solidFill>
                <a:srgbClr val="000000"/>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Compromise Extension Attacks:</a:t>
            </a:r>
            <a:endParaRPr b="0" lang="en-US" sz="28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extend the advantages of a temporary security brea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breaches can b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advertent lea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ious cryptographic succes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ttack is successful whe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tacker learns the internal state of the system at state S and i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le to recover unknown PRNG outputs from before S was compromised. O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ver outputs from after a PRNG has collected a sequence of inputs that an attacker cannot otherwise gues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ttacks usually succeed when the system is started in guessable state (due to lack of entrop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Compromise Extension Attacks (cont):</a:t>
            </a:r>
            <a:endParaRPr b="0" lang="en-US" sz="28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ttacks are classified a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tracking attack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s the compromise of PRNG state S to learn about all previous PRNG output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manent compromise attack</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ce S has been compromised, all future and past outputs of the PRNG are vulnerabl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rative guessing attack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s the knowledge of state S that was compromised at time t and the intervening PRNG outputs to guess the state S’ at time t+</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et-in-the-middle attack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bination of iterative guessing and backtrack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xamples:</a:t>
            </a:r>
            <a:endParaRPr b="0" lang="en-US" sz="28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9.17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ulnerable to </a:t>
            </a:r>
            <a:r>
              <a:rPr b="0" i="1" lang="en-US" sz="1800" spc="-1" strike="noStrike">
                <a:solidFill>
                  <a:srgbClr val="000000"/>
                </a:solidFill>
                <a:latin typeface="Times New Roman"/>
              </a:rPr>
              <a:t>Input based attack</a:t>
            </a:r>
            <a:r>
              <a:rPr b="0" lang="en-US" sz="1800" spc="-1" strike="noStrike">
                <a:solidFill>
                  <a:srgbClr val="000000"/>
                </a:solidFill>
                <a:latin typeface="Times New Roman"/>
              </a:rPr>
              <a:t> and </a:t>
            </a:r>
            <a:r>
              <a:rPr b="0" i="1" lang="en-US" sz="1800" spc="-1" strike="noStrike">
                <a:solidFill>
                  <a:srgbClr val="000000"/>
                </a:solidFill>
                <a:latin typeface="Times New Roman"/>
              </a:rPr>
              <a:t>state compromise extension attack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SA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ulnerable only to </a:t>
            </a:r>
            <a:r>
              <a:rPr b="0" i="1" lang="en-US" sz="1800" spc="-1" strike="noStrike">
                <a:solidFill>
                  <a:srgbClr val="000000"/>
                </a:solidFill>
                <a:latin typeface="Times New Roman"/>
              </a:rPr>
              <a:t>state compromise extension attack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SAREF PR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ulnerable to </a:t>
            </a:r>
            <a:r>
              <a:rPr b="0" i="1" lang="en-US" sz="1800" spc="-1" strike="noStrike">
                <a:solidFill>
                  <a:srgbClr val="000000"/>
                </a:solidFill>
                <a:latin typeface="Times New Roman"/>
              </a:rPr>
              <a:t>Input based attack</a:t>
            </a:r>
            <a:r>
              <a:rPr b="0" lang="en-US" sz="1800" spc="-1" strike="noStrike">
                <a:solidFill>
                  <a:srgbClr val="000000"/>
                </a:solidFill>
                <a:latin typeface="Times New Roman"/>
              </a:rPr>
              <a:t> and </a:t>
            </a:r>
            <a:r>
              <a:rPr b="0" i="1" lang="en-US" sz="1800" spc="-1" strike="noStrike">
                <a:solidFill>
                  <a:srgbClr val="000000"/>
                </a:solidFill>
                <a:latin typeface="Times New Roman"/>
              </a:rPr>
              <a:t>state compromise extension attack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s for Randomness in Random Numbers:</a:t>
            </a:r>
            <a:endParaRPr b="0" lang="en-US" sz="28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Quantitative tes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 </a:t>
            </a:r>
            <a:r>
              <a:rPr b="0" lang="en-US" sz="1800" spc="-1" strike="noStrike">
                <a:solidFill>
                  <a:srgbClr val="000000"/>
                </a:solidFill>
                <a:latin typeface="Times New Roman"/>
                <a:ea typeface="Arial"/>
              </a:rPr>
              <a:t>tes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agged Correlation:</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Qualitative tes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catter Plot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Plot pairs of random number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lumps of numbers, gaps and patterns are easily visibl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Random Walk</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Arial"/>
              </a:rPr>
              <a:t>Χ</a:t>
            </a:r>
            <a:r>
              <a:rPr b="0" lang="en-US" sz="2800" spc="-1" strike="noStrike" baseline="30000">
                <a:solidFill>
                  <a:srgbClr val="000000"/>
                </a:solidFill>
                <a:latin typeface="Times New Roman"/>
                <a:ea typeface="Arial"/>
              </a:rPr>
              <a:t>2 </a:t>
            </a:r>
            <a:r>
              <a:rPr b="0" lang="en-US" sz="2800" spc="-1" strike="noStrike">
                <a:solidFill>
                  <a:srgbClr val="000000"/>
                </a:solidFill>
                <a:latin typeface="Times New Roman"/>
                <a:ea typeface="Arial"/>
              </a:rPr>
              <a:t>tests:</a:t>
            </a:r>
            <a:endParaRPr b="0" lang="en-US" sz="28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 how well the presumed distribution (usually uniform) is represented. </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 for the test:</a:t>
            </a:r>
            <a:endParaRPr b="0" lang="en-US" sz="20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ide the whole interval, within which the random number would be into finite number of bins (class intervals). Assume they have same size.</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 the number of random numbers within each interval and calculate the “expected” number of observations [(number of random numbers used) / (number of class intervals) for uniform intervals].</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 </a:t>
            </a: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 </a:t>
            </a:r>
            <a:r>
              <a:rPr b="0" lang="en-US" sz="1800" spc="-1" strike="noStrike">
                <a:solidFill>
                  <a:srgbClr val="000000"/>
                </a:solidFill>
                <a:latin typeface="Times New Roman"/>
              </a:rPr>
              <a:t>= </a:t>
            </a:r>
            <a:r>
              <a:rPr b="0" lang="el-GR" sz="1800" spc="-1" strike="noStrike">
                <a:solidFill>
                  <a:srgbClr val="000000"/>
                </a:solidFill>
                <a:latin typeface="Times New Roman"/>
                <a:ea typeface="Arial"/>
              </a:rPr>
              <a:t>Σ</a:t>
            </a:r>
            <a:r>
              <a:rPr b="0" lang="en-US" sz="1800" spc="-1" strike="noStrike">
                <a:solidFill>
                  <a:srgbClr val="000000"/>
                </a:solidFill>
                <a:latin typeface="Times New Roman"/>
                <a:ea typeface="Arial"/>
              </a:rPr>
              <a:t>(i=1,m)</a:t>
            </a:r>
            <a:r>
              <a:rPr b="0" lang="en-US" sz="1800" spc="-1" strike="noStrike">
                <a:solidFill>
                  <a:srgbClr val="000000"/>
                </a:solidFill>
                <a:latin typeface="Times New Roman"/>
              </a:rPr>
              <a:t>(observed</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 expected</a:t>
            </a:r>
            <a:r>
              <a:rPr b="0" lang="en-US" sz="1800" spc="-1" strike="noStrike" baseline="-25000">
                <a:solidFill>
                  <a:srgbClr val="000000"/>
                </a:solidFill>
                <a:latin typeface="Times New Roman"/>
              </a:rPr>
              <a:t>i</a:t>
            </a:r>
            <a:r>
              <a:rPr b="0" lang="en-US" sz="1800" spc="-1" strike="noStrike">
                <a:solidFill>
                  <a:srgbClr val="000000"/>
                </a:solidFill>
                <a:latin typeface="Times New Roman"/>
              </a:rPr>
              <a:t>)</a:t>
            </a:r>
            <a:r>
              <a:rPr b="0" lang="en-US" sz="1800" spc="-1" strike="noStrike" baseline="30000">
                <a:solidFill>
                  <a:srgbClr val="000000"/>
                </a:solidFill>
                <a:latin typeface="Times New Roman"/>
              </a:rPr>
              <a:t>2</a:t>
            </a:r>
            <a:r>
              <a:rPr b="0" lang="en-US" sz="1800" spc="-1" strike="noStrike">
                <a:solidFill>
                  <a:srgbClr val="000000"/>
                </a:solidFill>
                <a:latin typeface="Times New Roman"/>
              </a:rPr>
              <a:t> / (expected</a:t>
            </a:r>
            <a:r>
              <a:rPr b="0" lang="en-US" sz="1800" spc="-1" strike="noStrike" baseline="-25000">
                <a:solidFill>
                  <a:srgbClr val="000000"/>
                </a:solidFill>
                <a:latin typeface="Times New Roman"/>
              </a:rPr>
              <a:t>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 of </a:t>
            </a: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 </a:t>
            </a:r>
            <a:r>
              <a:rPr b="0" lang="en-US" sz="1800" spc="-1" strike="noStrike">
                <a:solidFill>
                  <a:srgbClr val="000000"/>
                </a:solidFill>
                <a:latin typeface="Times New Roman"/>
                <a:ea typeface="Arial"/>
              </a:rPr>
              <a:t>determines if the numbers generated represent a chosen distribution, by looking up in a table, some critical values of </a:t>
            </a:r>
            <a:r>
              <a:rPr b="0" lang="el-GR" sz="1800" spc="-1" strike="noStrike">
                <a:solidFill>
                  <a:srgbClr val="000000"/>
                </a:solidFill>
                <a:latin typeface="Times New Roman"/>
                <a:ea typeface="Arial"/>
              </a:rPr>
              <a:t>Χ</a:t>
            </a:r>
            <a:r>
              <a:rPr b="0" lang="en-US" sz="1800" spc="-1" strike="noStrike" baseline="30000">
                <a:solidFill>
                  <a:srgbClr val="000000"/>
                </a:solidFill>
                <a:latin typeface="Times New Roman"/>
                <a:ea typeface="Arial"/>
              </a:rPr>
              <a:t>2.</a:t>
            </a:r>
            <a:endParaRPr b="0" lang="en-US" sz="1800" spc="-1" strike="noStrike">
              <a:solidFill>
                <a:srgbClr val="000000"/>
              </a:solidFill>
              <a:latin typeface="Times New Roman"/>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Lagged Correlation:</a:t>
            </a:r>
            <a:endParaRPr b="0" lang="en-US" sz="28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test reveals the relationship between the numbers at one time and at another (autocorre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eals trends and periodicity of number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ties of an ideal random number generato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correlation value = 1; for lag (</a:t>
            </a:r>
            <a:r>
              <a:rPr b="0" lang="el-GR" sz="1800" spc="-1" strike="noStrike">
                <a:solidFill>
                  <a:srgbClr val="000000"/>
                </a:solidFill>
                <a:latin typeface="Times New Roman"/>
                <a:ea typeface="Arial"/>
              </a:rPr>
              <a:t>τ</a:t>
            </a:r>
            <a:r>
              <a:rPr b="0" lang="en-US" sz="1800" spc="-1" strike="noStrike">
                <a:solidFill>
                  <a:srgbClr val="000000"/>
                </a:solidFill>
                <a:latin typeface="Times New Roman"/>
              </a:rPr>
              <a:t>)=0</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correlation value = 0; for any other value of </a:t>
            </a:r>
            <a:r>
              <a:rPr b="0" lang="el-GR" sz="1800" spc="-1" strike="noStrike">
                <a:solidFill>
                  <a:srgbClr val="000000"/>
                </a:solidFill>
                <a:latin typeface="Times New Roman"/>
                <a:ea typeface="Arial"/>
              </a:rPr>
              <a:t>τ</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If the autocorrelation values slowly drop to 0 as </a:t>
            </a:r>
            <a:r>
              <a:rPr b="0" lang="en-US" sz="1600" spc="-1" strike="noStrike">
                <a:solidFill>
                  <a:srgbClr val="000000"/>
                </a:solidFill>
                <a:latin typeface="Times New Roman"/>
              </a:rPr>
              <a:t> </a:t>
            </a:r>
            <a:r>
              <a:rPr b="0" lang="el-GR" sz="1600" spc="-1" strike="noStrike">
                <a:solidFill>
                  <a:srgbClr val="000000"/>
                </a:solidFill>
                <a:latin typeface="Times New Roman"/>
                <a:ea typeface="Arial"/>
              </a:rPr>
              <a:t>τ</a:t>
            </a:r>
            <a:r>
              <a:rPr b="0" lang="en-US" sz="1600" spc="-1" strike="noStrike">
                <a:solidFill>
                  <a:srgbClr val="000000"/>
                </a:solidFill>
                <a:latin typeface="Times New Roman"/>
                <a:ea typeface="Arial"/>
              </a:rPr>
              <a:t> increases, then the random numbers generated are not very independent of each oth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knowledge of the algorithm used to create the numbers and its internal state (i.e. seed), you can predict all the numbers returned by subsequent calls to the algorithm, whereas with genuinely random numbers, knowledge of one number or an arbitrarily long sequence of numbers is of no use whatsoever in predicting the next number to be generat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generated "random" numbers are more properly referred to as </a:t>
            </a:r>
            <a:r>
              <a:rPr b="0" i="1" lang="en-US" sz="2400" spc="-1" strike="noStrike">
                <a:solidFill>
                  <a:srgbClr val="000000"/>
                </a:solidFill>
                <a:latin typeface="Times New Roman"/>
              </a:rPr>
              <a:t>pseudorandom numbers</a:t>
            </a:r>
            <a:r>
              <a:rPr b="0" lang="en-US" sz="2400" spc="-1" strike="noStrike">
                <a:solidFill>
                  <a:srgbClr val="000000"/>
                </a:solidFill>
                <a:latin typeface="Times New Roman"/>
              </a:rPr>
              <a:t>, and </a:t>
            </a:r>
            <a:r>
              <a:rPr b="0" i="1" lang="en-US" sz="2400" spc="-1" strike="noStrike">
                <a:solidFill>
                  <a:srgbClr val="000000"/>
                </a:solidFill>
                <a:latin typeface="Times New Roman"/>
              </a:rPr>
              <a:t>pseudorandom sequences</a:t>
            </a:r>
            <a:r>
              <a:rPr b="0" lang="en-US" sz="2400" spc="-1" strike="noStrike">
                <a:solidFill>
                  <a:srgbClr val="000000"/>
                </a:solidFill>
                <a:latin typeface="Times New Roman"/>
              </a:rPr>
              <a:t> of such numb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tter Plots:</a:t>
            </a:r>
            <a:endParaRPr b="0" lang="en-US" sz="2800" spc="-1" strike="noStrike">
              <a:solidFill>
                <a:srgbClr val="000000"/>
              </a:solidFill>
              <a:latin typeface="Times New Roman"/>
            </a:endParaRPr>
          </a:p>
        </p:txBody>
      </p:sp>
      <p:grpSp>
        <p:nvGrpSpPr>
          <p:cNvPr id="130" name=""/>
          <p:cNvGrpSpPr/>
          <p:nvPr/>
        </p:nvGrpSpPr>
        <p:grpSpPr>
          <a:xfrm>
            <a:off x="152280" y="1600200"/>
            <a:ext cx="8991720" cy="4944960"/>
            <a:chOff x="152280" y="1600200"/>
            <a:chExt cx="8991720" cy="4944960"/>
          </a:xfrm>
        </p:grpSpPr>
        <p:pic>
          <p:nvPicPr>
            <p:cNvPr id="131" name="" descr=""/>
            <p:cNvPicPr/>
            <p:nvPr/>
          </p:nvPicPr>
          <p:blipFill>
            <a:blip r:embed="rId1"/>
            <a:stretch/>
          </p:blipFill>
          <p:spPr>
            <a:xfrm>
              <a:off x="152280" y="1600200"/>
              <a:ext cx="8991720" cy="4944960"/>
            </a:xfrm>
            <a:prstGeom prst="rect">
              <a:avLst/>
            </a:prstGeom>
            <a:ln w="0">
              <a:noFill/>
            </a:ln>
          </p:spPr>
        </p:pic>
        <p:sp>
          <p:nvSpPr>
            <p:cNvPr id="132" name=""/>
            <p:cNvSpPr txBox="1"/>
            <p:nvPr/>
          </p:nvSpPr>
          <p:spPr>
            <a:xfrm>
              <a:off x="152280" y="1600200"/>
              <a:ext cx="8991720" cy="494496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Walk</a:t>
            </a:r>
            <a:endParaRPr b="0" lang="en-US" sz="28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ide the range of the random number generator into equal intervals.</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vide into 4 intervals for a random walk in two dimensions)</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 a number, if the number falls in:</a:t>
            </a:r>
            <a:endParaRPr b="0" lang="en-US" sz="18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interval, increment X</a:t>
            </a:r>
            <a:endParaRPr b="0" lang="en-US" sz="16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 interval, increment Y</a:t>
            </a:r>
            <a:endParaRPr b="0" lang="en-US" sz="16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rd interval, decrement X</a:t>
            </a:r>
            <a:endParaRPr b="0" lang="en-US" sz="16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th interval, decrement Y</a:t>
            </a:r>
            <a:endParaRPr b="0" lang="en-US" sz="16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te t steps for a random walk for n walks</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te the means squared distance reached</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ot this distance against time</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lot for several values of t and distance should roughly be linear.</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se the random numbers are not correctly distributed.</a:t>
            </a:r>
            <a:endParaRPr b="0" lang="en-US" sz="1800" spc="-1" strike="noStrike">
              <a:solidFill>
                <a:srgbClr val="000000"/>
              </a:solidFill>
              <a:latin typeface="Times New Roman"/>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ly Random Numbers:</a:t>
            </a:r>
            <a:endParaRPr b="0" lang="en-US" sz="28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ly on external physical quantiti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rs require special hardwar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w computers have access to this kind of hardwar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Sensors (heat/pressure) etc.</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ness without relying on external da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way to measure internal activity of the computer such that the activity is quantifiable and genuinely random.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Timing of keystrokes as a user enters a passwo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hysical quantities used in real world for true random number generation:</a:t>
            </a:r>
            <a:endParaRPr b="0" lang="en-US" sz="28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 of keystrokes when a user enters a password.</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ment of air turbulence due to the movement of hard drive heads.</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s of memory accesses under artificially induced thrashing conditions.</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ise measurement of current leakage from a CPU or any other system component. </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ment of timing skew between two systems timers:</a:t>
            </a:r>
            <a:endParaRPr b="0"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hardware timer</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oftware tim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 number are the basis for many cryptographic applications.</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reliable “independent” function to generate random numbers.</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 day computers can only approximate random numbers, using pseudo-random numbers generated by Pseudo Random Number Generators (PRNG)s. </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acks on many cryptographic applications are possible by attacks on PRNGs.</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applications are increasingly turning towards using physical data (external/internal) for getting truly random numb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tion</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most all network security protocols rely on the randomness of certain parameter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nce  - used to avoid repla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ssion key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que parameters in digital signatur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nte Carlo Simulations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 mathematical technique for numerically solving differential equations. Randomly generates scenarios for collecting stat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52" name="PlaceHolder 2"/>
          <p:cNvSpPr>
            <a:spLocks noGrp="1"/>
          </p:cNvSpPr>
          <p:nvPr>
            <p:ph/>
          </p:nvPr>
        </p:nvSpPr>
        <p:spPr>
          <a:xfrm>
            <a:off x="762120" y="990360"/>
            <a:ext cx="7772400" cy="556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roperties of Pseudorandom Number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correlated Sequences - </a:t>
            </a:r>
            <a:r>
              <a:rPr b="0" lang="en-US" sz="2400" spc="-1" strike="noStrike">
                <a:solidFill>
                  <a:srgbClr val="000000"/>
                </a:solidFill>
                <a:latin typeface="Times New Roman"/>
              </a:rPr>
              <a:t>The sequences of random numbers should be serially </a:t>
            </a:r>
            <a:r>
              <a:rPr b="0" i="1" lang="en-US" sz="2400" spc="-1" strike="noStrike">
                <a:solidFill>
                  <a:srgbClr val="000000"/>
                </a:solidFill>
                <a:latin typeface="Times New Roman"/>
              </a:rPr>
              <a:t>uncorrelate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ng Period</a:t>
            </a:r>
            <a:r>
              <a:rPr b="0" lang="en-US" sz="2400" spc="-1" strike="noStrike">
                <a:solidFill>
                  <a:srgbClr val="000000"/>
                </a:solidFill>
                <a:latin typeface="Times New Roman"/>
              </a:rPr>
              <a:t> - The generator should be of </a:t>
            </a:r>
            <a:r>
              <a:rPr b="0" i="1" lang="en-US" sz="2400" spc="-1" strike="noStrike">
                <a:solidFill>
                  <a:srgbClr val="000000"/>
                </a:solidFill>
                <a:latin typeface="Times New Roman"/>
              </a:rPr>
              <a:t>long period</a:t>
            </a:r>
            <a:r>
              <a:rPr b="0" lang="en-US" sz="2400" spc="-1" strike="noStrike">
                <a:solidFill>
                  <a:srgbClr val="000000"/>
                </a:solidFill>
                <a:latin typeface="Times New Roman"/>
              </a:rPr>
              <a:t> (ideally, the generator should not repeat; practically, the repetition should occur only after the generation of a very large set of random number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ormity</a:t>
            </a:r>
            <a:r>
              <a:rPr b="0" lang="en-US" sz="2400" spc="-1" strike="noStrike">
                <a:solidFill>
                  <a:srgbClr val="000000"/>
                </a:solidFill>
                <a:latin typeface="Times New Roman"/>
              </a:rPr>
              <a:t> - The sequence of random numbers should be uniform, and unbiased. That is, equal fractions of random numbers should fall into equal ``areas'' in space. Eg. if random numbers on [0,1) are to be generated, it would be poor practice were more than half to fall into [0, 0.1), presuming the sample size is sufficiently larg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iciency</a:t>
            </a:r>
            <a:r>
              <a:rPr b="0" lang="en-US" sz="2400" spc="-1" strike="noStrike">
                <a:solidFill>
                  <a:srgbClr val="000000"/>
                </a:solidFill>
                <a:latin typeface="Times New Roman"/>
              </a:rPr>
              <a:t> - The generator should be efficient. Low overhead  for massively parallel compu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andom Number Cycle</a:t>
            </a:r>
            <a:br>
              <a:rPr sz="3200"/>
            </a:br>
            <a:endParaRPr b="0" lang="en-US" sz="3200" spc="-1" strike="noStrike">
              <a:solidFill>
                <a:srgbClr val="000000"/>
              </a:solidFill>
              <a:latin typeface="Times New Roman"/>
            </a:endParaRPr>
          </a:p>
        </p:txBody>
      </p:sp>
      <p:sp>
        <p:nvSpPr>
          <p:cNvPr id="54" name="PlaceHolder 2"/>
          <p:cNvSpPr>
            <a:spLocks noGrp="1"/>
          </p:cNvSpPr>
          <p:nvPr>
            <p:ph/>
          </p:nvPr>
        </p:nvSpPr>
        <p:spPr>
          <a:xfrm>
            <a:off x="685440" y="1447560"/>
            <a:ext cx="380988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most all random number generators have as their basis a sequence of pseudorandom integer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tegers or ``fixed point'' numbers are manipulated arithmetically to yield floating point or ``real'' number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ature of the cycl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sequence has a finite number of integer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quence gets traversed in a particular orde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quence repeats if the period of the generator is exceeded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gers need not be distinct; that is, they may repeat. </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5" name="" descr=""/>
          <p:cNvPicPr/>
          <p:nvPr/>
        </p:nvPicPr>
        <p:blipFill>
          <a:blip r:embed="rId1"/>
          <a:stretch/>
        </p:blipFill>
        <p:spPr>
          <a:xfrm>
            <a:off x="4724280" y="1981080"/>
            <a:ext cx="4267440" cy="350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p:txBody>
      </p:sp>
      <p:sp>
        <p:nvSpPr>
          <p:cNvPr id="5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ing Pseudorandom generato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algorithms have been developed which generate sequences of numbers which pass every statistical test used to distinguish random sequences from those containing some pattern or internal ord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 to check the different properties discusses above.</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 include mean and variance checks. Mean should be close to 0.5 and variance 1/12 = 0.08 for uniformly distributed pseudorandom number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ory of Pseudorandom Numbe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9T18:32:42Z</dcterms:created>
  <dc:creator>cheruvu</dc:creator>
  <dc:description/>
  <dc:language>en-US</dc:language>
  <cp:lastModifiedBy>Chaitanya Cheruvu</cp:lastModifiedBy>
  <dcterms:modified xsi:type="dcterms:W3CDTF">2001-11-06T06:13:20Z</dcterms:modified>
  <cp:revision>90</cp:revision>
  <dc:subject/>
  <dc:title>PseudoRandom and Random Numbers</dc:title>
</cp:coreProperties>
</file>