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F7FC-2EC4-47D9-A1B5-874FB0A61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C3F9-8E82-433F-B10A-8E7BA79A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9330-F8DB-44D3-8ABA-072B1DE3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9919-33E2-41D3-8BEF-B811717E0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AB92-6C06-423E-BD01-56D78E7F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0B5B-8778-4BD1-8E70-F6CBD370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DB8B-2235-47BC-B722-65F97621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1D73-3C61-401D-B3DA-5C91D893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4D44-9939-4D86-ABEA-6EA61F56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BF34-9A31-47B7-8E1B-7B797DB9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8A2A-F56B-423D-A894-ADB725FF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FA70-B95C-4414-9B95-B6C8FA3A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2020-7EBF-43E2-8B90-268CAB76A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pi Calcul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alculus for Cryptographic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mesh Yechangu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btain the proper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ity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(M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≃ Ins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pe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M), for all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ecrecy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(M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≃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(M’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f F(M) ≃ F(M’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or all M,M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 example with key establish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onsider the Wide Mouthed Frog protoc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New key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under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AS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New key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under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data under new key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2743200"/>
            <a:ext cx="762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09680" y="4495680"/>
            <a:ext cx="762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4495680"/>
            <a:ext cx="762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743200" y="335232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48769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19720" y="335268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tocol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1  A→S: {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2  S→B: {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3  A→B: {M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spi calculus, we can express it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(M)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 (vK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(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A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›.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A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{M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›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  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x).case x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{y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S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{y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  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x).case x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{y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z).case z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{w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 F(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st(M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 (v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(v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( A(M)|S|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complete authentication exa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 with a flaw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a system with a server and n other principals. Each principal has an input channel which is public, namely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1, C2,…,Cn and 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 server shares a pair of keys with each other principal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tend the previous example to this n+1 princip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1  A→S: A,{B,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2  S→B: {A,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3  A→B: A,{M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80880"/>
            <a:ext cx="81532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protocol is determined by a choice of parties and by the message sent i.e. an instance I is the triple (i,j,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– source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 - destination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n instance (i,j,M), the following process corresponds to role of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nd(i,j,M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(vK)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{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)›|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j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{M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›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process corresponds to the role of B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cv(j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  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case 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{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S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ase 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of  {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la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key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 F(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lai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456840"/>
            <a:ext cx="8001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rver S is the same for all instanc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  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.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 case 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f {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e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K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iS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.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j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{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S 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.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the k-way 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…|P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 we define a whole system, parameterized on a list of instances of the protoco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ys(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,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(v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K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(v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K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Send(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 |…| Send(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 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!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!Recv(1) |…| !Recv(n)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4674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fortunately, the protocol is vulnerable to a replay attack that invalidates the authenticity. An attacker can replay messages of one instance and get them mistaken for messages of the other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complete authentication exa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epair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evious protocol is improved by adding nonce handshakes as protection against replay attac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w protocol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1  A→S: A                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2  S→A: 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3  A→S: A,{A,A,B,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4  S→B: *                  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5  B→S: 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6  S→B: {S,A,B,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S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7  A→B: A,{M 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AB                                                     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pi calculus, nonces are represented as newly created n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nd(i,j,M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›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i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vK)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{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,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)›|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j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{M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›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 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.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 (v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›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x’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[x’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ase 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f {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K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iS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.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[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[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*›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{S,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S 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›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 rot="10800000">
            <a:off x="685800" y="532440"/>
            <a:ext cx="777240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cv(j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w). (v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›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ase 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{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}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S j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.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S]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[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[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ase 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of  {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la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key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 F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lai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ys(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,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(v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K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(v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K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Send(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 |…| Send(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 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!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!Recv(1) |…| !Recv(n)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ed by Martin Abadi and Andrew D.Gordon at the Systems Research Center, it is an extension of the Pi Calculus with cryptographic primitives designed for describing and analyzing cryptographic protoco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6960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uthenticity property is obtain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s(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≃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s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pe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instance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holds good because of the no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cy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s(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≃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s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pe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J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each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,… (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stinguishable.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er to write protocols but very detai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advantage is its formal prec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not be a good tool for finding flaws but yields more convincing proofs of correct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s prone to attacks are developed without explicit specifications for an attacker. Such precise treatments have not been done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iance on the powerful scoping constructs of the pi calcu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cal definition of the environment as an arbitrary spi calculus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tion of security properties, both integrity and secrecy, as equival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nels may b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stricted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that only certain processes may communicate on them. (Similar to C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ope of the restriction may change during computation. This is term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cope extrusio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Different from the earlier process calcul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2656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utput proces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ā‹N›.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ready to output on channe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If an interaction occurs, ter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mmunicated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then proces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put proc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(x).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ready to input from channe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If an interaction occurs in whic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mmunicated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proces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[N/x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084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|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haves as process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running in parall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stri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rocess that makes a new, private na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then behaves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ir splitti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ces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x,y) = M in 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haves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P[N/x][L/y]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er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N,L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therwise, the process is st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ddition spi calculus introduces primitives for shared-key crypt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r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{M}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s the ciphertext obtained by encrypt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nder the ke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ces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se L of {x}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 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tempts to decrypt the term L with the key N. If L is a ciphertext of the for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{M}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the process behaves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[M/x]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therwise, the process is st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first cryptographic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wo principals A and B that share a key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a public channel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B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tocol is simply that A sends a message M under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, 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1 A→B: {M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spi calculus, we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(M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A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{M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x).case x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{y}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in F(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(M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(vK)(A(M)|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properties are expressed as equivalences. We use the following specific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(M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32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A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‹{M}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pe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M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x).case x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{y}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in F(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pe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M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(vK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(A(M)|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pe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M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5T23:34:46Z</dcterms:created>
  <dc:creator>EEIL</dc:creator>
  <dc:description/>
  <dc:language>en-US</dc:language>
  <cp:lastModifiedBy>EEIL</cp:lastModifiedBy>
  <dcterms:modified xsi:type="dcterms:W3CDTF">2001-11-27T03:11:46Z</dcterms:modified>
  <cp:revision>6</cp:revision>
  <dc:subject/>
  <dc:title>The Spi Calculus</dc:title>
</cp:coreProperties>
</file>