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CA5-4E1E-47EC-AF26-60EEB1AE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A7E-9C43-46DF-B533-C6FFEBE4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72C-CDFB-4461-BA0D-0F00F04A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41D-09AA-4120-BB1F-40BA715F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FC0-7C4C-42C7-8E7E-8E7D35E8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42E-B592-4F90-8E06-8193C5A4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06D-0A89-4FD9-B7B4-A8BAC6B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688-FD06-4741-8395-AD98ECC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7BF-2A1A-4370-8886-F29B58BE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1E0-8248-48A5-988A-3C03F1C7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CFE-4539-4AEC-80B1-6A57F0A9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D67-1369-467D-A446-AEF3AA7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18E-2468-4179-B960-E098AF77E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pi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culus for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sh Yechangu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btain the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, for all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’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(M) ≃ F(M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all M,M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ample with 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e Wide Mouthed Fro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S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der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data under new key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7432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449568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352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toco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can express it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).case z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w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 F(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v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 A(M)|S|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with a fl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system with a server and n other principals. Each principal has an input channel which is public, namel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, C2,…,Cn and 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server shares a pair of keys with each other princip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tend the previous example to this n+1 princip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,{B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B: {A,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B: A,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protocol is determined by a choice of parties and by the message sent i.e. an instance I is the triple (i,j,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 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- 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(i,j,M), the following process corresponds to role of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process corresponds to the role of 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S is the same for all insta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the k-wa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…|P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we define a whole system, parameterized on a list of instances of the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, the protocol is vulnerable to a replay attack that invalidates the authenticity. An attacker can replay messages of one instance and get them mistaken for messages of the other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mplete authentication 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pai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protocol is improved by adding nonce handshakes as protection against replay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protoc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 A→S: A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2  S→A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3  A→S: A,{A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4  S→B: *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5  B→S: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6  S→B: {S,A,B,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7  A→B: A,{M 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AB                                                     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pi calculus, nonces are represented as newly create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d(i,j,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vK)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)›|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x’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 {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K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*›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S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v(j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w). (v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›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.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S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[y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x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e 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ph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f  {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ke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F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l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 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(v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…| Send(I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Recv(1) |…| !Recv(n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Martin Abadi and Andrew D.Gordon at the Systems Research Center, it is an extension of the Pi Calculus with cryptographic primitives designed for describing and analyzing cryptographic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ity property is obtain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olds good because of the no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cy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ach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,… (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stinguishable.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er to write protocols but very det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advantage is its formal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be a good tool for finding flaws but yields more convincing proofs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prone to attacks are developed without explicit specifications for an attacker. Such precise treatments have not been done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nce on the powerful scoping constructs of the pi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cal definition of the environment as an arbitrary spi calculu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security properties, both integrity and secrecy, as equival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s ma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e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certain processes may communicate on them. (Similar to C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ope of the restriction may change during computation. 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ope extrus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ifferent from the earlier process calcu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put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ā‹N›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output on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,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put proc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x).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ady to input from chann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f an interaction occurs in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mmunicat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N/x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|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es as proces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unning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rocess that makes a new, privat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n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r split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y) = M in 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[N/x][L/y]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N,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spi calculus introduces primitives for shared-key cryp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the ciphertext obtained by encryp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der the k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L of {x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empts to decrypt the term L with the key N. If L is a ciphertext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process behaves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[M/x]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wise, the process is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irst cryptograph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principals A and B that share a key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 public channel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simply that A sends a message M unde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, 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1 A→B: {M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pi calculus, we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)(A(M)|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properties are expressed as equivalences. We use the following spec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c</a:t>
            </a:r>
            <a:r>
              <a:rPr b="0" i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A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‹{M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x).case 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{y}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n F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≜ (v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(A(M)|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pe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M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23:34:46Z</dcterms:created>
  <dc:creator>EEIL</dc:creator>
  <dc:description/>
  <dc:language>en-US</dc:language>
  <cp:lastModifiedBy>EEIL</cp:lastModifiedBy>
  <dcterms:modified xsi:type="dcterms:W3CDTF">2001-11-27T03:11:46Z</dcterms:modified>
  <cp:revision>6</cp:revision>
  <dc:subject/>
  <dc:title>The Spi Calculus</dc:title>
</cp:coreProperties>
</file>