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83D7E-B6CE-40C0-ADC3-4E4637BD2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6FDFA-D91E-4EDC-B421-D28624B26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D0DE8-2F5B-4E3A-A0F5-262C7D5B5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8D922-EEB5-4149-AC7E-8AF3BFCFE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54C86-4B45-4B2F-82C7-4122382E7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D316B-60CB-40F1-B087-71C1EB14C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1AFA2-A0A8-436A-AAE5-76021D025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EF2E8-7408-44BD-9DEB-BB0FB77C3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653F6-10D7-42D0-A6BF-075400125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529CD-E66D-453D-937F-B395BDADE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CF86F-F3A0-485B-B9C3-4A9AEE764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8C843-BA76-4E88-894D-EFB6B0A56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0DCEF-A3E4-4B14-9935-78FC0DB4B8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Spi Calcul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47920" y="2514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Calculus for Cryptographic Protoc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ted B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mesh Yechangunj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7543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obtain the properti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ity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nst(M)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≃ Inst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spec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(M), for all 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Secrecy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nst(M)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≃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nst(M’)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if F(M) ≃ F(M’)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                                       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for all M,M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 example with key establish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consider the Wide Mouthed Frog protoco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 New key K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under K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AS                       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. New key K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under K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S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                                       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data under new key K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A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9880" y="2743200"/>
            <a:ext cx="762120" cy="685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209680" y="4495680"/>
            <a:ext cx="762120" cy="685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257800" y="4495680"/>
            <a:ext cx="762120" cy="685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2743200" y="3352320"/>
            <a:ext cx="11430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971800" y="487692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419720" y="3352680"/>
            <a:ext cx="11430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protocol 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ssage 1  A→S: {K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A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 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ssage 2  S→B: {K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S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 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S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ssage 3  A→B: {M}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 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the spi calculus, we can express it a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(M)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≜   (vK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AB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)(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Arial Unicode MS"/>
              </a:rPr>
              <a:t>c</a:t>
            </a:r>
            <a:r>
              <a:rPr b="0" i="1" lang="en-US" sz="2800" spc="-1" strike="noStrike" u="sng" baseline="-25000">
                <a:solidFill>
                  <a:srgbClr val="000000"/>
                </a:solidFill>
                <a:uFillTx/>
                <a:latin typeface="Times New Roman"/>
                <a:ea typeface="Arial Unicode MS"/>
              </a:rPr>
              <a:t>A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‹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K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AB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A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›.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Arial Unicode MS"/>
              </a:rPr>
              <a:t>c</a:t>
            </a:r>
            <a:r>
              <a:rPr b="0" i="1" lang="en-US" sz="2800" spc="-1" strike="noStrike" u="sng" baseline="-25000">
                <a:solidFill>
                  <a:srgbClr val="000000"/>
                </a:solidFill>
                <a:uFillTx/>
                <a:latin typeface="Times New Roman"/>
                <a:ea typeface="Arial Unicode MS"/>
              </a:rPr>
              <a:t>AB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‹{M}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AB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›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≜    c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A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(x).case x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{y}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A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Arial Unicode MS"/>
              </a:rPr>
              <a:t>c</a:t>
            </a:r>
            <a:r>
              <a:rPr b="0" i="1" lang="en-US" sz="2800" spc="-1" strike="noStrike" u="sng" baseline="-25000">
                <a:solidFill>
                  <a:srgbClr val="000000"/>
                </a:solidFill>
                <a:uFillTx/>
                <a:latin typeface="Times New Roman"/>
                <a:ea typeface="Arial Unicode MS"/>
              </a:rPr>
              <a:t>SB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‹{y}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SB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›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≜    c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SB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(x).case x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{y}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SB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              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c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AB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(z).case z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{w}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in F(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nst(M)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≜   (vK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A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) (vK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SB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)( A(M)|S|B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 complete authentication examp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 with a flaw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ider a system with a server and n other principals. Each principal has an input channel which is public, namely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1, C2,…,Cn and C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The server shares a pair of keys with each other principal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extend the previous example to this n+1 principa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ssage 1  A→S: A,{B,K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A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 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ssage 2  S→B: {A,K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S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 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ssage 3  A→B: A,{M}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 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380880"/>
            <a:ext cx="8153280" cy="64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instance of the protocol is determined by a choice of parties and by the message sent i.e. an instance I is the triple (i,j,M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 – source addr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 - destination addr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an instance (i,j,M), the following process corresponds to role of 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nd(i,j,M)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≜ (vK)(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Arial Unicode MS"/>
              </a:rPr>
              <a:t>c</a:t>
            </a:r>
            <a:r>
              <a:rPr b="0" i="1" lang="en-US" sz="2800" spc="-1" strike="noStrike" u="sng" baseline="-25000">
                <a:solidFill>
                  <a:srgbClr val="000000"/>
                </a:solidFill>
                <a:uFillTx/>
                <a:latin typeface="Times New Roman"/>
                <a:ea typeface="Arial Unicode MS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‹(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{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j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K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i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)›|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Arial Unicode MS"/>
              </a:rPr>
              <a:t>c</a:t>
            </a:r>
            <a:r>
              <a:rPr b="0" i="1" lang="en-US" sz="1400" spc="-1" strike="noStrike" u="sng">
                <a:solidFill>
                  <a:srgbClr val="000000"/>
                </a:solidFill>
                <a:uFillTx/>
                <a:latin typeface="Times New Roman"/>
                <a:ea typeface="Arial Unicode MS"/>
              </a:rPr>
              <a:t>j</a:t>
            </a:r>
            <a:r>
              <a:rPr b="0" i="1" lang="en-US" sz="2800" spc="-1" strike="noStrike" u="sng" baseline="-25000">
                <a:solidFill>
                  <a:srgbClr val="000000"/>
                </a:solidFill>
                <a:uFillTx/>
                <a:latin typeface="Times New Roman"/>
                <a:ea typeface="Arial Unicode MS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‹(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{M}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)›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following process corresponds to the role of B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ecv(j)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≜    c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j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(y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cipher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).case y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cipher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{x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x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key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Sj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              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c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j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(z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A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,z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cipher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).[x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A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z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A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              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case z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cipher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of  {z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pla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key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n F(x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A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j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z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plai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9520" bIns="295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440" y="456840"/>
            <a:ext cx="80010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erver S is the same for all instanc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≜    c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j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(x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A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,x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cipher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             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i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1..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[x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A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i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Arial Unicode MS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] case x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ciph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of {x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B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,x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key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}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K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iS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            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j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1..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[x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B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i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Arial Unicode MS"/>
              </a:rPr>
              <a:t>j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]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Arial Unicode MS"/>
              </a:rPr>
              <a:t>c</a:t>
            </a:r>
            <a:r>
              <a:rPr b="0" i="1" lang="en-US" sz="2800" spc="-1" strike="noStrike" u="sng" baseline="-25000">
                <a:solidFill>
                  <a:srgbClr val="000000"/>
                </a:solidFill>
                <a:uFillTx/>
                <a:latin typeface="Times New Roman"/>
                <a:ea typeface="Arial Unicode MS"/>
              </a:rPr>
              <a:t>j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‹</a:t>
            </a:r>
            <a:r>
              <a:rPr b="0" i="1" lang="en-US" sz="2800" spc="-1" strike="noStrike" u="sng" baseline="-25000">
                <a:solidFill>
                  <a:srgbClr val="000000"/>
                </a:solidFill>
                <a:uFillTx/>
                <a:latin typeface="Times New Roman"/>
                <a:ea typeface="Arial Unicode MS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{x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x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key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S j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i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1..k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P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i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is the k-way composi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 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P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1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|…|P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ally we define a whole system, parameterized on a list of instances of the protocol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ys(I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1,…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≜ (v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K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s</a:t>
            </a:r>
            <a:r>
              <a:rPr b="0" i="1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i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)(v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K</a:t>
            </a:r>
            <a:r>
              <a:rPr b="0" i="1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i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(Send(I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) |…| Send(I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) |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   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!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!Recv(1) |…| !Recv(n) 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7467480" cy="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9520" bIns="295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6858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fortunately, the protocol is vulnerable to a replay attack that invalidates the authenticity. An attacker can replay messages of one instance and get them mistaken for messages of the other instan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 complete authentication examp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repaire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previous protocol is improved by adding nonce handshakes as protection against replay attack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new protocol i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ssage 1  A→S: A                     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 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ssage 2  S→A: N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       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 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ssage 3  A→S: A,{A,A,B,K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N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}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A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 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ssage 4  S→B: *                       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 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ssage 5  B→S: N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       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 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ssage 6  S→B: {S,A,B,K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N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}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S 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 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ssage 7  A→B: A,{M }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AB                                                          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 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9520" bIns="295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6858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spi calculus, nonces are represented as newly created nam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nd(i,j,M)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≜  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Arial Unicode MS"/>
              </a:rPr>
              <a:t>c</a:t>
            </a:r>
            <a:r>
              <a:rPr b="0" i="1" lang="en-US" sz="2800" spc="-1" strike="noStrike" u="sng" baseline="-25000">
                <a:solidFill>
                  <a:srgbClr val="000000"/>
                </a:solidFill>
                <a:uFillTx/>
                <a:latin typeface="Times New Roman"/>
                <a:ea typeface="Arial Unicode MS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‹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›|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                   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c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i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(x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nonce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              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(vK)(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Arial Unicode MS"/>
              </a:rPr>
              <a:t>c</a:t>
            </a:r>
            <a:r>
              <a:rPr b="0" i="1" lang="en-US" sz="2800" spc="-1" strike="noStrike" u="sng" baseline="-25000">
                <a:solidFill>
                  <a:srgbClr val="000000"/>
                </a:solidFill>
                <a:uFillTx/>
                <a:latin typeface="Times New Roman"/>
                <a:ea typeface="Arial Unicode MS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‹(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{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j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K,x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nonce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i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)›|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Arial Unicode MS"/>
              </a:rPr>
              <a:t>c</a:t>
            </a:r>
            <a:r>
              <a:rPr b="0" i="1" lang="en-US" sz="1400" spc="-1" strike="noStrike" u="sng">
                <a:solidFill>
                  <a:srgbClr val="000000"/>
                </a:solidFill>
                <a:uFillTx/>
                <a:latin typeface="Times New Roman"/>
                <a:ea typeface="Arial Unicode MS"/>
              </a:rPr>
              <a:t>j</a:t>
            </a:r>
            <a:r>
              <a:rPr b="0" i="1" lang="en-US" sz="2800" spc="-1" strike="noStrike" u="sng" baseline="-25000">
                <a:solidFill>
                  <a:srgbClr val="000000"/>
                </a:solidFill>
                <a:uFillTx/>
                <a:latin typeface="Times New Roman"/>
                <a:ea typeface="Arial Unicode MS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‹(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{M}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)›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≜   c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(x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A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).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i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1..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[x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A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i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Arial Unicode MS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] (vN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) (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Arial Unicode MS"/>
              </a:rPr>
              <a:t>c</a:t>
            </a:r>
            <a:r>
              <a:rPr b="0" i="1" lang="en-US" sz="2800" spc="-1" strike="noStrike" u="sng" baseline="-25000">
                <a:solidFill>
                  <a:srgbClr val="000000"/>
                </a:solidFill>
                <a:uFillTx/>
                <a:latin typeface="Times New Roman"/>
                <a:ea typeface="Arial Unicode MS"/>
              </a:rPr>
              <a:t>i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‹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N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›|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                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c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(x’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A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,x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cipher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).[x’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i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Arial Unicode MS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               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case x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ciph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of {y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A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,z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A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x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B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key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x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nonce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}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K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iS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                  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j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1..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[y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A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i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Arial Unicode MS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][z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i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Arial Unicode MS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][x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B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i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Arial Unicode MS"/>
              </a:rPr>
              <a:t>j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][x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nonc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is N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Arial Unicode MS"/>
              </a:rPr>
              <a:t>c</a:t>
            </a:r>
            <a:r>
              <a:rPr b="0" i="1" lang="en-US" sz="2800" spc="-1" strike="noStrike" u="sng" baseline="-25000">
                <a:solidFill>
                  <a:srgbClr val="000000"/>
                </a:solidFill>
                <a:uFillTx/>
                <a:latin typeface="Times New Roman"/>
                <a:ea typeface="Arial Unicode MS"/>
              </a:rPr>
              <a:t>j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‹*›|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c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(y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nonce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).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Arial Unicode MS"/>
              </a:rPr>
              <a:t>c</a:t>
            </a:r>
            <a:r>
              <a:rPr b="0" i="1" lang="en-US" sz="2800" spc="-1" strike="noStrike" u="sng" baseline="-25000">
                <a:solidFill>
                  <a:srgbClr val="000000"/>
                </a:solidFill>
                <a:uFillTx/>
                <a:latin typeface="Times New Roman"/>
                <a:ea typeface="Arial Unicode MS"/>
              </a:rPr>
              <a:t>j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‹{S,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j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key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,y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nonce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S j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›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 rot="10800000">
            <a:off x="685800" y="532440"/>
            <a:ext cx="7772400" cy="7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9160" bIns="29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ecv(j)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≜  c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j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(w). (vN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B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) (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Arial Unicode MS"/>
              </a:rPr>
              <a:t>c</a:t>
            </a:r>
            <a:r>
              <a:rPr b="0" i="1" lang="en-US" sz="2800" spc="-1" strike="noStrike" u="sng" baseline="-25000">
                <a:solidFill>
                  <a:srgbClr val="000000"/>
                </a:solidFill>
                <a:uFillTx/>
                <a:latin typeface="Times New Roman"/>
                <a:ea typeface="Arial Unicode MS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‹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N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B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›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                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c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j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(y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cipher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                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case y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cipher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{x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A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x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B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key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y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nonce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} 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S j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                  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j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1..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[x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is S][x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i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Arial Unicode MS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][x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B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i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Arial Unicode MS"/>
              </a:rPr>
              <a:t>j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][y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nonc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is N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B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               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c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j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(z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A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,z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cipher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).[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z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is x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A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               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case z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cipher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of  {z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pla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key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n F(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i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j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z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plai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ys(I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1,…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≜  (v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K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s</a:t>
            </a:r>
            <a:r>
              <a:rPr b="0" i="1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i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)(v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K</a:t>
            </a:r>
            <a:r>
              <a:rPr b="0" i="1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i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(Send(I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) |…| Send(I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) |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!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!Recv(1) |…| !Recv(n) 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eloped by Martin Abadi and Andrew D.Gordon at the Systems Research Center, it is an extension of the Pi Calculus with cryptographic primitives designed for describing and analyzing cryptographic protocol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69608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7621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authenticity property is obtaine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ys(I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1,…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≃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ys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spec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(I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1,…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)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any instances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I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1,…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holds good because of the nonc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recy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ys(I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1,…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≃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ys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spec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(J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1,…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each pair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(I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1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1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),… (I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distinguishable.                                                              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rder to write protocols but very detail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 advantage is its formal preci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y not be a good tool for finding flaws but yields more convincing proofs of correctn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tocols prone to attacks are developed without explicit specifications for an attacker. Such precise treatments have not been done befo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eatu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liance on the powerful scoping constructs of the pi calcul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dical definition of the environment as an arbitrary spi calculus proc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resentation of security properties, both integrity and secrecy, as equival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si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annels may b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estricted,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 that only certain processes may communicate on them. (Similar to CSP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cope of the restriction may change during computation. This is terme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cope extrusion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Different from the earlier process calculi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440" y="26568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8380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output proces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ā‹N›.P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ready to output on channel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If an interaction occurs, term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communicated o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then proces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ru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nput proces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(x).P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ready to input from channel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If an interaction occurs in which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communicated o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,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n proces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[N/x]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ru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084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|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haves as processe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running in paralle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estric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process that makes a new, private nam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and then behaves a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air splitting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roces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(x,y) = M in P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haves a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P[N/x][L/y]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f term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the pair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(N,L)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therwise, the process is stuc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addition spi calculus introduces primitives for shared-key cryptograph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term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{M}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represents the ciphertext obtained by encrypting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under the key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proces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ase L of {x}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n 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ttempts to decrypt the term L with the key N. If L is a ciphertext of the form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{M}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then the process behaves a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[M/x]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therwise, the process is stuc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 first cryptographic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ider two principals A and B that share a key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a public channel 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AB.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protocol is simply that A sends a message M under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AB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B, on 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AB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ssage 1 A→B: {M}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 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the spi calculus, we wri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(M)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≜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Arial Unicode MS"/>
              </a:rPr>
              <a:t>c</a:t>
            </a:r>
            <a:r>
              <a:rPr b="0" i="1" lang="en-US" sz="2800" spc="-1" strike="noStrike" u="sng" baseline="-25000">
                <a:solidFill>
                  <a:srgbClr val="000000"/>
                </a:solidFill>
                <a:uFillTx/>
                <a:latin typeface="Times New Roman"/>
                <a:ea typeface="Arial Unicode MS"/>
              </a:rPr>
              <a:t>A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‹{M}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AB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≜ c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AB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(x).case x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{y}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AB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in F(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nst(M)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≜ (vK)(A(M)|B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 properties are expressed as equivalences. We use the following specific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(M)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≜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Arial Unicode MS"/>
              </a:rPr>
              <a:t>c</a:t>
            </a:r>
            <a:r>
              <a:rPr b="0" i="1" lang="en-US" sz="3200" spc="-1" strike="noStrike" u="sng" baseline="-25000">
                <a:solidFill>
                  <a:srgbClr val="000000"/>
                </a:solidFill>
                <a:uFillTx/>
                <a:latin typeface="Times New Roman"/>
                <a:ea typeface="Arial Unicode MS"/>
              </a:rPr>
              <a:t>AB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‹{M}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AB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spec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(M)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≜ c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AB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(x).case x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{y}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AB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in F(M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nst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spec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(M)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≜ (vK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AB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)(A(M)|B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spec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(M)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5T23:34:46Z</dcterms:created>
  <dc:creator>EEIL</dc:creator>
  <dc:description/>
  <dc:language>en-US</dc:language>
  <cp:lastModifiedBy>EEIL</cp:lastModifiedBy>
  <dcterms:modified xsi:type="dcterms:W3CDTF">2001-11-27T03:11:46Z</dcterms:modified>
  <cp:revision>6</cp:revision>
  <dc:subject/>
  <dc:title>The Spi Calculus</dc:title>
</cp:coreProperties>
</file>