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C4B3-9A9F-4028-8359-7FB15AB56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A153-5357-4F8C-A17D-6060B1CD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38C4-DE23-4FCC-AA1F-0BA6CFEF0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1584-AF47-4E59-9753-D1DBF0148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F45E-8977-4733-B273-84732789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DDE3-E7FD-4DFB-80B6-EC6AB1DB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4C61-1E6F-475F-9207-74BC9D95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6008-2DE2-4C3C-86D0-3FAE12EC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2491-3C04-4CF5-915E-545FC7ED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5300-754F-4151-ACF7-6D3B79F5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ED9E-F1AA-4CD3-9A7A-C8E619B9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BE4D-4CF9-482F-9C9B-D03EE084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F060-FE26-4D82-B727-CA5EAA5EE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 WAY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 PROTOCO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RIATIONS OF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pdoor One - Way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se are collections of functions, {fi}, with the extra property that fi is efficiently inverted once given as auxiliary input a “trapdoor” for the index i. The trapdoor of index I, denoted by t(i), cannot be efficiently computed from i. e.g. the RSA trapdo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lgorithm of the RSA collection is modified to output the index (N.e) and the trapdoor (N,d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 = 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o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P-1)*(Q-1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RS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(N,d), 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RS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(N,e),x))  = x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e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od 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RIATIONS OF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wfree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lawfree collection of functions consists of a set of pairs of functions which are easy to evaluate, both have the same range, and yet it is infeasible to find a range element together with pre-images of it under each of these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the DLP Clawfree collection, the Factoring Clawfree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 OF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ash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hash function H accepts a variable-size message M as input and outputs a fixed-size representation H(M) of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SA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977 by R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iv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Ad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ham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L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lem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HASH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Hash Value is generated by a function H of the form h = H(M), where M is the variable length message and h is the fixed length Hash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is hash value is appended to the message at the source at a time when the message is assumed or known to be corr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receiver authenticates the message by recomputing the Hash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HASH FUNCTION…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H can be applied to a block data of any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H produces a fixed-length outpu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H(x) is relatively easy to compute for any given x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or any given code h, it is computationally infeasible to find x such that H(x) = h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 ONE - WAY proper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or any given block x, it is computationally infeasible to find y≠x with H(y)=H(x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&gt;Weak Collision Resista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computationally infeasible to find any pair (x,y) such that H(x)=H(y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&gt;Strong Collision Resista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SA ENCRY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e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first task is to select n. n is normally very large (approx 200 digits) and is a product of two large primes p and q (typically 100 digits each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a large integer e is chosen such that e is relatively prime to (p-1) * (q-1). e is usually picked as a prime larger than both (p-1) and (q-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d is selected such that: e * d = 1 mod (p-1) * (q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message is then encrypted using the encryption formula mentioned abo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 and d are called public and private expon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SA ENCRYPTION…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 = 11 and q = 1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--both pri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 = p*q = 143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p-1).(q-1) = 1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hoose e such that it is relatively prime to (p-1).(q-1) Say e = 1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 = 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od (p-1) * (q-1) = 1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et message to be encrypted be letter ‘H’ -&gt; number 7 if we map A to Z from 0 to 25. 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ncryp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(‘H’) = E(7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=&gt; 7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1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od 143 = 10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ecryp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(106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=&gt; 106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1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od 143 = 7 =&gt; ‘H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SA ENCRYPTION…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=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od 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= 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od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blic key: (5,119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vate key: (77,1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3276720"/>
            <a:ext cx="281952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=  2476099      =  20807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------------        remain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9              of 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380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7640" y="3287880"/>
            <a:ext cx="102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in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4038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40384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4952880"/>
            <a:ext cx="28195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7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= 6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7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 remain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------      of 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9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58000" y="5486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741080" y="5029200"/>
            <a:ext cx="102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in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495680" y="4190400"/>
            <a:ext cx="6098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28120" y="3886200"/>
            <a:ext cx="111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phe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One - Way function is a function which is easy to compute but difficult to inve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onditions for function 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asy to comp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ifficult to inv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One - Way function is a function which is easy to compute but difficult to inve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onditions for function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asy to comp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re exists a polynomial-time algorithm that on input x outputs f (x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ifficult to inv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very probabilistic polynomial-time algorithm trying, on input y to find an inverse of y under f , may succeed only with negligible prob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YPES OF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ong One - Way Fun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se are easy to compute and hard to invert functions. Any efficient algorithm has negligible success in inverting such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ak One - Way Fun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se are easy to compute and slightly hard to invert functions. All efficient inverting algorithms fail to invert such functions with some non-negligible prob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YPES OF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Length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 Length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ANDIDATES OF ONE - WAY FUN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ger Factoriz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time required to factorize an integer N runs into a very high order dependent on the second biggest prime factor P of the given integer N. The function f 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mu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x. y   which is the product of the integers x and y, can be computed in polynomial time. But assuming the intractability of factoring and the “density of primes “theorem it follows that f 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mu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s at least weakly One - Way. Using more sophisticated arguments, it can be shown that f 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mu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s strongly One - W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oding of Random Linear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RIATIONS OF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al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- Way Functions as Colle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RSA fun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Rabin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screte Loga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pdoor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wfree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RIATIONS OF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al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exist One - Way functions if and only if there exists One - Way functions which can be evaluated by a quadratic time algorithm (the existence of such a specific time bound is importan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ch One - Way functions are called Universal One - Way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RIATIONS OF ONE - WA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- Way Functions as Colle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stead of viewing One - Way functions as functions operating on an infinite domain, infinite collections of functions each operating on a finite domain are considered. The functions in the collection share a single evaluating algorithm which when inputted a succinct representation of a function and an element in its domain return the value of the specified function at the given poin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RSA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Rabin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screte Loga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0T00:18:48Z</dcterms:created>
  <dc:creator>Alok Parikh</dc:creator>
  <dc:description/>
  <dc:language>en-US</dc:language>
  <cp:lastModifiedBy>Alok Parikh</cp:lastModifiedBy>
  <dcterms:modified xsi:type="dcterms:W3CDTF">2001-12-04T07:09:26Z</dcterms:modified>
  <cp:revision>11</cp:revision>
  <dc:subject/>
  <dc:title>ONE WAY FUNCTIONS</dc:title>
</cp:coreProperties>
</file>