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20D-63CC-4520-A027-37B2104B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F7B-8130-4F87-A6C6-A358AB6F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BEE-60A3-4004-B9C8-47F9E8B1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6F2-09C0-45CE-9219-BEDB9A29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238-07D7-4D19-8375-00698DCF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33F-A426-4DD4-872B-F5DAB01F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3B3-419B-470C-BE3B-0F772D1B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609-B361-46F0-9555-C39C096C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BD4-6A8C-453E-AF92-8DFF5647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390-DC0A-4BCD-A3FC-B3EC54A7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830-BB2D-4E71-BEC5-BA26A0F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28D-3934-4626-8706-1EFC839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BAA1-A580-4DA6-B3FF-B690EA67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collections of functions, {fi}, with the extra property that fi is efficiently inverted once given as auxiliary input a “trapdoor” for the index i. The trapdoor of index I, denoted by t(i), cannot be efficiently computed from i. e.g. the RSA trapdo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of the RSA collection is modified to output the index (N.e) and the trapdoor (N,d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-1)*(Q-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d)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e),x))  =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wfree collection of functions consists of a set of pairs of functions which are easy to evaluate, both have the same range, and yet it is infeasible to find a range element together with pre-images of it under each of thes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DLP Clawfree collection, the Factoring Clawfre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function H accepts a variable-size message M as input and outputs a fixed-size representation H(M) of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S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7 by R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m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le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Value is generated by a function H of the form h = H(M), where M is the variable length message and h is the fixed length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h value is appended to the message at the source at a time when the message is assumed or known to b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ceiver authenticates the message by recomputing the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can be applied to a block data of an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produces a fixed-length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(x) is relatively easy to compute for any given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code h, it is computationally infeasible to find x such that H(x) = 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 ONE - WAY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block x, it is computationally infeasible to find y≠x with H(y)=H(x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Weak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mputationally infeasible to find any pair (x,y) such that H(x)=H(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Strong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task is to select n. n is normally very large (approx 200 digits) and is a product of two large primes p and q (typically 100 digits ea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a large integer e is chosen such that e is relatively prime to (p-1) * (q-1). e is usually picked as a prime larger than both (p-1) and (q-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d is selected such that: e * d = 1 mod (p-1) * (q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ssage is then encrypted using the encryption formula mentioned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and d are called public and private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11 and q = 1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--both pr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 = p*q = 14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p-1).(q-1) = 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oose e such that it is relatively prime to (p-1).(q-1) Say e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(p-1) * (q-1)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 message to be encrypted be letter ‘H’ -&gt; number 7 if we map A to Z from 0 to 25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(‘H’) = E(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1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(10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10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7 =&gt; ‘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: (5,11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te key: (77,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276720"/>
            <a:ext cx="2819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 2476099      =  20807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      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 of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640" y="328788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952880"/>
            <a:ext cx="2819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      of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1080" y="50292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95680" y="419040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8120" y="388620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h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exists a polynomial-time algorithm that on input x outputs 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probabilistic polynomial-time algorithm trying, on input y to find an inverse of y under f , may succeed only with negligible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hard to invert functions. Any efficient algorithm has negligible success in inverting such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slightly hard to invert functions. All efficient inverting algorithms fail to invert such functions with some non-negligible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TES OF ONE - WAY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er Factor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required to factorize an integer N runs into a very high order dependent on the second biggest prime factor P of the given integer N. The function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x. y   which is the product of the integers x and y, can be computed in polynomial time. But assuming the intractability of factoring and the “density of primes “theorem it follows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t least weakly One - Way. Using more sophisticated arguments, it can be shown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strongly One -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ding of Random Linea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exist One - Way functions if and only if there exists One - Way functions which can be evaluated by a quadratic time algorithm (the existence of such a specific time bound is import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h One - Way functions are called Universal One - Wa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 viewing One - Way functions as functions operating on an infinite domain, infinite collections of functions each operating on a finite domain are considered. The functions in the collection share a single evaluating algorithm which when inputted a succinct representation of a function and an element in its domain return the value of the specified function at the given po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0:18:48Z</dcterms:created>
  <dc:creator>Alok Parikh</dc:creator>
  <dc:description/>
  <dc:language>en-US</dc:language>
  <cp:lastModifiedBy>Alok Parikh</cp:lastModifiedBy>
  <dcterms:modified xsi:type="dcterms:W3CDTF">2001-12-04T07:09:26Z</dcterms:modified>
  <cp:revision>11</cp:revision>
  <dc:subject/>
  <dc:title>ONE WAY FUNCTIONS</dc:title>
</cp:coreProperties>
</file>