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31E61-A972-4B5A-B2A0-FA156E8CD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FA5C8-9EDC-45FD-A9AC-829829FAF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DF34D-C2EC-4ADF-8E89-0AEB4300C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3E94-57C0-42B5-91C6-45780AA81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B09B3-1F49-4802-B170-3BE5ECCE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809F0-0A58-4BD2-A43C-97EB2BED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DF8C8-6FEE-4032-8E48-8F25AEBC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D3C03-02F9-432E-9B14-B099D98D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60781-FCCB-46B7-9E27-82A1EDFE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576CB-846D-44A6-A914-BC9836AD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5B8CC-69A2-4734-8A4F-CDD45B0E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76117-32A1-47C5-8C49-1CFD5F900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AA165-E359-4810-9D8B-6B7FD5B6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BA3F1-242E-48A5-B5D3-54E85146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DB7E2-C378-4E15-9F9E-AD059509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D8218-DB64-45CB-8FAB-17107364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1B3F4-F46D-4E5B-A1AA-A1A87A16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EFBF6-E8F2-40E6-A6C0-A33ED027E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3AABD-C165-4AED-86D9-A8D1321B6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BFE2A-A4CE-4998-9B7A-B95A6BF9B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5B7AA-FACE-470E-A271-8BB4C41FD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BC9BA-67D0-424D-B6E1-715D86606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1BF0A-1913-4530-B5B3-7F825F971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98035-C410-42E9-891C-B1D5949D6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685800" y="65527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ctu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1A8E-A0DF-4E01-BD29-65215A642A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5CFF-A637-4845-959A-42A4C6D15B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SP tools for verification of Sec Pro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verview of the le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Casper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finement checking and FD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Model che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Theorem prov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Safe simplifying transform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2CBEC-B2A8-47FF-BB64-90541E51F8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del checking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el checking bas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he security property we want to verify is expressed as a temporal logic formula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protocol is expressed as a system S of processes (the processes involved with the protocol and, possibly, the intrud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S is represented as a labeled transition system T, which is seen as an interpretation of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Model checking consists in showing that T is a model of F, namely that T validates 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Always possible with Finite State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Also possible for some restricted cases of Infinite State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E18C5-AEA4-4BB6-A091-6AD2BCF2E0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del checking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A  =  a -&gt; b -&gt;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B  =  c -&gt; d -&gt; B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S  =   A |||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oral operator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 : fore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: eventual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me formula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 E (a or c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 E 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 F (a or 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1219320"/>
            <a:ext cx="4267080" cy="24818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A  =  a -&gt; A1     A1  =  b -&gt;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B  =  c -&gt; B1      B1  =  d -&gt; B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   =   A ||| B    S1  = A  |||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2 =  A1 ||| B    S3 = A1 |||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47242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38098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67480" y="47242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8" idx="6"/>
            <a:endCxn id="200" idx="4"/>
          </p:cNvCxnSpPr>
          <p:nvPr/>
        </p:nvCxnSpPr>
        <p:spPr>
          <a:xfrm flipV="1">
            <a:off x="6629040" y="5409720"/>
            <a:ext cx="1181880" cy="5724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7" idx="0"/>
            <a:endCxn id="199" idx="2"/>
          </p:cNvCxnSpPr>
          <p:nvPr/>
        </p:nvCxnSpPr>
        <p:spPr>
          <a:xfrm flipH="1" flipV="1" rot="5400000">
            <a:off x="5029200" y="3809520"/>
            <a:ext cx="572040" cy="12578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7" idx="4"/>
            <a:endCxn id="198" idx="2"/>
          </p:cNvCxnSpPr>
          <p:nvPr/>
        </p:nvCxnSpPr>
        <p:spPr>
          <a:xfrm flipH="1" rot="16200000">
            <a:off x="5029200" y="5067000"/>
            <a:ext cx="572400" cy="12578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9" idx="6"/>
            <a:endCxn id="200" idx="0"/>
          </p:cNvCxnSpPr>
          <p:nvPr/>
        </p:nvCxnSpPr>
        <p:spPr>
          <a:xfrm>
            <a:off x="6629040" y="4152600"/>
            <a:ext cx="1181880" cy="5720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5095440" y="38275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44640" y="58672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76800" y="59436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4200" y="38862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0" idx="2"/>
            <a:endCxn id="199" idx="4"/>
          </p:cNvCxnSpPr>
          <p:nvPr/>
        </p:nvCxnSpPr>
        <p:spPr>
          <a:xfrm rot="10800000">
            <a:off x="6285960" y="4494960"/>
            <a:ext cx="1181520" cy="5724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0" idx="2"/>
            <a:endCxn id="198" idx="0"/>
          </p:cNvCxnSpPr>
          <p:nvPr/>
        </p:nvCxnSpPr>
        <p:spPr>
          <a:xfrm flipV="1" rot="10800000">
            <a:off x="6285960" y="5066280"/>
            <a:ext cx="1181520" cy="5720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98" idx="0"/>
            <a:endCxn id="197" idx="6"/>
          </p:cNvCxnSpPr>
          <p:nvPr/>
        </p:nvCxnSpPr>
        <p:spPr>
          <a:xfrm flipV="1" rot="16200000">
            <a:off x="5371560" y="4723560"/>
            <a:ext cx="572040" cy="12582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199" idx="4"/>
            <a:endCxn id="197" idx="6"/>
          </p:cNvCxnSpPr>
          <p:nvPr/>
        </p:nvCxnSpPr>
        <p:spPr>
          <a:xfrm rot="5400000">
            <a:off x="5371200" y="4152600"/>
            <a:ext cx="572400" cy="12582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5560560" y="449568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4280" y="45720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1280" y="518148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3560" y="52578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07000" y="51814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02680" y="5486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02680" y="58672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3F83A-DAE1-419C-8DD2-670533B767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orem proving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d on a set of inference rules that model a satisfiability relation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S sat P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mple: parallel ru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orall  i.  (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at (R precedes T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|||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sat (R precedes T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erties of the inference syst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emiautomatic (invariant needed for recursive definition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Sound and relatively comple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the properties of the Yahalom protocol seen in previous lecture can be easily verified using this system (see proofs in the book of Ryan and Schneid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3352680"/>
            <a:ext cx="5181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7044-A92F-43A7-ACAA-8E3978F768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Casper interface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sper is essentially a compil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1905120"/>
            <a:ext cx="152388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505320"/>
            <a:ext cx="1676520" cy="7617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4952880"/>
            <a:ext cx="1523880" cy="914400"/>
          </a:xfrm>
          <a:prstGeom prst="ellipse">
            <a:avLst/>
          </a:prstGeom>
          <a:solidFill>
            <a:srgbClr val="e171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55960" y="361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40160" y="370368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s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29718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4197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80480" y="2133720"/>
            <a:ext cx="320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Language similar to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one used to de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the protocols seen so f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8" idx="1"/>
            <a:endCxn id="101" idx="6"/>
          </p:cNvCxnSpPr>
          <p:nvPr/>
        </p:nvCxnSpPr>
        <p:spPr>
          <a:xfrm rot="10800000">
            <a:off x="3885480" y="2361600"/>
            <a:ext cx="1372320" cy="275400"/>
          </a:xfrm>
          <a:prstGeom prst="curvedConnector5">
            <a:avLst>
              <a:gd name="adj1" fmla="val 47677"/>
              <a:gd name="adj2" fmla="val 50000"/>
              <a:gd name="adj3" fmla="val 47677"/>
            </a:avLst>
          </a:prstGeom>
          <a:ln w="9360">
            <a:solidFill>
              <a:srgbClr val="006600"/>
            </a:solidFill>
            <a:prstDash val="dash"/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4343400" y="5029200"/>
            <a:ext cx="1523880" cy="762120"/>
          </a:xfrm>
          <a:prstGeom prst="triangle">
            <a:avLst>
              <a:gd name="adj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u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3" idx="6"/>
            <a:endCxn id="110" idx="1"/>
          </p:cNvCxnSpPr>
          <p:nvPr/>
        </p:nvCxnSpPr>
        <p:spPr>
          <a:xfrm>
            <a:off x="3886200" y="5409720"/>
            <a:ext cx="8388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447920" y="4495680"/>
            <a:ext cx="5333760" cy="1600200"/>
          </a:xfrm>
          <a:prstGeom prst="ellipse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4480" y="46483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60880" y="3429000"/>
            <a:ext cx="4051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Written in the fun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Programming language Haskell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1"/>
            <a:endCxn id="102" idx="3"/>
          </p:cNvCxnSpPr>
          <p:nvPr/>
        </p:nvCxnSpPr>
        <p:spPr>
          <a:xfrm flipV="1" rot="10800000">
            <a:off x="3961800" y="3809880"/>
            <a:ext cx="1219680" cy="7668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9360">
            <a:solidFill>
              <a:srgbClr val="0066ff"/>
            </a:solidFill>
            <a:prstDash val="dash"/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AD7B-7F9D-497C-9D66-4792D0F7C8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523880"/>
            <a:ext cx="1981080" cy="1219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343400"/>
            <a:ext cx="1600200" cy="1219320"/>
          </a:xfrm>
          <a:prstGeom prst="ellipse">
            <a:avLst/>
          </a:prstGeom>
          <a:solidFill>
            <a:srgbClr val="d876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1240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74240" y="33526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15238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12952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4a8"/>
                </a:solidFill>
                <a:latin typeface="Comic Sans MS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abstract description of the protoco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re properties are easy to 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2819520"/>
            <a:ext cx="5029200" cy="23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transformation preserving the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ually this means that the implementation must be </a:t>
            </a: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less nondeterminist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n the specific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Question: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wh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541008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76b5"/>
                </a:solidFill>
                <a:latin typeface="Comic Sans MS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formal description of the real system and its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85640" y="4648320"/>
            <a:ext cx="47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Answer: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the properties usually are univers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hey must be valid in all r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EC41A-DB4D-4A2A-82A9-217CD0F236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otion of refin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implementation should be a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refinemen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f the specification, in the sense of preserving its properties. Hence, less nondetermini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42bf"/>
                </a:solidFill>
                <a:latin typeface="Comic Sans MS"/>
              </a:rPr>
              <a:t>Refinement checking:</a:t>
            </a:r>
            <a:r>
              <a:rPr b="0" lang="en-US" sz="2400" spc="-1" strike="noStrike">
                <a:solidFill>
                  <a:srgbClr val="d842bf"/>
                </a:solidFill>
                <a:latin typeface="Comic Sans MS"/>
              </a:rPr>
              <a:t> checking that the implementation is indeed a refinement of the spec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e8c"/>
                </a:solidFill>
                <a:latin typeface="Comic Sans MS"/>
              </a:rPr>
              <a:t>Obviously, the notion of refinement depends on the </a:t>
            </a:r>
            <a:r>
              <a:rPr b="1" lang="en-US" sz="2400" spc="-1" strike="noStrike">
                <a:solidFill>
                  <a:srgbClr val="00be8c"/>
                </a:solidFill>
                <a:latin typeface="Comic Sans MS"/>
              </a:rPr>
              <a:t>intended semantic</a:t>
            </a:r>
            <a:r>
              <a:rPr b="0" lang="en-US" sz="2400" spc="-1" strike="noStrike">
                <a:solidFill>
                  <a:srgbClr val="00be8c"/>
                </a:solidFill>
                <a:latin typeface="Comic Sans MS"/>
              </a:rPr>
              <a:t>. In CSP traditionally we consider 3 kinds of semantic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e8c"/>
                </a:solidFill>
                <a:latin typeface="Comic Sans MS"/>
              </a:rPr>
              <a:t>Tr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e8c"/>
                </a:solidFill>
                <a:latin typeface="Comic Sans MS"/>
              </a:rPr>
              <a:t>Failur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e8c"/>
                </a:solidFill>
                <a:latin typeface="Comic Sans MS"/>
              </a:rPr>
              <a:t>Failures and Divergen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E7993-A457-46AF-9309-B2BF579228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t of th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ces of visible actions in all possible ru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mple: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A  =   a -&gt; b -&gt; c -&gt; Stop [] b -&gt; c -&gt; a -&gt; Stop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Tr(A)  =  { a.b.c, b.c.a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  =   a -&gt; Stop ||| b -&gt; c -&gt; Stop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Tr(A)  =  { a.b.c, b.a.c, b.c.a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 that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less nondeterministic than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presents only a subset of the possible runs of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D4043-D21F-4DED-89DC-04CA8A25DB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181480" y="4267080"/>
            <a:ext cx="1905120" cy="1447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ant to define formally the notion of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finem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t trace semantics, in such a way that it captures the concept of 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ss 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 what should be the formal definition of “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is a refinement of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” in terms of their trac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04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4640" y="3048120"/>
            <a:ext cx="53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Tr(A)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 subset of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Tr(B)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038480"/>
            <a:ext cx="1447560" cy="6098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5562720"/>
            <a:ext cx="1170000" cy="609480"/>
          </a:xfrm>
          <a:prstGeom prst="ellipse">
            <a:avLst/>
          </a:prstGeom>
          <a:solidFill>
            <a:srgbClr val="d876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4906800"/>
            <a:ext cx="355680" cy="489240"/>
          </a:xfrm>
          <a:prstGeom prst="downArrow">
            <a:avLst>
              <a:gd name="adj1" fmla="val 50000"/>
              <a:gd name="adj2" fmla="val 34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88640" y="49528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4800600"/>
            <a:ext cx="1143000" cy="685800"/>
          </a:xfrm>
          <a:prstGeom prst="ellipse">
            <a:avLst/>
          </a:prstGeom>
          <a:solidFill>
            <a:srgbClr val="e171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51720" y="43434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23D22-6B81-47F3-B608-CBF4C3F504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943600" y="4114800"/>
            <a:ext cx="28954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mits of trace semantic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t is </a:t>
            </a:r>
            <a:r>
              <a:rPr b="1" lang="en-US" sz="2000" spc="-1" strike="noStrike">
                <a:solidFill>
                  <a:srgbClr val="008080"/>
                </a:solidFill>
                <a:latin typeface="Comic Sans MS"/>
              </a:rPr>
              <a:t>not compositional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. Namely, trace refin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s not preserved under context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This means that the analysis based on traces canno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be performed modularly: it must be performed 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the whole system at o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 = a -&gt; (b -&gt; Stop [] c -&gt; Sto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  =  a -&gt; Stop [] a -&gt; c -&gt; St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5486400"/>
            <a:ext cx="0" cy="45720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23520" y="5943600"/>
            <a:ext cx="30492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943600"/>
            <a:ext cx="30492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819520" y="5486400"/>
            <a:ext cx="30456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5486400"/>
            <a:ext cx="30492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58672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58672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03360" y="55040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6840" y="58672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4200" y="59151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2040" y="54100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2200" y="54100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3160" y="59436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34760" y="594360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97400" y="5199120"/>
            <a:ext cx="127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Tr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Tr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 a.b, a.c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4191120"/>
            <a:ext cx="2667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C  =  a -&gt; b  -&gt; 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Tr(C || A)  =  {a.b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/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Tr(C || B)  =  {a.b , a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89480" y="49528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0720" y="49528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9E535-6F1D-480F-A841-273B834C18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onger, compositional seman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Failur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is semantics encodes the brancing structure of a process by representing, after each partial trace, the set of actions that are not allow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notion of refinement is defined in such a way that </a:t>
            </a: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refinement of 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but not vice ver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This notion of refinement is preserved under closure on possible contex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2378160" y="3564000"/>
            <a:ext cx="0" cy="45720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072880" y="4021200"/>
            <a:ext cx="30492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78160" y="4021200"/>
            <a:ext cx="30456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368160" y="3564000"/>
            <a:ext cx="30492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73440" y="3564000"/>
            <a:ext cx="30492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78360" y="39448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68520" y="39448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2720" y="35812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36200" y="39448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43560" y="39924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21040" y="34876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11560" y="34876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62520" y="40212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84120" y="402120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59840" y="3276720"/>
            <a:ext cx="412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F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=  { &lt;a, {a}&gt;,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/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F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=  { &lt;a, {a,b}&gt;, &lt;a, {a,c}&gt; ,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38480" y="30304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20080" y="30304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CDFA9-4DCA-4084-B189-63C5A29035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onger, compositional seman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Failures and Divergences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semantics encodes all the information of Failure semantics, plus additional information about divergences (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velock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 As such, it is suitable also for the analysis of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liven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perties (not only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afe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considered the standard model of C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DR</a:t>
            </a: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ns: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Failure and Divergences Refin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utomatic refinement check for finite state systems (they can have infinite computations, but the number of states is finit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33526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828800" y="3733920"/>
            <a:ext cx="533520" cy="45720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3581280"/>
            <a:ext cx="0" cy="15264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08280" y="359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33720" y="3436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825720" y="3639960"/>
            <a:ext cx="533520" cy="4572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5200" y="35053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16160" y="3124080"/>
            <a:ext cx="319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These two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Have the same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but different diverg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71670-8B09-480E-BFF3-5395F6872A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09:27:11Z</dcterms:created>
  <dc:creator>Catuscia Palamidessi</dc:creator>
  <dc:description/>
  <dc:language>en-US</dc:language>
  <cp:lastModifiedBy>Catuscia Palamidessi</cp:lastModifiedBy>
  <dcterms:modified xsi:type="dcterms:W3CDTF">2001-10-10T10:50:05Z</dcterms:modified>
  <cp:revision>127</cp:revision>
  <dc:subject/>
  <dc:title>PowerPoint Presentation</dc:title>
</cp:coreProperties>
</file>