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BE07A-E6A4-4AC2-89AC-260AF5DB1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D51F3-90BD-4FFE-ADBB-DE9C11A4E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18AE1-5C19-4C6F-9712-45887148EE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82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506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F8E9E-1A8C-4038-9FD9-9C14BC513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7427F-8487-479D-BAFC-D436DC4B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8AD21-8DE8-4241-BE16-E91073F6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9484D-186B-4877-A8FB-56AF34AC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A1ABD-3659-4D81-875A-FA99D34D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EF5C6-60B9-4AD4-B2A0-95F14C35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CDACA-6786-4E47-95FF-B0358352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A6794-0DDA-4F8A-BEE2-BE5B240F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6A868-606A-485D-A70E-EE3B09C9B0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CA3AF-5022-4673-8C6A-DB92DBE0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92566-11EF-4279-B2B8-4A02C501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0898C-340F-42F9-B1DC-0F21DD65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CFB6D-B44A-4915-816D-7374B68C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682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06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49E63-39F2-4A5A-98A6-3DC78997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BCB74-4994-4777-88C7-EB626E259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488F9-8934-404E-BB64-0A16D42F6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99F07-3065-412C-BCD2-C840BB1AF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82503-1789-4B96-A408-9B0873E93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8F83C-E5D8-43A6-B606-384809513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93696-8F61-4D19-A53E-05A5967F1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B414B-EFC4-4538-9ED0-C0DB6976FE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7320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436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685800" y="655272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ctur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7010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E9BF-94D0-4061-B5B9-31CB4420043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AF12-0A00-4C6E-A6B4-A836854C6E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SP tools for verification of Sec Prot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verview of the le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Casper interf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Refinement checking and FD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Model chec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Theorem prov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Comic Sans MS"/>
              </a:rPr>
              <a:t>Safe simplifying transform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0FC95-A7F9-475E-9CF1-CF1EAF06C6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odel checking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del checking bas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The security property we want to verify is expressed as a temporal logic formula 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he protocol is expressed as a system S of processes (the processes involved with the protocol and, possibly, the intrud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S is represented as a labeled transition system T, which is seen as an interpretation of 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Model checking consists in showing that T is a model of F, namely that T validates 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Always possible with Finite State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Also possible for some restricted cases of Infinite State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A66FB-92EE-4B6E-95F5-4917E781A8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odel checking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A  =  a -&gt; b -&gt; 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B  =  c -&gt; d -&gt; B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omic Sans MS"/>
              </a:rPr>
              <a:t>S  =   A |||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mporal operator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 : fore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 : eventual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me formula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 E (a or c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 E 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 F (a or 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1219320"/>
            <a:ext cx="4267080" cy="24818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A  =  a -&gt; A1     A1  =  b -&gt;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B  =  c -&gt; B1      B1  =  d -&gt; B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S   =   A ||| B    S1  = A  ||| 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S2 =  A1 ||| B    S3 = A1 ||| 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4724280"/>
            <a:ext cx="685800" cy="68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3809880"/>
            <a:ext cx="685800" cy="68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467480" y="4724280"/>
            <a:ext cx="685800" cy="68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8" idx="6"/>
            <a:endCxn id="200" idx="4"/>
          </p:cNvCxnSpPr>
          <p:nvPr/>
        </p:nvCxnSpPr>
        <p:spPr>
          <a:xfrm flipV="1">
            <a:off x="6629040" y="5409720"/>
            <a:ext cx="1181880" cy="57240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7" idx="0"/>
            <a:endCxn id="199" idx="2"/>
          </p:cNvCxnSpPr>
          <p:nvPr/>
        </p:nvCxnSpPr>
        <p:spPr>
          <a:xfrm flipH="1" flipV="1" rot="5400000">
            <a:off x="5029200" y="3809520"/>
            <a:ext cx="572040" cy="125784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7" idx="4"/>
            <a:endCxn id="198" idx="2"/>
          </p:cNvCxnSpPr>
          <p:nvPr/>
        </p:nvCxnSpPr>
        <p:spPr>
          <a:xfrm flipH="1" rot="16200000">
            <a:off x="5029200" y="5067000"/>
            <a:ext cx="572400" cy="125784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9" idx="6"/>
            <a:endCxn id="200" idx="0"/>
          </p:cNvCxnSpPr>
          <p:nvPr/>
        </p:nvCxnSpPr>
        <p:spPr>
          <a:xfrm>
            <a:off x="6629040" y="4152600"/>
            <a:ext cx="1181880" cy="57204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5095440" y="382752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244640" y="58672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76800" y="59436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4200" y="38862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0" idx="2"/>
            <a:endCxn id="199" idx="4"/>
          </p:cNvCxnSpPr>
          <p:nvPr/>
        </p:nvCxnSpPr>
        <p:spPr>
          <a:xfrm rot="10800000">
            <a:off x="6285960" y="4494960"/>
            <a:ext cx="1181520" cy="57240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0" idx="2"/>
            <a:endCxn id="198" idx="0"/>
          </p:cNvCxnSpPr>
          <p:nvPr/>
        </p:nvCxnSpPr>
        <p:spPr>
          <a:xfrm flipV="1" rot="10800000">
            <a:off x="6285960" y="5066280"/>
            <a:ext cx="1181520" cy="57204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198" idx="0"/>
            <a:endCxn id="197" idx="6"/>
          </p:cNvCxnSpPr>
          <p:nvPr/>
        </p:nvCxnSpPr>
        <p:spPr>
          <a:xfrm flipV="1" rot="16200000">
            <a:off x="5371560" y="4723560"/>
            <a:ext cx="572040" cy="125820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199" idx="4"/>
            <a:endCxn id="197" idx="6"/>
          </p:cNvCxnSpPr>
          <p:nvPr/>
        </p:nvCxnSpPr>
        <p:spPr>
          <a:xfrm rot="5400000">
            <a:off x="5371200" y="4152600"/>
            <a:ext cx="572400" cy="1258200"/>
          </a:xfrm>
          <a:prstGeom prst="curved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5560560" y="449568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4280" y="45720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1280" y="518148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03560" y="52578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07000" y="518148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02680" y="5486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02680" y="58672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D9ABC-BB50-4E66-B5BF-69D93BFDA9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orem proving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ed on a set of inference rules that model a satisfiability relation 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S sat P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xample: parallel ru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orall  i.  (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sat (R precedes T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|||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sat (R precedes T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erties of the inference syste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Semiautomatic (invariant needed for recursive definition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Sound and relatively comple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the properties of the Yahalom protocol seen in previous lecture can be easily verified using this system (see proofs in the book of Ryan and Schneid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3352680"/>
            <a:ext cx="5181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BA8FC-066B-4A91-BFB3-387FA2F2F5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 Casper interface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sper is essentially a compil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1905120"/>
            <a:ext cx="152388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3505320"/>
            <a:ext cx="1676520" cy="7617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4952880"/>
            <a:ext cx="1523880" cy="914400"/>
          </a:xfrm>
          <a:prstGeom prst="ellipse">
            <a:avLst/>
          </a:prstGeom>
          <a:solidFill>
            <a:srgbClr val="e171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P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55960" y="361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40160" y="370368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s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29718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4197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80480" y="2133720"/>
            <a:ext cx="320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</a:rPr>
              <a:t>Language similar to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</a:rPr>
              <a:t>one used to descr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</a:rPr>
              <a:t>the protocols seen so f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8" idx="1"/>
            <a:endCxn id="101" idx="6"/>
          </p:cNvCxnSpPr>
          <p:nvPr/>
        </p:nvCxnSpPr>
        <p:spPr>
          <a:xfrm rot="10800000">
            <a:off x="3885480" y="2361600"/>
            <a:ext cx="1372320" cy="275400"/>
          </a:xfrm>
          <a:prstGeom prst="curvedConnector5">
            <a:avLst>
              <a:gd name="adj1" fmla="val 47677"/>
              <a:gd name="adj2" fmla="val 50000"/>
              <a:gd name="adj3" fmla="val 47677"/>
            </a:avLst>
          </a:prstGeom>
          <a:ln w="9360">
            <a:solidFill>
              <a:srgbClr val="006600"/>
            </a:solidFill>
            <a:prstDash val="dash"/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4343400" y="5029200"/>
            <a:ext cx="1523880" cy="762120"/>
          </a:xfrm>
          <a:prstGeom prst="triangle">
            <a:avLst>
              <a:gd name="adj" fmla="val 5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ru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03" idx="6"/>
            <a:endCxn id="110" idx="1"/>
          </p:cNvCxnSpPr>
          <p:nvPr/>
        </p:nvCxnSpPr>
        <p:spPr>
          <a:xfrm>
            <a:off x="3886200" y="5409720"/>
            <a:ext cx="8388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1447920" y="4495680"/>
            <a:ext cx="5333760" cy="1600200"/>
          </a:xfrm>
          <a:prstGeom prst="ellipse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4480" y="464832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60880" y="3429000"/>
            <a:ext cx="4051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Written in the func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Programming language Haskell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4" idx="1"/>
            <a:endCxn id="102" idx="3"/>
          </p:cNvCxnSpPr>
          <p:nvPr/>
        </p:nvCxnSpPr>
        <p:spPr>
          <a:xfrm flipV="1" rot="10800000">
            <a:off x="3961800" y="3809880"/>
            <a:ext cx="1219680" cy="76680"/>
          </a:xfrm>
          <a:prstGeom prst="curvedConnector5">
            <a:avLst>
              <a:gd name="adj1" fmla="val 49985"/>
              <a:gd name="adj2" fmla="val 50000"/>
              <a:gd name="adj3" fmla="val 49985"/>
            </a:avLst>
          </a:prstGeom>
          <a:ln w="9360">
            <a:solidFill>
              <a:srgbClr val="0066ff"/>
            </a:solidFill>
            <a:prstDash val="dash"/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B90A4-AB08-4A15-9734-A3B180E575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1523880"/>
            <a:ext cx="1981080" cy="1219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4343400"/>
            <a:ext cx="1600200" cy="1219320"/>
          </a:xfrm>
          <a:prstGeom prst="ellipse">
            <a:avLst/>
          </a:prstGeom>
          <a:solidFill>
            <a:srgbClr val="d876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31240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74240" y="33526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15238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12952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4a8"/>
                </a:solidFill>
                <a:latin typeface="Comic Sans MS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 abstract description of the protoco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re properties are easy to 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2819520"/>
            <a:ext cx="5029200" cy="23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transformation preserving the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ually this means that the implementation must be </a:t>
            </a:r>
            <a:r>
              <a:rPr b="0" lang="en-US" sz="1800" spc="-1" strike="noStrike">
                <a:solidFill>
                  <a:srgbClr val="0099ff"/>
                </a:solidFill>
                <a:latin typeface="Tahoma"/>
              </a:rPr>
              <a:t>less nondeterminist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an the specific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Question: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wh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541008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76b5"/>
                </a:solidFill>
                <a:latin typeface="Comic Sans MS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formal description of the real system and its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47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85640" y="4648320"/>
            <a:ext cx="47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Answer: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the properties usually are universa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hey must be valid in all r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3FB5C-592B-4362-9189-371ECEA2AF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notion of refin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implementation should be a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refinemen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f the specification, in the sense of preserving its properties. Hence, less nondeterminist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42bf"/>
                </a:solidFill>
                <a:latin typeface="Comic Sans MS"/>
              </a:rPr>
              <a:t>Refinement checking:</a:t>
            </a:r>
            <a:r>
              <a:rPr b="0" lang="en-US" sz="2400" spc="-1" strike="noStrike">
                <a:solidFill>
                  <a:srgbClr val="d842bf"/>
                </a:solidFill>
                <a:latin typeface="Comic Sans MS"/>
              </a:rPr>
              <a:t> checking that the implementation is indeed a refinement of the spec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e8c"/>
                </a:solidFill>
                <a:latin typeface="Comic Sans MS"/>
              </a:rPr>
              <a:t>Obviously, the notion of refinement depends on the </a:t>
            </a:r>
            <a:r>
              <a:rPr b="1" lang="en-US" sz="2400" spc="-1" strike="noStrike">
                <a:solidFill>
                  <a:srgbClr val="00be8c"/>
                </a:solidFill>
                <a:latin typeface="Comic Sans MS"/>
              </a:rPr>
              <a:t>intended semantic</a:t>
            </a:r>
            <a:r>
              <a:rPr b="0" lang="en-US" sz="2400" spc="-1" strike="noStrike">
                <a:solidFill>
                  <a:srgbClr val="00be8c"/>
                </a:solidFill>
                <a:latin typeface="Comic Sans MS"/>
              </a:rPr>
              <a:t>. In CSP traditionally we consider 3 kinds of semantic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e8c"/>
                </a:solidFill>
                <a:latin typeface="Comic Sans MS"/>
              </a:rPr>
              <a:t>Tra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e8c"/>
                </a:solidFill>
                <a:latin typeface="Comic Sans MS"/>
              </a:rPr>
              <a:t>Failur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e8c"/>
                </a:solidFill>
                <a:latin typeface="Comic Sans MS"/>
              </a:rPr>
              <a:t>Failures and Divergen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15621-E47E-483E-A7A0-9247F2B6FC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et of th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quences of visible actions in all possible ru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xample: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A  =   a -&gt; b -&gt; c -&gt; Stop [] b -&gt; c -&gt; a -&gt; Stop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Tr(A)  =  { a.b.c, b.c.a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B  =   a -&gt; Stop ||| b -&gt; c -&gt; Stop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Tr(A)  =  { a.b.c, b.a.c, b.c.a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 that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less nondeterministic than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presents only a subset of the possible runs of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BF493-0D98-456D-AFE8-09E6C6684C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181480" y="4267080"/>
            <a:ext cx="1905120" cy="1447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ant to define formally the notion of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finem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t trace semantics, in such a way that it captures the concept of 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ss non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mic Sans MS"/>
              </a:rPr>
              <a:t>Question: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 what should be the formal definition of “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is a refinement of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” in terms of their trac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304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54640" y="3048120"/>
            <a:ext cx="53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Tr(A)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a subset of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Tr(B)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4038480"/>
            <a:ext cx="1447560" cy="6098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5562720"/>
            <a:ext cx="1170000" cy="609480"/>
          </a:xfrm>
          <a:prstGeom prst="ellipse">
            <a:avLst/>
          </a:prstGeom>
          <a:solidFill>
            <a:srgbClr val="d876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4906800"/>
            <a:ext cx="355680" cy="489240"/>
          </a:xfrm>
          <a:prstGeom prst="downArrow">
            <a:avLst>
              <a:gd name="adj1" fmla="val 50000"/>
              <a:gd name="adj2" fmla="val 3438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88640" y="49528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4800600"/>
            <a:ext cx="1143000" cy="685800"/>
          </a:xfrm>
          <a:prstGeom prst="ellipse">
            <a:avLst/>
          </a:prstGeom>
          <a:solidFill>
            <a:srgbClr val="e171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51720" y="43434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D8C9A-007C-48DC-B6F0-C09696343A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943600" y="4114800"/>
            <a:ext cx="289548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mits of trace semantic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t is </a:t>
            </a:r>
            <a:r>
              <a:rPr b="1" lang="en-US" sz="2000" spc="-1" strike="noStrike">
                <a:solidFill>
                  <a:srgbClr val="008080"/>
                </a:solidFill>
                <a:latin typeface="Comic Sans MS"/>
              </a:rPr>
              <a:t>not compositional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. Namely, trace refin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is not preserved under context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This means that the analysis based on traces canno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be performed modularly: it must be performed 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the whole system at on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ample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 = a -&gt; (b -&gt; Stop [] c -&gt; Stop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  =  a -&gt; Stop [] a -&gt; c -&gt; Sto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5486400"/>
            <a:ext cx="0" cy="45720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23520" y="5943600"/>
            <a:ext cx="304920" cy="38088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943600"/>
            <a:ext cx="304920" cy="38088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819520" y="5486400"/>
            <a:ext cx="304560" cy="3808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5486400"/>
            <a:ext cx="304920" cy="3808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5867280"/>
            <a:ext cx="0" cy="4572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5867280"/>
            <a:ext cx="0" cy="4572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03360" y="55040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6840" y="58672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4200" y="59151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2040" y="54100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2200" y="54100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13160" y="59436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34760" y="594360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97400" y="5199120"/>
            <a:ext cx="127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Tr(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Tr(B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 a.b, a.c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5880" y="4191120"/>
            <a:ext cx="2667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C  =  a -&gt; b  -&gt; 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Tr(C || A)  =  {a.b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/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Tr(C || B)  =  {a.b , a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89480" y="49528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0720" y="49528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304C8-C975-491C-BB0B-D06A56645C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ronger, compositional semant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Failure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is semantics encodes the brancing structure of a process by representing, after each partial trace, the set of actions that are not allow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notion of refinement is defined in such a way that </a:t>
            </a: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 refinement of 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but not vice vers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This notion of refinement is preserved under closure on possible contex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2378160" y="3564000"/>
            <a:ext cx="0" cy="45720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072880" y="4021200"/>
            <a:ext cx="304920" cy="38088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78160" y="4021200"/>
            <a:ext cx="304560" cy="380880"/>
          </a:xfrm>
          <a:prstGeom prst="line">
            <a:avLst/>
          </a:prstGeom>
          <a:ln w="9360">
            <a:solidFill>
              <a:srgbClr val="d94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368160" y="3564000"/>
            <a:ext cx="304920" cy="3808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73440" y="3564000"/>
            <a:ext cx="304920" cy="3808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78360" y="3944880"/>
            <a:ext cx="0" cy="4572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68520" y="3944880"/>
            <a:ext cx="0" cy="4572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2720" y="35812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36200" y="39448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43560" y="39924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21040" y="34876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11560" y="34876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62520" y="40212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84120" y="402120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59840" y="3276720"/>
            <a:ext cx="412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F(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=  { &lt;a, {a}&gt;,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/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F(B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=  { &lt;a, {a,b}&gt;, &lt;a, {a,c}&gt; ,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38480" y="30304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49a6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20080" y="30304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64679-416E-4713-BC64-F21F897A8F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finement checking and FD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ronger, compositional semant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Failures and Divergences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semantics encodes all the information of Failure semantics, plus additional information about divergences (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ivelock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. As such, it is suitable also for the analysis of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livene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roperties (not only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afe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Comic Sans MS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considered the standard model of CS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DR</a:t>
            </a:r>
            <a:r>
              <a:rPr b="0" lang="en-U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ans: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Failure and Divergences Refin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utomatic refinement check for finite state systems (they can have infinite computations, but the number of states is finit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33526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828800" y="3733920"/>
            <a:ext cx="533520" cy="45720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3581280"/>
            <a:ext cx="0" cy="15264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08280" y="359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33720" y="34369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825720" y="3639960"/>
            <a:ext cx="533520" cy="4572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5200" y="35053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16160" y="3124080"/>
            <a:ext cx="319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Comic Sans MS"/>
              </a:rPr>
              <a:t>These two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Comic Sans MS"/>
              </a:rPr>
              <a:t>Have the same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Comic Sans MS"/>
              </a:rPr>
              <a:t>but different diverg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7FC47-246E-4E4A-847A-15BD184370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09:27:11Z</dcterms:created>
  <dc:creator>Catuscia Palamidessi</dc:creator>
  <dc:description/>
  <dc:language>en-US</dc:language>
  <cp:lastModifiedBy>Catuscia Palamidessi</cp:lastModifiedBy>
  <dcterms:modified xsi:type="dcterms:W3CDTF">2001-10-10T10:50:05Z</dcterms:modified>
  <cp:revision>127</cp:revision>
  <dc:subject/>
  <dc:title>PowerPoint Presentation</dc:title>
</cp:coreProperties>
</file>