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73617-C614-4F92-8365-CCA15B26B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C9EF4-027A-47A6-9EFD-C4DE1B23C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893E6-371B-433E-AEF1-3973B9B0A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82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506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BA582-C4E8-49AF-A001-933F37112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CDCD1-67BB-4672-AA2F-7A613E64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CF323-1781-4286-AC94-D39C6DE1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8C16A-7DBC-4BC9-9752-CB2278C8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B741B-5740-4DF9-906C-ED5091AA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E3DA5-3D51-4AD2-8148-B55CA592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0AD53-6CC6-4231-AA2A-B9094C80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D8EDA-80FF-436C-A9EE-14C92EA0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25CB1-E0F6-411D-AA8A-DE7A41E2D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BFE8C-1175-4767-B148-28650871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6CDD3-CB55-439D-A69D-9E5C8FE9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3D5AE-85AD-463E-8821-0B6D76E6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B3AF8-EC9F-4B78-A30A-D092D5AB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82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06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41E74-755B-4F65-8A32-2B07F3D6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F0890-1656-4D4B-9609-521E3D0A2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5BC2F-ABFF-441B-8B63-354673EB0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5DD37-15A2-4400-91A4-EE388578E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6D31E-D819-4DAC-AA58-15471A444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253DE-7CE9-418C-9FD6-C5FCC5FA6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7A3D5-A892-42C1-A6C8-B6F3688CE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1C3A1-5261-4A2E-95F1-90EA69A79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7320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436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685800" y="65527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ctur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7010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22FB-EAA6-4B6D-BDFD-1BC23729EA3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C14C-A0CD-4529-A68E-E70BEAB4D2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pressing Security Properties in CSP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properties: the goals that a protocol is meant to satisfy, relatively to specific kinds and levels of threat – the intruders and their capabil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ill consider the following security properti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mic Sans MS"/>
              </a:rPr>
              <a:t>Secrec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information leak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mic Sans MS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falsification of ide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mic Sans MS"/>
              </a:rPr>
              <a:t>Non-repudi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vidence of the involvement of the other par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mic Sans MS"/>
              </a:rPr>
              <a:t>Anonym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ecting the identity of agents wrt particular event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5C31C-4083-4049-92A4-11FBC4508A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perty to be verified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Signal.Claim_Secret.a.b.m </a:t>
            </a:r>
            <a:r>
              <a:rPr b="0" lang="en-US" sz="2400" spc="-1" strike="noStrike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Traces(System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Wingdings 3"/>
                <a:ea typeface="Wingdings 3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not(leak.m </a:t>
            </a:r>
            <a:r>
              <a:rPr b="0" lang="en-US" sz="2400" spc="-1" strike="noStrike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Traces(System)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As usual, this property can be verified automatically by checking the tr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939DF-8112-4919-8487-4DB0E0F467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uthentication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18600" y="1006560"/>
            <a:ext cx="859644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Comic Sans MS"/>
              </a:rPr>
              <a:t>The CSP approach is based on inserting signal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Running.a.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in 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s protoco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ent 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executing a protocol run apparently with 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Commit.b.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in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s protoco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ent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as completed a protocol run apparently with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uthentication is achiev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f 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Running.a.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ways precedes 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Commit.b.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the traces of the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aker or stronger forms of authentication can be achieved by variations of the parameters of these signals and the constraints on th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2B0CE-28D1-4665-B92A-CD84A6A5B0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uthentication in the Yahalom Pr.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Yahalom Protocol aims at providing 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authentication of both parties 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uthentication of the initiator to the responder, and vicever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ill analyze the two authentication properties separate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requires two separate  enhancements of the protoc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C9A59-08A2-4FFA-914B-E6E57E5991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initiato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description of the two parties - Enhanc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itiator’(a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v?b: Agen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a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receive.J.a{b. 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ServerKey(a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Key          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Running_Initiator.a.b.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Nonce 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m.{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T       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ssion(a,b,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Responder’(b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) =</a:t>
            </a: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(receive.a.b.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nd.b.J.b .{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Key         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receive.a.b.{a. 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{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Nonce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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 Commit_Responder.b.a.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T              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ssion(b,a,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8C4C8-CB80-4D82-BC98-837D86CE0A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initiato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1860480" y="219384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213372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99160" y="211788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6019920"/>
            <a:ext cx="15228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82720" y="4890960"/>
            <a:ext cx="15228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67200" y="1649520"/>
            <a:ext cx="122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51680" y="1646280"/>
            <a:ext cx="156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e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5040" y="161604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09520" y="2622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2589120"/>
            <a:ext cx="1428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6520" y="3068640"/>
            <a:ext cx="2276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.{a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23520" y="3828960"/>
            <a:ext cx="369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b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a)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a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31800" y="5326200"/>
            <a:ext cx="25369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a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{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k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32240" y="5872320"/>
            <a:ext cx="2273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Com_Resp.b.a.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56600" y="4775040"/>
            <a:ext cx="2096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Run_Init.a.b.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r>
              <a:rPr b="0" lang="en-US" sz="16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59040" y="2987640"/>
            <a:ext cx="233208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3459240"/>
            <a:ext cx="242244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844280" y="4251240"/>
            <a:ext cx="475452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98960" y="571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9040" y="5745240"/>
            <a:ext cx="233208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87680" y="573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D5F3F-758C-464D-ABF9-90D5B117E8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initiato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perty to be verified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signal. Running_Initiator.a.b.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r>
              <a:rPr b="0" lang="en-US" sz="24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ce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signal.Commit_Responder.b.a.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ll the Traces(Syst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Again, this property can be verified automatically by checking the tr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20A52-7AB2-4D99-9E42-084424A874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responde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description of the two parties - Enhanc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itiator’(a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v?b: Agen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a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receive.J.a{b. 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ServerKey(a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Key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m.{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Nonce        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Commit_Initiator.a.b.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T     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ssion(a,b,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Responder’(b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) =</a:t>
            </a: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(receive.a.b.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nd.b.J.b .{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Key          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 Running_Responder.b.a.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Nonce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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receive.a.b.{a. 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{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T              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ssion(b,a,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26620-0D20-411A-84F4-76FE42D56B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responde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2165400" y="219384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213372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04080" y="211788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19720" y="3003480"/>
            <a:ext cx="15228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71800" y="5730840"/>
            <a:ext cx="15228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2120" y="1649520"/>
            <a:ext cx="122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56600" y="1646280"/>
            <a:ext cx="156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e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29600" y="161604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14440" y="2622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2192400"/>
            <a:ext cx="1428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28200" y="3313080"/>
            <a:ext cx="2276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.{a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28080" y="3828960"/>
            <a:ext cx="369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b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a)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a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68400" y="4579920"/>
            <a:ext cx="25369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a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{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k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36440" y="2854440"/>
            <a:ext cx="1965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Run_Resp.b.a.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61520" y="5597640"/>
            <a:ext cx="2096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Run_Init.a.b.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r>
              <a:rPr b="0" lang="en-US" sz="16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93840" y="2622600"/>
            <a:ext cx="233208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79840" y="3718080"/>
            <a:ext cx="242244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149200" y="4251240"/>
            <a:ext cx="475452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03880" y="571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93840" y="5089680"/>
            <a:ext cx="233208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92600" y="573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5E52F-C813-420E-B81C-826A387189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responde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perty to be verified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signal. Running_Responder.b.a.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ce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signal.Commit_Initiator.a.b.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ll the Traces(Syst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Again, this property can be verified automatically by checking the tr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89887-C866-4664-AA3A-C43155CA4D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Non-repudiation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rovide the parties of an interaction with evidence so that later they cannot deny having participa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 Zhou-Gollmann protoc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ssage 1   a -&gt; b :  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O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b.l.c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ssage 2   b -&gt; a :  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l.c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ssage 3   a -&gt; j :  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U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ssage 4   b &lt;-&gt; j :  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ssage 5   a &lt;-&gt; j :  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k(m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where m is the message to be transmit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re the parties, j is the trusted ser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NRO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c. are flags identifying the steps.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s a no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 S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tc. are signature keys known only to their own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an prove that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as got the message by present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l.c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b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 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1D3F3-E544-48E6-B579-3FFAD8099D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ecrecy and authentication 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re both safety properties: </a:t>
            </a:r>
            <a:r>
              <a:rPr b="0" i="1" lang="en-US" sz="2400" spc="-1" strike="noStrike">
                <a:solidFill>
                  <a:srgbClr val="008080"/>
                </a:solidFill>
                <a:latin typeface="Comic Sans MS"/>
              </a:rPr>
              <a:t>a certain bad thing should not happ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Explicit annota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 the CSP approach, these properties are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d by “enhancing” the code of the processes with explicit signal claiming the success of the protocol wrt the  intended proper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crecy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Claim_secret. 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ormation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as not become known to the intru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uthentica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Run with A ,  Commit with 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atching of these two events guarrantees the identities of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ED599-EE9F-4C79-B770-00F47AFAF5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The Zhou-Gollmann protocol</a:t>
            </a:r>
            <a:endParaRPr b="1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Non-Repudiation of Recipient: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n prove tha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s got the message by present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.a.l.c}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b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 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Non-Repudiation of Origin: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n prove tha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s sent the message by present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R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.b.l.c}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a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 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01D6E-24B2-4D8A-9E0C-B3E68097C4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SP analysis of Non-Repudiation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ation of th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hou-Gollmann protoco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CS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Agent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S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]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Agent, m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S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 send.a.b.m -&gt; Agent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]  receive.a.b?m -&gt; Agent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close(S U {m}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] ftp.a.Jeeves?m -&gt; Agent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close(S U {m}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]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m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S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evidence.a.m -&gt; Agent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Close(S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epresent the capability of inferring new infor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erver(S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receive.a.Jeeves?. {f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SUB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.b.l.k}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-&gt; Server(S U {f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.a.b.l.k}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a50021"/>
                </a:solidFill>
                <a:latin typeface="Comic Sans MS"/>
              </a:rPr>
              <a:t>j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[] 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b 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 Agent, m 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 S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ftp.a.Jeeves.m -&gt; Server(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05FB4-1D8A-4ED2-8075-4CD85495CB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505320" y="4800600"/>
            <a:ext cx="2117520" cy="8240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67080" y="3048120"/>
            <a:ext cx="641520" cy="6699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1981080"/>
            <a:ext cx="641520" cy="669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10080" y="1981080"/>
            <a:ext cx="641520" cy="669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9" idx="3"/>
            <a:endCxn id="247" idx="1"/>
          </p:cNvCxnSpPr>
          <p:nvPr/>
        </p:nvCxnSpPr>
        <p:spPr>
          <a:xfrm flipH="1" rot="16200000">
            <a:off x="2031120" y="3738960"/>
            <a:ext cx="2661480" cy="288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50" idx="5"/>
            <a:endCxn id="247" idx="3"/>
          </p:cNvCxnSpPr>
          <p:nvPr/>
        </p:nvCxnSpPr>
        <p:spPr>
          <a:xfrm rot="5400000">
            <a:off x="4459320" y="3715200"/>
            <a:ext cx="2661480" cy="335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7" idx="1"/>
            <a:endCxn id="249" idx="2"/>
          </p:cNvCxnSpPr>
          <p:nvPr/>
        </p:nvCxnSpPr>
        <p:spPr>
          <a:xfrm rot="10800000">
            <a:off x="3123360" y="2315520"/>
            <a:ext cx="381960" cy="2898000"/>
          </a:xfrm>
          <a:prstGeom prst="curvedConnector5">
            <a:avLst>
              <a:gd name="adj1" fmla="val 160000"/>
              <a:gd name="adj2" fmla="val 49993"/>
              <a:gd name="adj3" fmla="val 16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7" idx="3"/>
            <a:endCxn id="250" idx="6"/>
          </p:cNvCxnSpPr>
          <p:nvPr/>
        </p:nvCxnSpPr>
        <p:spPr>
          <a:xfrm flipV="1">
            <a:off x="5622480" y="2315880"/>
            <a:ext cx="429480" cy="2898000"/>
          </a:xfrm>
          <a:prstGeom prst="curvedConnector5">
            <a:avLst>
              <a:gd name="adj1" fmla="val 153271"/>
              <a:gd name="adj2" fmla="val 49993"/>
              <a:gd name="adj3" fmla="val 1532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8" idx="3"/>
            <a:endCxn id="247" idx="0"/>
          </p:cNvCxnSpPr>
          <p:nvPr/>
        </p:nvCxnSpPr>
        <p:spPr>
          <a:xfrm flipH="1" rot="16200000">
            <a:off x="3871800" y="4107960"/>
            <a:ext cx="1181880" cy="203760"/>
          </a:xfrm>
          <a:prstGeom prst="curvedConnector5">
            <a:avLst>
              <a:gd name="adj1" fmla="val 54143"/>
              <a:gd name="adj2" fmla="val 49911"/>
              <a:gd name="adj3" fmla="val 541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7" idx="0"/>
            <a:endCxn id="248" idx="5"/>
          </p:cNvCxnSpPr>
          <p:nvPr/>
        </p:nvCxnSpPr>
        <p:spPr>
          <a:xfrm flipH="1" flipV="1" rot="5400000">
            <a:off x="4098600" y="4083840"/>
            <a:ext cx="1181880" cy="251640"/>
          </a:xfrm>
          <a:prstGeom prst="curvedConnector5">
            <a:avLst>
              <a:gd name="adj1" fmla="val 45825"/>
              <a:gd name="adj2" fmla="val 50000"/>
              <a:gd name="adj3" fmla="val 458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248" idx="7"/>
            <a:endCxn id="250" idx="3"/>
          </p:cNvCxnSpPr>
          <p:nvPr/>
        </p:nvCxnSpPr>
        <p:spPr>
          <a:xfrm flipH="1" flipV="1" rot="5400000">
            <a:off x="4862520" y="2504520"/>
            <a:ext cx="594360" cy="68976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"/>
          <p:cNvCxnSpPr>
            <a:stCxn id="248" idx="1"/>
            <a:endCxn id="249" idx="5"/>
          </p:cNvCxnSpPr>
          <p:nvPr/>
        </p:nvCxnSpPr>
        <p:spPr>
          <a:xfrm flipV="1" rot="16200000">
            <a:off x="3719160" y="2504160"/>
            <a:ext cx="594360" cy="68976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9" name=""/>
          <p:cNvCxnSpPr>
            <a:stCxn id="250" idx="0"/>
          </p:cNvCxnSpPr>
          <p:nvPr/>
        </p:nvCxnSpPr>
        <p:spPr>
          <a:xfrm flipH="1" flipV="1" rot="5400000">
            <a:off x="5532120" y="1569240"/>
            <a:ext cx="610200" cy="213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4004640" y="500220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378480" y="350532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.*.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360" y="38862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.*.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28480" y="358128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.*.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32960" y="403848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.*.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82080" y="274320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.*.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84360" y="281952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.*.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6" idx="2"/>
          </p:cNvCxnSpPr>
          <p:nvPr/>
        </p:nvCxnSpPr>
        <p:spPr>
          <a:xfrm flipH="1" rot="16200000">
            <a:off x="2540880" y="2768400"/>
            <a:ext cx="167040" cy="100080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68" name=""/>
          <p:cNvCxnSpPr>
            <a:stCxn id="265" idx="2"/>
          </p:cNvCxnSpPr>
          <p:nvPr/>
        </p:nvCxnSpPr>
        <p:spPr>
          <a:xfrm rot="5400000">
            <a:off x="6390000" y="2738880"/>
            <a:ext cx="167040" cy="90864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3799800" y="25146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tp.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35000" y="251460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tp.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49" idx="0"/>
          </p:cNvCxnSpPr>
          <p:nvPr/>
        </p:nvCxnSpPr>
        <p:spPr>
          <a:xfrm flipV="1" rot="16200000">
            <a:off x="3017160" y="1553400"/>
            <a:ext cx="610200" cy="244800"/>
          </a:xfrm>
          <a:prstGeom prst="curvedConnector5">
            <a:avLst>
              <a:gd name="adj1" fmla="val 50000"/>
              <a:gd name="adj2" fmla="val 49926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2026080" y="160020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idence.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33080" y="16002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idence.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 Zhou-Gollmann protocol in CSP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AB75E-ABF3-4EC4-89EF-DB1A5D27D6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Analysis of the Zhou-Gollmann protocol</a:t>
            </a:r>
            <a:endParaRPr b="1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Non-Repudiation of Recipien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vidence.a.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l.c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b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r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nt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l.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vidence.a.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r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ceive.a.j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Non-Repudiation of Origin: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vidence.b.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O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b.l.c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r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nt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O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b.l.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vidence.b.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r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nt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U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b.l.k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342"/>
                </a:solidFill>
                <a:latin typeface="Comic Sans MS"/>
              </a:rPr>
              <a:t>Again, these properties on traces can be proven automatical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82BA8-22DD-4EF1-8715-E150D453E1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543640" y="2590920"/>
            <a:ext cx="15238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96920" y="2590920"/>
            <a:ext cx="152424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ecrecy and authentication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330660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5904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0540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8824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2940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93320" y="15699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48560" y="1557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98160" y="15699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48000" y="160668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94000" y="161784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39680" y="15699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5916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5748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63720" y="32767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7960" y="3292560"/>
            <a:ext cx="0" cy="1203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31000" y="3292560"/>
            <a:ext cx="0" cy="1203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2819520"/>
            <a:ext cx="56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63720" y="30481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9400" y="28195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05400" y="3048120"/>
            <a:ext cx="58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63720" y="5181480"/>
            <a:ext cx="29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763720" y="5181480"/>
            <a:ext cx="29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846520" y="5037840"/>
            <a:ext cx="1188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58680" y="353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9880" y="3324240"/>
            <a:ext cx="118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0" y="3914640"/>
            <a:ext cx="92160" cy="92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86560" y="5270400"/>
            <a:ext cx="91800" cy="92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46320" y="5133960"/>
            <a:ext cx="92160" cy="92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5960" y="499572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im_Secret.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36240" y="51325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mit with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50240" y="380988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B0FCD-E8DD-4B2C-832A-CDDA498059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ample: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839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toc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1   a -&gt; b : a.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2   b -&gt; s : b.{a.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3   s -&gt; a : {b.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erverKey(a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a.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4   a -&gt; b : {a.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erverKey(b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{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ka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Authentication of the participa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2800" spc="-1" strike="noStrike" baseline="-25000">
                <a:solidFill>
                  <a:srgbClr val="008080"/>
                </a:solidFill>
                <a:latin typeface="Comic Sans MS"/>
              </a:rPr>
              <a:t>ab 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should remain secr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We may require secrecy also on n</a:t>
            </a:r>
            <a:r>
              <a:rPr b="0" lang="en-US" sz="2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30E25-74D7-467B-82D9-CCB0EB1BF9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747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SP description of the two parties - Origi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itiator(a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v?b: Age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nd.a.b.a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[]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receive.J.a{b. 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erverKey(a)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0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Key         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nd.a.b.m.{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0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              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000" spc="-1" strike="noStrike" baseline="-36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Nonce       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ssion(a,b,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                 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m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Responder(b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]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receive.a.b.a.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 </a:t>
            </a:r>
            <a:r>
              <a:rPr b="0" lang="en-US" sz="20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end.b.J.b .{a.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ServerKey(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20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Key          </a:t>
            </a:r>
            <a:r>
              <a:rPr b="0" lang="en-US" sz="20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receive.a.b.{a. k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ServerKey(b)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.{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20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n</a:t>
            </a:r>
            <a:r>
              <a:rPr b="0" lang="en-US" sz="2000" spc="-1" strike="noStrike" baseline="-36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Nonce</a:t>
            </a:r>
            <a:r>
              <a:rPr b="0" lang="en-US" sz="2000" spc="-1" strike="noStrike">
                <a:solidFill>
                  <a:srgbClr val="008080"/>
                </a:solidFill>
                <a:latin typeface="Wingdings 3"/>
                <a:ea typeface="Wingdings 3"/>
              </a:rPr>
              <a:t>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ession(b,a,k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)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m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5DD21-E8B2-4051-9D84-EC7AF3B927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description of the two parties - Enhanc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itiator’(a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v?b: Agen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a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receive.J.a{b. 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ServerKey(a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Key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m.{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Nonce       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Claim_Secret.a.b. k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T    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ssion(a,b,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Responder’(b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) =</a:t>
            </a: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(receive.a.b.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nd.b.J.b .{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Key         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receive.a.b.{a. 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{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Nonce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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Claim_Secret.a.b. k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T              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ssion(b,a,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4AC32-B58F-45C4-A4B9-399D989EA8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SP description of the ser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rver(J,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[]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receive.b.J.b .{a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erverKey(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,B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Agent          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nd.J.a. {b. 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erverKey(a)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{a.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erverKey(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000" spc="-1" strike="noStrike" baseline="-36000">
                <a:solidFill>
                  <a:srgbClr val="3333cc"/>
                </a:solidFill>
                <a:latin typeface="Comic Sans MS"/>
              </a:rPr>
              <a:t>b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2000" spc="-1" strike="noStrike" baseline="-36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Nonce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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rver(J,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Server(J)   =  ||| Server(J,k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)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                  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k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 Keys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462F0-4359-4E05-B888-E0C892F3DB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description of the intru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ruder(X) = learn?m: messages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ruder(close(X U {m}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ay!m: X /\ messages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ruder(X)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lose(X)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esents all the possible information that the attacker can infer from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ypically we assu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{k,m}  |-  encript(k,m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{encript(k,m), k</a:t>
            </a:r>
            <a:r>
              <a:rPr b="0" lang="en-US" sz="1600" spc="-1" strike="noStrike" baseline="30000">
                <a:solidFill>
                  <a:srgbClr val="009900"/>
                </a:solidFill>
                <a:latin typeface="Comic Sans MS"/>
              </a:rPr>
              <a:t>-1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}  |-  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{Sq&lt;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,…,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n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&gt;} |- 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{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,…,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n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}  |-  Sq&lt;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,…,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n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&gt;}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C8B41-129C-4198-903E-81B66A3D06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03160" y="2828880"/>
            <a:ext cx="1908360" cy="17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0811400">
            <a:off x="3323880" y="5023800"/>
            <a:ext cx="2884320" cy="1500120"/>
          </a:xfrm>
          <a:custGeom>
            <a:avLst/>
            <a:gdLst>
              <a:gd name="textAreaLeft" fmla="*/ 634320 w 2884320"/>
              <a:gd name="textAreaRight" fmla="*/ 2250000 w 2884320"/>
              <a:gd name="textAreaTop" fmla="*/ 329760 h 1500120"/>
              <a:gd name="textAreaBottom" fmla="*/ 11703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3692520" y="2538360"/>
            <a:ext cx="2233440" cy="17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75360" y="2889360"/>
            <a:ext cx="1847880" cy="170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00040" y="3282840"/>
            <a:ext cx="762120" cy="7621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96280" y="3354480"/>
            <a:ext cx="761760" cy="7617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9880" y="2936880"/>
            <a:ext cx="914400" cy="914400"/>
          </a:xfrm>
          <a:prstGeom prst="rect">
            <a:avLst/>
          </a:prstGeom>
          <a:solidFill>
            <a:srgbClr val="66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e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8091000">
            <a:off x="4319280" y="5713200"/>
            <a:ext cx="914400" cy="914400"/>
          </a:xfrm>
          <a:prstGeom prst="rtTriangle">
            <a:avLst/>
          </a:prstGeom>
          <a:solidFill>
            <a:srgbClr val="ff7c8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49600" y="5781600"/>
            <a:ext cx="6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17840" y="5375160"/>
            <a:ext cx="98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ake.Anne.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39040" y="5199120"/>
            <a:ext cx="89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ke.x.B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87920" y="3079800"/>
            <a:ext cx="50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1760" y="3772080"/>
            <a:ext cx="67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920" y="545004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00920" y="547704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1160" y="300024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11720" y="421488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31520" y="38815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49200" y="4141800"/>
            <a:ext cx="50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2520" y="1221840"/>
            <a:ext cx="914400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or’(Anne,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S  |||  Responder(Bob,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S  |||  Server(Jeeves)S  |||  Intruder’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S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 = [fake,take/receive,send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’ = [take.x.y/learn][fake.x.y, leak/say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7" name=""/>
          <p:cNvCxnSpPr>
            <a:stCxn id="154" idx="1"/>
            <a:endCxn id="147" idx="2"/>
          </p:cNvCxnSpPr>
          <p:nvPr/>
        </p:nvCxnSpPr>
        <p:spPr>
          <a:xfrm flipV="1">
            <a:off x="5098680" y="5778000"/>
            <a:ext cx="749880" cy="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47" idx="0"/>
            <a:endCxn id="154" idx="3"/>
          </p:cNvCxnSpPr>
          <p:nvPr/>
        </p:nvCxnSpPr>
        <p:spPr>
          <a:xfrm>
            <a:off x="3686040" y="5771880"/>
            <a:ext cx="76608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3" idx="1"/>
            <a:endCxn id="149" idx="1"/>
          </p:cNvCxnSpPr>
          <p:nvPr/>
        </p:nvCxnSpPr>
        <p:spPr>
          <a:xfrm flipH="1">
            <a:off x="3692160" y="3394080"/>
            <a:ext cx="6580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49" idx="3"/>
            <a:endCxn id="153" idx="3"/>
          </p:cNvCxnSpPr>
          <p:nvPr/>
        </p:nvCxnSpPr>
        <p:spPr>
          <a:xfrm flipH="1" flipV="1">
            <a:off x="5263920" y="3393720"/>
            <a:ext cx="66240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46" idx="5"/>
            <a:endCxn id="151" idx="5"/>
          </p:cNvCxnSpPr>
          <p:nvPr/>
        </p:nvCxnSpPr>
        <p:spPr>
          <a:xfrm flipH="1" flipV="1">
            <a:off x="2050200" y="3933360"/>
            <a:ext cx="38196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1" idx="4"/>
            <a:endCxn id="146" idx="4"/>
          </p:cNvCxnSpPr>
          <p:nvPr/>
        </p:nvCxnSpPr>
        <p:spPr>
          <a:xfrm flipH="1">
            <a:off x="1757160" y="4044960"/>
            <a:ext cx="2448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2" idx="3"/>
            <a:endCxn id="150" idx="3"/>
          </p:cNvCxnSpPr>
          <p:nvPr/>
        </p:nvCxnSpPr>
        <p:spPr>
          <a:xfrm flipH="1">
            <a:off x="7244640" y="4005360"/>
            <a:ext cx="3625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50" idx="4"/>
            <a:endCxn id="152" idx="4"/>
          </p:cNvCxnSpPr>
          <p:nvPr/>
        </p:nvCxnSpPr>
        <p:spPr>
          <a:xfrm flipH="1" flipV="1">
            <a:off x="7876800" y="4115880"/>
            <a:ext cx="230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46" idx="4"/>
            <a:endCxn id="147" idx="0"/>
          </p:cNvCxnSpPr>
          <p:nvPr/>
        </p:nvCxnSpPr>
        <p:spPr>
          <a:xfrm flipH="1" rot="16200000">
            <a:off x="2132640" y="4219560"/>
            <a:ext cx="1177200" cy="1929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47" idx="2"/>
            <a:endCxn id="146" idx="5"/>
          </p:cNvCxnSpPr>
          <p:nvPr/>
        </p:nvCxnSpPr>
        <p:spPr>
          <a:xfrm flipH="1" flipV="1">
            <a:off x="2431440" y="4336560"/>
            <a:ext cx="3416760" cy="1442160"/>
          </a:xfrm>
          <a:prstGeom prst="curvedConnector5">
            <a:avLst>
              <a:gd name="adj1" fmla="val -17281"/>
              <a:gd name="adj2" fmla="val 33682"/>
              <a:gd name="adj3" fmla="val -172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49" idx="1"/>
            <a:endCxn id="147" idx="0"/>
          </p:cNvCxnSpPr>
          <p:nvPr/>
        </p:nvCxnSpPr>
        <p:spPr>
          <a:xfrm flipV="1" rot="10800000">
            <a:off x="3685320" y="3409560"/>
            <a:ext cx="7200" cy="2363040"/>
          </a:xfrm>
          <a:prstGeom prst="curvedConnector5">
            <a:avLst>
              <a:gd name="adj1" fmla="val 9447368"/>
              <a:gd name="adj2" fmla="val 49992"/>
              <a:gd name="adj3" fmla="val 94473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47" idx="2"/>
            <a:endCxn id="149" idx="3"/>
          </p:cNvCxnSpPr>
          <p:nvPr/>
        </p:nvCxnSpPr>
        <p:spPr>
          <a:xfrm flipV="1">
            <a:off x="5848200" y="3409200"/>
            <a:ext cx="78480" cy="2369160"/>
          </a:xfrm>
          <a:prstGeom prst="curvedConnector5">
            <a:avLst>
              <a:gd name="adj1" fmla="val 758986"/>
              <a:gd name="adj2" fmla="val 50000"/>
              <a:gd name="adj3" fmla="val 758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50" idx="3"/>
            <a:endCxn id="147" idx="0"/>
          </p:cNvCxnSpPr>
          <p:nvPr/>
        </p:nvCxnSpPr>
        <p:spPr>
          <a:xfrm rot="5400000">
            <a:off x="4752000" y="3279600"/>
            <a:ext cx="1426320" cy="3560040"/>
          </a:xfrm>
          <a:prstGeom prst="curvedConnector5">
            <a:avLst>
              <a:gd name="adj1" fmla="val 32289"/>
              <a:gd name="adj2" fmla="val 58333"/>
              <a:gd name="adj3" fmla="val 322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47" idx="2"/>
            <a:endCxn id="150" idx="4"/>
          </p:cNvCxnSpPr>
          <p:nvPr/>
        </p:nvCxnSpPr>
        <p:spPr>
          <a:xfrm flipV="1">
            <a:off x="5848200" y="4595040"/>
            <a:ext cx="2052000" cy="1183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47" idx="2"/>
          </p:cNvCxnSpPr>
          <p:nvPr/>
        </p:nvCxnSpPr>
        <p:spPr>
          <a:xfrm>
            <a:off x="5848200" y="5778000"/>
            <a:ext cx="1666080" cy="607320"/>
          </a:xfrm>
          <a:prstGeom prst="curvedConnector5">
            <a:avLst>
              <a:gd name="adj1" fmla="val 60816"/>
              <a:gd name="adj2" fmla="val 50000"/>
              <a:gd name="adj3" fmla="val 608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7244640" y="58881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e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2713B-7559-4855-A443-F8A7042BCD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09:27:11Z</dcterms:created>
  <dc:creator>Catuscia Palamidessi</dc:creator>
  <dc:description/>
  <dc:language>en-US</dc:language>
  <cp:lastModifiedBy>Catuscia Palamidessi</cp:lastModifiedBy>
  <dcterms:modified xsi:type="dcterms:W3CDTF">2001-10-03T11:07:46Z</dcterms:modified>
  <cp:revision>97</cp:revision>
  <dc:subject/>
  <dc:title>PowerPoint Presentation</dc:title>
</cp:coreProperties>
</file>