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782E-CCFD-4BB8-B06C-06ACAD9E2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257A-66BD-48F4-9081-C6207E057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5160-0B5E-40C1-A1E6-B9D68BA4D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50BD-3616-4954-B6CA-A4637C183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EFB84-2FB6-4C45-8AE4-E07AC9B7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35F59-204F-4501-BE4C-919EBA8E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B7B9-681A-4987-9A5E-FED33DC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BE5A5-3A86-4B4D-90A0-4A541B7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F78B9-3789-47C0-AD4A-F3C55C6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E372E-FEC3-4E4D-82AA-F3EC77A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5015C-B52F-4308-A20B-3A116B4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63EB-6DB3-44BF-8CC2-C79EE0F20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6421-AA8A-41C0-A6F0-91A8822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56DFE-957B-40AE-A324-7FF02BB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9EF66-9C6C-4B2A-9EDB-D3938379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D7D5-9F10-432A-B6F2-8E7D7301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331F-FA60-4FEB-A8D9-93BCFD5B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1277-62D3-48FA-AAC0-BE6CCC7B3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7B61-01EA-4142-8963-BF915022C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4BE8-7B06-40DA-9163-0D74F13E3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3875-A38B-4954-915D-5FA85EE1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341C-48E0-42DB-AC89-F7326E9C2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022C-DC01-4E6C-A3EF-59F39E99A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4579-2931-4BD4-B90A-F49FC41B2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9BFF-767D-4C7C-925A-AD7C68874A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ABB2-ED03-457D-AE99-7272C77D66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pressing Security Properties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roperties: the goals that a protocol is meant to satisfy, relatively to specific kinds and levels of threat – the intruders and their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consider the following security proper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Secre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formation leak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falsification of ide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Non-repu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idence of the involvement of the other par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ing the identity of agents wrt particular ev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C475-FC0E-4FCE-8FEC-55BA6D3D8D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Signal.Claim_Secret.a.b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Wingdings 3"/>
                <a:ea typeface="Wingdings 3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not(leak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s usual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F1F9-CBF8-4FB1-98F1-A809A8173A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8600" y="1006560"/>
            <a:ext cx="85964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omic Sans MS"/>
              </a:rPr>
              <a:t>The CSP approach is based on inserting sign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executing a protocol run apparently with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completed a protocol run apparently with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hentication is achi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ways precedes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traces of th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er or stronger forms of authentication can be achieved by variations of the parameters of these signals and the constraints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3741-2ED0-4C38-A3BE-834CD02007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 in the Yahalom Pr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Yahalom Protocol aims at providing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uthentication of both parties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thentication of the initiator to the responder, and viceve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analyze the two authentication properties separ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two separate  enhancements of 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AE3C-B374-4C75-BE5F-565082431F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Running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Commit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DDC1-0128-46E9-BA85-1B54332FB8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6048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916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6019920"/>
            <a:ext cx="15228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2720" y="489096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720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168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504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952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8912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6520" y="306864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352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1800" y="532620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2240" y="5872320"/>
            <a:ext cx="227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Com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6600" y="47750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9876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45924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4428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8960" y="57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9040" y="57452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8768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D6C1-4C88-4E71-B63C-42CD92CD6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2365-90F3-4EF5-84D7-F7F52AFAB0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1304-728A-4CD2-B52D-FC64C7F54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16540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408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03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1800" y="573084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212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1444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19240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8200" y="331308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08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8400" y="457992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440" y="2854440"/>
            <a:ext cx="1965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1520" y="55976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3840" y="262260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71808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4920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03880" y="57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3840" y="508968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0DB9-1CA7-4BB2-B66F-AD13CBB7BE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FC09-B449-4F93-909B-EC2DA45ED9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de the parties of an interaction with evidence so that later they cannot deny having particip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 Zhou-Gollman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1   a -&gt; b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2   b -&gt; a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3   a 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4   b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5   a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(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m is the message to be transmit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the parties, j is the trusted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c. are flags identifying the steps.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n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tc. are signature keys known only to their ow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68FC-61CC-40C6-AFC9-EF322E3CDF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 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both safety properties: </a:t>
            </a:r>
            <a:r>
              <a:rPr b="0" i="1" lang="en-US" sz="2400" spc="-1" strike="noStrike">
                <a:solidFill>
                  <a:srgbClr val="008080"/>
                </a:solidFill>
                <a:latin typeface="Comic Sans MS"/>
              </a:rPr>
              <a:t>a certain bad thing should no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xplicit an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 the CSP approach, these properties 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by “enhancing” the code of the processes with explicit signal claiming the success of the protocol wrt the  intended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aim_secret.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not become known to the intru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un with A ,  Commit with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tching of these two events guarrantees the identitie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E18D-70AA-465C-9BEA-E43D8DE0A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sen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3336-F0AC-4438-8DD1-3B35766045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analysis of 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hou-Gollmann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send.a.b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 receive.a.b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ftp.a.Jeeves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evidence.a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Close(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present the capability of inferring new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erver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ceive.a.Jeeves?.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-&gt; Server(S U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ftp.a.Jeeves.m -&gt; Server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CAD2-C246-46FD-B6EA-68E4D4149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800600"/>
            <a:ext cx="2117520" cy="82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048120"/>
            <a:ext cx="641520" cy="669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47" idx="1"/>
          </p:cNvCxnSpPr>
          <p:nvPr/>
        </p:nvCxnSpPr>
        <p:spPr>
          <a:xfrm flipH="1" rot="16200000">
            <a:off x="2031120" y="3738960"/>
            <a:ext cx="26614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5"/>
            <a:endCxn id="247" idx="3"/>
          </p:cNvCxnSpPr>
          <p:nvPr/>
        </p:nvCxnSpPr>
        <p:spPr>
          <a:xfrm rot="5400000">
            <a:off x="4459320" y="3715200"/>
            <a:ext cx="26614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1"/>
            <a:endCxn id="249" idx="2"/>
          </p:cNvCxnSpPr>
          <p:nvPr/>
        </p:nvCxnSpPr>
        <p:spPr>
          <a:xfrm rot="10800000">
            <a:off x="3123360" y="2315520"/>
            <a:ext cx="381960" cy="2898000"/>
          </a:xfrm>
          <a:prstGeom prst="curvedConnector5">
            <a:avLst>
              <a:gd name="adj1" fmla="val 160000"/>
              <a:gd name="adj2" fmla="val 49993"/>
              <a:gd name="adj3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3"/>
            <a:endCxn id="250" idx="6"/>
          </p:cNvCxnSpPr>
          <p:nvPr/>
        </p:nvCxnSpPr>
        <p:spPr>
          <a:xfrm flipV="1">
            <a:off x="5622480" y="2315880"/>
            <a:ext cx="429480" cy="2898000"/>
          </a:xfrm>
          <a:prstGeom prst="curvedConnector5">
            <a:avLst>
              <a:gd name="adj1" fmla="val 153271"/>
              <a:gd name="adj2" fmla="val 49993"/>
              <a:gd name="adj3" fmla="val 153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7" idx="0"/>
          </p:cNvCxnSpPr>
          <p:nvPr/>
        </p:nvCxnSpPr>
        <p:spPr>
          <a:xfrm flipH="1" rot="16200000">
            <a:off x="3871800" y="4107960"/>
            <a:ext cx="1181880" cy="203760"/>
          </a:xfrm>
          <a:prstGeom prst="curvedConnector5">
            <a:avLst>
              <a:gd name="adj1" fmla="val 54143"/>
              <a:gd name="adj2" fmla="val 49911"/>
              <a:gd name="adj3" fmla="val 541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7" idx="0"/>
            <a:endCxn id="248" idx="5"/>
          </p:cNvCxnSpPr>
          <p:nvPr/>
        </p:nvCxnSpPr>
        <p:spPr>
          <a:xfrm flipH="1" flipV="1" rot="5400000">
            <a:off x="4098600" y="4083840"/>
            <a:ext cx="1181880" cy="251640"/>
          </a:xfrm>
          <a:prstGeom prst="curvedConnector5">
            <a:avLst>
              <a:gd name="adj1" fmla="val 45825"/>
              <a:gd name="adj2" fmla="val 50000"/>
              <a:gd name="adj3" fmla="val 45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7"/>
            <a:endCxn id="250" idx="3"/>
          </p:cNvCxnSpPr>
          <p:nvPr/>
        </p:nvCxnSpPr>
        <p:spPr>
          <a:xfrm flipH="1" flipV="1" rot="5400000">
            <a:off x="4862520" y="250452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48" idx="1"/>
            <a:endCxn id="249" idx="5"/>
          </p:cNvCxnSpPr>
          <p:nvPr/>
        </p:nvCxnSpPr>
        <p:spPr>
          <a:xfrm flipV="1" rot="16200000">
            <a:off x="3719160" y="250416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"/>
          <p:cNvCxnSpPr>
            <a:stCxn id="250" idx="0"/>
          </p:cNvCxnSpPr>
          <p:nvPr/>
        </p:nvCxnSpPr>
        <p:spPr>
          <a:xfrm flipH="1" flipV="1" rot="5400000">
            <a:off x="5532120" y="1569240"/>
            <a:ext cx="610200" cy="213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4004640" y="50022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78480" y="35053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3886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8480" y="3581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2960" y="40384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82080" y="27432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2819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2"/>
          </p:cNvCxnSpPr>
          <p:nvPr/>
        </p:nvCxnSpPr>
        <p:spPr>
          <a:xfrm flipH="1" rot="16200000">
            <a:off x="2540880" y="2768400"/>
            <a:ext cx="167040" cy="1000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65" idx="2"/>
          </p:cNvCxnSpPr>
          <p:nvPr/>
        </p:nvCxnSpPr>
        <p:spPr>
          <a:xfrm rot="5400000">
            <a:off x="6390000" y="2738880"/>
            <a:ext cx="167040" cy="90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799800" y="2514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000" y="25146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9" idx="0"/>
          </p:cNvCxnSpPr>
          <p:nvPr/>
        </p:nvCxnSpPr>
        <p:spPr>
          <a:xfrm flipV="1" rot="16200000">
            <a:off x="3017160" y="1553400"/>
            <a:ext cx="610200" cy="244800"/>
          </a:xfrm>
          <a:prstGeom prst="curvedConnector5">
            <a:avLst>
              <a:gd name="adj1" fmla="val 50000"/>
              <a:gd name="adj2" fmla="val 499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026080" y="16002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3080" y="1600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hou-Gollmann protocol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AF51-F9C7-41A1-8B63-6A1172B918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alysis of 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eive.a.j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342"/>
                </a:solidFill>
                <a:latin typeface="Comic Sans MS"/>
              </a:rPr>
              <a:t>Again, these properties on traces can be proven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A90E-E355-4B8F-8E58-8685783A5C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543640" y="25909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2590920"/>
            <a:ext cx="1524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3066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5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82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9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332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856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8160" y="1569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160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0" y="16178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3968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7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3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96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81952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3720" y="3048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2819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5400" y="304812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6520" y="5037840"/>
            <a:ext cx="118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8680" y="35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880" y="332424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0" y="391464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5270400"/>
            <a:ext cx="9180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513396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960" y="499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im_Secret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6240" y="5132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it wit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0240" y="3809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540D-7B66-4708-A94F-D735717CF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ample: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83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1   a -&gt; b : 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2   b -&gt; s : b.{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3   s -&gt; a : {b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4   a -&gt; b : 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uthentication of the particip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should remain secr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e may require secrecy also on n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E9C8-D330-4218-9DED-8B2A62746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two parties -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DAB0-D434-448F-ADBA-809825E832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B1A1-9040-445C-93F5-A3CBBF048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b.J.b .{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,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Agent 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J.a. 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{a.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erver(J)   =  ||| Server(J,k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Keys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B9AD-915D-49A7-B79A-569D6DD0BC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intru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 = learn?m: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close(X U {m}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ay!m: X /\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ose(X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esents all the possible information that the attacker can infer fro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we assu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k,m}  |-  encript(k,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encript(k,m), k</a:t>
            </a:r>
            <a:r>
              <a:rPr b="0" lang="en-US" sz="1600" spc="-1" strike="noStrike" baseline="30000">
                <a:solidFill>
                  <a:srgbClr val="009900"/>
                </a:solidFill>
                <a:latin typeface="Comic Sans MS"/>
              </a:rPr>
              <a:t>-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|- 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43D0-5C5F-4BAB-8E21-D785208E9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3160" y="2828880"/>
            <a:ext cx="1908360" cy="17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1400">
            <a:off x="3323880" y="5023800"/>
            <a:ext cx="2884320" cy="1500120"/>
          </a:xfrm>
          <a:custGeom>
            <a:avLst/>
            <a:gdLst>
              <a:gd name="textAreaLeft" fmla="*/ 634320 w 2884320"/>
              <a:gd name="textAreaRight" fmla="*/ 2250000 w 2884320"/>
              <a:gd name="textAreaTop" fmla="*/ 329760 h 1500120"/>
              <a:gd name="textAreaBottom" fmla="*/ 1170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2538360"/>
            <a:ext cx="2233440" cy="17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5360" y="2889360"/>
            <a:ext cx="1847880" cy="17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0040" y="3282840"/>
            <a:ext cx="76212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6280" y="3354480"/>
            <a:ext cx="76176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9880" y="2936880"/>
            <a:ext cx="91440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091000">
            <a:off x="4319280" y="5713200"/>
            <a:ext cx="914400" cy="914400"/>
          </a:xfrm>
          <a:prstGeom prst="rtTriangle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49600" y="57816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7840" y="5375160"/>
            <a:ext cx="98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ke.Anne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9040" y="51991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ke.x.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7920" y="3079800"/>
            <a:ext cx="50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3772080"/>
            <a:ext cx="6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920" y="5450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00920" y="547704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1160" y="30002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11720" y="4214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520" y="3881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9200" y="41418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520" y="1221840"/>
            <a:ext cx="9144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or’(Anne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Responder(Bob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Server(Jeeves)S  |||  Intruder’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[fake,take/receive,sen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’ = [take.x.y/learn][fake.x.y, leak/say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54" idx="1"/>
            <a:endCxn id="147" idx="2"/>
          </p:cNvCxnSpPr>
          <p:nvPr/>
        </p:nvCxnSpPr>
        <p:spPr>
          <a:xfrm flipV="1">
            <a:off x="5098680" y="5778000"/>
            <a:ext cx="74988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7" idx="0"/>
            <a:endCxn id="154" idx="3"/>
          </p:cNvCxnSpPr>
          <p:nvPr/>
        </p:nvCxnSpPr>
        <p:spPr>
          <a:xfrm>
            <a:off x="3686040" y="5771880"/>
            <a:ext cx="766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1"/>
            <a:endCxn id="149" idx="1"/>
          </p:cNvCxnSpPr>
          <p:nvPr/>
        </p:nvCxnSpPr>
        <p:spPr>
          <a:xfrm flipH="1">
            <a:off x="3692160" y="3394080"/>
            <a:ext cx="6580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3"/>
            <a:endCxn id="153" idx="3"/>
          </p:cNvCxnSpPr>
          <p:nvPr/>
        </p:nvCxnSpPr>
        <p:spPr>
          <a:xfrm flipH="1" flipV="1">
            <a:off x="5263920" y="3393720"/>
            <a:ext cx="662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6" idx="5"/>
            <a:endCxn id="151" idx="5"/>
          </p:cNvCxnSpPr>
          <p:nvPr/>
        </p:nvCxnSpPr>
        <p:spPr>
          <a:xfrm flipH="1" flipV="1">
            <a:off x="2050200" y="3933360"/>
            <a:ext cx="381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4"/>
            <a:endCxn id="146" idx="4"/>
          </p:cNvCxnSpPr>
          <p:nvPr/>
        </p:nvCxnSpPr>
        <p:spPr>
          <a:xfrm flipH="1">
            <a:off x="1757160" y="4044960"/>
            <a:ext cx="244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0" idx="3"/>
          </p:cNvCxnSpPr>
          <p:nvPr/>
        </p:nvCxnSpPr>
        <p:spPr>
          <a:xfrm flipH="1">
            <a:off x="7244640" y="4005360"/>
            <a:ext cx="36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0" idx="4"/>
            <a:endCxn id="152" idx="4"/>
          </p:cNvCxnSpPr>
          <p:nvPr/>
        </p:nvCxnSpPr>
        <p:spPr>
          <a:xfrm flipH="1" flipV="1">
            <a:off x="7876800" y="4115880"/>
            <a:ext cx="230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6" idx="4"/>
            <a:endCxn id="147" idx="0"/>
          </p:cNvCxnSpPr>
          <p:nvPr/>
        </p:nvCxnSpPr>
        <p:spPr>
          <a:xfrm flipH="1" rot="16200000">
            <a:off x="2132640" y="4219560"/>
            <a:ext cx="1177200" cy="192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7" idx="2"/>
            <a:endCxn id="146" idx="5"/>
          </p:cNvCxnSpPr>
          <p:nvPr/>
        </p:nvCxnSpPr>
        <p:spPr>
          <a:xfrm flipH="1" flipV="1">
            <a:off x="2431440" y="4336560"/>
            <a:ext cx="3416760" cy="1442160"/>
          </a:xfrm>
          <a:prstGeom prst="curvedConnector5">
            <a:avLst>
              <a:gd name="adj1" fmla="val -17281"/>
              <a:gd name="adj2" fmla="val 33682"/>
              <a:gd name="adj3" fmla="val -172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9" idx="1"/>
            <a:endCxn id="147" idx="0"/>
          </p:cNvCxnSpPr>
          <p:nvPr/>
        </p:nvCxnSpPr>
        <p:spPr>
          <a:xfrm flipV="1" rot="10800000">
            <a:off x="3685320" y="3409560"/>
            <a:ext cx="7200" cy="2363040"/>
          </a:xfrm>
          <a:prstGeom prst="curvedConnector5">
            <a:avLst>
              <a:gd name="adj1" fmla="val 9447368"/>
              <a:gd name="adj2" fmla="val 49992"/>
              <a:gd name="adj3" fmla="val 94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47" idx="2"/>
            <a:endCxn id="149" idx="3"/>
          </p:cNvCxnSpPr>
          <p:nvPr/>
        </p:nvCxnSpPr>
        <p:spPr>
          <a:xfrm flipV="1">
            <a:off x="5848200" y="3409200"/>
            <a:ext cx="78480" cy="2369160"/>
          </a:xfrm>
          <a:prstGeom prst="curvedConnector5">
            <a:avLst>
              <a:gd name="adj1" fmla="val 758986"/>
              <a:gd name="adj2" fmla="val 50000"/>
              <a:gd name="adj3" fmla="val 758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3"/>
            <a:endCxn id="147" idx="0"/>
          </p:cNvCxnSpPr>
          <p:nvPr/>
        </p:nvCxnSpPr>
        <p:spPr>
          <a:xfrm rot="5400000">
            <a:off x="4752000" y="3279600"/>
            <a:ext cx="1426320" cy="3560040"/>
          </a:xfrm>
          <a:prstGeom prst="curvedConnector5">
            <a:avLst>
              <a:gd name="adj1" fmla="val 32289"/>
              <a:gd name="adj2" fmla="val 58333"/>
              <a:gd name="adj3" fmla="val 32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7" idx="2"/>
            <a:endCxn id="150" idx="4"/>
          </p:cNvCxnSpPr>
          <p:nvPr/>
        </p:nvCxnSpPr>
        <p:spPr>
          <a:xfrm flipV="1">
            <a:off x="5848200" y="4595040"/>
            <a:ext cx="2052000" cy="118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47" idx="2"/>
          </p:cNvCxnSpPr>
          <p:nvPr/>
        </p:nvCxnSpPr>
        <p:spPr>
          <a:xfrm>
            <a:off x="5848200" y="5778000"/>
            <a:ext cx="1666080" cy="607320"/>
          </a:xfrm>
          <a:prstGeom prst="curvedConnector5">
            <a:avLst>
              <a:gd name="adj1" fmla="val 60816"/>
              <a:gd name="adj2" fmla="val 50000"/>
              <a:gd name="adj3" fmla="val 608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244640" y="58881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FC7C-1CF8-40B7-A475-46AAD8682C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03T11:07:46Z</dcterms:modified>
  <cp:revision>97</cp:revision>
  <dc:subject/>
  <dc:title>PowerPoint Presentation</dc:title>
</cp:coreProperties>
</file>