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48D99-2AEC-4372-89E0-AE5A737DC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B1499-1292-48AA-88D8-F7AA53237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D1E7A-65D1-42EE-BD2A-DF70BBA9C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82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506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08C3F-95E8-42E6-B6E3-CB402037B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79BEB-9148-4BDD-9E26-8280C7D8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2386A-2E9E-442E-A3BE-E74E4819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7CD12-64DB-4837-A4A8-55176348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AE9CB-3CA5-4CE7-A1B3-0DB3DF68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33B2E-24F6-4C8A-B3A6-23911E61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8FA46-A693-4306-BB18-AF329ADC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6C99C-5A0C-45A0-A605-80814213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7C91D-C34C-4084-97DB-3CAD6DF89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3C11D-E0B9-4D66-9672-0148FCCC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19472-C66E-4746-A373-B3FE8818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C7056-2145-4C1D-9207-756F83F0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B4798-F9C3-43C7-94B2-44D392CB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82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06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7114E-80F1-49C2-8669-8BA39370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DF808-BB91-4A0A-954F-691496006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6283A-0AAD-46AB-80AB-E5972EAD3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831FC-7011-44A9-A0D7-778083C65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ED688-BAA3-4AC4-A10C-3BC28BF69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B29E8-388E-420A-81E8-F0CB76D33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28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21838-64DB-41AB-980A-D25987929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548FE-DDE8-4FDD-9718-1E7CFEA3E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7320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436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685800" y="65527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ctu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010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10C2-2BC0-4E85-BD49-3451A60E541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4606-CF45-40C4-B9C7-8F3331FBF1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pressing Security Properties in CSP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properties: the goals that a protocol is meant to satisfy, relatively to specific kinds and levels of threat – the intruders and their capabil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ill consider the following security properti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Secrec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information leak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falsification of ide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Non-repudi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vidence of the involvement of the other par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Anonym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ecting the identity of agents wrt particular event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2B6D9-26EB-4AFA-B910-F62369007F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perty to be verified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Signal.Claim_Secret.a.b.m </a:t>
            </a:r>
            <a:r>
              <a:rPr b="0" lang="en-US" sz="2400" spc="-1" strike="noStrike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Traces(System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Wingdings 3"/>
                <a:ea typeface="Wingdings 3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not(leak.m </a:t>
            </a:r>
            <a:r>
              <a:rPr b="0" lang="en-US" sz="2400" spc="-1" strike="noStrike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Traces(System)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As usual, this property can be verified automatically by checking the tr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1E3E7-B3CC-495C-AA3A-904FE9660A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uthentication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18600" y="1006560"/>
            <a:ext cx="859644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Comic Sans MS"/>
              </a:rPr>
              <a:t>The CSP approach is based on inserting signal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Running.a.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in 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s protoco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ent 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executing a protocol run apparently with 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ommit.b.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in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s protoco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ent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as completed a protocol run apparently with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uthentication is achiev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f 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Running.a.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ways precedes 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Commit.b.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the traces of the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aker or stronger forms of authentication can be achieved by variations of the parameters of these signals and the constraints on th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29365-3E21-49A1-8504-81B724C9A7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uthentication in the Yahalom Pr.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Yahalom Protocol aims at providing 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authentication of both parties 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uthentication of the initiator to the responder, and vicever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ill analyze the two authentication properties separate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requires two separate  enhancements of the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08839-2038-4B6F-A266-769EEC448A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initiato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description of the two parties - Enhanc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itiator’(a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v?b: Age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a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receive.J.a{b. 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Key          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Running_Initiator.a.b.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Nonce 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m.{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T       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ssion(a,b,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sponder’(b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) =</a:t>
            </a: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(receive.a.b.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nd.b.J.b .{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Key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receive.a.b.{a. 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{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Nonce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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 Commit_Responder.b.a.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T     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ssion(b,a,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C3088-4ED3-4A20-862D-502975F229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initiato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1860480" y="219384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213372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99160" y="211788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6019920"/>
            <a:ext cx="15228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82720" y="4890960"/>
            <a:ext cx="15228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67200" y="1649520"/>
            <a:ext cx="122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51680" y="1646280"/>
            <a:ext cx="156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e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5040" y="161604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09520" y="2622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2589120"/>
            <a:ext cx="1428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6520" y="3068640"/>
            <a:ext cx="2276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.{a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23520" y="3828960"/>
            <a:ext cx="369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b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a)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31800" y="5326200"/>
            <a:ext cx="25369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{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k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32240" y="5872320"/>
            <a:ext cx="2273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Com_Resp.b.a.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56600" y="4775040"/>
            <a:ext cx="2096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Run_Init.a.b.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r>
              <a:rPr b="0" lang="en-US" sz="16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59040" y="2987640"/>
            <a:ext cx="233208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3459240"/>
            <a:ext cx="242244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844280" y="4251240"/>
            <a:ext cx="475452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98960" y="571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9040" y="5745240"/>
            <a:ext cx="233208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87680" y="573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33F03-8534-4D1D-9433-7E494BF826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initiato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perty to be verified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ignal. Running_Initiator.a.b.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r>
              <a:rPr b="0" lang="en-US" sz="24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ce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ignal.Commit_Responder.b.a.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ll the Traces(Syst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Again, this property can be verified automatically by checking the tr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14FA2-66AE-4555-8318-D89B1B7FDD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responde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description of the two parties - Enhanc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itiator’(a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v?b: Age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a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receive.J.a{b. 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Key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m.{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Nonce        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Commit_Initiator.a.b.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T     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ssion(a,b,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sponder’(b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) =</a:t>
            </a: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(receive.a.b.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nd.b.J.b .{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Key          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 Running_Responder.b.a.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Nonce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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receive.a.b.{a. 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{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T     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ssion(b,a,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29449-F840-4E5E-A41D-50CC260EEC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responde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2165400" y="219384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213372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04080" y="2117880"/>
            <a:ext cx="0" cy="42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9720" y="3003480"/>
            <a:ext cx="15228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71800" y="5730840"/>
            <a:ext cx="152280" cy="763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2120" y="1649520"/>
            <a:ext cx="122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56600" y="1646280"/>
            <a:ext cx="156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e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29600" y="161604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14440" y="2622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2192400"/>
            <a:ext cx="1428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28200" y="3313080"/>
            <a:ext cx="2276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.{a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28080" y="3828960"/>
            <a:ext cx="369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b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a)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68400" y="4579920"/>
            <a:ext cx="25369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ServerKey(b)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{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k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36440" y="2854440"/>
            <a:ext cx="1965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Run_Resp.b.a.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61520" y="5597640"/>
            <a:ext cx="2096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Run_Init.a.b.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16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r>
              <a:rPr b="0" lang="en-US" sz="16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93840" y="2622600"/>
            <a:ext cx="233208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79840" y="3718080"/>
            <a:ext cx="242244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149200" y="4251240"/>
            <a:ext cx="475452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03880" y="571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93840" y="5089680"/>
            <a:ext cx="2332080" cy="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92600" y="573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20510-9741-4F26-8FED-7A774E07FF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Yahalom: authentication of responder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perty to be verified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ignal. Running_Responder.b.a.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ce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signal.Commit_Initiator.a.b.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k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ll the Traces(Syst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Again, this property can be verified automatically by checking the tr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64B1D-4AFB-403C-B154-20903F063F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on-repudiation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ovide the parties of an interaction with evidence so that later they cannot deny having participa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 Zhou-Gollmann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1   a -&gt; b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O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b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2   b -&gt; a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3   a -&gt; j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U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4   b &lt;-&gt; j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ssage 5   a &lt;-&gt; j :  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k(m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where m is the message to be transmit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re the parties, j is the trusted ser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RO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c. are flags identifying the steps.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s a no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 S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tc. are signature keys known only to their own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an prove tha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as got the message by present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b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 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024FE-22AE-43F4-B459-426D8D0C20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ecrecy and authentication 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re both safety properties: </a:t>
            </a:r>
            <a:r>
              <a:rPr b="0" i="1" lang="en-US" sz="2400" spc="-1" strike="noStrike">
                <a:solidFill>
                  <a:srgbClr val="008080"/>
                </a:solidFill>
                <a:latin typeface="Comic Sans MS"/>
              </a:rPr>
              <a:t>a certain bad thing should not happ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Explicit annota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 the CSP approach, these properties are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d by “enhancing” the code of the processes with explicit signal claiming the success of the protocol wrt the  intended proper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crecy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laim_secret. 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ormation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as not become known to the intru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uthentica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Run with A ,  Commit with 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atching of these two events guarrantees the identities of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CAFEC-8DC8-4DC7-8348-83DA1AB3FA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The Zhou-Gollmann protocol</a:t>
            </a:r>
            <a:endParaRPr b="1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Non-Repudiation of Recipient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prove th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s got the message by present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a.l.c}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b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 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Non-Repudiation of Origin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prove th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s sent the message by present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R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b.l.c}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a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 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3D1F4-50D7-49CD-81EF-1F3236F18A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SP analysis of Non-Repudiation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ation of th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hou-Gollmann protoco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CS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S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Agent, m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S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send.a.b.m -&gt; 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  receive.a.b?m -&gt; 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close(S U {m}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 ftp.a.Jeeves?m -&gt; 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close(S U {m}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S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evidence.a.m -&gt; Agent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Close(S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epresent the capability of inferring new in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erver(S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receive.a.Jeeves?. {f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SUB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.b.l.k}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-&gt; Server(S U {f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a50021"/>
                </a:solidFill>
                <a:latin typeface="Comic Sans MS"/>
              </a:rPr>
              <a:t>j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[] 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b 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 Agent, m 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Comic Sans MS"/>
              </a:rPr>
              <a:t> S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ftp.a.Jeeves.m -&gt; Server(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A647D-2175-4A61-B69F-6DFE85F147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505320" y="4800600"/>
            <a:ext cx="2117520" cy="8240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67080" y="3048120"/>
            <a:ext cx="641520" cy="6699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1981080"/>
            <a:ext cx="641520" cy="669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10080" y="1981080"/>
            <a:ext cx="641520" cy="669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9" idx="3"/>
            <a:endCxn id="247" idx="1"/>
          </p:cNvCxnSpPr>
          <p:nvPr/>
        </p:nvCxnSpPr>
        <p:spPr>
          <a:xfrm flipH="1" rot="16200000">
            <a:off x="2031120" y="3738960"/>
            <a:ext cx="2661480" cy="288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50" idx="5"/>
            <a:endCxn id="247" idx="3"/>
          </p:cNvCxnSpPr>
          <p:nvPr/>
        </p:nvCxnSpPr>
        <p:spPr>
          <a:xfrm rot="5400000">
            <a:off x="4459320" y="3715200"/>
            <a:ext cx="2661480" cy="335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7" idx="1"/>
            <a:endCxn id="249" idx="2"/>
          </p:cNvCxnSpPr>
          <p:nvPr/>
        </p:nvCxnSpPr>
        <p:spPr>
          <a:xfrm rot="10800000">
            <a:off x="3123360" y="2315520"/>
            <a:ext cx="381960" cy="2898000"/>
          </a:xfrm>
          <a:prstGeom prst="curvedConnector5">
            <a:avLst>
              <a:gd name="adj1" fmla="val 160000"/>
              <a:gd name="adj2" fmla="val 49993"/>
              <a:gd name="adj3" fmla="val 16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7" idx="3"/>
            <a:endCxn id="250" idx="6"/>
          </p:cNvCxnSpPr>
          <p:nvPr/>
        </p:nvCxnSpPr>
        <p:spPr>
          <a:xfrm flipV="1">
            <a:off x="5622480" y="2315880"/>
            <a:ext cx="429480" cy="2898000"/>
          </a:xfrm>
          <a:prstGeom prst="curvedConnector5">
            <a:avLst>
              <a:gd name="adj1" fmla="val 153271"/>
              <a:gd name="adj2" fmla="val 49993"/>
              <a:gd name="adj3" fmla="val 1532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8" idx="3"/>
            <a:endCxn id="247" idx="0"/>
          </p:cNvCxnSpPr>
          <p:nvPr/>
        </p:nvCxnSpPr>
        <p:spPr>
          <a:xfrm flipH="1" rot="16200000">
            <a:off x="3871800" y="4107960"/>
            <a:ext cx="1181880" cy="203760"/>
          </a:xfrm>
          <a:prstGeom prst="curvedConnector5">
            <a:avLst>
              <a:gd name="adj1" fmla="val 54143"/>
              <a:gd name="adj2" fmla="val 49911"/>
              <a:gd name="adj3" fmla="val 541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7" idx="0"/>
            <a:endCxn id="248" idx="5"/>
          </p:cNvCxnSpPr>
          <p:nvPr/>
        </p:nvCxnSpPr>
        <p:spPr>
          <a:xfrm flipH="1" flipV="1" rot="5400000">
            <a:off x="4098600" y="4083840"/>
            <a:ext cx="1181880" cy="251640"/>
          </a:xfrm>
          <a:prstGeom prst="curvedConnector5">
            <a:avLst>
              <a:gd name="adj1" fmla="val 45825"/>
              <a:gd name="adj2" fmla="val 50000"/>
              <a:gd name="adj3" fmla="val 458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48" idx="7"/>
            <a:endCxn id="250" idx="3"/>
          </p:cNvCxnSpPr>
          <p:nvPr/>
        </p:nvCxnSpPr>
        <p:spPr>
          <a:xfrm flipH="1" flipV="1" rot="5400000">
            <a:off x="4862520" y="2504520"/>
            <a:ext cx="594360" cy="68976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"/>
          <p:cNvCxnSpPr>
            <a:stCxn id="248" idx="1"/>
            <a:endCxn id="249" idx="5"/>
          </p:cNvCxnSpPr>
          <p:nvPr/>
        </p:nvCxnSpPr>
        <p:spPr>
          <a:xfrm flipV="1" rot="16200000">
            <a:off x="3719160" y="2504160"/>
            <a:ext cx="594360" cy="68976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9" name=""/>
          <p:cNvCxnSpPr>
            <a:stCxn id="250" idx="0"/>
          </p:cNvCxnSpPr>
          <p:nvPr/>
        </p:nvCxnSpPr>
        <p:spPr>
          <a:xfrm flipH="1" flipV="1" rot="5400000">
            <a:off x="5532120" y="1569240"/>
            <a:ext cx="610200" cy="213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4004640" y="500220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378480" y="350532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.*.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360" y="38862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.*.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28480" y="358128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.*.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32960" y="403848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.*.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82080" y="274320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.*.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84360" y="281952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.*.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6" idx="2"/>
          </p:cNvCxnSpPr>
          <p:nvPr/>
        </p:nvCxnSpPr>
        <p:spPr>
          <a:xfrm flipH="1" rot="16200000">
            <a:off x="2540880" y="2768400"/>
            <a:ext cx="167040" cy="100080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68" name=""/>
          <p:cNvCxnSpPr>
            <a:stCxn id="265" idx="2"/>
          </p:cNvCxnSpPr>
          <p:nvPr/>
        </p:nvCxnSpPr>
        <p:spPr>
          <a:xfrm rot="5400000">
            <a:off x="6390000" y="2738880"/>
            <a:ext cx="167040" cy="90864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3799800" y="25146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tp.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35000" y="251460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tp.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49" idx="0"/>
          </p:cNvCxnSpPr>
          <p:nvPr/>
        </p:nvCxnSpPr>
        <p:spPr>
          <a:xfrm flipV="1" rot="16200000">
            <a:off x="3017160" y="1553400"/>
            <a:ext cx="610200" cy="244800"/>
          </a:xfrm>
          <a:prstGeom prst="curvedConnector5">
            <a:avLst>
              <a:gd name="adj1" fmla="val 50000"/>
              <a:gd name="adj2" fmla="val 4992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2026080" y="160020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idence.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33080" y="16002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idence.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Zhou-Gollmann protocol in CSP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FA34F-DFEA-48D2-BBCF-3D2FCDF670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nalysis of the Zhou-Gollmann protocol</a:t>
            </a:r>
            <a:endParaRPr b="1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Non-Repudiation of Recipien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vidence.a.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b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n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l.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vidence.a.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ceive.a.j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Non-Repudiation of Origin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vidence.b.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O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.b.l.c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n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RO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b.l.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vidence.b.{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CO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a.b.l.k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k</a:t>
            </a:r>
            <a:r>
              <a:rPr b="0" lang="en-US" sz="2000" spc="-1" strike="noStrike" baseline="-30000">
                <a:solidFill>
                  <a:srgbClr val="3333cc"/>
                </a:solidFill>
                <a:latin typeface="Comic Sans MS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r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n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f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U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b.l.k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342"/>
                </a:solidFill>
                <a:latin typeface="Comic Sans MS"/>
              </a:rPr>
              <a:t>Again, these properties on traces can be proven automatical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B79A7-8446-4CE1-9F97-C43E23CB23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543640" y="2590920"/>
            <a:ext cx="1523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96920" y="2590920"/>
            <a:ext cx="152424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ecrecy and authentication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330660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5904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0540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8824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29400" y="21337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93320" y="15699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48560" y="1557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98160" y="15699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48000" y="160668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94000" y="161784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39680" y="15699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5916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5748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63720" y="32767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7960" y="3292560"/>
            <a:ext cx="0" cy="1203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31000" y="3292560"/>
            <a:ext cx="0" cy="1203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2819520"/>
            <a:ext cx="56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63720" y="30481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9400" y="28195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05400" y="3048120"/>
            <a:ext cx="58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63720" y="5181480"/>
            <a:ext cx="29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763720" y="5181480"/>
            <a:ext cx="29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846520" y="5037840"/>
            <a:ext cx="1188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58680" y="353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9880" y="3324240"/>
            <a:ext cx="118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0" y="3914640"/>
            <a:ext cx="92160" cy="92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86560" y="5270400"/>
            <a:ext cx="91800" cy="92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46320" y="5133960"/>
            <a:ext cx="92160" cy="92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5960" y="499572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im_Secret.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36240" y="51325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mit with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50240" y="380988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04DA7-7A5C-4E19-A2B2-DA29E5F6C0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ample: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839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1   a -&gt; b : a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2   b -&gt; s : b.{a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3   s -&gt; a : {b.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erverKey(a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a.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erverKey(b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4   a -&gt; b : {a.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erverKey(b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{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ka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Authentication of the participa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2800" spc="-1" strike="noStrike" baseline="-25000">
                <a:solidFill>
                  <a:srgbClr val="008080"/>
                </a:solidFill>
                <a:latin typeface="Comic Sans MS"/>
              </a:rPr>
              <a:t>ab </a:t>
            </a: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should remain secr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Comic Sans MS"/>
              </a:rPr>
              <a:t>We may require secrecy also on n</a:t>
            </a:r>
            <a:r>
              <a:rPr b="0" lang="en-US" sz="2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5EF38-DC32-4521-B32A-8585F84700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747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SP description of the two parties - Origi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itiator(a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v?b: Age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nd.a.b.a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receive.J.a{b. 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Key  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nd.a.b.m.{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              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Nonce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ssion(a,b,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                 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m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sponder(b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[]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(receive.a.b.a.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 </a:t>
            </a:r>
            <a:r>
              <a:rPr b="0" lang="en-US" sz="20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end.b.J.b .{a.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ServerKey(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20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Key          </a:t>
            </a:r>
            <a:r>
              <a:rPr b="0" lang="en-US" sz="20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ceive.a.b.{a. k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ServerKey(b) 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.{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20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n</a:t>
            </a:r>
            <a:r>
              <a:rPr b="0" lang="en-US" sz="2000" spc="-1" strike="noStrike" baseline="-36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Nonce</a:t>
            </a:r>
            <a:r>
              <a:rPr b="0" lang="en-US" sz="2000" spc="-1" strike="noStrike">
                <a:solidFill>
                  <a:srgbClr val="008080"/>
                </a:solidFill>
                <a:latin typeface="Wingdings 3"/>
                <a:ea typeface="Wingdings 3"/>
              </a:rPr>
              <a:t>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Session(b,a,k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)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A8761-AA7A-448B-A2E7-D64B72D820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description of the two parties - Enhanc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itiator’(a,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v?b: Age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a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receive.J.a{b. 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Key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nd.a.b.m.{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Nonce       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Claim_Secret.a.b. 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                  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 T            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ssion(a,b,k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Responder’(b,n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) =</a:t>
            </a:r>
            <a:r>
              <a:rPr b="1" lang="en-US" sz="18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[]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(receive.a.b.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nd.b.J.b .{a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Key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receive.a.b.{a. 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ServerKey(b) 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.{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}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k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n</a:t>
            </a:r>
            <a:r>
              <a:rPr b="0" lang="en-US" sz="1800" spc="-1" strike="noStrike" baseline="-36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Nonce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</a:t>
            </a:r>
            <a:r>
              <a:rPr b="0" lang="en-US" sz="1800" spc="-1" strike="noStrike">
                <a:solidFill>
                  <a:srgbClr val="99000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signal.Claim_Secret.a.b. k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 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m 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 T               </a:t>
            </a:r>
            <a:r>
              <a:rPr b="0" lang="en-US" sz="1800" spc="-1" strike="noStrike">
                <a:solidFill>
                  <a:srgbClr val="008080"/>
                </a:solidFill>
                <a:latin typeface="Wingdings 3"/>
                <a:ea typeface="Wingdings 3"/>
              </a:rPr>
              <a:t>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Session(b,a,k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,n</a:t>
            </a:r>
            <a:r>
              <a:rPr b="0" lang="en-US" sz="1800" spc="-1" strike="noStrike" baseline="-25000">
                <a:solidFill>
                  <a:srgbClr val="00808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8080"/>
                </a:solidFill>
                <a:latin typeface="Comic Sans MS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061BA-A0B4-4BB3-B4AE-71CD83A55E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SP description of the ser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rver(J,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[]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receive.b.J.b .{a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erverKey(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,B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Agent          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nd.J.a. {b. 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n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erverKey(a)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{a.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erverKey(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b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,n</a:t>
            </a:r>
            <a:r>
              <a:rPr b="0" lang="en-US" sz="2000" spc="-1" strike="noStrike" baseline="-36000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Nonce</a:t>
            </a:r>
            <a:r>
              <a:rPr b="0" lang="en-US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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rver(J,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)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Server(J)   =  ||| Server(J,k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Comic Sans MS"/>
              </a:rPr>
              <a:t>ab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)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                 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ab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 Keys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8A0EA-1F7E-47FE-A0B0-B73FFA9CF6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P description of the intru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ruder(X) = learn?m: messages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ruder(close(X U {m}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ay!m: X /\ messages 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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ruder(X)</a:t>
            </a:r>
            <a:r>
              <a:rPr b="0" lang="en-US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lose(X)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esents all the possible information that the attacker can infer from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ypically we assu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{k,m}  |-  encript(k,m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{encript(k,m), k</a:t>
            </a:r>
            <a:r>
              <a:rPr b="0" lang="en-US" sz="1600" spc="-1" strike="noStrike" baseline="30000">
                <a:solidFill>
                  <a:srgbClr val="009900"/>
                </a:solidFill>
                <a:latin typeface="Comic Sans MS"/>
              </a:rPr>
              <a:t>-1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}  |-  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{Sq&lt;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,…,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&gt;} |- 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{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,…,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}  |-  Sq&lt;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,…,x</a:t>
            </a:r>
            <a:r>
              <a:rPr b="0" lang="en-US" sz="1600" spc="-1" strike="noStrike" baseline="-25000">
                <a:solidFill>
                  <a:srgbClr val="009900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009900"/>
                </a:solidFill>
                <a:latin typeface="Comic Sans MS"/>
              </a:rPr>
              <a:t>&gt;}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DA8E3-EF9B-4C6E-A33A-25DF4CA1AB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03160" y="2828880"/>
            <a:ext cx="1908360" cy="17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0811400">
            <a:off x="3323880" y="5023800"/>
            <a:ext cx="2884320" cy="1500120"/>
          </a:xfrm>
          <a:custGeom>
            <a:avLst/>
            <a:gdLst>
              <a:gd name="textAreaLeft" fmla="*/ 634320 w 2884320"/>
              <a:gd name="textAreaRight" fmla="*/ 2250000 w 2884320"/>
              <a:gd name="textAreaTop" fmla="*/ 329760 h 1500120"/>
              <a:gd name="textAreaBottom" fmla="*/ 11703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Exm: Secrecy in the Yahalom protocol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3692520" y="2538360"/>
            <a:ext cx="2233440" cy="17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75360" y="2889360"/>
            <a:ext cx="1847880" cy="170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00040" y="3282840"/>
            <a:ext cx="762120" cy="7621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96280" y="3354480"/>
            <a:ext cx="761760" cy="7617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9880" y="2936880"/>
            <a:ext cx="914400" cy="914400"/>
          </a:xfrm>
          <a:prstGeom prst="rect">
            <a:avLst/>
          </a:prstGeom>
          <a:solidFill>
            <a:srgbClr val="66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e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8091000">
            <a:off x="4319280" y="5713200"/>
            <a:ext cx="914400" cy="914400"/>
          </a:xfrm>
          <a:prstGeom prst="rtTriangle">
            <a:avLst/>
          </a:prstGeom>
          <a:solidFill>
            <a:srgbClr val="ff7c8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49600" y="5781600"/>
            <a:ext cx="6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17840" y="5375160"/>
            <a:ext cx="98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ake.Anne.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39040" y="5199120"/>
            <a:ext cx="89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ke.x.B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87920" y="3079800"/>
            <a:ext cx="50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1760" y="3772080"/>
            <a:ext cx="67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920" y="545004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00920" y="547704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1160" y="300024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11720" y="421488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31520" y="38815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49200" y="4141800"/>
            <a:ext cx="50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520" y="1221840"/>
            <a:ext cx="914400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or’(Anne,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S  |||  Responder(Bob,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S  |||  Server(Jeeves)S  |||  Intruder’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S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= [fake,take/receive,send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’ = [take.x.y/learn][fake.x.y, leak/say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7" name=""/>
          <p:cNvCxnSpPr>
            <a:stCxn id="154" idx="1"/>
            <a:endCxn id="147" idx="2"/>
          </p:cNvCxnSpPr>
          <p:nvPr/>
        </p:nvCxnSpPr>
        <p:spPr>
          <a:xfrm flipV="1">
            <a:off x="5098680" y="5778000"/>
            <a:ext cx="749880" cy="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47" idx="0"/>
            <a:endCxn id="154" idx="3"/>
          </p:cNvCxnSpPr>
          <p:nvPr/>
        </p:nvCxnSpPr>
        <p:spPr>
          <a:xfrm>
            <a:off x="3686040" y="5771880"/>
            <a:ext cx="76608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3" idx="1"/>
            <a:endCxn id="149" idx="1"/>
          </p:cNvCxnSpPr>
          <p:nvPr/>
        </p:nvCxnSpPr>
        <p:spPr>
          <a:xfrm flipH="1">
            <a:off x="3692160" y="3394080"/>
            <a:ext cx="6580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49" idx="3"/>
            <a:endCxn id="153" idx="3"/>
          </p:cNvCxnSpPr>
          <p:nvPr/>
        </p:nvCxnSpPr>
        <p:spPr>
          <a:xfrm flipH="1" flipV="1">
            <a:off x="5263920" y="3393720"/>
            <a:ext cx="66240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46" idx="5"/>
            <a:endCxn id="151" idx="5"/>
          </p:cNvCxnSpPr>
          <p:nvPr/>
        </p:nvCxnSpPr>
        <p:spPr>
          <a:xfrm flipH="1" flipV="1">
            <a:off x="2050200" y="3933360"/>
            <a:ext cx="38196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1" idx="4"/>
            <a:endCxn id="146" idx="4"/>
          </p:cNvCxnSpPr>
          <p:nvPr/>
        </p:nvCxnSpPr>
        <p:spPr>
          <a:xfrm flipH="1">
            <a:off x="1757160" y="4044960"/>
            <a:ext cx="2448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2" idx="3"/>
            <a:endCxn id="150" idx="3"/>
          </p:cNvCxnSpPr>
          <p:nvPr/>
        </p:nvCxnSpPr>
        <p:spPr>
          <a:xfrm flipH="1">
            <a:off x="7244640" y="4005360"/>
            <a:ext cx="3625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50" idx="4"/>
            <a:endCxn id="152" idx="4"/>
          </p:cNvCxnSpPr>
          <p:nvPr/>
        </p:nvCxnSpPr>
        <p:spPr>
          <a:xfrm flipH="1" flipV="1">
            <a:off x="7876800" y="4115880"/>
            <a:ext cx="230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46" idx="4"/>
            <a:endCxn id="147" idx="0"/>
          </p:cNvCxnSpPr>
          <p:nvPr/>
        </p:nvCxnSpPr>
        <p:spPr>
          <a:xfrm flipH="1" rot="16200000">
            <a:off x="2132640" y="4219560"/>
            <a:ext cx="1177200" cy="1929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47" idx="2"/>
            <a:endCxn id="146" idx="5"/>
          </p:cNvCxnSpPr>
          <p:nvPr/>
        </p:nvCxnSpPr>
        <p:spPr>
          <a:xfrm flipH="1" flipV="1">
            <a:off x="2431440" y="4336560"/>
            <a:ext cx="3416760" cy="1442160"/>
          </a:xfrm>
          <a:prstGeom prst="curvedConnector5">
            <a:avLst>
              <a:gd name="adj1" fmla="val -17281"/>
              <a:gd name="adj2" fmla="val 33682"/>
              <a:gd name="adj3" fmla="val -172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49" idx="1"/>
            <a:endCxn id="147" idx="0"/>
          </p:cNvCxnSpPr>
          <p:nvPr/>
        </p:nvCxnSpPr>
        <p:spPr>
          <a:xfrm flipV="1" rot="10800000">
            <a:off x="3685320" y="3409560"/>
            <a:ext cx="7200" cy="2363040"/>
          </a:xfrm>
          <a:prstGeom prst="curvedConnector5">
            <a:avLst>
              <a:gd name="adj1" fmla="val 9447368"/>
              <a:gd name="adj2" fmla="val 49992"/>
              <a:gd name="adj3" fmla="val 94473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47" idx="2"/>
            <a:endCxn id="149" idx="3"/>
          </p:cNvCxnSpPr>
          <p:nvPr/>
        </p:nvCxnSpPr>
        <p:spPr>
          <a:xfrm flipV="1">
            <a:off x="5848200" y="3409200"/>
            <a:ext cx="78480" cy="2369160"/>
          </a:xfrm>
          <a:prstGeom prst="curvedConnector5">
            <a:avLst>
              <a:gd name="adj1" fmla="val 758986"/>
              <a:gd name="adj2" fmla="val 50000"/>
              <a:gd name="adj3" fmla="val 758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50" idx="3"/>
            <a:endCxn id="147" idx="0"/>
          </p:cNvCxnSpPr>
          <p:nvPr/>
        </p:nvCxnSpPr>
        <p:spPr>
          <a:xfrm rot="5400000">
            <a:off x="4752000" y="3279600"/>
            <a:ext cx="1426320" cy="3560040"/>
          </a:xfrm>
          <a:prstGeom prst="curvedConnector5">
            <a:avLst>
              <a:gd name="adj1" fmla="val 32289"/>
              <a:gd name="adj2" fmla="val 58333"/>
              <a:gd name="adj3" fmla="val 322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47" idx="2"/>
            <a:endCxn id="150" idx="4"/>
          </p:cNvCxnSpPr>
          <p:nvPr/>
        </p:nvCxnSpPr>
        <p:spPr>
          <a:xfrm flipV="1">
            <a:off x="5848200" y="4595040"/>
            <a:ext cx="2052000" cy="1183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47" idx="2"/>
          </p:cNvCxnSpPr>
          <p:nvPr/>
        </p:nvCxnSpPr>
        <p:spPr>
          <a:xfrm>
            <a:off x="5848200" y="5778000"/>
            <a:ext cx="1666080" cy="607320"/>
          </a:xfrm>
          <a:prstGeom prst="curvedConnector5">
            <a:avLst>
              <a:gd name="adj1" fmla="val 60816"/>
              <a:gd name="adj2" fmla="val 50000"/>
              <a:gd name="adj3" fmla="val 608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7244640" y="58881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e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81FF4-F290-4EED-81F8-331910FB5B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09:27:11Z</dcterms:created>
  <dc:creator>Catuscia Palamidessi</dc:creator>
  <dc:description/>
  <dc:language>en-US</dc:language>
  <cp:lastModifiedBy>Catuscia Palamidessi</cp:lastModifiedBy>
  <dcterms:modified xsi:type="dcterms:W3CDTF">2001-10-03T11:07:46Z</dcterms:modified>
  <cp:revision>97</cp:revision>
  <dc:subject/>
  <dc:title>PowerPoint Presentation</dc:title>
</cp:coreProperties>
</file>