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5F986-4AE0-4770-9188-202E54C5B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8FFBB-AC04-4CAB-A3D6-1EC699AD9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2C988-0833-42D6-83A5-671056402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5988B-BEE2-4853-87ED-17A826FBE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9F239-F856-4F7C-8A2A-C3905C33B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CE135-FA69-4AE5-92EA-07C71C414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A04C9-C519-4D63-9C20-9399B706B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82493-7F9B-46E4-A0DE-23E898120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7091D-8257-473B-A24B-FD4217E95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292A9-3A03-4027-ACF2-41544B21D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F4EF2-874B-4028-828B-B5C90B12A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CDFFD-D4AB-4567-A07A-2593371F3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DA156-DD9C-4ADB-9549-4894B06F1E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cryption Sche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ice To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1 November 20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blic-key Metho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rypting occurs by taking ciphertex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(y, s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computing the inverse using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(p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(y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ecurity of the scheme follows from the one-way feature of the collectio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ock Ciph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ke blocks of input and encrypt entire blo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usable ke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erent mo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ep in mind potential problem are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ock pad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 ve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ook attacks, use the right mo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ock Ciph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s of Oper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erent characteris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ror propag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ock re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e in data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Modes defined in Federal Information Processing Standa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ock Ciph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ctronic Code Book – separately encrypt each block, patterns recognizable, “codebook” can be built 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ipher Block Chaining – XOR plaintext with previous ciphertext block, then encrypt, use initialization vector for first block, makes identical inputs look differ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ock Ciph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iphertext Feedback – take previous ciphertext, encrypt, then XOR with plain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put Feedback – encrypt previous output, then XOR with plaintext to get ciphertext, uses counters to determine where to take from outp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ock Ciph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ic Construc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rate key pa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crypt plain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eak message into consecutive blocks of length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possibly have to augment the last block with some padd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crypt each block with encryption key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rypt cipher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rypt each block with decryption key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concatenate blocks less padding to get plain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ock Ciph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Basic Construction results in ciphertexts that reveal the exact length of the original plain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is acceptable and completely hiding the length is fut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cryption schemes that hide some information about the length of the plaintext can easily be constru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ock Ciph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examp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owfi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F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ES (Rijndae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ock Ciphers - A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ced Encryption Stand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tional Institute of Standards and Technology search for standard replacement for 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8 bit block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8, 192, 256 bit ke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alists announced in August 19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ock Ciphers - A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rp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jnda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ofi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C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nner:  Rijnda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ckground Inf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eam Cip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vate-key Method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blic-key Method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ock Cip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es of Attac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ock Ciphers - A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an Daemen and Vincent Rijmen (Belgiu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an algorithm calle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qu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s keys which are multiples of 32 bits and block sizes which are multiples of 64 b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ber of rounds changes based on key si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ly faster than the other candid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ock Ciphers - A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 Schedule for Rijndae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and cipher key (varies depending on key length, uses linear recurrence relatio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und keys are taken from the expanded cipher k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und keys are then rotated, passed through the S-box, and XOR’d with a round dependent constant (constants based on similar computation to S-bo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ock Ciphers - A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riable roun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 if both block and key are 128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1 if either block or key is 192 bits and neither are longer than th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3 if either block or key is 256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ock Ciphers - A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ing Rijndae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 Add Round Key Step (XOR a subkey with the bloc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 rou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te Sub (each byte of the block is replaced by its substitute from an S-bo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ift R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tes are arranged in a rectangle and shifted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            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 5  9 13      1  5  9 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 6 10 14      6 10 14 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  7 11 15     11 15  3 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  8 12 16     16  4  8 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ock Ciphers - A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S-box i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99 124 119 123 242 107 111 19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48   1 103  43 254 215 171 11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202 130 201 125 250  89  71 24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173 212 162 175 156 164 114 19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183 253 147  38  54  63 247 2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52 165 229 241 113 216  49  2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4 199  35 195  24 150   5 15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7  18 128 226 235  39 178 11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9 131  44  26  27 110  90 16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82  59 214 179  41 227  47 13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83 209   0 237  32 252 177  9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106 203 190  57  74  76  88 20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208 239 170 251  67  77  51 13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69 249   2 127  80  60 159 16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81 163  64 143 146 157  56 24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188 182 218  33  16 255 243 2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205  12  19 236  95 151  68  2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196 167 126  61 100  93  25 11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96 129  79 220  34  42 144 13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70 238 184  20 222  94  11 2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224  50  58  10  73   6  36  9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194 211 172  98 145 149 228 12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231 200  55 109 141 213  78 16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108  86 244 234 101 122 174   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186 120  37  46  28 166 180 19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232 221 116  31  75 189 139 13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112  62 181 102  72   3 246  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97  53  87 185 134 193  29 15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225 248 152  17 105 217 142 14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155  30 135 233 206  85  40 22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140 161 137  13 191 230  66 1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65 153  45  15 176  84 187  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ock Ciphers - A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x Colum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rix multiplication performed where each column is multiplied by: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 3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2 3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1 2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 1 1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round key (XOR subkey for current roun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extra final round is added where the mix column step is omit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ock Ciphers - A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609480" y="1600200"/>
            <a:ext cx="7848720" cy="37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ock Ciphers - A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743200" y="1600200"/>
            <a:ext cx="41911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ypes of Attac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ssive Attac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ersary eavesdrops on the line and possibly gets the sender to encrypt a message of the adversary’s choice and/or gets the sender to decrypt a ciphertext of the adversary’s cho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y-oblivious:  choice of plaintext does not depend on the k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y-dependent:  choice of plaintext does depend on the k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ypes of Attac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osen Plaintext Attac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tacker obtains the encryption of any plaintext of its choice (under the key being attack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osen Ciphertext Attac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tacker obtains the decryption of any ciphertext of its choice (under the key being attack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uctions of Secure Encryption Sche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Key idea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ing any pseudorandom function, one can construct secure private-key encryption schem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ing any trapdoor one-way permutation, one can construct secure public-key encryption schem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ure schemes must employ a probabilistic (randomized) encryption algorithm so that one cannot distinguish two encryptions of the same messag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eam Ciph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ically there are less Stream Ciphers in use than Block Cip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icult to use cor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seudorandom Gener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eam Ciph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ic Constr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y-generation/Initial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formly selec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random number) and generate key pair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r,r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set initial state to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=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crypting Plain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crypt plaintex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ith key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stat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uch tha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l=|x|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th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bit suffix of the encryption algorithm with inpu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1^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+l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o that ciphertext i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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and new state i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+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rypting Cipher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crypt ciphertex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ith key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stat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uch tha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l=|y|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th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bit suffix again so that the plaintext i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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eam Ciph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are they so hard to us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t never reuse a k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key is reused, same stream of output gener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t keep track of st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t always depend on other thing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way to agree on ke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hent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eam Ciph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examp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C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na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ivate-key Metho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ic Construc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ock Cipher with length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messag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rate key by selecting see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applying func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cryption algorithm selects a uniform strin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produces ciphertex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(r,x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(r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rypt ciphertex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(r,y)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ing ke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y computin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(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blic-key Metho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ic Construc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 generation selects a random permut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rom a collection of trapdoor permutations, along with a trapdoor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erves as the public-key and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erves as the private-ke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encrypting a bi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the encryption algorithm randomly selects an elemen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 the domain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produces ciphertex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(p(r),b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8T22:00:19Z</dcterms:created>
  <dc:creator>Brice Alan Toth</dc:creator>
  <dc:description/>
  <dc:language>en-US</dc:language>
  <cp:lastModifiedBy>Brice Alan Toth</cp:lastModifiedBy>
  <dcterms:modified xsi:type="dcterms:W3CDTF">2001-11-19T23:16:55Z</dcterms:modified>
  <cp:revision>31</cp:revision>
  <dc:subject/>
  <dc:title>Encryption Schemes</dc:title>
</cp:coreProperties>
</file>