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51FD-6825-4408-8DF0-EF37712C3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9C7A-B81B-4B31-BDC9-9FAADDF13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3DA0-21D3-4778-93DE-DCFDCCAD2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E4B2-B085-4F26-B2E1-C88EA11EF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A7B68-C055-4214-8194-772075B71F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7312-E463-4150-8C77-AD40954462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0418E-7AE9-4B09-8F9C-9D51694A1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154E5-5F01-4B33-99AD-619360FE7A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7BA9-F932-41AD-B29E-6BFB12C68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6CB55-B7FA-4B49-9710-C37476D9C1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6434-1E39-47BC-B269-F33A6B462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4D16-0D5D-488A-B35C-A4728FECB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2F31F-2E4F-4F8F-A223-B50747EE4B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E462-92AF-467E-944D-524C3F7CE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25334-E47E-4510-AAAC-16B6C9F14A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C08D-8D99-46AB-9E46-08AFCC2AA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86D85-4EEE-496E-9959-1F1E1EC82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53CD-5321-45D6-8B7F-D13BBB265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4636-5197-432B-9BB0-77FD3274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D4B0-62A8-429E-9FAC-E623D6096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2814-C7E5-4009-889D-AC4074956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F4F4-98F1-4F5D-B3B0-17DABAF68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2016-3AD9-468D-B79A-0A2067F1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E08D-565C-48B0-A937-87B40C720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914400" y="628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543800" y="6286680"/>
            <a:ext cx="138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384-CE69-4DA4-BB5C-650099D0F4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9CA-DD92-452D-B34D-5BD2C4CF51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naiza Ma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F70B1-B6D1-4BD2-8378-8334C44183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direct sign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ity of scheme depends on the security of the sender’s private k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nder may later deny sending a certain mess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te key may actually be stolen from X at time T, so timestamp may not hel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1D21-73C6-4ED9-9BD8-419C169BD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bitrated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a trusted third party or arb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signed message from sender, X, to receiver, Y, goes to an arbiter, A,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ubjects message + signature to number of tests to check origin &amp;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ates the message and sends it to Y with indication that it has been verified to its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4172-89A1-4BC0-B193-8FEA4F2BBB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asic Mechanism of Signature Schem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key generation algorithm to randomly select a public key pai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algorithm that takes message + private key as input and generates a signature for the message as 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verification algorithm that takes signature + public key as input and generates information bit according to whether signature is consistent a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6342-6D2E-48C6-B6B5-EEA0EDA14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 Standa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IST FIPS 186 Digital Signature Standard (D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Gam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SA Digital Signa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ISO 979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ANSI X9.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CCITT X.5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27C5-B4F9-485D-A93B-D49663A8B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-key techniq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applies the Secure Hash Algorithm (SHA) to the message to produce message dige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’s private key is applied to message digest us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generate signa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505F-8B5C-4CB1-9104-3E694DF1C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228600"/>
            <a:ext cx="9127440" cy="5715000"/>
            <a:chOff x="0" y="228600"/>
            <a:chExt cx="9127440" cy="5715000"/>
          </a:xfrm>
        </p:grpSpPr>
        <p:grpSp>
          <p:nvGrpSpPr>
            <p:cNvPr id="289" name=""/>
            <p:cNvGrpSpPr/>
            <p:nvPr/>
          </p:nvGrpSpPr>
          <p:grpSpPr>
            <a:xfrm>
              <a:off x="0" y="228600"/>
              <a:ext cx="9127440" cy="279720"/>
              <a:chOff x="0" y="228600"/>
              <a:chExt cx="9127440" cy="279720"/>
            </a:xfrm>
          </p:grpSpPr>
          <p:sp>
            <p:nvSpPr>
              <p:cNvPr id="290" name=""/>
              <p:cNvSpPr/>
              <p:nvPr/>
            </p:nvSpPr>
            <p:spPr>
              <a:xfrm>
                <a:off x="118440" y="228600"/>
                <a:ext cx="8889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lobal Public-Key Compon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28600"/>
                <a:ext cx="9127440" cy="27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08320"/>
              <a:ext cx="752040" cy="378720"/>
              <a:chOff x="0" y="508320"/>
              <a:chExt cx="752040" cy="378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18440" y="508320"/>
                <a:ext cx="5144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08320"/>
                <a:ext cx="75204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2400" y="508320"/>
              <a:ext cx="8374680" cy="378720"/>
              <a:chOff x="752400" y="508320"/>
              <a:chExt cx="8374680" cy="37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870480" y="508320"/>
                <a:ext cx="81378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prime number of L bits where L is a multiple of 64 and 512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L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10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08320"/>
                <a:ext cx="8374680" cy="37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887400"/>
              <a:ext cx="752040" cy="321840"/>
              <a:chOff x="0" y="887400"/>
              <a:chExt cx="752040" cy="321840"/>
            </a:xfrm>
          </p:grpSpPr>
          <p:sp>
            <p:nvSpPr>
              <p:cNvPr id="299" name=""/>
              <p:cNvSpPr/>
              <p:nvPr/>
            </p:nvSpPr>
            <p:spPr>
              <a:xfrm>
                <a:off x="118440" y="8874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8874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2400" y="887400"/>
              <a:ext cx="8374680" cy="321840"/>
              <a:chOff x="752400" y="887400"/>
              <a:chExt cx="8374680" cy="321840"/>
            </a:xfrm>
          </p:grpSpPr>
          <p:sp>
            <p:nvSpPr>
              <p:cNvPr id="302" name=""/>
              <p:cNvSpPr/>
              <p:nvPr/>
            </p:nvSpPr>
            <p:spPr>
              <a:xfrm>
                <a:off x="870480" y="8874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160-bit prime factor of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2400" y="8874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209600"/>
              <a:ext cx="752040" cy="546840"/>
              <a:chOff x="0" y="1209600"/>
              <a:chExt cx="752040" cy="546840"/>
            </a:xfrm>
          </p:grpSpPr>
          <p:sp>
            <p:nvSpPr>
              <p:cNvPr id="305" name=""/>
              <p:cNvSpPr/>
              <p:nvPr/>
            </p:nvSpPr>
            <p:spPr>
              <a:xfrm>
                <a:off x="118440" y="1209600"/>
                <a:ext cx="5144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209600"/>
                <a:ext cx="752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52400" y="1209600"/>
              <a:ext cx="8374680" cy="546840"/>
              <a:chOff x="752400" y="1209600"/>
              <a:chExt cx="8374680" cy="546840"/>
            </a:xfrm>
          </p:grpSpPr>
          <p:sp>
            <p:nvSpPr>
              <p:cNvPr id="308" name=""/>
              <p:cNvSpPr/>
              <p:nvPr/>
            </p:nvSpPr>
            <p:spPr>
              <a:xfrm>
                <a:off x="870480" y="1209600"/>
                <a:ext cx="81378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where h is any integer with 1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-1, such that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h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(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)/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&gt;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2400" y="1209600"/>
                <a:ext cx="83746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1756440"/>
              <a:ext cx="9127440" cy="307440"/>
              <a:chOff x="0" y="1756440"/>
              <a:chExt cx="9127440" cy="307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18440" y="175644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rivate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175644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063880"/>
              <a:ext cx="752040" cy="434160"/>
              <a:chOff x="0" y="2063880"/>
              <a:chExt cx="752040" cy="434160"/>
            </a:xfrm>
          </p:grpSpPr>
          <p:sp>
            <p:nvSpPr>
              <p:cNvPr id="314" name=""/>
              <p:cNvSpPr/>
              <p:nvPr/>
            </p:nvSpPr>
            <p:spPr>
              <a:xfrm>
                <a:off x="118440" y="2063880"/>
                <a:ext cx="51444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063880"/>
                <a:ext cx="75204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52400" y="2063880"/>
              <a:ext cx="8374680" cy="434160"/>
              <a:chOff x="752400" y="2063880"/>
              <a:chExt cx="8374680" cy="434160"/>
            </a:xfrm>
          </p:grpSpPr>
          <p:sp>
            <p:nvSpPr>
              <p:cNvPr id="317" name=""/>
              <p:cNvSpPr/>
              <p:nvPr/>
            </p:nvSpPr>
            <p:spPr>
              <a:xfrm>
                <a:off x="870480" y="2063880"/>
                <a:ext cx="813780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52400" y="2063880"/>
                <a:ext cx="8374680" cy="43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498400"/>
              <a:ext cx="9127440" cy="307440"/>
              <a:chOff x="0" y="2498400"/>
              <a:chExt cx="9127440" cy="307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18440" y="2498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ublic 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498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2806200"/>
              <a:ext cx="752040" cy="321840"/>
              <a:chOff x="0" y="2806200"/>
              <a:chExt cx="752040" cy="321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18440" y="2806200"/>
                <a:ext cx="51444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2806200"/>
                <a:ext cx="75204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52400" y="2806200"/>
              <a:ext cx="8374680" cy="321840"/>
              <a:chOff x="752400" y="2806200"/>
              <a:chExt cx="8374680" cy="321840"/>
            </a:xfrm>
          </p:grpSpPr>
          <p:sp>
            <p:nvSpPr>
              <p:cNvPr id="326" name=""/>
              <p:cNvSpPr/>
              <p:nvPr/>
            </p:nvSpPr>
            <p:spPr>
              <a:xfrm>
                <a:off x="870480" y="2806200"/>
                <a:ext cx="8137800" cy="3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x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52400" y="2806200"/>
                <a:ext cx="8374680" cy="321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128400"/>
              <a:ext cx="9127440" cy="447480"/>
              <a:chOff x="0" y="3128400"/>
              <a:chExt cx="9127440" cy="447480"/>
            </a:xfrm>
          </p:grpSpPr>
          <p:sp>
            <p:nvSpPr>
              <p:cNvPr id="329" name=""/>
              <p:cNvSpPr/>
              <p:nvPr/>
            </p:nvSpPr>
            <p:spPr>
              <a:xfrm>
                <a:off x="118440" y="3128400"/>
                <a:ext cx="88898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User’s Per-Message Secret Numb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128400"/>
                <a:ext cx="9127440" cy="447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575880"/>
              <a:ext cx="752040" cy="434520"/>
              <a:chOff x="0" y="3575880"/>
              <a:chExt cx="752040" cy="43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18440" y="3575880"/>
                <a:ext cx="51444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575880"/>
                <a:ext cx="75204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52400" y="3575880"/>
              <a:ext cx="8374680" cy="434520"/>
              <a:chOff x="752400" y="3575880"/>
              <a:chExt cx="8374680" cy="43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870480" y="3575880"/>
                <a:ext cx="813780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 random or pseudorandom integer with 0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&lt;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400" y="3575880"/>
                <a:ext cx="8374680" cy="43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10400"/>
              <a:ext cx="9127440" cy="307440"/>
              <a:chOff x="0" y="4010400"/>
              <a:chExt cx="9127440" cy="30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18440" y="401040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1040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318200"/>
              <a:ext cx="9127440" cy="546480"/>
              <a:chOff x="0" y="4318200"/>
              <a:chExt cx="9127440" cy="546480"/>
            </a:xfrm>
          </p:grpSpPr>
          <p:sp>
            <p:nvSpPr>
              <p:cNvPr id="341" name=""/>
              <p:cNvSpPr/>
              <p:nvPr/>
            </p:nvSpPr>
            <p:spPr>
              <a:xfrm>
                <a:off x="118440" y="4318200"/>
                <a:ext cx="888984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          s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= [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k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(H(M)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x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ignature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,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318200"/>
                <a:ext cx="9127440" cy="546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864680"/>
              <a:ext cx="9127440" cy="307440"/>
              <a:chOff x="0" y="4864680"/>
              <a:chExt cx="9127440" cy="307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18440" y="4864680"/>
                <a:ext cx="888984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erify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864680"/>
                <a:ext cx="9127440" cy="30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5172480"/>
              <a:ext cx="9127440" cy="771120"/>
              <a:chOff x="0" y="5172480"/>
              <a:chExt cx="9127440" cy="771120"/>
            </a:xfrm>
          </p:grpSpPr>
          <p:sp>
            <p:nvSpPr>
              <p:cNvPr id="347" name=""/>
              <p:cNvSpPr/>
              <p:nvPr/>
            </p:nvSpPr>
            <p:spPr>
              <a:xfrm>
                <a:off x="118440" y="5172480"/>
                <a:ext cx="8889840" cy="77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-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H(M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  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-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)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[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1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y</a:t>
                </a:r>
                <a:r>
                  <a:rPr b="0" i="1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u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)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] mod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	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est: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v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=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172480"/>
                <a:ext cx="9127440" cy="771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066680" y="6172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gital Signature Algorithm (D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BE1E-A6FB-4771-8DB2-C2D6F116D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33200" y="2514240"/>
            <a:ext cx="8110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S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message to be sig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hash of M using S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’ = received version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CF1C-B349-4472-9C7D-175F76F89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ariant of the DS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ssumption that computing discrete logarithms over a finite field with a large prime is diffic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at it is computationally infeasible for anyone other than signer to find a messag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an integer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such tha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A8F8-8E98-4DBF-8050-F32573E5B9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066680" y="1981080"/>
            <a:ext cx="7391160" cy="4572000"/>
            <a:chOff x="1066680" y="1981080"/>
            <a:chExt cx="7391160" cy="4572000"/>
          </a:xfrm>
        </p:grpSpPr>
        <p:grpSp>
          <p:nvGrpSpPr>
            <p:cNvPr id="356" name=""/>
            <p:cNvGrpSpPr/>
            <p:nvPr/>
          </p:nvGrpSpPr>
          <p:grpSpPr>
            <a:xfrm>
              <a:off x="1073880" y="1985040"/>
              <a:ext cx="7375680" cy="4563000"/>
              <a:chOff x="1073880" y="1985040"/>
              <a:chExt cx="7375680" cy="4563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1073880" y="1985040"/>
                <a:ext cx="7375680" cy="569160"/>
                <a:chOff x="1073880" y="1985040"/>
                <a:chExt cx="7375680" cy="5691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181520" y="1985040"/>
                  <a:ext cx="716040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ameters of El Gam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73880" y="1985040"/>
                  <a:ext cx="73756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073880" y="2554200"/>
                <a:ext cx="1534320" cy="842040"/>
                <a:chOff x="1073880" y="2554200"/>
                <a:chExt cx="1534320" cy="84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181520" y="25542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73880" y="25542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608560" y="2554200"/>
                <a:ext cx="5840640" cy="842040"/>
                <a:chOff x="2608560" y="2554200"/>
                <a:chExt cx="5840640" cy="84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715480" y="25542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large prime number such that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-1 has a large prime fa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608560" y="25542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073880" y="3396600"/>
                <a:ext cx="1534320" cy="842400"/>
                <a:chOff x="1073880" y="3396600"/>
                <a:chExt cx="1534320" cy="842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81520" y="3396600"/>
                  <a:ext cx="131904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3880" y="3396600"/>
                  <a:ext cx="153432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608560" y="3396600"/>
                <a:ext cx="5840640" cy="842400"/>
                <a:chOff x="2608560" y="3396600"/>
                <a:chExt cx="5840640" cy="84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715480" y="3396600"/>
                  <a:ext cx="5625720" cy="84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rivate key information of a user wher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&lt;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08560" y="3396600"/>
                  <a:ext cx="5840640" cy="84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1073880" y="4239000"/>
                <a:ext cx="1534320" cy="842040"/>
                <a:chOff x="1073880" y="4239000"/>
                <a:chExt cx="1534320" cy="842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81520" y="4239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73880" y="4239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608560" y="4239000"/>
                <a:ext cx="5840640" cy="842040"/>
                <a:chOff x="2608560" y="4239000"/>
                <a:chExt cx="5840640" cy="842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715480" y="4239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 primitive element of the finite field for the prime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608560" y="4239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73880" y="5081400"/>
                <a:ext cx="1534320" cy="624600"/>
                <a:chOff x="1073880" y="5081400"/>
                <a:chExt cx="1534320" cy="62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181520" y="5081400"/>
                  <a:ext cx="13190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73880" y="5081400"/>
                  <a:ext cx="15343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608560" y="5081400"/>
                <a:ext cx="5840640" cy="624600"/>
                <a:chOff x="2608560" y="5081400"/>
                <a:chExt cx="5840640" cy="624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715480" y="5081400"/>
                  <a:ext cx="562572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=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r>
                    <a:rPr b="0" i="1" lang="en-US" sz="1600" spc="-1" strike="noStrike" baseline="30000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 mod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08560" y="5081400"/>
                  <a:ext cx="584064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073880" y="5706000"/>
                <a:ext cx="1534320" cy="842040"/>
                <a:chOff x="1073880" y="5706000"/>
                <a:chExt cx="1534320" cy="842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81520" y="5706000"/>
                  <a:ext cx="131904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(p,a,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073880" y="5706000"/>
                  <a:ext cx="153432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608560" y="5706000"/>
                <a:ext cx="5840640" cy="842040"/>
                <a:chOff x="2608560" y="5706000"/>
                <a:chExt cx="5840640" cy="842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15480" y="5706000"/>
                  <a:ext cx="5625720" cy="84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he public key informa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08560" y="5706000"/>
                  <a:ext cx="5840640" cy="84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1066680" y="1981080"/>
              <a:ext cx="73911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5045-4DDD-4BB3-BE9F-63309ACC9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 Gam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38080" y="2057400"/>
          <a:ext cx="8077320" cy="2361960"/>
        </p:xfrm>
        <a:graphic>
          <a:graphicData uri="http://schemas.openxmlformats.org/drawingml/2006/table">
            <a:tbl>
              <a:tblPr/>
              <a:tblGrid>
                <a:gridCol w="1670760"/>
                <a:gridCol w="6406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ly choose an integer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h th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,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 = 1, 1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, a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s not been used to sign a previous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d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uch tha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=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mod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the pair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 as the digital signature on the messag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762120" y="4648320"/>
            <a:ext cx="8076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ince, 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od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x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M and (r, s), the receiver o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verify the signature by checking whe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holds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77DE-24E2-4758-805C-7C2BD6371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troduction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rt &amp; science of preventing users from unauthorized or illegal actions towards information, networking resources and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transform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conversion of input data into output data  using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graphic ke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rypto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ryptographic transformation p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C122-C75C-44AA-AB8E-82C02898F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835560"/>
            <a:ext cx="883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SA Digital Signature Sche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difficulty of factoring large nu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SA digital signature can be produced by encrypting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tself or a digest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ing the private signature ke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ssage to be signed or message digest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arge prim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er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the public verification ke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4E86-D7E5-4D9A-AE93-EA8A5D33B3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are an effective mechanism used for authenticity and non-repudiation of mess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signature schemes exist, but DSS is probably the most pop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signatures may be expanded to be used as digital pseudonyms which would prevent authorities from figuring out a sender’s identity, for example by cross-mat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502A-F4A4-4C36-ADF9-D20F726E69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CC407-4F49-4956-9DFC-B88DE27575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ryptosyst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3200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895480"/>
            <a:ext cx="8381880" cy="2304000"/>
            <a:chOff x="228600" y="2895480"/>
            <a:chExt cx="8381880" cy="2304000"/>
          </a:xfrm>
        </p:grpSpPr>
        <p:sp>
          <p:nvSpPr>
            <p:cNvPr id="215" name=""/>
            <p:cNvSpPr/>
            <p:nvPr/>
          </p:nvSpPr>
          <p:spPr>
            <a:xfrm>
              <a:off x="160020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35268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480060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34304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781680" y="4343040"/>
              <a:ext cx="1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6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3886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48720" y="396252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388620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2004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31240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28954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28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7FD3-6107-414E-B32E-5355E4B9B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a private key is shared between the two communicating parties which must be kept secret between themsel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ryptosystem – the sender and receiver do not share the same key and one key can be public and the other can be priv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3C47-C6E1-4264-B234-E6BD00E51D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133720"/>
            <a:ext cx="8839080" cy="3370680"/>
            <a:chOff x="304920" y="2133720"/>
            <a:chExt cx="8839080" cy="3370680"/>
          </a:xfrm>
        </p:grpSpPr>
        <p:sp>
          <p:nvSpPr>
            <p:cNvPr id="233" name=""/>
            <p:cNvSpPr/>
            <p:nvPr/>
          </p:nvSpPr>
          <p:spPr>
            <a:xfrm>
              <a:off x="167652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ward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8680" y="2590920"/>
              <a:ext cx="22860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verse Cryptographic Trans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7652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38680" y="4038480"/>
              <a:ext cx="2286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K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195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05720" y="3580920"/>
              <a:ext cx="1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2971800"/>
              <a:ext cx="53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048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2860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ut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1337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5880" y="2133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ce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623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51055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are private k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44956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09720" y="44956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09480" y="5791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ivate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E257-594C-4EBB-ACAC-27E6D3641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Crypto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590920"/>
            <a:ext cx="2286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e Cryptographic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40384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05720" y="358092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97180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3048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133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362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05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not share the same key information and one key may b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24816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5867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DA09-6D3B-4AD5-8736-CD5ADB77B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gital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ssage authenti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gital sign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all tools of modern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gnature is a technique for non-repudiation based on the public key cryptograp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eator of a message can attach a code, the signature, which guarantees the source and integrity of the message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2B49-15C5-4C75-BE4A-1118BF366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perti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handwritten signatures, digital signatures must fulfill the follow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not be forge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ipients must be able to verify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ers must not be able to repudiate th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ddition, digital signatures cannot be constant and must be a function of the entire document it sig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35F3-3634-438E-8E80-BDF525FF30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ypes of Sign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rect digital signatu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involves only the communicating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d that receiver knows public key of send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ture may be formed by (1) encrypting entire message with sender’s private key or (2) encrypting hash code of message with sender’s private ke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encryption of entire message + signature with receiver’s public key or shared private key ensures confidential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E 597E       Fall 2001      PennStat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6EF9-5F0A-4CB6-9DAD-6B661329F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03:57:14Z</dcterms:created>
  <dc:creator>Munaiza Matin</dc:creator>
  <dc:description/>
  <dc:language>en-US</dc:language>
  <cp:lastModifiedBy>Munaiza Matin</cp:lastModifiedBy>
  <dcterms:modified xsi:type="dcterms:W3CDTF">2001-11-27T05:41:43Z</dcterms:modified>
  <cp:revision>35</cp:revision>
  <dc:subject/>
  <dc:title>Digital Signature Schemes</dc:title>
</cp:coreProperties>
</file>