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2002-8871-4985-8E10-AB021F57B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A8BA-B1EB-4CD0-8BDC-91151DF0A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75CE-6A2A-4035-8EF5-2F8BD29CA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A87D-EDF6-43CC-8930-2057F720E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C0C5C-9025-4069-B275-D38F06E0E5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AE828-19B9-40F3-8588-5DD8E0015B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281B5-808D-4720-BEBB-D7AD4B901A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09CA8-1EB8-4D0C-8A30-0FDE16C25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E90BE-1DBE-4D11-826E-E6150E1C7F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DC0BA-5F54-4FB4-B8D6-3BD52A4BE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C7AE0-C528-4743-855B-DB065F588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F077-DAC1-4D0A-877C-2F5DAD141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35123-31B8-405A-A5A8-7BA3DBCA8D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92A6C-4355-4454-A865-88E7C4036A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98A43-5191-4421-A9E4-726782E969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C0965-F1FF-4361-B686-A4B615D49D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FF6D1-A9E5-4FA4-8677-37E55E8DC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6398-2B14-4367-ADBB-AFBC8D27E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17C2-48F8-4B1F-A0D6-3CA65C7D3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AD06-D38F-4121-B1E2-14B80F315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6978-5561-4E93-B5DD-01DDEB5C5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D792-1DC2-4998-94FA-F3104D77C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D8AD-6336-4C2E-B973-961F52D6B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D7D6-6442-4153-8801-9CE27A0DC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1"/>
          </p:nvPr>
        </p:nvSpPr>
        <p:spPr>
          <a:xfrm>
            <a:off x="914400" y="628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2"/>
          </p:nvPr>
        </p:nvSpPr>
        <p:spPr>
          <a:xfrm>
            <a:off x="7543800" y="6286680"/>
            <a:ext cx="138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BB9D-8589-432C-80DF-6709CE15D1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3"/>
          </p:nvPr>
        </p:nvSpPr>
        <p:spPr>
          <a:xfrm>
            <a:off x="7621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833-805A-4E03-B4F4-40FB2B6B0B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naiza 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91AF1-7DF8-475C-BC1E-50131E4EDE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with direct sign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ity of scheme depends on the security of the sender’s private k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nder may later deny sending a certain mess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te key may actually be stolen from X at time T, so timestamp may not hel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91A5-0687-40FD-92C1-0A67EDDDED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bitrated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a trusted third party or arb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signed message from sender, X, to receiver, Y, goes to an arbiter, A, fir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ubjects message + signature to number of tests to check origin &amp;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ates the message and sends it to Y with indication that it has been verified to its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2E95-6141-4116-A730-FB5A741026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sic Mechanism of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ey generation algorithm to randomly select a public key pai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algorithm that takes message + private key as input and generates a signature for the message as 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verification algorithm that takes signature + public key as input and generates information bit according to whether signature is consistent as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DE83-D91B-4E55-9A41-17278DC572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tandar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IST FIPS 186 Digital Signature Standard (D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Gam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SA Digital Signa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SO 979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ANSI X9.3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CCITT X.5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3724-D893-4E8A-80A6-B2D7C18DB1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-key techniq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applies the Secure Hash Algorithm (SHA) to the message to produce message dige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’s private key is applied to message digest us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generate signatu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183A-78F3-4307-AFC1-B8B0C99F5D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228600"/>
            <a:ext cx="9127440" cy="5715000"/>
            <a:chOff x="0" y="228600"/>
            <a:chExt cx="9127440" cy="5715000"/>
          </a:xfrm>
        </p:grpSpPr>
        <p:grpSp>
          <p:nvGrpSpPr>
            <p:cNvPr id="289" name=""/>
            <p:cNvGrpSpPr/>
            <p:nvPr/>
          </p:nvGrpSpPr>
          <p:grpSpPr>
            <a:xfrm>
              <a:off x="0" y="228600"/>
              <a:ext cx="9127440" cy="279720"/>
              <a:chOff x="0" y="228600"/>
              <a:chExt cx="9127440" cy="279720"/>
            </a:xfrm>
          </p:grpSpPr>
          <p:sp>
            <p:nvSpPr>
              <p:cNvPr id="290" name=""/>
              <p:cNvSpPr/>
              <p:nvPr/>
            </p:nvSpPr>
            <p:spPr>
              <a:xfrm>
                <a:off x="118440" y="228600"/>
                <a:ext cx="888984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lobal Public-Key Compon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228600"/>
                <a:ext cx="9127440" cy="27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08320"/>
              <a:ext cx="752040" cy="378720"/>
              <a:chOff x="0" y="508320"/>
              <a:chExt cx="752040" cy="378720"/>
            </a:xfrm>
          </p:grpSpPr>
          <p:sp>
            <p:nvSpPr>
              <p:cNvPr id="293" name=""/>
              <p:cNvSpPr/>
              <p:nvPr/>
            </p:nvSpPr>
            <p:spPr>
              <a:xfrm>
                <a:off x="118440" y="508320"/>
                <a:ext cx="51444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08320"/>
                <a:ext cx="75204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52400" y="508320"/>
              <a:ext cx="8374680" cy="378720"/>
              <a:chOff x="752400" y="508320"/>
              <a:chExt cx="8374680" cy="37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870480" y="508320"/>
                <a:ext cx="81378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prime number of L bits where L is a multiple of 64 and 512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L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10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2400" y="508320"/>
                <a:ext cx="837468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887400"/>
              <a:ext cx="752040" cy="321840"/>
              <a:chOff x="0" y="887400"/>
              <a:chExt cx="752040" cy="321840"/>
            </a:xfrm>
          </p:grpSpPr>
          <p:sp>
            <p:nvSpPr>
              <p:cNvPr id="299" name=""/>
              <p:cNvSpPr/>
              <p:nvPr/>
            </p:nvSpPr>
            <p:spPr>
              <a:xfrm>
                <a:off x="118440" y="8874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8874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52400" y="887400"/>
              <a:ext cx="8374680" cy="321840"/>
              <a:chOff x="752400" y="887400"/>
              <a:chExt cx="8374680" cy="321840"/>
            </a:xfrm>
          </p:grpSpPr>
          <p:sp>
            <p:nvSpPr>
              <p:cNvPr id="302" name=""/>
              <p:cNvSpPr/>
              <p:nvPr/>
            </p:nvSpPr>
            <p:spPr>
              <a:xfrm>
                <a:off x="870480" y="8874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160-bit prime factor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2400" y="8874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209600"/>
              <a:ext cx="752040" cy="546840"/>
              <a:chOff x="0" y="1209600"/>
              <a:chExt cx="752040" cy="546840"/>
            </a:xfrm>
          </p:grpSpPr>
          <p:sp>
            <p:nvSpPr>
              <p:cNvPr id="305" name=""/>
              <p:cNvSpPr/>
              <p:nvPr/>
            </p:nvSpPr>
            <p:spPr>
              <a:xfrm>
                <a:off x="118440" y="1209600"/>
                <a:ext cx="5144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209600"/>
                <a:ext cx="7520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52400" y="1209600"/>
              <a:ext cx="8374680" cy="546840"/>
              <a:chOff x="752400" y="1209600"/>
              <a:chExt cx="8374680" cy="546840"/>
            </a:xfrm>
          </p:grpSpPr>
          <p:sp>
            <p:nvSpPr>
              <p:cNvPr id="308" name=""/>
              <p:cNvSpPr/>
              <p:nvPr/>
            </p:nvSpPr>
            <p:spPr>
              <a:xfrm>
                <a:off x="870480" y="1209600"/>
                <a:ext cx="81378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where h is any integer with 1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, such that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&gt;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2400" y="1209600"/>
                <a:ext cx="837468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1756440"/>
              <a:ext cx="9127440" cy="307440"/>
              <a:chOff x="0" y="1756440"/>
              <a:chExt cx="9127440" cy="307440"/>
            </a:xfrm>
          </p:grpSpPr>
          <p:sp>
            <p:nvSpPr>
              <p:cNvPr id="311" name=""/>
              <p:cNvSpPr/>
              <p:nvPr/>
            </p:nvSpPr>
            <p:spPr>
              <a:xfrm>
                <a:off x="118440" y="175644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rivate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175644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063880"/>
              <a:ext cx="752040" cy="434160"/>
              <a:chOff x="0" y="2063880"/>
              <a:chExt cx="752040" cy="434160"/>
            </a:xfrm>
          </p:grpSpPr>
          <p:sp>
            <p:nvSpPr>
              <p:cNvPr id="314" name=""/>
              <p:cNvSpPr/>
              <p:nvPr/>
            </p:nvSpPr>
            <p:spPr>
              <a:xfrm>
                <a:off x="118440" y="2063880"/>
                <a:ext cx="51444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063880"/>
                <a:ext cx="75204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52400" y="2063880"/>
              <a:ext cx="8374680" cy="434160"/>
              <a:chOff x="752400" y="2063880"/>
              <a:chExt cx="8374680" cy="434160"/>
            </a:xfrm>
          </p:grpSpPr>
          <p:sp>
            <p:nvSpPr>
              <p:cNvPr id="317" name=""/>
              <p:cNvSpPr/>
              <p:nvPr/>
            </p:nvSpPr>
            <p:spPr>
              <a:xfrm>
                <a:off x="870480" y="2063880"/>
                <a:ext cx="813780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2400" y="2063880"/>
                <a:ext cx="837468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498400"/>
              <a:ext cx="9127440" cy="307440"/>
              <a:chOff x="0" y="2498400"/>
              <a:chExt cx="9127440" cy="307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18440" y="2498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ublic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498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2806200"/>
              <a:ext cx="752040" cy="321840"/>
              <a:chOff x="0" y="2806200"/>
              <a:chExt cx="752040" cy="321840"/>
            </a:xfrm>
          </p:grpSpPr>
          <p:sp>
            <p:nvSpPr>
              <p:cNvPr id="323" name=""/>
              <p:cNvSpPr/>
              <p:nvPr/>
            </p:nvSpPr>
            <p:spPr>
              <a:xfrm>
                <a:off x="118440" y="28062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28062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52400" y="2806200"/>
              <a:ext cx="8374680" cy="321840"/>
              <a:chOff x="752400" y="2806200"/>
              <a:chExt cx="8374680" cy="321840"/>
            </a:xfrm>
          </p:grpSpPr>
          <p:sp>
            <p:nvSpPr>
              <p:cNvPr id="326" name=""/>
              <p:cNvSpPr/>
              <p:nvPr/>
            </p:nvSpPr>
            <p:spPr>
              <a:xfrm>
                <a:off x="870480" y="28062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52400" y="28062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128400"/>
              <a:ext cx="9127440" cy="447480"/>
              <a:chOff x="0" y="3128400"/>
              <a:chExt cx="9127440" cy="447480"/>
            </a:xfrm>
          </p:grpSpPr>
          <p:sp>
            <p:nvSpPr>
              <p:cNvPr id="329" name=""/>
              <p:cNvSpPr/>
              <p:nvPr/>
            </p:nvSpPr>
            <p:spPr>
              <a:xfrm>
                <a:off x="118440" y="3128400"/>
                <a:ext cx="88898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er-Message Secret Numb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128400"/>
                <a:ext cx="9127440" cy="44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575880"/>
              <a:ext cx="752040" cy="434520"/>
              <a:chOff x="0" y="3575880"/>
              <a:chExt cx="752040" cy="43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18440" y="3575880"/>
                <a:ext cx="51444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575880"/>
                <a:ext cx="75204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52400" y="3575880"/>
              <a:ext cx="8374680" cy="434520"/>
              <a:chOff x="752400" y="3575880"/>
              <a:chExt cx="8374680" cy="43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870480" y="3575880"/>
                <a:ext cx="81378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2400" y="3575880"/>
                <a:ext cx="837468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10400"/>
              <a:ext cx="9127440" cy="307440"/>
              <a:chOff x="0" y="4010400"/>
              <a:chExt cx="9127440" cy="307440"/>
            </a:xfrm>
          </p:grpSpPr>
          <p:sp>
            <p:nvSpPr>
              <p:cNvPr id="338" name=""/>
              <p:cNvSpPr/>
              <p:nvPr/>
            </p:nvSpPr>
            <p:spPr>
              <a:xfrm>
                <a:off x="118440" y="4010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ig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10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318200"/>
              <a:ext cx="9127440" cy="546480"/>
              <a:chOff x="0" y="4318200"/>
              <a:chExt cx="9127440" cy="546480"/>
            </a:xfrm>
          </p:grpSpPr>
          <p:sp>
            <p:nvSpPr>
              <p:cNvPr id="341" name=""/>
              <p:cNvSpPr/>
              <p:nvPr/>
            </p:nvSpPr>
            <p:spPr>
              <a:xfrm>
                <a:off x="118440" y="4318200"/>
                <a:ext cx="888984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          s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[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(H(M)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ignature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318200"/>
                <a:ext cx="9127440" cy="54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864680"/>
              <a:ext cx="9127440" cy="307440"/>
              <a:chOff x="0" y="4864680"/>
              <a:chExt cx="9127440" cy="307440"/>
            </a:xfrm>
          </p:grpSpPr>
          <p:sp>
            <p:nvSpPr>
              <p:cNvPr id="344" name=""/>
              <p:cNvSpPr/>
              <p:nvPr/>
            </p:nvSpPr>
            <p:spPr>
              <a:xfrm>
                <a:off x="118440" y="486468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erify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86468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5172480"/>
              <a:ext cx="9127440" cy="771120"/>
              <a:chOff x="0" y="5172480"/>
              <a:chExt cx="9127440" cy="771120"/>
            </a:xfrm>
          </p:grpSpPr>
          <p:sp>
            <p:nvSpPr>
              <p:cNvPr id="347" name=""/>
              <p:cNvSpPr/>
              <p:nvPr/>
            </p:nvSpPr>
            <p:spPr>
              <a:xfrm>
                <a:off x="118440" y="5172480"/>
                <a:ext cx="888984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H(M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Test: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5172480"/>
                <a:ext cx="91274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066680" y="6172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gital Signature Algorithm (D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5ACB-0983-4BEE-8669-17835EA783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33200" y="2514240"/>
            <a:ext cx="81104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message to be sig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= hash of M using S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 = received versions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FDF9-2CAF-4E21-825D-0A3377CF6E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ariant of the D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ssumption that computing discrete logarithms over a finite field with a large prime is diffic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at it is computationally infeasible for anyone other than signer to find a messag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an integer pair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such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10F4-A051-4728-8E5B-ACBF2D6A49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66680" y="1981080"/>
            <a:ext cx="7391160" cy="4572000"/>
            <a:chOff x="1066680" y="1981080"/>
            <a:chExt cx="7391160" cy="4572000"/>
          </a:xfrm>
        </p:grpSpPr>
        <p:grpSp>
          <p:nvGrpSpPr>
            <p:cNvPr id="356" name=""/>
            <p:cNvGrpSpPr/>
            <p:nvPr/>
          </p:nvGrpSpPr>
          <p:grpSpPr>
            <a:xfrm>
              <a:off x="1073880" y="1985040"/>
              <a:ext cx="7375680" cy="4563000"/>
              <a:chOff x="1073880" y="1985040"/>
              <a:chExt cx="7375680" cy="4563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1073880" y="1985040"/>
                <a:ext cx="7375680" cy="569160"/>
                <a:chOff x="1073880" y="1985040"/>
                <a:chExt cx="7375680" cy="569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181520" y="1985040"/>
                  <a:ext cx="71604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ameters of El Gam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073880" y="1985040"/>
                  <a:ext cx="737568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073880" y="2554200"/>
                <a:ext cx="1534320" cy="842040"/>
                <a:chOff x="1073880" y="2554200"/>
                <a:chExt cx="1534320" cy="842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181520" y="25542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73880" y="25542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608560" y="2554200"/>
                <a:ext cx="5840640" cy="842040"/>
                <a:chOff x="2608560" y="2554200"/>
                <a:chExt cx="5840640" cy="842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715480" y="25542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large prime number such that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-1 has a large prime fa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08560" y="25542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073880" y="3396600"/>
                <a:ext cx="1534320" cy="842400"/>
                <a:chOff x="1073880" y="3396600"/>
                <a:chExt cx="1534320" cy="842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81520" y="3396600"/>
                  <a:ext cx="131904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3880" y="3396600"/>
                  <a:ext cx="153432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608560" y="3396600"/>
                <a:ext cx="5840640" cy="842400"/>
                <a:chOff x="2608560" y="3396600"/>
                <a:chExt cx="5840640" cy="842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715480" y="3396600"/>
                  <a:ext cx="562572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rivate key information of a user wher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&lt;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08560" y="3396600"/>
                  <a:ext cx="584064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073880" y="4239000"/>
                <a:ext cx="1534320" cy="842040"/>
                <a:chOff x="1073880" y="4239000"/>
                <a:chExt cx="1534320" cy="842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181520" y="4239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73880" y="4239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608560" y="4239000"/>
                <a:ext cx="5840640" cy="842040"/>
                <a:chOff x="2608560" y="4239000"/>
                <a:chExt cx="5840640" cy="842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715480" y="4239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primitive element of the finite field for the prim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608560" y="4239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073880" y="5081400"/>
                <a:ext cx="1534320" cy="624600"/>
                <a:chOff x="1073880" y="5081400"/>
                <a:chExt cx="1534320" cy="624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181520" y="5081400"/>
                  <a:ext cx="13190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73880" y="5081400"/>
                  <a:ext cx="1534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608560" y="5081400"/>
                <a:ext cx="5840640" cy="624600"/>
                <a:chOff x="2608560" y="5081400"/>
                <a:chExt cx="5840640" cy="6246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715480" y="5081400"/>
                  <a:ext cx="562572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=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r>
                    <a:rPr b="0" i="1" lang="en-US" sz="1600" spc="-1" strike="noStrike" baseline="30000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 mod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608560" y="5081400"/>
                  <a:ext cx="584064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073880" y="5706000"/>
                <a:ext cx="1534320" cy="842040"/>
                <a:chOff x="1073880" y="5706000"/>
                <a:chExt cx="1534320" cy="8420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81520" y="5706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(p,a,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073880" y="5706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608560" y="5706000"/>
                <a:ext cx="5840640" cy="842040"/>
                <a:chOff x="2608560" y="5706000"/>
                <a:chExt cx="5840640" cy="8420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15480" y="5706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ublic key inform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608560" y="5706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1066680" y="1981080"/>
              <a:ext cx="739116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C6AB-923C-4A70-AF7F-2D8E478ED3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838080" y="2057400"/>
          <a:ext cx="8077320" cy="2361960"/>
        </p:xfrm>
        <a:graphic>
          <a:graphicData uri="http://schemas.openxmlformats.org/drawingml/2006/table">
            <a:tbl>
              <a:tblPr/>
              <a:tblGrid>
                <a:gridCol w="1670760"/>
                <a:gridCol w="6406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ly choose an integer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h th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,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 = 1, 1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, 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s not been used to sign a previous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uch tha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the pair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as the digital signature on the messag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762120" y="4648320"/>
            <a:ext cx="8076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ince, 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od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M and (r, s), the receiver 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ty c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verify the signature by checking whet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holds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8998-36E0-4557-A886-67F9156037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troduction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rt &amp; science of preventing users from unauthorized or illegal actions towards information, networking resources and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transform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conversion of input data into output data  using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ke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sy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w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ryptographic transformation p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A10A-2496-4B81-8C24-43F2B0852C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835560"/>
            <a:ext cx="883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SA Digit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difficulty of factoring large num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RSA digital signature can be produced by encrypting eith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tself or a digest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ing the private signature ke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ture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message to be signed or message digest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q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arge prim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the public verification ke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804F-29EB-4CE0-89FD-42B56D30DA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are an effective mechanism used for authenticity and non-repudiation of messa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signature schemes exist, but DSS is probably the most popul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may be expanded to be used as digital pseudonyms which would prevent authorities from figuring out a sender’s identity, for example by cross-mat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4CB8-2969-4B0E-8DF9-9F2F74029A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7D602-7817-41E5-810A-C90DA31325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 Cryptosyste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772400" y="3200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2895480"/>
            <a:ext cx="8381880" cy="2304000"/>
            <a:chOff x="228600" y="2895480"/>
            <a:chExt cx="8381880" cy="2304000"/>
          </a:xfrm>
        </p:grpSpPr>
        <p:sp>
          <p:nvSpPr>
            <p:cNvPr id="215" name=""/>
            <p:cNvSpPr/>
            <p:nvPr/>
          </p:nvSpPr>
          <p:spPr>
            <a:xfrm>
              <a:off x="160020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20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743200" y="434304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781680" y="4343040"/>
              <a:ext cx="18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6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48720" y="396252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080" y="388620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8480" y="32004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31240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28954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9920" y="28954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F292-E81A-445E-B201-1AA764DEF1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a private key is shared between the two communicating parties which must be kept secret between themsel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the sender and receiver do not share the same key and one key can be public and the other can be priv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7F0B-556F-495D-8062-F403FFD761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2133720"/>
            <a:ext cx="8839080" cy="3370680"/>
            <a:chOff x="304920" y="2133720"/>
            <a:chExt cx="8839080" cy="3370680"/>
          </a:xfrm>
        </p:grpSpPr>
        <p:sp>
          <p:nvSpPr>
            <p:cNvPr id="233" name=""/>
            <p:cNvSpPr/>
            <p:nvPr/>
          </p:nvSpPr>
          <p:spPr>
            <a:xfrm>
              <a:off x="167652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652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3868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8195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7057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468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22860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21337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5880" y="213372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9000" y="510552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are private k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44956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09720" y="44956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09480" y="5791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rivate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99B3-B9BF-449E-98AA-82C281A95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rse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7057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2286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133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105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share the same key information and one key may b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24816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5867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ublic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FB54-D5AA-4BBA-BAD5-AD1EE42962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cryp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ssage authent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gital sign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all tools of modern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is a technique for non-repudiation based on the public key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eator of a message can attach a code, the signature, which guarantees the source and integrity of the message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2AB7-28FD-4A09-8043-440DB6EA64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perti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to handwritten signatures, digital signatures must fulfill the follow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not be forge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ipients must be able to verify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ers must not be able to repudiate them l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ddition, digital signatures cannot be constant and must be a function of the entire document it sig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EA4E-84D7-4852-AC72-71F9FAF2A4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rect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only the communicating pa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d that receiver knows public key of sen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ature may be formed by (1) encrypting entire message with sender’s private key or (2) encrypting hash code of message with sender’s private ke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rther encryption of entire message + signature with receiver’s public key or shared private key ensures confidentia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97C6-6F5F-40F8-9EEC-7FFF4925B5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03:57:14Z</dcterms:created>
  <dc:creator>Munaiza Matin</dc:creator>
  <dc:description/>
  <dc:language>en-US</dc:language>
  <cp:lastModifiedBy>Munaiza Matin</cp:lastModifiedBy>
  <dcterms:modified xsi:type="dcterms:W3CDTF">2001-11-27T05:41:43Z</dcterms:modified>
  <cp:revision>35</cp:revision>
  <dc:subject/>
  <dc:title>Digital Signature Schemes</dc:title>
</cp:coreProperties>
</file>