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F2043-A998-4EAF-8B7A-4F6F78213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B9501-5389-4D98-83D8-19A6E88D9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73A06-3BEB-4464-85FE-0DB18805B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6AE6B-252E-4C31-90EC-1710109B6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DAF66-8554-4D36-B7BA-0F5399E24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7C7D8-CEAB-49F5-8D07-A581D1B20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00824-11B3-45C1-8CDB-816D6C54F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B23A3-1F21-4D27-9195-5B90BFA19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D1E5A-04EB-4E87-8FE0-AE32E82DF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93946-9B09-4563-BAD1-5223690E9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10001-5937-41B5-9451-2E34D646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034A0-CD5E-4446-9E4A-F84A235B9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8F00-EA88-4FD6-8150-7901CD67E1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Bold"/>
              </a:rPr>
              <a:t>ENCRYPTION</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sented by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it Choudhary</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Comic Sans MS"/>
              </a:rPr>
              <a:t>RSA – Public Key Cryptosystem</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600" spc="-1" strike="noStrike">
                <a:solidFill>
                  <a:srgbClr val="000000"/>
                </a:solidFill>
                <a:latin typeface="Comic Sans MS"/>
              </a:rPr>
              <a:t>Invented in 1977 by Ron </a:t>
            </a:r>
            <a:r>
              <a:rPr b="1" lang="en-US" sz="1600" spc="-1" strike="noStrike">
                <a:solidFill>
                  <a:srgbClr val="000000"/>
                </a:solidFill>
                <a:latin typeface="Comic Sans MS"/>
              </a:rPr>
              <a:t>Rivest</a:t>
            </a:r>
            <a:r>
              <a:rPr b="0" lang="en-US" sz="1600" spc="-1" strike="noStrike">
                <a:solidFill>
                  <a:srgbClr val="000000"/>
                </a:solidFill>
                <a:latin typeface="Comic Sans MS"/>
              </a:rPr>
              <a:t>, Adi </a:t>
            </a:r>
            <a:r>
              <a:rPr b="1" lang="en-US" sz="1600" spc="-1" strike="noStrike">
                <a:solidFill>
                  <a:srgbClr val="000000"/>
                </a:solidFill>
                <a:latin typeface="Comic Sans MS"/>
              </a:rPr>
              <a:t>Shamir</a:t>
            </a:r>
            <a:r>
              <a:rPr b="0" lang="en-US" sz="1600" spc="-1" strike="noStrike">
                <a:solidFill>
                  <a:srgbClr val="000000"/>
                </a:solidFill>
                <a:latin typeface="Comic Sans MS"/>
              </a:rPr>
              <a:t> and Leonard </a:t>
            </a:r>
            <a:r>
              <a:rPr b="1" lang="en-US" sz="1600" spc="-1" strike="noStrike">
                <a:solidFill>
                  <a:srgbClr val="000000"/>
                </a:solidFill>
                <a:latin typeface="Comic Sans MS"/>
              </a:rPr>
              <a:t>Adleman</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lgorithm:</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ke two large primes p and q and find their product n = pq.</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 a number </a:t>
            </a:r>
            <a:r>
              <a:rPr b="1" i="1" lang="en-US" sz="1600" spc="-1" strike="noStrike">
                <a:solidFill>
                  <a:srgbClr val="000000"/>
                </a:solidFill>
                <a:latin typeface="Comic Sans MS"/>
              </a:rPr>
              <a:t>e</a:t>
            </a:r>
            <a:r>
              <a:rPr b="0" lang="en-US" sz="1600" spc="-1" strike="noStrike">
                <a:solidFill>
                  <a:srgbClr val="000000"/>
                </a:solidFill>
                <a:latin typeface="Comic Sans MS"/>
              </a:rPr>
              <a:t> less than n and relatively prime to p-1 and 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nd its inverse </a:t>
            </a:r>
            <a:r>
              <a:rPr b="1" i="1" lang="en-US" sz="1600" spc="-1" strike="noStrike">
                <a:solidFill>
                  <a:srgbClr val="000000"/>
                </a:solidFill>
                <a:latin typeface="Comic Sans MS"/>
              </a:rPr>
              <a:t>d</a:t>
            </a:r>
            <a:r>
              <a:rPr b="0" lang="en-US" sz="1600" spc="-1" strike="noStrike">
                <a:solidFill>
                  <a:srgbClr val="000000"/>
                </a:solidFill>
                <a:latin typeface="Comic Sans MS"/>
              </a:rPr>
              <a:t>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means </a:t>
            </a:r>
            <a:r>
              <a:rPr b="1" i="1" lang="en-US" sz="1600" spc="-1" strike="noStrike">
                <a:solidFill>
                  <a:srgbClr val="000000"/>
                </a:solidFill>
                <a:latin typeface="Comic Sans MS"/>
              </a:rPr>
              <a:t>ed</a:t>
            </a:r>
            <a:r>
              <a:rPr b="0" lang="en-US" sz="1600" spc="-1" strike="noStrike">
                <a:solidFill>
                  <a:srgbClr val="000000"/>
                </a:solidFill>
                <a:latin typeface="Comic Sans MS"/>
              </a:rPr>
              <a:t> = 1 mod (p-1)(q-1).</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e</a:t>
            </a:r>
            <a:r>
              <a:rPr b="0" lang="en-US" sz="1600" spc="-1" strike="noStrike">
                <a:solidFill>
                  <a:srgbClr val="000000"/>
                </a:solidFill>
                <a:latin typeface="Comic Sans MS"/>
              </a:rPr>
              <a:t> and </a:t>
            </a:r>
            <a:r>
              <a:rPr b="1" i="1" lang="en-US" sz="1600" spc="-1" strike="noStrike">
                <a:solidFill>
                  <a:srgbClr val="000000"/>
                </a:solidFill>
                <a:latin typeface="Comic Sans MS"/>
              </a:rPr>
              <a:t>d</a:t>
            </a:r>
            <a:r>
              <a:rPr b="0" lang="en-US" sz="1600" spc="-1" strike="noStrike">
                <a:solidFill>
                  <a:srgbClr val="000000"/>
                </a:solidFill>
                <a:latin typeface="Comic Sans MS"/>
              </a:rPr>
              <a:t> are called public and private expon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public key is the pair (e,n) and the private key is </a:t>
            </a:r>
            <a:r>
              <a:rPr b="1" i="1" lang="en-US" sz="1600" spc="-1" strike="noStrike">
                <a:solidFill>
                  <a:srgbClr val="000000"/>
                </a:solidFill>
                <a:latin typeface="Comic Sans MS"/>
              </a:rPr>
              <a:t>d</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5" name="" descr=""/>
          <p:cNvPicPr/>
          <p:nvPr/>
        </p:nvPicPr>
        <p:blipFill>
          <a:blip r:embed="rId1"/>
          <a:stretch/>
        </p:blipFill>
        <p:spPr>
          <a:xfrm>
            <a:off x="762120" y="1066680"/>
            <a:ext cx="4152960" cy="20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difficult to obtain the private key d from public key pair (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ever not impossible. Let’s see h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800" spc="-1" strike="noStrike">
                <a:solidFill>
                  <a:srgbClr val="000000"/>
                </a:solidFill>
                <a:latin typeface="Comic Sans MS"/>
              </a:rPr>
              <a:t>The Factoring Proble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is the underlying foundation on which several Public Key Cryptosystems have been design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Factoring an RSA modulus can help the attacker get a private ke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ke factoring difficult by increasing the modulus 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o hardware improvements make RSA less secu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o, since any improvement that allows an attacker to factor a number 2 digits longer than before will allow the RSA user to use a key dozens of digits longer than befo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lot of factoring algorithms have been designed in the recent yea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ome of these methods and their running times 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ollard rho method – O(sqrt(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lliptic Curve Method – O(exp(sqrt(2 ln p ln ln 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umber Field Sieve – O(exp(1.9(ln n)^{1/3}(ln ln n)^{2/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ultiple Polynomial Quadratic Sieve – O(exp(sqrt(ln n ln ln 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Comic Sans MS"/>
              </a:rPr>
              <a:t>Security concer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he Discrete Log Problem</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The Log problem is to find the exponent x in the formula y = g^x mod p o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find the power that g must be raised in order to obtain y, modulo the prime number p.</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t has been the basis of several Public Key Cryposystems such as ElGamal System and DS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security of these systems rests on the assumption that discrete logs are difficult to comput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best discrete log problems have expected running times similar to that of the best factoring algorithm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hich is easier to solve – Factoring Problem or Discrete Log Proble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ne paper suggests that the Discrete Log Problem is a little har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short for Pretty Good Privacy) is a public key encryption program originally written by Phil Zimmermann in 1991. Over the past few years, PGP has become a de-facto standard for encryption of email on the Interne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first compresses the plain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GP then creates a </a:t>
            </a:r>
            <a:r>
              <a:rPr b="0" i="1" lang="en-US" sz="1600" spc="-1" strike="noStrike">
                <a:solidFill>
                  <a:srgbClr val="000000"/>
                </a:solidFill>
                <a:latin typeface="Comic Sans MS"/>
              </a:rPr>
              <a:t>session key, </a:t>
            </a:r>
            <a:r>
              <a:rPr b="0" lang="en-US" sz="1600" spc="-1" strike="noStrike">
                <a:solidFill>
                  <a:srgbClr val="000000"/>
                </a:solidFill>
                <a:latin typeface="Comic Sans MS"/>
              </a:rPr>
              <a:t>which is a one-time-only secret key.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session key is used to encrypt the plaintext; the result is ciphertex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ce the data is encrypted, the session key is encrypted to the recipient's public ke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public key-encrypted session key is transmitted along with the ciphertext to the recipien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1"/>
          <a:stretch/>
        </p:blipFill>
        <p:spPr>
          <a:xfrm>
            <a:off x="838080" y="4267080"/>
            <a:ext cx="4067280" cy="19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Comic Sans MS"/>
              </a:rPr>
              <a:t>PGP</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600" spc="-1" strike="noStrike">
                <a:solidFill>
                  <a:srgbClr val="000000"/>
                </a:solidFill>
                <a:latin typeface="Comic Sans MS"/>
              </a:rPr>
              <a:t>Decryption works in the rever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recipient's copy of PGP uses his or her private key to recover the temporary session key.</a:t>
            </a:r>
            <a:endParaRPr b="0" lang="en-US" sz="16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GP then uses this to decrypt the conventionally-encrypted ciphertext</a:t>
            </a:r>
            <a:r>
              <a:rPr b="0" lang="en-US" sz="2000" spc="-1" strike="noStrike">
                <a:solidFill>
                  <a:srgbClr val="000000"/>
                </a:solidFill>
                <a:latin typeface="Comic Sans MS"/>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1" name="" descr=""/>
          <p:cNvPicPr/>
          <p:nvPr/>
        </p:nvPicPr>
        <p:blipFill>
          <a:blip r:embed="rId1"/>
          <a:stretch/>
        </p:blipFill>
        <p:spPr>
          <a:xfrm>
            <a:off x="838080" y="3048120"/>
            <a:ext cx="4067280" cy="168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Hash functions</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A typical one way hash function takes a variable length message and produces a fixed length hash. Given the hash, it is computationally impossible to find a message with that hash.</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MD4, and MD5 are the different message-digest algorithms developed by Rives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y are meant for digital signature applications where a large message has to be ``compressed'' in a secure manner before being signed with the private ke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 descr=""/>
          <p:cNvPicPr/>
          <p:nvPr/>
        </p:nvPicPr>
        <p:blipFill>
          <a:blip r:embed="rId1"/>
          <a:stretch/>
        </p:blipFill>
        <p:spPr>
          <a:xfrm>
            <a:off x="838080" y="838080"/>
            <a:ext cx="412452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Comic Sans MS"/>
              </a:rPr>
              <a:t>MD2 was optimized for 8-bit machines</a:t>
            </a:r>
            <a:r>
              <a:rPr b="0" lang="en-US" sz="2400" spc="-1" strike="noStrike">
                <a:solidFill>
                  <a:srgbClr val="000000"/>
                </a:solidFill>
                <a:latin typeface="Comic Sans MS"/>
              </a:rPr>
              <a:t> </a:t>
            </a:r>
            <a:r>
              <a:rPr b="0" lang="en-US" sz="1600" spc="-1" strike="noStrike">
                <a:solidFill>
                  <a:srgbClr val="000000"/>
                </a:solidFill>
                <a:latin typeface="Comic Sans MS"/>
              </a:rPr>
              <a:t>whereas MD4 and MD5 were aimed at 32-bit machi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2</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D2 was developed by Rivest in 1989.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first padded so its length in bytes is divisible by 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16-byte checksum is then appended to the message, and the hash value is computed on the resulting messag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2000" spc="-1" strike="noStrike">
                <a:solidFill>
                  <a:srgbClr val="000000"/>
                </a:solidFill>
                <a:latin typeface="Comic Sans MS"/>
              </a:rPr>
              <a:t>MD4</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600" spc="-1" strike="noStrike">
                <a:solidFill>
                  <a:srgbClr val="000000"/>
                </a:solidFill>
                <a:latin typeface="Comic Sans MS"/>
              </a:rPr>
              <a:t>MD4 was developed by Rivest in 199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message is padded to ensure that its length in bits plus 64 is divisible by 51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 64-bit binary representation of the original length of the message is then concatenated to the message. The message is processed in 512-bit blocks and each block is processed in three distinct round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D5</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MD5 was developed by Rivest in 199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is MD4 with ”safety-belts” and while it is slightly slower than MD4, it is more secu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algorithm consists of four distinct rounds, which has a slightly different design from that of MD4. Message-digest size, as well as padding requirements, remain the s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ENCRYPTIO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Comic Sans MS"/>
              </a:rPr>
              <a:t>Data that can be read and understood without any special measures is called </a:t>
            </a:r>
            <a:r>
              <a:rPr b="1" i="1" lang="en-US" sz="1800" spc="-1" strike="noStrike">
                <a:solidFill>
                  <a:srgbClr val="000000"/>
                </a:solidFill>
                <a:latin typeface="Comic Sans MS"/>
              </a:rPr>
              <a:t>plaintext</a:t>
            </a:r>
            <a:r>
              <a:rPr b="0" i="1" lang="en-US" sz="1800" spc="-1" strike="noStrike">
                <a:solidFill>
                  <a:srgbClr val="000000"/>
                </a:solidFill>
                <a:latin typeface="Comic Sans MS"/>
              </a:rPr>
              <a:t> </a:t>
            </a:r>
            <a:r>
              <a:rPr b="0" lang="en-US" sz="1800" spc="-1" strike="noStrike">
                <a:solidFill>
                  <a:srgbClr val="000000"/>
                </a:solidFill>
                <a:latin typeface="Comic Sans MS"/>
              </a:rPr>
              <a:t>or </a:t>
            </a:r>
            <a:r>
              <a:rPr b="1" i="1" lang="en-US" sz="1800" spc="-1" strike="noStrike">
                <a:solidFill>
                  <a:srgbClr val="000000"/>
                </a:solidFill>
                <a:latin typeface="Comic Sans MS"/>
              </a:rPr>
              <a:t>clea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method of disguising plaintext in such a way as to hide its substance is called </a:t>
            </a:r>
            <a:r>
              <a:rPr b="1" i="1" lang="en-US" sz="1800" spc="-1" strike="noStrike">
                <a:solidFill>
                  <a:srgbClr val="000000"/>
                </a:solidFill>
                <a:latin typeface="Comic Sans MS"/>
              </a:rPr>
              <a:t>encryption</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Encrypting plaintext results in unreadable gibberish called </a:t>
            </a:r>
            <a:r>
              <a:rPr b="1" i="1" lang="en-US" sz="1800" spc="-1" strike="noStrike">
                <a:solidFill>
                  <a:srgbClr val="000000"/>
                </a:solidFill>
                <a:latin typeface="Comic Sans MS"/>
              </a:rPr>
              <a:t>ciphertext</a:t>
            </a: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he process of reverting ciphertext to its original plaintext is called </a:t>
            </a:r>
            <a:r>
              <a:rPr b="1" i="1" lang="en-US" sz="1800" spc="-1" strike="noStrike">
                <a:solidFill>
                  <a:srgbClr val="000000"/>
                </a:solidFill>
                <a:latin typeface="Comic Sans MS"/>
              </a:rPr>
              <a:t>decryption</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 name="" descr=""/>
          <p:cNvPicPr/>
          <p:nvPr/>
        </p:nvPicPr>
        <p:blipFill>
          <a:blip r:embed="rId1"/>
          <a:stretch/>
        </p:blipFill>
        <p:spPr>
          <a:xfrm>
            <a:off x="762120" y="1295280"/>
            <a:ext cx="40478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52048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DEFINITIONS OF SECURITY</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Comic Sans MS"/>
              </a:rPr>
              <a:t>Semantic Securit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 encryption scheme is semantically secure if it is infeasible to learn anything about the plaintext from the cipher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fining more accurately, it means that whatever can be efficiently computed from the ciphertext, can be efficiently computed when given only the length of the plaintex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Indistinguishability of Encryp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t interprets security as the infeasibility of distinguishing between encryptions of a given pair of messages which are of same leng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228240"/>
            <a:ext cx="8381880" cy="6172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ENCRYPTION ALGORITHMS</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000" spc="-1" strike="noStrike">
                <a:solidFill>
                  <a:srgbClr val="000000"/>
                </a:solidFill>
                <a:latin typeface="Comic Sans MS"/>
              </a:rPr>
              <a:t>Private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gle, Shared, 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bulk data encryption, broadcast applic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s a secret key to be known by both parti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DES, RC4, Blowfish, IDE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Public Key Algorith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wo, Asymmetri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for key agreement and distribu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quire a public and a private key pair for each par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RSA, Diffie-Hellman, ElGam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000" spc="-1" strike="noStrike">
                <a:solidFill>
                  <a:srgbClr val="000000"/>
                </a:solidFill>
                <a:latin typeface="Comic Sans MS"/>
              </a:rPr>
              <a:t>Hash Func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d to compress data down to a fixed size for sig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amples are MD5, SHA-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Comic Sans MS"/>
              </a:rPr>
              <a:t>DES – Private Key Cryptosystem</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Comic Sans MS"/>
              </a:rPr>
              <a:t>IBM developed </a:t>
            </a:r>
            <a:r>
              <a:rPr b="1" lang="en-US" sz="1600" spc="-1" strike="noStrike">
                <a:solidFill>
                  <a:srgbClr val="000000"/>
                </a:solidFill>
                <a:latin typeface="Comic Sans MS"/>
              </a:rPr>
              <a:t>Lucifer</a:t>
            </a:r>
            <a:r>
              <a:rPr b="0" lang="en-US" sz="1600" spc="-1" strike="noStrike">
                <a:solidFill>
                  <a:srgbClr val="000000"/>
                </a:solidFill>
                <a:latin typeface="Comic Sans MS"/>
              </a:rPr>
              <a:t> in 1974 which was adopted in 1977 as </a:t>
            </a:r>
            <a:r>
              <a:rPr b="1" lang="en-US" sz="1600" spc="-1" strike="noStrike">
                <a:solidFill>
                  <a:srgbClr val="000000"/>
                </a:solidFill>
                <a:latin typeface="Comic Sans MS"/>
              </a:rPr>
              <a:t>D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encrypts and decrypts data in 64-bit blocks, using a 64-bit key (although the effective key strength is only 56 bi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though the input key for DES is 64 bits long, the actual key used by DES is only 56 bits in length. Wh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takes a 64-bit block of plaintext as input and outputs a 64-bit block of ciphertext.</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ES has 16 rounds, i.e. the algorithm is repeated 16 times to produce the ciphertex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t has been found that the number of rounds is exponentially proportional to the amount of time required to find a key using a brute-force attack. So as the number of rounds increases, the security of the algorithm increases exponentially. </a:t>
            </a:r>
            <a:endParaRPr b="0" lang="en-US" sz="1600" spc="-1" strike="noStrike">
              <a:solidFill>
                <a:srgbClr val="000000"/>
              </a:solidFill>
              <a:latin typeface="Arial"/>
            </a:endParaRPr>
          </a:p>
        </p:txBody>
      </p:sp>
      <p:pic>
        <p:nvPicPr>
          <p:cNvPr id="47" name="" descr=""/>
          <p:cNvPicPr/>
          <p:nvPr/>
        </p:nvPicPr>
        <p:blipFill>
          <a:blip r:embed="rId1"/>
          <a:stretch/>
        </p:blipFill>
        <p:spPr>
          <a:xfrm>
            <a:off x="838080" y="762120"/>
            <a:ext cx="427680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What After DE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DES is the workhorse of cryptography algorithms, and it's long past time to replace the 19-year-old standard. The recent design of a $1M machine that could recover a DES key in 3.5 hours only confirmed what everybody knew: DES's key size is far too small for toda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world only partly trusted DES because it survived the scrutiny of the NSA. Experts trusted DES because it was a published standard, and because it survived 20 years of intensive cryptanalysis by cryptographers around the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didates for a replacement are emerging, but none has taken widespread hol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le-DES is the conservative approach.</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A (used in PGP) is the most promising new algorithm. </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there is a bevy of unpatented ones, RC4 ,SAFER, and Blowfis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Comic Sans MS"/>
              </a:rPr>
              <a:t>Triple-DES Algorith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iple DES is simply another mode of DES oper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takes three 64-bit keys, for an overall key length of 192 bits.(168 bi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cedure for encryption is exactly the same as regular DES, but it is repeated three times. Hence the name Triple D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ata is encrypted with the first key, decrypted with the second key, and finally encrypted again with the third key. </a:t>
            </a:r>
            <a:endParaRPr b="0" lang="en-US" sz="18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equently, Triple DES runs three times slower than standard DES, but is much more secure if used properly</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0" name="" descr=""/>
          <p:cNvPicPr/>
          <p:nvPr/>
        </p:nvPicPr>
        <p:blipFill>
          <a:blip r:embed="rId1"/>
          <a:stretch/>
        </p:blipFill>
        <p:spPr>
          <a:xfrm>
            <a:off x="685800" y="76212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Comic Sans MS"/>
              </a:rPr>
              <a:t>Triple Des Encryption - Problem</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Unfortunately, there are some weak keys that one should be aware o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f all three keys, the first and second keys, or the second and third keys are the same, then the encryption procedure is essentially the same as standard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y is it a proble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ituation is to be avoided because it is the same as using a really slow version of regular D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520" y="304560"/>
            <a:ext cx="84582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Comic Sans MS"/>
              </a:rPr>
              <a:t>Advantages of Public Key Cryptography</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ure key exchange without prior exchange of secrets.</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provide a method for digital signatures and hence in authenticati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uthentication of document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stead of encrypting information using someone else's public key, we encrypt it with our private key. If the information can be decrypted with our public key, then it must have originated by us.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990720" y="3886200"/>
            <a:ext cx="41338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01:48:47Z</dcterms:created>
  <dc:creator>Amit Choudhary</dc:creator>
  <dc:description/>
  <dc:language>en-US</dc:language>
  <cp:lastModifiedBy>Amit Choudhary</cp:lastModifiedBy>
  <dcterms:modified xsi:type="dcterms:W3CDTF">2001-11-14T23:33:56Z</dcterms:modified>
  <cp:revision>14</cp:revision>
  <dc:subject/>
  <dc:title>Slide 1</dc:title>
</cp:coreProperties>
</file>