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80"/>
            <a:ext cx="9144000" cy="533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128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16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19080" y="6478560"/>
            <a:ext cx="895320" cy="703800"/>
          </a:xfrm>
          <a:prstGeom prst="rect">
            <a:avLst/>
          </a:prstGeom>
          <a:solidFill>
            <a:srgbClr val="00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-</a:t>
            </a:r>
            <a:fld id="{E2B282D9-C994-46EC-BD09-1235968A0D56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128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9080"/>
            <a:ext cx="9144000" cy="1809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16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H A P T E R  T 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ent-Driven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895480"/>
            <a:ext cx="7925040" cy="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4160" y="411120"/>
            <a:ext cx="2690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to Initializ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61800"/>
            <a:ext cx="6324480" cy="6477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10_09" descr=""/>
          <p:cNvPicPr/>
          <p:nvPr/>
        </p:nvPicPr>
        <p:blipFill>
          <a:blip r:embed="rId1"/>
          <a:stretch/>
        </p:blipFill>
        <p:spPr>
          <a:xfrm>
            <a:off x="2895480" y="457200"/>
            <a:ext cx="571356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7400" y="411120"/>
            <a:ext cx="6363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Step in an Intera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r Selects Rectangle from the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10_10" descr=""/>
          <p:cNvPicPr/>
          <p:nvPr/>
        </p:nvPicPr>
        <p:blipFill>
          <a:blip r:embed="rId1"/>
          <a:stretch/>
        </p:blipFill>
        <p:spPr>
          <a:xfrm>
            <a:off x="1022400" y="1528920"/>
            <a:ext cx="7102440" cy="4782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600" y="411120"/>
            <a:ext cx="6922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mStateChanged Handler for This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10_11" descr=""/>
          <p:cNvPicPr/>
          <p:nvPr/>
        </p:nvPicPr>
        <p:blipFill>
          <a:blip r:embed="rId1"/>
          <a:stretch/>
        </p:blipFill>
        <p:spPr>
          <a:xfrm>
            <a:off x="647640" y="1509840"/>
            <a:ext cx="7848720" cy="4281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3800" y="411120"/>
            <a:ext cx="8314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 of the mouseClicked Handler for This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10_12" descr=""/>
          <p:cNvPicPr/>
          <p:nvPr/>
        </p:nvPicPr>
        <p:blipFill>
          <a:blip r:embed="rId1"/>
          <a:stretch/>
        </p:blipFill>
        <p:spPr>
          <a:xfrm>
            <a:off x="1776240" y="1112760"/>
            <a:ext cx="576756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960" y="411120"/>
            <a:ext cx="55681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 of Selecting Rectangle Choi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Clicking the Mouse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10_13" descr=""/>
          <p:cNvPicPr/>
          <p:nvPr/>
        </p:nvPicPr>
        <p:blipFill>
          <a:blip r:embed="rId1"/>
          <a:stretch/>
        </p:blipFill>
        <p:spPr>
          <a:xfrm>
            <a:off x="914400" y="1500120"/>
            <a:ext cx="7324560" cy="4900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320" y="411120"/>
            <a:ext cx="6820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Performed Handler for the Clear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0_14" descr=""/>
          <p:cNvPicPr/>
          <p:nvPr/>
        </p:nvPicPr>
        <p:blipFill>
          <a:blip r:embed="rId1"/>
          <a:stretch/>
        </p:blipFill>
        <p:spPr>
          <a:xfrm>
            <a:off x="84240" y="2266920"/>
            <a:ext cx="8916840" cy="2228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320" y="411120"/>
            <a:ext cx="49921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Performed Handler for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Key in the Typing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10_15" descr=""/>
          <p:cNvPicPr/>
          <p:nvPr/>
        </p:nvPicPr>
        <p:blipFill>
          <a:blip r:embed="rId1"/>
          <a:stretch/>
        </p:blipFill>
        <p:spPr>
          <a:xfrm>
            <a:off x="84240" y="2212920"/>
            <a:ext cx="891684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4880" y="411120"/>
            <a:ext cx="6773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 Effect of User Placing a Text in th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10_16" descr=""/>
          <p:cNvPicPr/>
          <p:nvPr/>
        </p:nvPicPr>
        <p:blipFill>
          <a:blip r:embed="rId1"/>
          <a:stretch/>
        </p:blipFill>
        <p:spPr>
          <a:xfrm>
            <a:off x="714240" y="1184400"/>
            <a:ext cx="7696440" cy="5140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7040" y="411120"/>
            <a:ext cx="440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Variables for Class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10_17" descr=""/>
          <p:cNvPicPr/>
          <p:nvPr/>
        </p:nvPicPr>
        <p:blipFill>
          <a:blip r:embed="rId1"/>
          <a:stretch/>
        </p:blipFill>
        <p:spPr>
          <a:xfrm>
            <a:off x="108000" y="2576520"/>
            <a:ext cx="8916840" cy="1614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4880" y="411120"/>
            <a:ext cx="4824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ant Methods in Class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10_18" descr=""/>
          <p:cNvPicPr/>
          <p:nvPr/>
        </p:nvPicPr>
        <p:blipFill>
          <a:blip r:embed="rId1"/>
          <a:stretch/>
        </p:blipFill>
        <p:spPr>
          <a:xfrm>
            <a:off x="1446120" y="2219400"/>
            <a:ext cx="6249960" cy="227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8480" y="411120"/>
            <a:ext cx="763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erative and Event-Driven Paradigms Contra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10_01" descr=""/>
          <p:cNvPicPr/>
          <p:nvPr/>
        </p:nvPicPr>
        <p:blipFill>
          <a:blip r:embed="rId1"/>
          <a:stretch/>
        </p:blipFill>
        <p:spPr>
          <a:xfrm>
            <a:off x="108000" y="1343160"/>
            <a:ext cx="8916840" cy="4209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3080" y="411120"/>
            <a:ext cx="646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Variables and Methods in Class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10_19" descr=""/>
          <p:cNvPicPr/>
          <p:nvPr/>
        </p:nvPicPr>
        <p:blipFill>
          <a:blip r:embed="rId1"/>
          <a:stretch/>
        </p:blipFill>
        <p:spPr>
          <a:xfrm>
            <a:off x="108000" y="2095560"/>
            <a:ext cx="891684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3800" y="411120"/>
            <a:ext cx="5080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on of a New Grid in a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10_20" descr=""/>
          <p:cNvPicPr/>
          <p:nvPr/>
        </p:nvPicPr>
        <p:blipFill>
          <a:blip r:embed="rId1"/>
          <a:stretch/>
        </p:blipFill>
        <p:spPr>
          <a:xfrm>
            <a:off x="536400" y="1171440"/>
            <a:ext cx="8079120" cy="515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3440" y="411120"/>
            <a:ext cx="4419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ment of an X in the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10_21" descr=""/>
          <p:cNvPicPr/>
          <p:nvPr/>
        </p:nvPicPr>
        <p:blipFill>
          <a:blip r:embed="rId1"/>
          <a:stretch/>
        </p:blipFill>
        <p:spPr>
          <a:xfrm>
            <a:off x="471600" y="1143000"/>
            <a:ext cx="8229600" cy="523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320" y="411120"/>
            <a:ext cx="35352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State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c-Tac-Toe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361800"/>
            <a:ext cx="5257800" cy="649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10_22" descr=""/>
          <p:cNvPicPr/>
          <p:nvPr/>
        </p:nvPicPr>
        <p:blipFill>
          <a:blip r:embed="rId1"/>
          <a:stretch/>
        </p:blipFill>
        <p:spPr>
          <a:xfrm>
            <a:off x="3886200" y="609480"/>
            <a:ext cx="5021280" cy="5780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680" y="411120"/>
            <a:ext cx="6378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useClicked Handler for Tic-Tac-T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10_23" descr=""/>
          <p:cNvPicPr/>
          <p:nvPr/>
        </p:nvPicPr>
        <p:blipFill>
          <a:blip r:embed="rId1"/>
          <a:stretch/>
        </p:blipFill>
        <p:spPr>
          <a:xfrm>
            <a:off x="345960" y="1447920"/>
            <a:ext cx="8460000" cy="456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5600" y="411120"/>
            <a:ext cx="4144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c-Tac-Toe’s Paint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10_24" descr=""/>
          <p:cNvPicPr/>
          <p:nvPr/>
        </p:nvPicPr>
        <p:blipFill>
          <a:blip r:embed="rId1"/>
          <a:stretch/>
        </p:blipFill>
        <p:spPr>
          <a:xfrm>
            <a:off x="84240" y="2971800"/>
            <a:ext cx="891684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7760" y="411120"/>
            <a:ext cx="2958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Game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10_25" descr=""/>
          <p:cNvPicPr/>
          <p:nvPr/>
        </p:nvPicPr>
        <p:blipFill>
          <a:blip r:embed="rId1"/>
          <a:stretch/>
        </p:blipFill>
        <p:spPr>
          <a:xfrm>
            <a:off x="200160" y="1871640"/>
            <a:ext cx="876276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4880" y="411120"/>
            <a:ext cx="54338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s of a Typical ATM Mach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 Us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10_26" descr=""/>
          <p:cNvPicPr/>
          <p:nvPr/>
        </p:nvPicPr>
        <p:blipFill>
          <a:blip r:embed="rId1"/>
          <a:stretch/>
        </p:blipFill>
        <p:spPr>
          <a:xfrm>
            <a:off x="108000" y="1566720"/>
            <a:ext cx="8916840" cy="4743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6680" y="411120"/>
            <a:ext cx="6331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Design of a Home Secu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10_27" descr=""/>
          <p:cNvPicPr/>
          <p:nvPr/>
        </p:nvPicPr>
        <p:blipFill>
          <a:blip r:embed="rId1"/>
          <a:stretch/>
        </p:blipFill>
        <p:spPr>
          <a:xfrm>
            <a:off x="84240" y="1752480"/>
            <a:ext cx="8916840" cy="334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9560" y="411120"/>
            <a:ext cx="6310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Class AWTEvent and Its Subclasse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10_02" descr=""/>
          <p:cNvPicPr/>
          <p:nvPr/>
        </p:nvPicPr>
        <p:blipFill>
          <a:blip r:embed="rId1"/>
          <a:stretch/>
        </p:blipFill>
        <p:spPr>
          <a:xfrm>
            <a:off x="84240" y="2111400"/>
            <a:ext cx="8916840" cy="2604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8120" y="411120"/>
            <a:ext cx="8611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es of Component That Can Be Source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10_03" descr=""/>
          <p:cNvPicPr/>
          <p:nvPr/>
        </p:nvPicPr>
        <p:blipFill>
          <a:blip r:embed="rId1"/>
          <a:stretch/>
        </p:blipFill>
        <p:spPr>
          <a:xfrm>
            <a:off x="84240" y="1338120"/>
            <a:ext cx="8916840" cy="4606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8840" y="411120"/>
            <a:ext cx="8159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EventListener Class Interface and Its Subclasse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10_04" descr=""/>
          <p:cNvPicPr/>
          <p:nvPr/>
        </p:nvPicPr>
        <p:blipFill>
          <a:blip r:embed="rId1"/>
          <a:stretch/>
        </p:blipFill>
        <p:spPr>
          <a:xfrm>
            <a:off x="2195640" y="1171440"/>
            <a:ext cx="4775040" cy="5181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4880" y="411120"/>
            <a:ext cx="5584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lers Required for Button, Menu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Typing, and Mouse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10_05" descr=""/>
          <p:cNvPicPr/>
          <p:nvPr/>
        </p:nvPicPr>
        <p:blipFill>
          <a:blip r:embed="rId1"/>
          <a:stretch/>
        </p:blipFill>
        <p:spPr>
          <a:xfrm>
            <a:off x="1114560" y="1569960"/>
            <a:ext cx="6935760" cy="4576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5960" y="411120"/>
            <a:ext cx="5078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Structure of a Java 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10_06" descr=""/>
          <p:cNvPicPr/>
          <p:nvPr/>
        </p:nvPicPr>
        <p:blipFill>
          <a:blip r:embed="rId1"/>
          <a:stretch/>
        </p:blipFill>
        <p:spPr>
          <a:xfrm>
            <a:off x="542880" y="1362240"/>
            <a:ext cx="8077320" cy="447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0920" y="411120"/>
            <a:ext cx="7334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Frame Design for a Graphical Drawing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10_07" descr=""/>
          <p:cNvPicPr/>
          <p:nvPr/>
        </p:nvPicPr>
        <p:blipFill>
          <a:blip r:embed="rId1"/>
          <a:stretch/>
        </p:blipFill>
        <p:spPr>
          <a:xfrm>
            <a:off x="733320" y="1171440"/>
            <a:ext cx="7699320" cy="5162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3800" y="411120"/>
            <a:ext cx="638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to Define the State for the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10_08" descr=""/>
          <p:cNvPicPr/>
          <p:nvPr/>
        </p:nvPicPr>
        <p:blipFill>
          <a:blip r:embed="rId1"/>
          <a:stretch/>
        </p:blipFill>
        <p:spPr>
          <a:xfrm>
            <a:off x="84240" y="2144880"/>
            <a:ext cx="8916840" cy="2427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20:53:31Z</dcterms:created>
  <dc:creator>Jay &amp; Terri Schiesl</dc:creator>
  <dc:description/>
  <dc:language>en-US</dc:language>
  <cp:lastModifiedBy>Jay &amp; Terri Schiesl</cp:lastModifiedBy>
  <cp:lastPrinted>2001-12-04T13:36:59Z</cp:lastPrinted>
  <dcterms:modified xsi:type="dcterms:W3CDTF">2001-12-04T13:37:49Z</dcterms:modified>
  <cp:revision>56</cp:revision>
  <dc:subject/>
  <dc:title>No Slide Title</dc:title>
</cp:coreProperties>
</file>