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80"/>
            <a:ext cx="914400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9080" y="6478560"/>
            <a:ext cx="895320" cy="703800"/>
          </a:xfrm>
          <a:prstGeom prst="rect">
            <a:avLst/>
          </a:prstGeom>
          <a:solidFill>
            <a:srgbClr val="00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</a:t>
            </a:r>
            <a:fld id="{5A0AB8B8-2388-4492-9B13-AEA1E28AE6D9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80"/>
            <a:ext cx="9144000" cy="180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H A P T E R  T 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895480"/>
            <a:ext cx="792504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160" y="411120"/>
            <a:ext cx="2690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Initial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61800"/>
            <a:ext cx="6324480" cy="647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0_09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571356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00" y="411120"/>
            <a:ext cx="6363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tep in an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Selects Rectangle from th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10_10" descr=""/>
          <p:cNvPicPr/>
          <p:nvPr/>
        </p:nvPicPr>
        <p:blipFill>
          <a:blip r:embed="rId1"/>
          <a:stretch/>
        </p:blipFill>
        <p:spPr>
          <a:xfrm>
            <a:off x="1022400" y="1528920"/>
            <a:ext cx="7102440" cy="47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600" y="411120"/>
            <a:ext cx="692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StateChang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0_11" descr=""/>
          <p:cNvPicPr/>
          <p:nvPr/>
        </p:nvPicPr>
        <p:blipFill>
          <a:blip r:embed="rId1"/>
          <a:stretch/>
        </p:blipFill>
        <p:spPr>
          <a:xfrm>
            <a:off x="647640" y="1509840"/>
            <a:ext cx="7848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800" y="411120"/>
            <a:ext cx="8314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of the mouseClick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0_12" descr=""/>
          <p:cNvPicPr/>
          <p:nvPr/>
        </p:nvPicPr>
        <p:blipFill>
          <a:blip r:embed="rId1"/>
          <a:stretch/>
        </p:blipFill>
        <p:spPr>
          <a:xfrm>
            <a:off x="1776240" y="1112760"/>
            <a:ext cx="57675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960" y="411120"/>
            <a:ext cx="556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Selecting Rectangle Cho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licking the Mouse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0_13" descr=""/>
          <p:cNvPicPr/>
          <p:nvPr/>
        </p:nvPicPr>
        <p:blipFill>
          <a:blip r:embed="rId1"/>
          <a:stretch/>
        </p:blipFill>
        <p:spPr>
          <a:xfrm>
            <a:off x="914400" y="1500120"/>
            <a:ext cx="732456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411120"/>
            <a:ext cx="68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Clear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0_14" descr=""/>
          <p:cNvPicPr/>
          <p:nvPr/>
        </p:nvPicPr>
        <p:blipFill>
          <a:blip r:embed="rId1"/>
          <a:stretch/>
        </p:blipFill>
        <p:spPr>
          <a:xfrm>
            <a:off x="84240" y="2266920"/>
            <a:ext cx="891684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411120"/>
            <a:ext cx="4992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Key in the Typ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0_15" descr=""/>
          <p:cNvPicPr/>
          <p:nvPr/>
        </p:nvPicPr>
        <p:blipFill>
          <a:blip r:embed="rId1"/>
          <a:stretch/>
        </p:blipFill>
        <p:spPr>
          <a:xfrm>
            <a:off x="84240" y="2212920"/>
            <a:ext cx="89168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880" y="411120"/>
            <a:ext cx="677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Effect of User Placing a Text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0_16" descr=""/>
          <p:cNvPicPr/>
          <p:nvPr/>
        </p:nvPicPr>
        <p:blipFill>
          <a:blip r:embed="rId1"/>
          <a:stretch/>
        </p:blipFill>
        <p:spPr>
          <a:xfrm>
            <a:off x="714240" y="1184400"/>
            <a:ext cx="769644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7040" y="411120"/>
            <a:ext cx="440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Variables for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10_17" descr=""/>
          <p:cNvPicPr/>
          <p:nvPr/>
        </p:nvPicPr>
        <p:blipFill>
          <a:blip r:embed="rId1"/>
          <a:stretch/>
        </p:blipFill>
        <p:spPr>
          <a:xfrm>
            <a:off x="108000" y="2576520"/>
            <a:ext cx="891684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880" y="411120"/>
            <a:ext cx="482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Methods in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0_18" descr=""/>
          <p:cNvPicPr/>
          <p:nvPr/>
        </p:nvPicPr>
        <p:blipFill>
          <a:blip r:embed="rId1"/>
          <a:stretch/>
        </p:blipFill>
        <p:spPr>
          <a:xfrm>
            <a:off x="1446120" y="2219400"/>
            <a:ext cx="62499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480" y="411120"/>
            <a:ext cx="763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rative and Event-Driven Paradigms Contr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0_01" descr=""/>
          <p:cNvPicPr/>
          <p:nvPr/>
        </p:nvPicPr>
        <p:blipFill>
          <a:blip r:embed="rId1"/>
          <a:stretch/>
        </p:blipFill>
        <p:spPr>
          <a:xfrm>
            <a:off x="108000" y="1343160"/>
            <a:ext cx="891684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3080" y="411120"/>
            <a:ext cx="646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ariables and Methods in Class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10_19" descr=""/>
          <p:cNvPicPr/>
          <p:nvPr/>
        </p:nvPicPr>
        <p:blipFill>
          <a:blip r:embed="rId1"/>
          <a:stretch/>
        </p:blipFill>
        <p:spPr>
          <a:xfrm>
            <a:off x="108000" y="2095560"/>
            <a:ext cx="89168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3800" y="411120"/>
            <a:ext cx="5080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a New Grid in 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0_20" descr=""/>
          <p:cNvPicPr/>
          <p:nvPr/>
        </p:nvPicPr>
        <p:blipFill>
          <a:blip r:embed="rId1"/>
          <a:stretch/>
        </p:blipFill>
        <p:spPr>
          <a:xfrm>
            <a:off x="536400" y="1171440"/>
            <a:ext cx="80791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440" y="411120"/>
            <a:ext cx="441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of an X in the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0_21" descr=""/>
          <p:cNvPicPr/>
          <p:nvPr/>
        </p:nvPicPr>
        <p:blipFill>
          <a:blip r:embed="rId1"/>
          <a:stretch/>
        </p:blipFill>
        <p:spPr>
          <a:xfrm>
            <a:off x="471600" y="1143000"/>
            <a:ext cx="822960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411120"/>
            <a:ext cx="3535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61800"/>
            <a:ext cx="5257800" cy="649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10_22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5021280" cy="578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680" y="41112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useClicked Handler for Tic-Tac-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0_23" descr=""/>
          <p:cNvPicPr/>
          <p:nvPr/>
        </p:nvPicPr>
        <p:blipFill>
          <a:blip r:embed="rId1"/>
          <a:stretch/>
        </p:blipFill>
        <p:spPr>
          <a:xfrm>
            <a:off x="345960" y="1447920"/>
            <a:ext cx="846000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600" y="411120"/>
            <a:ext cx="414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’s Pai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0_24" descr=""/>
          <p:cNvPicPr/>
          <p:nvPr/>
        </p:nvPicPr>
        <p:blipFill>
          <a:blip r:embed="rId1"/>
          <a:stretch/>
        </p:blipFill>
        <p:spPr>
          <a:xfrm>
            <a:off x="84240" y="2971800"/>
            <a:ext cx="891684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7760" y="41112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Game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10_25" descr=""/>
          <p:cNvPicPr/>
          <p:nvPr/>
        </p:nvPicPr>
        <p:blipFill>
          <a:blip r:embed="rId1"/>
          <a:stretch/>
        </p:blipFill>
        <p:spPr>
          <a:xfrm>
            <a:off x="200160" y="1871640"/>
            <a:ext cx="87627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4880" y="411120"/>
            <a:ext cx="5433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of a Typical ATM Mach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10_26" descr=""/>
          <p:cNvPicPr/>
          <p:nvPr/>
        </p:nvPicPr>
        <p:blipFill>
          <a:blip r:embed="rId1"/>
          <a:stretch/>
        </p:blipFill>
        <p:spPr>
          <a:xfrm>
            <a:off x="108000" y="1566720"/>
            <a:ext cx="891684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680" y="411120"/>
            <a:ext cx="633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Design of a Home Secu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10_27" descr=""/>
          <p:cNvPicPr/>
          <p:nvPr/>
        </p:nvPicPr>
        <p:blipFill>
          <a:blip r:embed="rId1"/>
          <a:stretch/>
        </p:blipFill>
        <p:spPr>
          <a:xfrm>
            <a:off x="84240" y="1752480"/>
            <a:ext cx="891684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9560" y="411120"/>
            <a:ext cx="631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lass AWTEvent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0_02" descr=""/>
          <p:cNvPicPr/>
          <p:nvPr/>
        </p:nvPicPr>
        <p:blipFill>
          <a:blip r:embed="rId1"/>
          <a:stretch/>
        </p:blipFill>
        <p:spPr>
          <a:xfrm>
            <a:off x="84240" y="2111400"/>
            <a:ext cx="891684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120" y="411120"/>
            <a:ext cx="861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 of Component That Can Be Source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0_03" descr=""/>
          <p:cNvPicPr/>
          <p:nvPr/>
        </p:nvPicPr>
        <p:blipFill>
          <a:blip r:embed="rId1"/>
          <a:stretch/>
        </p:blipFill>
        <p:spPr>
          <a:xfrm>
            <a:off x="84240" y="1338120"/>
            <a:ext cx="891684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840" y="411120"/>
            <a:ext cx="815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EventListener Class Interface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0_04" descr=""/>
          <p:cNvPicPr/>
          <p:nvPr/>
        </p:nvPicPr>
        <p:blipFill>
          <a:blip r:embed="rId1"/>
          <a:stretch/>
        </p:blipFill>
        <p:spPr>
          <a:xfrm>
            <a:off x="2195640" y="1171440"/>
            <a:ext cx="477504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880" y="411120"/>
            <a:ext cx="558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rs Required for Button, Menu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Typing, and Mous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0_05" descr=""/>
          <p:cNvPicPr/>
          <p:nvPr/>
        </p:nvPicPr>
        <p:blipFill>
          <a:blip r:embed="rId1"/>
          <a:stretch/>
        </p:blipFill>
        <p:spPr>
          <a:xfrm>
            <a:off x="1114560" y="1569960"/>
            <a:ext cx="693576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960" y="411120"/>
            <a:ext cx="507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of a Java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0_06" descr=""/>
          <p:cNvPicPr/>
          <p:nvPr/>
        </p:nvPicPr>
        <p:blipFill>
          <a:blip r:embed="rId1"/>
          <a:stretch/>
        </p:blipFill>
        <p:spPr>
          <a:xfrm>
            <a:off x="542880" y="1362240"/>
            <a:ext cx="807732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920" y="411120"/>
            <a:ext cx="733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Frame Design for a Graphical Drawing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0_07" descr=""/>
          <p:cNvPicPr/>
          <p:nvPr/>
        </p:nvPicPr>
        <p:blipFill>
          <a:blip r:embed="rId1"/>
          <a:stretch/>
        </p:blipFill>
        <p:spPr>
          <a:xfrm>
            <a:off x="733320" y="1171440"/>
            <a:ext cx="7699320" cy="516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800" y="411120"/>
            <a:ext cx="638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Define the State for 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_08" descr=""/>
          <p:cNvPicPr/>
          <p:nvPr/>
        </p:nvPicPr>
        <p:blipFill>
          <a:blip r:embed="rId1"/>
          <a:stretch/>
        </p:blipFill>
        <p:spPr>
          <a:xfrm>
            <a:off x="84240" y="2144880"/>
            <a:ext cx="8916840" cy="242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20:53:31Z</dcterms:created>
  <dc:creator>Jay &amp; Terri Schiesl</dc:creator>
  <dc:description/>
  <dc:language>en-US</dc:language>
  <cp:lastModifiedBy>Jay &amp; Terri Schiesl</cp:lastModifiedBy>
  <cp:lastPrinted>2001-12-04T13:36:59Z</cp:lastPrinted>
  <dcterms:modified xsi:type="dcterms:W3CDTF">2001-12-04T13:37:49Z</dcterms:modified>
  <cp:revision>56</cp:revision>
  <dc:subject/>
  <dc:title>No Slide Title</dc:title>
</cp:coreProperties>
</file>