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C53-8074-4CDA-8EBA-49C313E5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0ADA-DED1-44AB-9625-D16B5B29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8363-E113-4473-8FA1-999E76A4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58F0-6E91-4889-96B7-2F5197DE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72CF-2DAC-441E-AE62-2752FE84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37BF-C06B-4C1A-93FC-7DD3263A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248-FAF4-42A4-8FE9-BF278388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8C00-CDAA-41D1-B14D-C415A60D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286C-583E-4B88-A5F7-C9BDCA4A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075D-80FA-4245-B983-1BA1EBC4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E4C6-2CBC-4324-A267-25FD2BBE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720-2BB8-425D-B9FF-CF1F053F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533640"/>
            <a:ext cx="215280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66840" y="6543720"/>
            <a:ext cx="289548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4308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F42D-276C-46F7-AC74-723734FF320C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99"/>
                </a:solidFill>
                <a:latin typeface="Comic Sans MS"/>
              </a:rPr>
              <a:t>Lecture 9</a:t>
            </a:r>
            <a:br>
              <a:rPr sz="3600"/>
            </a:br>
            <a:r>
              <a:rPr b="0" lang="en-US" sz="4400" spc="-1" strike="noStrike">
                <a:solidFill>
                  <a:srgbClr val="ff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Other uses of randomization: </a:t>
            </a:r>
            <a:br>
              <a:rPr sz="2800"/>
            </a:b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a randomized protocol for anonymity</a:t>
            </a:r>
            <a:endParaRPr b="0" lang="en-US" sz="28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www.lix.polytechnique.fr/~catuscia/teaching/Pisa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210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protocol in the general case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000" y="885600"/>
            <a:ext cx="55530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In general, given an arbitrary graph, where the nodes represent the cryptographers, and the arcs the coins, we can extend the protocol as follow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7c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 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= 0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if cryptographer i does not pay,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= 1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= 0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if coin k gives head,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= 1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0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 = output of cryptographer i,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calculated as follows: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0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ccffcc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 adjacent i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where the sums are binary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458040" y="1190520"/>
            <a:ext cx="1305000" cy="219096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458040" y="1971360"/>
            <a:ext cx="1923840" cy="14288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6400800" y="1924200"/>
            <a:ext cx="1962000" cy="4752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1905120"/>
            <a:ext cx="1362240" cy="180972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63040" y="1162080"/>
            <a:ext cx="0" cy="25430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20000" y="3695760"/>
            <a:ext cx="743040" cy="8096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4886280"/>
            <a:ext cx="95400" cy="78120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81760" y="3714840"/>
            <a:ext cx="924120" cy="122868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43440" y="3714840"/>
            <a:ext cx="219240" cy="116208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15040" y="2873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02480" y="5608800"/>
            <a:ext cx="88920" cy="8856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07240" y="3665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7200" y="44766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92880" y="3341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661240" y="48769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91240" y="485928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81720" y="18828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26320" y="23893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90080" y="193356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2400" y="25542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54720" y="19177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24880" y="112068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08040" y="3417840"/>
            <a:ext cx="75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Crypt</a:t>
            </a:r>
            <a:r>
              <a:rPr b="0" lang="en-US" sz="1800" spc="-1" strike="noStrike" baseline="-25000">
                <a:solidFill>
                  <a:srgbClr val="66ccff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4240" y="4237200"/>
            <a:ext cx="71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Coin</a:t>
            </a:r>
            <a:r>
              <a:rPr b="0" lang="en-US" sz="1800" spc="-1" strike="noStrike" baseline="-25000">
                <a:solidFill>
                  <a:srgbClr val="ffe701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28120" y="1933560"/>
            <a:ext cx="8856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30D6-490E-417C-816B-E959CCBA96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210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protocol in the general case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7760" y="1066320"/>
            <a:ext cx="82580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Comic Sans MS"/>
              </a:rPr>
              <a:t>Proposition: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there is a payer iff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ccffcc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4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 =  0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ccffcc"/>
                </a:solidFill>
                <a:latin typeface="Comic Sans MS"/>
              </a:rPr>
              <a:t>Proof: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just observe that in this sum each coin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is counted twice. Furthermore there is at most one k s.t. b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= 1. Hence the result is 0 iff there is no k s.t. b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= 1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cc"/>
                </a:solidFill>
                <a:latin typeface="Comic Sans MS"/>
              </a:rPr>
              <a:t>Proposition:</a:t>
            </a: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 If all the coins are fair, and the graph is connected, then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the system is anonymous for every external observer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the system is anonymous for  any node j such that, if we remove j and all its adjacent arcs, the rest of the graph is still connected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E56D-33E4-47C5-89E1-3CA56E5061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4892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Anonymity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4040"/>
            <a:ext cx="82296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Comic Sans MS"/>
              </a:rPr>
              <a:t>Idea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(In general)  To ensure that a certain part of an information becomes public while another part of it remains secret.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Typically, what we want to maintain secret is the identity of the agent involved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Examples: 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Electronic election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Delation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omic Sans MS"/>
              </a:rPr>
              <a:t>We will consider the case of in which the information to make public is whether or not a certain event has taken place, and the information to hide is the identity of the agent performing that even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D0EB-47AE-4CED-93C8-C98B8BCD8B6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0"/>
            <a:ext cx="82771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dining cryptographers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1680" y="1328760"/>
            <a:ext cx="82483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Comic Sans MS"/>
              </a:rPr>
              <a:t>The Problem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Three cryptographers share a meal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The meal is paid either by the organization (master) or by one of them. The master decides who pay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Each of the cryptographers is informed by the master whether or not he is paying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Comic Sans MS"/>
              </a:rPr>
              <a:t>GOAL</a:t>
            </a:r>
            <a:r>
              <a:rPr b="0" lang="en-US" sz="2400" spc="-1" strike="noStrike">
                <a:solidFill>
                  <a:srgbClr val="66ff99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99"/>
                </a:solidFill>
                <a:latin typeface="Comic Sans MS"/>
              </a:rPr>
              <a:t>The cryptographers would like to know whether the meal is being paid by the master or by one of them, but without knowing who among them, if any, is paying. 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They cannot involve the master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F45-5C19-4E8E-B415-B714620695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5920" y="16308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Example: The dining cryptographers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36920" y="1355760"/>
            <a:ext cx="4916520" cy="4177080"/>
            <a:chOff x="1636920" y="1355760"/>
            <a:chExt cx="4916520" cy="4177080"/>
          </a:xfrm>
        </p:grpSpPr>
        <p:sp>
          <p:nvSpPr>
            <p:cNvPr id="49" name=""/>
            <p:cNvSpPr/>
            <p:nvPr/>
          </p:nvSpPr>
          <p:spPr>
            <a:xfrm>
              <a:off x="4110120" y="184032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13200" y="466200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7400" y="466200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86920" y="13557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0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9960" y="516312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25280" y="51645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74840" y="3533400"/>
              <a:ext cx="569520" cy="564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97000" y="413604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99"/>
                  </a:solidFill>
                  <a:latin typeface="Comic Sans MS"/>
                </a:rPr>
                <a:t>Mas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890080" y="3956760"/>
              <a:ext cx="1210680" cy="77580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934360" y="4027320"/>
              <a:ext cx="1210680" cy="77580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288680" y="2263680"/>
              <a:ext cx="0" cy="12693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380480" y="2263680"/>
              <a:ext cx="0" cy="126936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4720" y="3912480"/>
              <a:ext cx="1139760" cy="8463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91080" y="3992040"/>
              <a:ext cx="1139760" cy="84636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" name=""/>
            <p:cNvCxnSpPr/>
            <p:nvPr/>
          </p:nvCxnSpPr>
          <p:spPr>
            <a:xfrm flipV="1" rot="10800000">
              <a:off x="4430160" y="2262600"/>
              <a:ext cx="997920" cy="776520"/>
            </a:xfrm>
            <a:prstGeom prst="curvedConnector5">
              <a:avLst>
                <a:gd name="adj1" fmla="val 49981"/>
                <a:gd name="adj2" fmla="val 50000"/>
                <a:gd name="adj3" fmla="val 49981"/>
              </a:avLst>
            </a:prstGeom>
            <a:ln w="9360">
              <a:solidFill>
                <a:srgbClr val="66ff99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2792160" y="2263320"/>
              <a:ext cx="1425240" cy="7765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cc99ff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5451480" y="2093400"/>
              <a:ext cx="80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99"/>
                  </a:solidFill>
                  <a:latin typeface="Comic Sans MS"/>
                </a:rPr>
                <a:t>pays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36920" y="209340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ff"/>
                  </a:solidFill>
                  <a:latin typeface="Comic Sans MS"/>
                </a:rPr>
                <a:t>notpays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0977-3E73-40B8-BE7D-20B60A233BA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190080"/>
            <a:ext cx="84391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The dining cryptographers: A solution</a:t>
            </a:r>
            <a:endParaRPr b="0" lang="en-US" sz="3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ach cryptographer tosses a </a:t>
            </a:r>
            <a:r>
              <a:rPr b="0" lang="en-US" sz="2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(</a:t>
            </a:r>
            <a:r>
              <a:rPr b="0" lang="en-US" sz="2800" spc="-1" strike="noStrike">
                <a:solidFill>
                  <a:srgbClr val="ffe701"/>
                </a:solidFill>
                <a:latin typeface="Comic Sans MS"/>
              </a:rPr>
              <a:t>probabilistic choice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). Each coin is in between two cryptographers.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The result of each coin-tossing is visible to the adjacent cryptographers, and only to them.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ach cryptographer examines the two adjacent coins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If he is paying, he announces “</a:t>
            </a:r>
            <a:r>
              <a:rPr b="0" lang="en-US" sz="2400" spc="-1" strike="noStrike">
                <a:solidFill>
                  <a:srgbClr val="66ff99"/>
                </a:solidFill>
                <a:latin typeface="Comic Sans MS"/>
              </a:rPr>
              <a:t>agree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” if the results are the same, and “</a:t>
            </a:r>
            <a:r>
              <a:rPr b="0" lang="en-US" sz="2400" spc="-1" strike="noStrike">
                <a:solidFill>
                  <a:srgbClr val="ff9999"/>
                </a:solidFill>
                <a:latin typeface="Comic Sans MS"/>
              </a:rPr>
              <a:t>disagree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” otherwise.</a:t>
            </a:r>
            <a:endParaRPr b="0" lang="en-US" sz="24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If he is not paying, he says the opposite</a:t>
            </a:r>
            <a:endParaRPr b="0" lang="en-US" sz="24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6C0-195E-4A5D-B166-B017DD0FF7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280" y="13464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dining cryptographers: A solution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4010040" y="1847880"/>
            <a:ext cx="423720" cy="41760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4638600"/>
            <a:ext cx="424080" cy="41904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52680" y="4638600"/>
            <a:ext cx="423720" cy="41904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23560" y="13669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35960" y="51372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25920" y="513720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10040" y="3522600"/>
            <a:ext cx="566640" cy="55872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28960" y="41180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99"/>
                </a:solidFill>
                <a:latin typeface="Comic Sans MS"/>
              </a:rPr>
              <a:t>Ma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60800" y="317340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72040" y="317340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51160" y="484812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95840" y="51973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(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96440" y="31734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50680" y="311292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665440" y="3452760"/>
            <a:ext cx="56520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373560" y="2197080"/>
            <a:ext cx="706320" cy="9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876040" y="4917960"/>
            <a:ext cx="1274760" cy="6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33760" y="4917960"/>
            <a:ext cx="1204920" cy="6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363560" y="2197080"/>
            <a:ext cx="777960" cy="9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84800" y="3452760"/>
            <a:ext cx="49536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24200" y="3924360"/>
            <a:ext cx="1203120" cy="766800"/>
          </a:xfrm>
          <a:prstGeom prst="line">
            <a:avLst/>
          </a:prstGeom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876040" y="3994200"/>
            <a:ext cx="1203480" cy="76680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222800" y="2265480"/>
            <a:ext cx="0" cy="125712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322880" y="2265480"/>
            <a:ext cx="0" cy="1257120"/>
          </a:xfrm>
          <a:prstGeom prst="line">
            <a:avLst/>
          </a:prstGeom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6680" y="3871800"/>
            <a:ext cx="1131840" cy="83664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2400" y="3959280"/>
            <a:ext cx="1106280" cy="819000"/>
          </a:xfrm>
          <a:custGeom>
            <a:avLst/>
            <a:gdLst/>
            <a:ahLst/>
            <a:rect l="l" t="t" r="r" b="b"/>
            <a:pathLst>
              <a:path w="750" h="564">
                <a:moveTo>
                  <a:pt x="0" y="0"/>
                </a:moveTo>
                <a:lnTo>
                  <a:pt x="750" y="564"/>
                </a:lnTo>
              </a:path>
            </a:pathLst>
          </a:custGeom>
          <a:noFill/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6" name=""/>
          <p:cNvCxnSpPr/>
          <p:nvPr/>
        </p:nvCxnSpPr>
        <p:spPr>
          <a:xfrm flipV="1" rot="10800000">
            <a:off x="4363200" y="2265120"/>
            <a:ext cx="991440" cy="768960"/>
          </a:xfrm>
          <a:prstGeom prst="curvedConnector5">
            <a:avLst>
              <a:gd name="adj1" fmla="val 49981"/>
              <a:gd name="adj2" fmla="val 49976"/>
              <a:gd name="adj3" fmla="val 49981"/>
            </a:avLst>
          </a:prstGeom>
          <a:ln w="9360">
            <a:solidFill>
              <a:srgbClr val="66ff99"/>
            </a:solidFill>
            <a:prstDash val="dash"/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2734920" y="2265480"/>
            <a:ext cx="1416600" cy="76896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cc99ff"/>
            </a:solidFill>
            <a:prstDash val="dash"/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flipH="1">
            <a:off x="1814040" y="4987800"/>
            <a:ext cx="638280" cy="47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62760" y="4987800"/>
            <a:ext cx="566640" cy="3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222800" y="1219320"/>
            <a:ext cx="0" cy="62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78400" y="20970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ys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79680" y="2097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Comic Sans MS"/>
              </a:rPr>
              <a:t>notpays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35000" y="387180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ok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2000" y="4848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ou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105A-BD80-4671-9E04-C7242A01F4E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perties of the solu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685520"/>
            <a:ext cx="816264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Comic Sans MS"/>
              </a:rPr>
              <a:t>Proposition 1 (Public information):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 if the number of “disagree” is even, then the master is paying. Otherwise, one of them is paying.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Proposition 2 (Anonymity):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In the latter case, if the coin is fair then the non paying cryptographers and the external observers will not be able to deduce whom exactly is paying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8924-0B53-4A33-8578-8481503F54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onymity: formal defini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will model events as consisting of two components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the event itself,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n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the identity of the agent performing the event, a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AnonyAgs</a:t>
            </a: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 the agents who want to remain secre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x, define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{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nyAg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Definition: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 A protocol described as a system P provides anonymity if an arbitrary permutation of the events in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, applied to an execution o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99ff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, does not change the probabilities of the observabl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E08-E2CB-4804-8A6D-1DE3F288C73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flipV="1">
            <a:off x="2584440" y="3792600"/>
            <a:ext cx="0" cy="676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733840" y="379836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87560" y="378108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430360" y="379044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143240"/>
            <a:ext cx="1828800" cy="1676520"/>
          </a:xfrm>
          <a:prstGeom prst="rect">
            <a:avLst/>
          </a:prstGeom>
          <a:solidFill>
            <a:srgbClr val="000046"/>
          </a:solidFill>
          <a:ln w="9360">
            <a:solidFill>
              <a:srgbClr val="cc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onymity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88560"/>
            <a:ext cx="889632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general, given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onsider the sets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{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|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b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AnonyAgs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}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: 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the actions that we want to know only partially (we want to know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but not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B :  the actions that we want to observe (it may include 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 but not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cc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Actions – (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 A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)  :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The actions we want to hide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4494240"/>
            <a:ext cx="914400" cy="914400"/>
          </a:xfrm>
          <a:prstGeom prst="rect">
            <a:avLst/>
          </a:prstGeom>
          <a:solidFill>
            <a:srgbClr val="ccffff">
              <a:alpha val="81000"/>
            </a:srgbClr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428920" y="4132080"/>
            <a:ext cx="1440" cy="36180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123720" y="490536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95440" y="475308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95440" y="490536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95440" y="5057640"/>
            <a:ext cx="685800" cy="180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5440" y="521028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66840" y="4695840"/>
            <a:ext cx="152280" cy="571320"/>
          </a:xfrm>
          <a:custGeom>
            <a:avLst/>
            <a:gdLst>
              <a:gd name="textAreaLeft" fmla="*/ 97200 w 152280"/>
              <a:gd name="textAreaRight" fmla="*/ 152640 w 152280"/>
              <a:gd name="textAreaTop" fmla="*/ 14760 h 571320"/>
              <a:gd name="textAreaBottom" fmla="*/ 55656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2589840" y="3340800"/>
            <a:ext cx="152280" cy="592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5120 h 592200"/>
              <a:gd name="textAreaBottom" fmla="*/ 577080 h 59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3320" y="47530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30840" y="48006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0040" y="31608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57320" y="3438360"/>
            <a:ext cx="7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ebdings"/>
                <a:ea typeface="Webdings"/>
              </a:rPr>
              <a:t>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9600" y="2984400"/>
            <a:ext cx="428148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he system to consider for the Anonymity analysis:     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P\</a:t>
            </a:r>
            <a:r>
              <a:rPr b="0" lang="en-US" sz="1400" spc="-1" strike="noStrike">
                <a:solidFill>
                  <a:srgbClr val="cc00cc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The system is anonymous if for every scheduler, for every observations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in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and for every  action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A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we hav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|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) =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.e. the observables do not allow to deduce anything about the identity of the 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Equivalently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for every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we ha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6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x) = pb(</a:t>
            </a: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6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x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amely, the probability of an observable does not depend on the identity of the 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83000" y="4161960"/>
            <a:ext cx="1440" cy="30492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36720" y="4164120"/>
            <a:ext cx="1800" cy="30456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881440" y="4155840"/>
            <a:ext cx="1440" cy="32364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125520" y="505944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136680" y="521352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128760" y="477684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734640" y="4697280"/>
            <a:ext cx="152280" cy="571680"/>
          </a:xfrm>
          <a:custGeom>
            <a:avLst/>
            <a:gdLst>
              <a:gd name="textAreaLeft" fmla="*/ 96840 w 152280"/>
              <a:gd name="textAreaRight" fmla="*/ 152280 w 152280"/>
              <a:gd name="textAreaTop" fmla="*/ 14760 h 571680"/>
              <a:gd name="textAreaBottom" fmla="*/ 55692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F082-3959-4F9F-8B5A-B2285AD7E4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15T06:17:41Z</dcterms:modified>
  <cp:revision>160</cp:revision>
  <dc:subject/>
  <dc:title>Concurrency 5</dc:title>
</cp:coreProperties>
</file>