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364C-ED84-4D96-9133-84B65410F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B4A8-3EB1-47A2-A520-1216C9F2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8DCE-40F0-49B7-AF70-AE4093C10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EB12-5F2A-46B8-BDC0-7B59BC697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5012-404A-44AD-ADAE-F0D9BB5A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1C59-FF43-4435-8490-D2930FC0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01F6-190C-4C5F-BC61-F555EDB4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0053-3F65-4996-860B-603BA10C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903B-4BD2-4DDD-A7B4-73733E8E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6C0F-4949-4509-B68A-15A481BA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4F83-034E-4BED-97B5-96CB37B4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E983-AE23-477C-BF9D-BB54D868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b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6280" y="6533640"/>
            <a:ext cx="2152800" cy="2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66840" y="6543720"/>
            <a:ext cx="289548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24280"/>
            <a:ext cx="214308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2A5D-2E74-45DF-BA05-CB138DA55C83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99"/>
                </a:solidFill>
                <a:latin typeface="Comic Sans MS"/>
              </a:rPr>
              <a:t>Lecture 9</a:t>
            </a:r>
            <a:br>
              <a:rPr sz="3600"/>
            </a:br>
            <a:r>
              <a:rPr b="0" lang="en-US" sz="4400" spc="-1" strike="noStrike">
                <a:solidFill>
                  <a:srgbClr val="ff99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9999"/>
                </a:solidFill>
                <a:latin typeface="Comic Sans MS"/>
              </a:rPr>
              <a:t>Other uses of randomization: </a:t>
            </a:r>
            <a:br>
              <a:rPr sz="2800"/>
            </a:br>
            <a:r>
              <a:rPr b="0" lang="en-US" sz="2800" spc="-1" strike="noStrike">
                <a:solidFill>
                  <a:srgbClr val="ff9999"/>
                </a:solidFill>
                <a:latin typeface="Comic Sans MS"/>
              </a:rPr>
              <a:t>a randomized protocol for anonymity</a:t>
            </a:r>
            <a:endParaRPr b="0" lang="en-US" sz="28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www.lix.polytechnique.fr/~catuscia/teaching/Pisa</a:t>
            </a:r>
            <a:r>
              <a:rPr b="0" lang="en-US" sz="1800" spc="-1" strike="noStrike">
                <a:solidFill>
                  <a:srgbClr val="00cc66"/>
                </a:solidFill>
                <a:latin typeface="Comic Sans MS"/>
              </a:rPr>
              <a:t>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21052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The protocol in the general case 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3000" y="885600"/>
            <a:ext cx="55530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Comic Sans MS"/>
              </a:rPr>
              <a:t>In general, given an arbitrary graph, where the nodes represent the cryptographers, and the arcs the coins, we can extend the protocol as follows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7c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ff7c80"/>
                </a:solidFill>
                <a:latin typeface="Comic Sans MS"/>
              </a:rPr>
              <a:t>i  </a:t>
            </a: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= 0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if cryptographer i does not pay,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ff7c80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= 1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otherwise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e70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2000" spc="-1" strike="noStrike" baseline="-25000">
                <a:solidFill>
                  <a:srgbClr val="ffe701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 = 0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if coin k gives head,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2000" spc="-1" strike="noStrike" baseline="-25000">
                <a:solidFill>
                  <a:srgbClr val="ffe701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 = 1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otherwise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2000" spc="-1" strike="noStrike" baseline="-25000">
                <a:solidFill>
                  <a:srgbClr val="66ccff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 = output of cryptographer i,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calculated as follows: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2000" spc="-1" strike="noStrike" baseline="-25000">
                <a:solidFill>
                  <a:srgbClr val="66ccff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ccffcc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baseline="-25000">
                <a:solidFill>
                  <a:srgbClr val="ccffcc"/>
                </a:solidFill>
                <a:latin typeface="Comic Sans MS"/>
              </a:rPr>
              <a:t>k adjacent i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 coin</a:t>
            </a:r>
            <a:r>
              <a:rPr b="0" lang="en-US" sz="2000" spc="-1" strike="noStrike" baseline="-25000">
                <a:solidFill>
                  <a:srgbClr val="ffe701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ff7c8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where the sums are binary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458040" y="1190520"/>
            <a:ext cx="1305000" cy="219096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458040" y="1971360"/>
            <a:ext cx="1923840" cy="142884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6400800" y="1924200"/>
            <a:ext cx="1962000" cy="4752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1905120"/>
            <a:ext cx="1362240" cy="180972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763040" y="1162080"/>
            <a:ext cx="0" cy="254304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020000" y="3695760"/>
            <a:ext cx="743040" cy="80964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4886280"/>
            <a:ext cx="95400" cy="78120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81760" y="3714840"/>
            <a:ext cx="924120" cy="122868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543440" y="3714840"/>
            <a:ext cx="219240" cy="116208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115040" y="28735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02480" y="5608800"/>
            <a:ext cx="88920" cy="8856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707240" y="36655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37200" y="447660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92880" y="33415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661240" y="48769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491240" y="485928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81720" y="188280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26320" y="23893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90080" y="193356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72400" y="255420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254720" y="191772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724880" y="1120680"/>
            <a:ext cx="8892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808040" y="3417840"/>
            <a:ext cx="75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Crypt</a:t>
            </a:r>
            <a:r>
              <a:rPr b="0" lang="en-US" sz="1800" spc="-1" strike="noStrike" baseline="-25000">
                <a:solidFill>
                  <a:srgbClr val="66ccff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4240" y="4237200"/>
            <a:ext cx="715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Coin</a:t>
            </a:r>
            <a:r>
              <a:rPr b="0" lang="en-US" sz="1800" spc="-1" strike="noStrike" baseline="-25000">
                <a:solidFill>
                  <a:srgbClr val="ffe701"/>
                </a:solidFill>
                <a:latin typeface="Arial"/>
                <a:ea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728120" y="1933560"/>
            <a:ext cx="88560" cy="8892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39CF-1BD0-4AA0-B699-01A3864A2F1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0240" y="0"/>
            <a:ext cx="821052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The protocol in the general case 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37760" y="1066320"/>
            <a:ext cx="825804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Comic Sans MS"/>
              </a:rPr>
              <a:t>Proposition: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there is a payer iff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-25000">
                <a:solidFill>
                  <a:srgbClr val="ccffcc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2400" spc="-1" strike="noStrike" baseline="-25000">
                <a:solidFill>
                  <a:srgbClr val="66cc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ffcc"/>
                </a:solidFill>
                <a:latin typeface="Comic Sans MS"/>
              </a:rPr>
              <a:t> =  0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ccffcc"/>
                </a:solidFill>
                <a:latin typeface="Comic Sans MS"/>
              </a:rPr>
              <a:t>Proof: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just observe that in this sum each coin</a:t>
            </a:r>
            <a:r>
              <a:rPr b="0" lang="en-US" sz="2000" spc="-1" strike="noStrike" baseline="-25000">
                <a:solidFill>
                  <a:srgbClr val="ccffcc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is counted twice. Furthermore there is at most one k s.t. b</a:t>
            </a:r>
            <a:r>
              <a:rPr b="0" lang="en-US" sz="2000" spc="-1" strike="noStrike" baseline="-25000">
                <a:solidFill>
                  <a:srgbClr val="ccffcc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= 1. Hence the result is 0 iff there is no k s.t. b</a:t>
            </a:r>
            <a:r>
              <a:rPr b="0" lang="en-US" sz="2000" spc="-1" strike="noStrike" baseline="-25000">
                <a:solidFill>
                  <a:srgbClr val="ccffcc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ccffcc"/>
                </a:solidFill>
                <a:latin typeface="Comic Sans MS"/>
              </a:rPr>
              <a:t> = 1.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99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cc"/>
                </a:solidFill>
                <a:latin typeface="Comic Sans MS"/>
              </a:rPr>
              <a:t>Proposition:</a:t>
            </a:r>
            <a:r>
              <a:rPr b="0" lang="en-US" sz="2000" spc="-1" strike="noStrike">
                <a:solidFill>
                  <a:srgbClr val="ff99cc"/>
                </a:solidFill>
                <a:latin typeface="Comic Sans MS"/>
              </a:rPr>
              <a:t> If all the coins are fair, and the graph is connected, then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99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cc"/>
                </a:solidFill>
                <a:latin typeface="Comic Sans MS"/>
              </a:rPr>
              <a:t>the system is anonymous for every external observer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99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cc"/>
                </a:solidFill>
                <a:latin typeface="Comic Sans MS"/>
              </a:rPr>
              <a:t>the system is anonymous for  any node j such that, if we remove j and all its adjacent arcs, the rest of the graph is still connected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0E21-2FF5-4F02-B5D5-BED2D2A51D6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448920"/>
            <a:ext cx="75438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Anonymity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84040"/>
            <a:ext cx="82296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Comic Sans MS"/>
              </a:rPr>
              <a:t>Idea: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ffe70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(In general)  To ensure that a certain part of an information becomes public while another part of it remains secret.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00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Comic Sans MS"/>
              </a:rPr>
              <a:t>Typically, what we want to maintain secret is the identity of the agent involved 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Examples: 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Electronic election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Delation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99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Comic Sans MS"/>
              </a:rPr>
              <a:t>We will consider the case of in which the information to make public is whether or not a certain event has taken place, and the information to hide is the identity of the agent performing that even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71AA-AF6D-4802-9156-13B694F9166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8120" y="0"/>
            <a:ext cx="827712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The dining cryptographers</a:t>
            </a:r>
            <a:endParaRPr b="0" lang="en-US" sz="40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71680" y="1328760"/>
            <a:ext cx="824832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Comic Sans MS"/>
              </a:rPr>
              <a:t>The Problem: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Three cryptographers share a meal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The meal is paid either by the organization (master) or by one of them. The master decides who pays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Each of the cryptographers is informed by the master whether or not he is paying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99"/>
                </a:solidFill>
                <a:latin typeface="Comic Sans MS"/>
              </a:rPr>
              <a:t>GOAL</a:t>
            </a:r>
            <a:r>
              <a:rPr b="0" lang="en-US" sz="2400" spc="-1" strike="noStrike">
                <a:solidFill>
                  <a:srgbClr val="66ff99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99"/>
                </a:solidFill>
                <a:latin typeface="Comic Sans MS"/>
              </a:rPr>
              <a:t>The cryptographers would like to know whether the meal is being paid by the master or by one of them, but without knowing who among them, if any, is paying. </a:t>
            </a: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They cannot involve the master</a:t>
            </a:r>
            <a:endParaRPr b="0" lang="en-US" sz="20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CCEB-11F5-49BC-95BB-2768892428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5920" y="163080"/>
            <a:ext cx="75438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Example: The dining cryptographers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636920" y="1355760"/>
            <a:ext cx="4916520" cy="4177080"/>
            <a:chOff x="1636920" y="1355760"/>
            <a:chExt cx="4916520" cy="4177080"/>
          </a:xfrm>
        </p:grpSpPr>
        <p:sp>
          <p:nvSpPr>
            <p:cNvPr id="49" name=""/>
            <p:cNvSpPr/>
            <p:nvPr/>
          </p:nvSpPr>
          <p:spPr>
            <a:xfrm>
              <a:off x="4110120" y="1840320"/>
              <a:ext cx="427320" cy="423000"/>
            </a:xfrm>
            <a:prstGeom prst="smileyFace">
              <a:avLst>
                <a:gd name="adj" fmla="val 9282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713200" y="4662000"/>
              <a:ext cx="427320" cy="423000"/>
            </a:xfrm>
            <a:prstGeom prst="smileyFace">
              <a:avLst>
                <a:gd name="adj" fmla="val 9282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7400" y="4662000"/>
              <a:ext cx="427320" cy="423000"/>
            </a:xfrm>
            <a:prstGeom prst="smileyFace">
              <a:avLst>
                <a:gd name="adj" fmla="val 9282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86920" y="1355760"/>
              <a:ext cx="102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Comic Sans MS"/>
                </a:rPr>
                <a:t>Crypt</a:t>
              </a:r>
              <a:r>
                <a:rPr b="0" lang="en-US" sz="1800" spc="-1" strike="noStrike">
                  <a:solidFill>
                    <a:srgbClr val="66ccff"/>
                  </a:solidFill>
                  <a:latin typeface="Tahoma"/>
                </a:rPr>
                <a:t>(0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9960" y="5163120"/>
              <a:ext cx="102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Comic Sans MS"/>
                </a:rPr>
                <a:t>Crypt</a:t>
              </a:r>
              <a:r>
                <a:rPr b="0" lang="en-US" sz="1800" spc="-1" strike="noStrike">
                  <a:solidFill>
                    <a:srgbClr val="66ccff"/>
                  </a:solidFill>
                  <a:latin typeface="Tahoma"/>
                </a:rPr>
                <a:t>(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25280" y="5164560"/>
              <a:ext cx="102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Comic Sans MS"/>
                </a:rPr>
                <a:t>Crypt</a:t>
              </a:r>
              <a:r>
                <a:rPr b="0" lang="en-US" sz="1800" spc="-1" strike="noStrike">
                  <a:solidFill>
                    <a:srgbClr val="66ccff"/>
                  </a:solidFill>
                  <a:latin typeface="Tahoma"/>
                </a:rPr>
                <a:t>(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074840" y="3533400"/>
              <a:ext cx="569520" cy="56448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97000" y="4136040"/>
              <a:ext cx="9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99"/>
                  </a:solidFill>
                  <a:latin typeface="Comic Sans MS"/>
                </a:rPr>
                <a:t>Mas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2890080" y="3956760"/>
              <a:ext cx="1210680" cy="775800"/>
            </a:xfrm>
            <a:prstGeom prst="line">
              <a:avLst/>
            </a:prstGeom>
            <a:ln w="19080">
              <a:solidFill>
                <a:srgbClr val="66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2934360" y="4027320"/>
              <a:ext cx="1210680" cy="775800"/>
            </a:xfrm>
            <a:prstGeom prst="line">
              <a:avLst/>
            </a:prstGeom>
            <a:ln w="1908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4288680" y="2263680"/>
              <a:ext cx="0" cy="1269360"/>
            </a:xfrm>
            <a:prstGeom prst="line">
              <a:avLst/>
            </a:prstGeom>
            <a:ln w="1908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380480" y="2263680"/>
              <a:ext cx="0" cy="1269360"/>
            </a:xfrm>
            <a:prstGeom prst="line">
              <a:avLst/>
            </a:prstGeom>
            <a:ln w="19080">
              <a:solidFill>
                <a:srgbClr val="66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44720" y="3912480"/>
              <a:ext cx="1139760" cy="846360"/>
            </a:xfrm>
            <a:prstGeom prst="line">
              <a:avLst/>
            </a:prstGeom>
            <a:ln w="1908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91080" y="3992040"/>
              <a:ext cx="1139760" cy="846360"/>
            </a:xfrm>
            <a:prstGeom prst="line">
              <a:avLst/>
            </a:prstGeom>
            <a:ln w="19080">
              <a:solidFill>
                <a:srgbClr val="66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3" name=""/>
            <p:cNvCxnSpPr/>
            <p:nvPr/>
          </p:nvCxnSpPr>
          <p:spPr>
            <a:xfrm flipV="1" rot="10800000">
              <a:off x="4430160" y="2262600"/>
              <a:ext cx="997920" cy="776520"/>
            </a:xfrm>
            <a:prstGeom prst="curvedConnector5">
              <a:avLst>
                <a:gd name="adj1" fmla="val 49981"/>
                <a:gd name="adj2" fmla="val 50000"/>
                <a:gd name="adj3" fmla="val 49981"/>
              </a:avLst>
            </a:prstGeom>
            <a:ln w="9360">
              <a:solidFill>
                <a:srgbClr val="66ff99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/>
            <p:nvPr/>
          </p:nvCxnSpPr>
          <p:spPr>
            <a:xfrm>
              <a:off x="2792160" y="2263320"/>
              <a:ext cx="1425240" cy="7765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cc99ff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" name=""/>
            <p:cNvSpPr/>
            <p:nvPr/>
          </p:nvSpPr>
          <p:spPr>
            <a:xfrm>
              <a:off x="5451480" y="2093400"/>
              <a:ext cx="80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ff99"/>
                  </a:solidFill>
                  <a:latin typeface="Comic Sans MS"/>
                </a:rPr>
                <a:t>pays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36920" y="2093400"/>
              <a:ext cx="116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99ff"/>
                  </a:solidFill>
                  <a:latin typeface="Comic Sans MS"/>
                </a:rPr>
                <a:t>notpays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2C6F-AF52-4F28-96C4-D75BA95A63A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5840" y="190080"/>
            <a:ext cx="84391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The dining cryptographers: A solution</a:t>
            </a:r>
            <a:endParaRPr b="0" lang="en-US" sz="36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Each cryptographer tosses a </a:t>
            </a:r>
            <a:r>
              <a:rPr b="0" lang="en-US" sz="28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 (</a:t>
            </a:r>
            <a:r>
              <a:rPr b="0" lang="en-US" sz="2800" spc="-1" strike="noStrike">
                <a:solidFill>
                  <a:srgbClr val="ffe701"/>
                </a:solidFill>
                <a:latin typeface="Comic Sans MS"/>
              </a:rPr>
              <a:t>probabilistic choice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). Each coin is in between two cryptographers.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The result of each coin-tossing is visible to the adjacent cryptographers, and only to them.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Each cryptographer examines the two adjacent coins 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If he is paying, he announces “</a:t>
            </a:r>
            <a:r>
              <a:rPr b="0" lang="en-US" sz="2400" spc="-1" strike="noStrike">
                <a:solidFill>
                  <a:srgbClr val="66ff99"/>
                </a:solidFill>
                <a:latin typeface="Comic Sans MS"/>
              </a:rPr>
              <a:t>agree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” if the results are the same, and “</a:t>
            </a:r>
            <a:r>
              <a:rPr b="0" lang="en-US" sz="2400" spc="-1" strike="noStrike">
                <a:solidFill>
                  <a:srgbClr val="ff9999"/>
                </a:solidFill>
                <a:latin typeface="Comic Sans MS"/>
              </a:rPr>
              <a:t>disagree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” otherwise.</a:t>
            </a:r>
            <a:endParaRPr b="0" lang="en-US" sz="2400" spc="-1" strike="noStrike">
              <a:solidFill>
                <a:srgbClr val="00b000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If he is not paying, he says the opposite</a:t>
            </a:r>
            <a:endParaRPr b="0" lang="en-US" sz="24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4809-012A-4C21-8A93-445550ED17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280" y="134640"/>
            <a:ext cx="75438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The dining cryptographers: A solution</a:t>
            </a:r>
            <a:endParaRPr b="0" lang="en-US" sz="32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0" name=""/>
          <p:cNvSpPr/>
          <p:nvPr/>
        </p:nvSpPr>
        <p:spPr>
          <a:xfrm>
            <a:off x="4010040" y="1847880"/>
            <a:ext cx="423720" cy="417600"/>
          </a:xfrm>
          <a:prstGeom prst="smileyFace">
            <a:avLst>
              <a:gd name="adj" fmla="val 928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638680" y="4638600"/>
            <a:ext cx="424080" cy="419040"/>
          </a:xfrm>
          <a:prstGeom prst="smileyFace">
            <a:avLst>
              <a:gd name="adj" fmla="val 928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52680" y="4638600"/>
            <a:ext cx="423720" cy="419040"/>
          </a:xfrm>
          <a:prstGeom prst="smileyFace">
            <a:avLst>
              <a:gd name="adj" fmla="val 928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23560" y="136692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(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35960" y="513720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25920" y="513720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Crypt</a:t>
            </a: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10040" y="3522600"/>
            <a:ext cx="566640" cy="558720"/>
          </a:xfrm>
          <a:prstGeom prst="smileyFace">
            <a:avLst>
              <a:gd name="adj" fmla="val 9282"/>
            </a:avLst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28960" y="411804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99"/>
                </a:solidFill>
                <a:latin typeface="Comic Sans MS"/>
              </a:rPr>
              <a:t>Ma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60800" y="3173400"/>
            <a:ext cx="282600" cy="279360"/>
          </a:xfrm>
          <a:prstGeom prst="ellipse">
            <a:avLst/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72040" y="3173400"/>
            <a:ext cx="282600" cy="279360"/>
          </a:xfrm>
          <a:prstGeom prst="ellipse">
            <a:avLst/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51160" y="4848120"/>
            <a:ext cx="282600" cy="279360"/>
          </a:xfrm>
          <a:prstGeom prst="ellipse">
            <a:avLst/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95840" y="51973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Coin(</a:t>
            </a:r>
            <a:r>
              <a:rPr b="0" lang="en-US" sz="1800" spc="-1" strike="noStrike">
                <a:solidFill>
                  <a:srgbClr val="ffe701"/>
                </a:solidFill>
                <a:latin typeface="Tahoma"/>
              </a:rPr>
              <a:t>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96440" y="317340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1800" spc="-1" strike="noStrike">
                <a:solidFill>
                  <a:srgbClr val="ffe701"/>
                </a:solidFill>
                <a:latin typeface="Tahoma"/>
              </a:rPr>
              <a:t>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50680" y="311292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Coin</a:t>
            </a:r>
            <a:r>
              <a:rPr b="0" lang="en-US" sz="1800" spc="-1" strike="noStrike">
                <a:solidFill>
                  <a:srgbClr val="ffe701"/>
                </a:solidFill>
                <a:latin typeface="Tahoma"/>
              </a:rPr>
              <a:t>(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665440" y="3452760"/>
            <a:ext cx="565200" cy="1185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373560" y="2197080"/>
            <a:ext cx="706320" cy="9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876040" y="4917960"/>
            <a:ext cx="1274760" cy="6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433760" y="4917960"/>
            <a:ext cx="1204920" cy="6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4363560" y="2197080"/>
            <a:ext cx="777960" cy="9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84800" y="3452760"/>
            <a:ext cx="495360" cy="1185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824200" y="3924360"/>
            <a:ext cx="1203120" cy="766800"/>
          </a:xfrm>
          <a:prstGeom prst="line">
            <a:avLst/>
          </a:prstGeom>
          <a:ln w="1908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876040" y="3994200"/>
            <a:ext cx="1203480" cy="766800"/>
          </a:xfrm>
          <a:prstGeom prst="line">
            <a:avLst/>
          </a:prstGeom>
          <a:ln w="190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222800" y="2265480"/>
            <a:ext cx="0" cy="1257120"/>
          </a:xfrm>
          <a:prstGeom prst="line">
            <a:avLst/>
          </a:prstGeom>
          <a:ln w="190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322880" y="2265480"/>
            <a:ext cx="0" cy="1257120"/>
          </a:xfrm>
          <a:prstGeom prst="line">
            <a:avLst/>
          </a:prstGeom>
          <a:ln w="1908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6680" y="3871800"/>
            <a:ext cx="1131840" cy="836640"/>
          </a:xfrm>
          <a:prstGeom prst="line">
            <a:avLst/>
          </a:prstGeom>
          <a:ln w="190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32400" y="3959280"/>
            <a:ext cx="1106280" cy="819000"/>
          </a:xfrm>
          <a:custGeom>
            <a:avLst/>
            <a:gdLst/>
            <a:ahLst/>
            <a:rect l="l" t="t" r="r" b="b"/>
            <a:pathLst>
              <a:path w="750" h="564">
                <a:moveTo>
                  <a:pt x="0" y="0"/>
                </a:moveTo>
                <a:lnTo>
                  <a:pt x="750" y="564"/>
                </a:lnTo>
              </a:path>
            </a:pathLst>
          </a:custGeom>
          <a:noFill/>
          <a:ln w="1908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6" name=""/>
          <p:cNvCxnSpPr/>
          <p:nvPr/>
        </p:nvCxnSpPr>
        <p:spPr>
          <a:xfrm flipV="1" rot="10800000">
            <a:off x="4363200" y="2265120"/>
            <a:ext cx="991440" cy="768960"/>
          </a:xfrm>
          <a:prstGeom prst="curvedConnector5">
            <a:avLst>
              <a:gd name="adj1" fmla="val 49981"/>
              <a:gd name="adj2" fmla="val 49976"/>
              <a:gd name="adj3" fmla="val 49981"/>
            </a:avLst>
          </a:prstGeom>
          <a:ln w="9360">
            <a:solidFill>
              <a:srgbClr val="66ff99"/>
            </a:solidFill>
            <a:prstDash val="dash"/>
            <a:miter/>
            <a:tailEnd len="med" type="triangle" w="med"/>
          </a:ln>
        </p:spPr>
      </p:cxnSp>
      <p:cxnSp>
        <p:nvCxnSpPr>
          <p:cNvPr id="97" name=""/>
          <p:cNvCxnSpPr/>
          <p:nvPr/>
        </p:nvCxnSpPr>
        <p:spPr>
          <a:xfrm>
            <a:off x="2734920" y="2265480"/>
            <a:ext cx="1416600" cy="768960"/>
          </a:xfrm>
          <a:prstGeom prst="curvedConnector5">
            <a:avLst>
              <a:gd name="adj1" fmla="val 50000"/>
              <a:gd name="adj2" fmla="val 49976"/>
              <a:gd name="adj3" fmla="val 50000"/>
            </a:avLst>
          </a:prstGeom>
          <a:ln w="9360">
            <a:solidFill>
              <a:srgbClr val="cc99ff"/>
            </a:solidFill>
            <a:prstDash val="dash"/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 flipH="1">
            <a:off x="1814040" y="4987800"/>
            <a:ext cx="638280" cy="476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62760" y="4987800"/>
            <a:ext cx="566640" cy="349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222800" y="1219320"/>
            <a:ext cx="0" cy="62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78400" y="209700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Comic Sans MS"/>
              </a:rPr>
              <a:t>pays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79680" y="2097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Comic Sans MS"/>
              </a:rPr>
              <a:t>notpays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35000" y="387180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ook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02000" y="48481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ou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0BB1-4841-45C3-9528-969C1DC9B25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perties of the solutio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680" y="1685520"/>
            <a:ext cx="816264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99"/>
                </a:solidFill>
                <a:latin typeface="Comic Sans MS"/>
              </a:rPr>
              <a:t>Proposition 1 (Public information):</a:t>
            </a:r>
            <a:r>
              <a:rPr b="0" lang="en-US" sz="2800" spc="-1" strike="noStrike">
                <a:solidFill>
                  <a:srgbClr val="ff9999"/>
                </a:solidFill>
                <a:latin typeface="Comic Sans MS"/>
              </a:rPr>
              <a:t> if the number of “disagree” is even, then the master is paying. Otherwise, one of them is paying. 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Proposition 2 (Anonymity):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 In the latter case, if the coin is fair then the non paying cryptographers and the external observers will not be able to deduce whom exactly is paying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6D33-FEB4-4B59-B69B-354248914C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nonymity: formal definitio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e will model events as consisting of two components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the event itself, 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and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the identity of the agent performing the event, a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x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7c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AnonyAgs</a:t>
            </a: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 the agents who want to remain secre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x, define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e701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 {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nonyAgs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Definition:</a:t>
            </a:r>
            <a:r>
              <a:rPr b="0" lang="en-US" sz="2400" spc="-1" strike="noStrike">
                <a:solidFill>
                  <a:srgbClr val="99ff99"/>
                </a:solidFill>
                <a:latin typeface="Comic Sans MS"/>
              </a:rPr>
              <a:t> A protocol described as a system P provides anonymity if an arbitrary permutation of the events in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e701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99ff99"/>
                </a:solidFill>
                <a:latin typeface="Comic Sans MS"/>
              </a:rPr>
              <a:t>, applied to an execution of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99ff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99ff99"/>
                </a:solidFill>
                <a:latin typeface="Comic Sans MS"/>
              </a:rPr>
              <a:t>, does not change the probabilities of the observabl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FD90-F3B6-486C-B0B9-8CCDC607FF1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 flipV="1">
            <a:off x="2584440" y="3792600"/>
            <a:ext cx="0" cy="676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733840" y="3798360"/>
            <a:ext cx="0" cy="676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887560" y="3781080"/>
            <a:ext cx="0" cy="676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430360" y="3790440"/>
            <a:ext cx="0" cy="676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4143240"/>
            <a:ext cx="1828800" cy="1676520"/>
          </a:xfrm>
          <a:prstGeom prst="rect">
            <a:avLst/>
          </a:prstGeom>
          <a:solidFill>
            <a:srgbClr val="000046"/>
          </a:solidFill>
          <a:ln w="9360">
            <a:solidFill>
              <a:srgbClr val="cc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-13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nonymity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988560"/>
            <a:ext cx="889632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general, given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consider the sets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e70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= {</a:t>
            </a:r>
            <a:r>
              <a:rPr b="0" lang="en-US" sz="18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| </a:t>
            </a:r>
            <a:r>
              <a:rPr b="0" lang="en-US" sz="1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b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AnonyAgs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}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ccffff"/>
                </a:solidFill>
                <a:latin typeface="Comic Sans MS"/>
              </a:rPr>
              <a:t>: </a:t>
            </a: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the actions that we want to know only partially (we want to know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but not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66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B :  the actions that we want to observe (it may include </a:t>
            </a:r>
            <a:r>
              <a:rPr b="0" lang="en-US" sz="18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 but not </a:t>
            </a:r>
            <a:r>
              <a:rPr b="0" lang="en-US" sz="18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cc00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cc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= Actions – (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</a:t>
            </a:r>
            <a:r>
              <a:rPr b="0" lang="en-US" sz="1800" spc="-1" strike="noStrike">
                <a:solidFill>
                  <a:srgbClr val="ffe701"/>
                </a:solidFill>
                <a:latin typeface="Comic Sans MS"/>
              </a:rPr>
              <a:t> A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)  :</a:t>
            </a:r>
            <a:r>
              <a:rPr b="0" lang="en-US" sz="1800" spc="-1" strike="noStrike">
                <a:solidFill>
                  <a:srgbClr val="00b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cc00cc"/>
                </a:solidFill>
                <a:latin typeface="Comic Sans MS"/>
              </a:rPr>
              <a:t>The actions we want to hide</a:t>
            </a: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00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4494240"/>
            <a:ext cx="914400" cy="914400"/>
          </a:xfrm>
          <a:prstGeom prst="rect">
            <a:avLst/>
          </a:prstGeom>
          <a:solidFill>
            <a:srgbClr val="ccffff">
              <a:alpha val="81000"/>
            </a:srgbClr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428920" y="4132080"/>
            <a:ext cx="1440" cy="36180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123720" y="4905360"/>
            <a:ext cx="438120" cy="144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95440" y="4753080"/>
            <a:ext cx="685800" cy="1440"/>
          </a:xfrm>
          <a:prstGeom prst="line">
            <a:avLst/>
          </a:prstGeom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95440" y="4905360"/>
            <a:ext cx="685800" cy="1440"/>
          </a:xfrm>
          <a:prstGeom prst="line">
            <a:avLst/>
          </a:prstGeom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95440" y="5057640"/>
            <a:ext cx="685800" cy="1800"/>
          </a:xfrm>
          <a:prstGeom prst="line">
            <a:avLst/>
          </a:prstGeom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95440" y="5210280"/>
            <a:ext cx="685800" cy="1440"/>
          </a:xfrm>
          <a:prstGeom prst="line">
            <a:avLst/>
          </a:prstGeom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66840" y="4695840"/>
            <a:ext cx="152280" cy="571320"/>
          </a:xfrm>
          <a:custGeom>
            <a:avLst/>
            <a:gdLst>
              <a:gd name="textAreaLeft" fmla="*/ 97200 w 152280"/>
              <a:gd name="textAreaRight" fmla="*/ 152640 w 152280"/>
              <a:gd name="textAreaTop" fmla="*/ 14760 h 571320"/>
              <a:gd name="textAreaBottom" fmla="*/ 556560 h 57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2589840" y="3340800"/>
            <a:ext cx="152280" cy="592200"/>
          </a:xfrm>
          <a:custGeom>
            <a:avLst/>
            <a:gdLst>
              <a:gd name="textAreaLeft" fmla="*/ 97200 w 152280"/>
              <a:gd name="textAreaRight" fmla="*/ 152640 w 152280"/>
              <a:gd name="textAreaTop" fmla="*/ 15120 h 592200"/>
              <a:gd name="textAreaBottom" fmla="*/ 577080 h 59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13320" y="475308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30840" y="480060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80040" y="316080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57320" y="3438360"/>
            <a:ext cx="75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Webdings"/>
                <a:ea typeface="Webdings"/>
              </a:rPr>
              <a:t>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19600" y="2984400"/>
            <a:ext cx="4281480" cy="31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he system to consider for the Anonymity analysis:     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P\</a:t>
            </a:r>
            <a:r>
              <a:rPr b="0" lang="en-US" sz="1400" spc="-1" strike="noStrike">
                <a:solidFill>
                  <a:srgbClr val="cc00cc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Definition: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The system is anonymous if for every scheduler, for every observations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ff00"/>
                </a:solidFill>
                <a:latin typeface="Comic Sans MS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ff00"/>
                </a:solidFill>
                <a:latin typeface="Comic Sans MS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in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 and for every  action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4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400" spc="-1" strike="noStrike">
                <a:solidFill>
                  <a:srgbClr val="ffe701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ffe701"/>
                </a:solidFill>
                <a:latin typeface="Comic Sans MS"/>
              </a:rPr>
              <a:t> A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 we hav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pb(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4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|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ff00"/>
                </a:solidFill>
                <a:latin typeface="Comic Sans MS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) =</a:t>
            </a:r>
            <a:r>
              <a:rPr b="0" lang="en-US" sz="1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pb(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400" spc="-1" strike="noStrike">
                <a:solidFill>
                  <a:srgbClr val="66ccff"/>
                </a:solidFill>
                <a:latin typeface="Comic Sans MS"/>
              </a:rPr>
              <a:t>x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ff00"/>
                </a:solidFill>
                <a:latin typeface="Comic Sans MS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.e. the observables do not allow to deduce anything about the identity of the ag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Equivalently: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for every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14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 we ha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pb(</a:t>
            </a:r>
            <a:r>
              <a:rPr b="0" lang="en-US" sz="16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1600" spc="-1" strike="noStrike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x) = pb(</a:t>
            </a:r>
            <a:r>
              <a:rPr b="0" lang="en-US" sz="1600" spc="-1" strike="noStrike">
                <a:solidFill>
                  <a:srgbClr val="00ff00"/>
                </a:solidFill>
                <a:latin typeface="Comic Sans MS"/>
              </a:rPr>
              <a:t>O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1600" spc="-1" strike="noStrike">
                <a:solidFill>
                  <a:srgbClr val="ff7c80"/>
                </a:solidFill>
                <a:latin typeface="Comic Sans MS"/>
              </a:rPr>
              <a:t>b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x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amely, the probability of an observable does not depend on the identity of the ag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583000" y="4161960"/>
            <a:ext cx="1440" cy="30492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736720" y="4164120"/>
            <a:ext cx="1800" cy="30456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881440" y="4155840"/>
            <a:ext cx="1440" cy="32364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125520" y="5059440"/>
            <a:ext cx="438120" cy="144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136680" y="5213520"/>
            <a:ext cx="438120" cy="144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128760" y="4776840"/>
            <a:ext cx="438120" cy="144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734640" y="4697280"/>
            <a:ext cx="152280" cy="571680"/>
          </a:xfrm>
          <a:custGeom>
            <a:avLst/>
            <a:gdLst>
              <a:gd name="textAreaLeft" fmla="*/ 96840 w 152280"/>
              <a:gd name="textAreaRight" fmla="*/ 152280 w 152280"/>
              <a:gd name="textAreaTop" fmla="*/ 14760 h 571680"/>
              <a:gd name="textAreaBottom" fmla="*/ 556920 h 57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6609-CEFC-4E55-9A5C-B72102C9A95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9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15T06:17:41Z</dcterms:modified>
  <cp:revision>160</cp:revision>
  <dc:subject/>
  <dc:title>Concurrency 5</dc:title>
</cp:coreProperties>
</file>