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745-80E5-4583-B4A8-833E99B8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82F-6A91-4560-ADE0-8D704309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6C80-F652-446E-84E4-70BF4718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505-9BB7-42E4-9B18-C296718C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1265-A6FB-4EE7-A457-B747FF22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A760-CDBB-4C99-9E3F-E110A154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9E94-883F-4500-9F26-B58B0371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6C0A-A105-48AB-A0CD-9BB3C9D8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BFD6-0132-46B6-874E-417309EF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9855-A525-4329-87DC-2708DAE0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A39E-B93C-494A-86EA-5891DAF7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084-359B-4A05-9DEA-7E639BD6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350E-DA9B-4140-92E2-EE6BA09D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1E89-588C-428F-912D-FF69B029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6440-40C6-431D-9279-9A1A18E0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A606-9F46-49E7-8F11-BA4DFB7B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96E7-D3AE-4003-B70D-130FFC82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50C1-63D3-4550-94AB-EB9910FE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30E9-CCF6-49BA-A0CC-030F23E2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A148-7DBA-4CF2-B7A8-663E284B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322-4ABD-4650-A934-FA352FC5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4BF3-2FF8-41A5-A56D-3F171C75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C94-D1DC-40E7-990B-68083A8F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7DA-CA4B-4120-9EC6-305A55D0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7760" y="6619680"/>
            <a:ext cx="21812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3440" y="6619680"/>
            <a:ext cx="284796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7400" y="6619680"/>
            <a:ext cx="21528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A8C0-C0D2-4226-9E63-8DE617BA4954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22DF-78B0-42DD-934A-481EAD505AC4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b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8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Encoding the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 into </a:t>
            </a:r>
            <a:br>
              <a:rPr sz="3200"/>
            </a:b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the probabilistic asynchronous </a:t>
            </a:r>
            <a:r>
              <a:rPr b="0" lang="en-US" sz="3200" spc="-1" strike="noStrike">
                <a:solidFill>
                  <a:srgbClr val="ff99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9999"/>
                </a:solidFill>
                <a:latin typeface="Comic Sans MS"/>
              </a:rPr>
              <a:t>-calculu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 Each cycle can be considered separately. On each of  them the classic algorithm is deadlock-free. Some additional care must be taken for the arcs that are not part of the cycle.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Only if part)</a:t>
            </a: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 By analysis of the three possible cases. Actually they are all similar. We  illustrate the first case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676520" y="4495680"/>
            <a:ext cx="3047400" cy="1028880"/>
            <a:chOff x="1676520" y="4495680"/>
            <a:chExt cx="3047400" cy="1028880"/>
          </a:xfrm>
        </p:grpSpPr>
        <p:sp>
          <p:nvSpPr>
            <p:cNvPr id="232" name=""/>
            <p:cNvSpPr/>
            <p:nvPr/>
          </p:nvSpPr>
          <p:spPr>
            <a:xfrm>
              <a:off x="167652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19160" y="5029200"/>
              <a:ext cx="799920" cy="1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81280" y="4495680"/>
              <a:ext cx="1142640" cy="1028880"/>
            </a:xfrm>
            <a:prstGeom prst="hexagon">
              <a:avLst>
                <a:gd name="adj" fmla="val 27764"/>
                <a:gd name="vf" fmla="val 11547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867280" y="541008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8006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96840" y="51879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t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55000" y="4552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com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742840" y="525780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426708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60020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1617480" y="519336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05704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038120" y="5715000"/>
            <a:ext cx="30492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664880" y="51937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41560" y="4507920"/>
            <a:ext cx="119520" cy="2804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505320" y="4495320"/>
            <a:ext cx="152280" cy="22860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60480" y="4507920"/>
            <a:ext cx="119520" cy="28044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4876920"/>
            <a:ext cx="3045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3522600" y="5269320"/>
            <a:ext cx="119160" cy="280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89C6-A77E-4437-81FF-5579D2AB08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of of the theorem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The initial situation has probability p &gt; 0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The scheduler forces the processes to loo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Hence the system has a deadlock (livelock) with probability p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Note that this scheduler is 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not fair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. However we can define even a fair scheduler which induces an infinite loop with probability &gt; 0. The idea is to have a scheduler that “gives up” after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 attempts when the process keep choosing the “wrong” fork, but that increases (by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) its “stubborness” at every round.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With a suitable choice of 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and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 f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 we have that the probability of a loop is   p/4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86D-0DC2-4ACC-9610-1D1F2009EB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Solution for the Generalized DP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060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ff"/>
                </a:solidFill>
                <a:latin typeface="Comic Sans MS"/>
              </a:rPr>
              <a:t>As we have seen, the algorithm of Lehmann and Rabin does not work on general graphs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Comic Sans MS"/>
              </a:rPr>
              <a:t>However, it is easy to modify the algorithm so that it works in general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The idea is to reduce the problem to the pairwise disconnected cycles case: </a:t>
            </a:r>
            <a:endParaRPr b="0" lang="en-US" sz="22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Each fork is initially associated with one token. Each phil needs to acquire a token in order to participate to the competition. After this initial phase, the algorithm is the same as the Lehmann &amp; Rabin’s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The competing phils determine a graph in which all cycles are pairwise disconnected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9966ff"/>
                </a:solidFill>
                <a:latin typeface="Comic Sans MS"/>
              </a:rPr>
              <a:t>Proof: By case analysis. To have a situation with two connected cycles we would need a node with two tokens.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A84C-D621-4130-9AE7-ED8E90BBC17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06600" y="2033280"/>
            <a:ext cx="5037120" cy="3882600"/>
            <a:chOff x="606600" y="2033280"/>
            <a:chExt cx="5037120" cy="3882600"/>
          </a:xfrm>
        </p:grpSpPr>
        <p:sp>
          <p:nvSpPr>
            <p:cNvPr id="274" name=""/>
            <p:cNvSpPr/>
            <p:nvPr/>
          </p:nvSpPr>
          <p:spPr>
            <a:xfrm>
              <a:off x="2649600" y="382428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580000" y="442548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99000" y="43923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22640" y="242892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59040" y="448920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122640" y="448920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959040" y="242892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22640" y="242892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5104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95880" y="517824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95880" y="301608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82920" y="517680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59040" y="44892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35400" y="40464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121200" y="572256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51360" y="572292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87240" y="43920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6600" y="43592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122640" y="20332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9560" y="20336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19600" y="40320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1073600">
              <a:off x="3071880" y="418464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4467600">
              <a:off x="2976840" y="426348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8067200">
              <a:off x="287388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74600">
              <a:off x="2958840" y="39600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90800" y="42433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1073600">
              <a:off x="2919600" y="426816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4467600">
              <a:off x="2806560" y="414468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8067200">
              <a:off x="2800800" y="40932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3974600">
              <a:off x="2774520" y="4263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24120" y="385128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6033960" y="1698480"/>
            <a:ext cx="2624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Reduction to the classic case: each fork is initially associated with a token. Each phil needs to acquire a token in order to participate to the competition. The competing phils determine a set of subgraphs in which each subgraph contains at most one cy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01560" y="2039760"/>
            <a:ext cx="5037120" cy="3882960"/>
            <a:chOff x="601560" y="2039760"/>
            <a:chExt cx="5037120" cy="3882960"/>
          </a:xfrm>
        </p:grpSpPr>
        <p:sp>
          <p:nvSpPr>
            <p:cNvPr id="307" name=""/>
            <p:cNvSpPr/>
            <p:nvPr/>
          </p:nvSpPr>
          <p:spPr>
            <a:xfrm>
              <a:off x="2644560" y="38304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576760" y="443196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94320" y="439884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17600" y="243504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54000" y="449568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117600" y="449568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954000" y="243504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17600" y="243504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4600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90840" y="518436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90840" y="302220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77880" y="51829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54000" y="449568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30360" y="40525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116160" y="57290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46320" y="572904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82560" y="439884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1560" y="43653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117600" y="203976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44520" y="203976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14560" y="40384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1073600">
              <a:off x="3066480" y="41907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4467600">
              <a:off x="2971440" y="4269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8067200">
              <a:off x="286812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3974600">
              <a:off x="2954160" y="39664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86120" y="42494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1073600">
              <a:off x="2914200" y="42750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4467600">
              <a:off x="2801520" y="41511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8067200">
              <a:off x="2795040" y="410004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3974600">
              <a:off x="2770200" y="42696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19440" y="385740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AFE-F27C-4AEA-87FD-FBDA0F43E9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[[ ]] : 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-25000">
                <a:solidFill>
                  <a:srgbClr val="66ffff"/>
                </a:solidFill>
                <a:latin typeface="Comic Sans MS"/>
              </a:rPr>
              <a:t>pa</a:t>
            </a: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Fully distributed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[[ P | Q ]]  =  [[ P ]]  |  [[ Q ]]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Unifor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[[ P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]]   =  [[ P ]]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Correct wrt a notion of probabilistic testing semantic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66ff"/>
                </a:solidFill>
                <a:latin typeface="Comic Sans MS"/>
              </a:rPr>
              <a:t>P must O     iff     [[ P ]] must [[ O ]] with prob 1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B9D0-5C66-438D-8CFA-722B7A2D15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Encoding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into </a:t>
            </a:r>
            <a:r>
              <a:rPr b="0" lang="en-US" sz="4400" spc="-1" strike="noStrike">
                <a:solidFill>
                  <a:srgbClr val="ccff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-25000">
                <a:solidFill>
                  <a:srgbClr val="ccffff"/>
                </a:solidFill>
                <a:latin typeface="Comic Sans MS"/>
              </a:rPr>
              <a:t>pa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0600" y="95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Every mixed choice is translated into a parallel comp. of processes corresponding to the branches, plus a lock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es compete for acquiring both its own lock and the lock of the partner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The input process which succeeds first, establishes the communication. The other alternatives are discarded 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4005360" y="4057560"/>
            <a:ext cx="1001520" cy="231840"/>
          </a:xfrm>
          <a:custGeom>
            <a:avLst/>
            <a:gdLst>
              <a:gd name="textAreaLeft" fmla="*/ 124920 w 1001520"/>
              <a:gd name="textAreaRight" fmla="*/ 876600 w 1001520"/>
              <a:gd name="textAreaTop" fmla="*/ 57960 h 231840"/>
              <a:gd name="textAreaBottom" fmla="*/ 1738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78080" y="375300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17880" y="375300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277720" y="405756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89160" y="40068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17880" y="3701880"/>
            <a:ext cx="88920" cy="1018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3240" y="453564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6800" y="35686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74760" y="445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84960" y="3873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00840" y="3803760"/>
            <a:ext cx="739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40640" y="3803760"/>
            <a:ext cx="0" cy="78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000480" y="4108320"/>
            <a:ext cx="739800" cy="47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11920" y="40575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40640" y="37530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9600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78600" y="35067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960" y="40561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42120" y="400680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57200" y="34383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57200" y="463716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1840" y="39355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44600" y="5600880"/>
            <a:ext cx="716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00080" y="533556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The problem is reduced to a generalized dining philosophers problem where each fork (lock) can be adjacent to more than two philosop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467080" y="4586400"/>
            <a:ext cx="50616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78160" y="458640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278080" y="405720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78600" y="4637160"/>
            <a:ext cx="88920" cy="1015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978520" y="4107960"/>
            <a:ext cx="100080" cy="52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67520" y="4637160"/>
            <a:ext cx="528480" cy="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15720" y="46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3080" y="426888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06520" y="471024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468792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084F-7DF8-447E-9880-858802813A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Dining Philosophers: classic case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2480" y="1550520"/>
            <a:ext cx="806616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898720" y="2289240"/>
            <a:ext cx="3476160" cy="3482640"/>
            <a:chOff x="2898720" y="2289240"/>
            <a:chExt cx="3476160" cy="3482640"/>
          </a:xfrm>
        </p:grpSpPr>
        <p:sp>
          <p:nvSpPr>
            <p:cNvPr id="125" name=""/>
            <p:cNvSpPr/>
            <p:nvPr/>
          </p:nvSpPr>
          <p:spPr>
            <a:xfrm>
              <a:off x="3237120" y="2911680"/>
              <a:ext cx="2741040" cy="2127600"/>
            </a:xfrm>
            <a:prstGeom prst="triangle">
              <a:avLst>
                <a:gd name="adj" fmla="val 50000"/>
              </a:avLst>
            </a:prstGeom>
            <a:solidFill>
              <a:srgbClr val="00004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83800" y="33465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37120" y="3346560"/>
              <a:ext cx="59508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61400" y="5229360"/>
              <a:ext cx="594720" cy="5425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317640" y="483912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47080" y="4827240"/>
              <a:ext cx="12780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968560" y="491904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98720" y="4906800"/>
              <a:ext cx="127800" cy="30168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601880" y="2300760"/>
              <a:ext cx="0" cy="4489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31320" y="2289240"/>
              <a:ext cx="128160" cy="301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51040" y="40489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1073600">
              <a:off x="4585680" y="4181400"/>
              <a:ext cx="349920" cy="146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4467600">
              <a:off x="4505760" y="424800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8067200">
              <a:off x="44136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3974600">
              <a:off x="4489560" y="39855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25840" y="423252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1073600">
              <a:off x="4450680" y="4253760"/>
              <a:ext cx="349920" cy="14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4467600">
              <a:off x="4354920" y="414468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8067200">
              <a:off x="4348800" y="41007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3974600">
              <a:off x="4326480" y="4248360"/>
              <a:ext cx="342720" cy="150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66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49800" y="3901680"/>
              <a:ext cx="702000" cy="703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E1D-0733-439D-8E53-5FBDA668EA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4720" y="1333080"/>
            <a:ext cx="83059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{release(firstfork); goto 2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513-0001-4844-BF25-28F24D7CBB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Wrt to our encoding goal, the algorithm of Lehmann and Rabin has two problem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It only works for certain kinds of graph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t works only for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fair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eduler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Problem 2 however can be solved by replacing the busy waiting in step 3 with suspension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83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66ff"/>
                </a:solidFill>
                <a:latin typeface="Comic Sans MS"/>
              </a:rPr>
              <a:t>[Duflot, Friburg, Picaronny 2002] – see also Herescu’s PhD thesi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796-17F6-4C8A-BC3C-77615C59D3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23800" y="1452600"/>
            <a:ext cx="836784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f taken(first_fork) then wai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504720" y="1461960"/>
            <a:ext cx="836784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choose first_fork in {left,right}   %co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f taken(first_fork) then goto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ak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second_fork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release(first_for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goto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0120" y="123840"/>
            <a:ext cx="777888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br>
              <a:rPr sz="2800"/>
            </a:b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Modified so to avoid the need for fair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732960" y="133200"/>
            <a:ext cx="75502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algorithm of Lehmann and Rabi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804-1FE9-4146-9F5C-83DA4F03C1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75560" y="1262160"/>
            <a:ext cx="83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fork can be shared by more than two philosophers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035080" y="2176200"/>
            <a:ext cx="5037120" cy="3882600"/>
            <a:chOff x="2035080" y="2176200"/>
            <a:chExt cx="5037120" cy="3882600"/>
          </a:xfrm>
        </p:grpSpPr>
        <p:sp>
          <p:nvSpPr>
            <p:cNvPr id="157" name=""/>
            <p:cNvSpPr/>
            <p:nvPr/>
          </p:nvSpPr>
          <p:spPr>
            <a:xfrm>
              <a:off x="4078080" y="3967200"/>
              <a:ext cx="33660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008480" y="456840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27480" y="45352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51120" y="2571840"/>
              <a:ext cx="1440" cy="306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87520" y="4632120"/>
              <a:ext cx="21636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551120" y="4632120"/>
              <a:ext cx="2165400" cy="10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387520" y="2571840"/>
              <a:ext cx="21636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51120" y="2571840"/>
              <a:ext cx="2165400" cy="205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7952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532116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315900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11400" y="5319720"/>
              <a:ext cx="336240" cy="312120"/>
            </a:xfrm>
            <a:prstGeom prst="smileyFace">
              <a:avLst>
                <a:gd name="adj" fmla="val 9282"/>
              </a:avLst>
            </a:prstGeom>
            <a:solidFill>
              <a:srgbClr val="ff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87520" y="463212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63880" y="4189320"/>
              <a:ext cx="336600" cy="312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549680" y="586548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79840" y="586584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15720" y="4534920"/>
              <a:ext cx="180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35080" y="4502160"/>
              <a:ext cx="144360" cy="12960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551120" y="2176200"/>
              <a:ext cx="1440" cy="193320"/>
            </a:xfrm>
            <a:prstGeom prst="line">
              <a:avLst/>
            </a:prstGeom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78040" y="21765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8080" y="417492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1073600">
              <a:off x="4500360" y="4327560"/>
              <a:ext cx="395280" cy="169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4467600">
              <a:off x="4405320" y="440640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8067200">
              <a:off x="430236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974600">
              <a:off x="4387320" y="41029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19280" y="438624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1073600">
              <a:off x="4348080" y="441108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4467600">
              <a:off x="4235040" y="4287600"/>
              <a:ext cx="39492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8067200">
              <a:off x="4229280" y="423612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3974600">
              <a:off x="4203000" y="4406040"/>
              <a:ext cx="39492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2600" y="3994200"/>
              <a:ext cx="792360" cy="810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030400" y="2182680"/>
            <a:ext cx="5037120" cy="3882960"/>
            <a:chOff x="2030400" y="2182680"/>
            <a:chExt cx="5037120" cy="3882960"/>
          </a:xfrm>
        </p:grpSpPr>
        <p:sp>
          <p:nvSpPr>
            <p:cNvPr id="189" name=""/>
            <p:cNvSpPr/>
            <p:nvPr/>
          </p:nvSpPr>
          <p:spPr>
            <a:xfrm>
              <a:off x="4073400" y="39733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005600" y="4574880"/>
              <a:ext cx="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160" y="45417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46440" y="2577960"/>
              <a:ext cx="1800" cy="30621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82840" y="4638600"/>
              <a:ext cx="21636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546440" y="4638600"/>
              <a:ext cx="2165400" cy="100152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382840" y="2577960"/>
              <a:ext cx="21636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46440" y="2577960"/>
              <a:ext cx="2165400" cy="206064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7484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9680" y="532728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19680" y="316512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06720" y="53258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82840" y="4638600"/>
              <a:ext cx="43290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59200" y="4195440"/>
              <a:ext cx="336600" cy="31284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545000" y="58719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75160" y="587196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111400" y="4541760"/>
              <a:ext cx="144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30400" y="450828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546440" y="2182680"/>
              <a:ext cx="1800" cy="1936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73360" y="2182680"/>
              <a:ext cx="144720" cy="129960"/>
            </a:xfrm>
            <a:custGeom>
              <a:avLst/>
              <a:gdLst/>
              <a:ahLst/>
              <a:rect l="l" t="t" r="r" b="b"/>
              <a:pathLst>
                <a:path w="91" h="219">
                  <a:moveTo>
                    <a:pt x="88" y="10"/>
                  </a:moveTo>
                  <a:cubicBezTo>
                    <a:pt x="89" y="87"/>
                    <a:pt x="91" y="165"/>
                    <a:pt x="78" y="192"/>
                  </a:cubicBezTo>
                  <a:cubicBezTo>
                    <a:pt x="65" y="219"/>
                    <a:pt x="22" y="205"/>
                    <a:pt x="11" y="173"/>
                  </a:cubicBezTo>
                  <a:cubicBezTo>
                    <a:pt x="0" y="141"/>
                    <a:pt x="11" y="26"/>
                    <a:pt x="11" y="0"/>
                  </a:cubicBezTo>
                </a:path>
              </a:pathLst>
            </a:cu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4181400"/>
              <a:ext cx="395280" cy="1695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1073600">
              <a:off x="4495320" y="43336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4467600">
              <a:off x="4400280" y="44128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067200">
              <a:off x="429696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3974600">
              <a:off x="4383000" y="410940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14960" y="43923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1073600">
              <a:off x="4343040" y="44179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4467600">
              <a:off x="4230360" y="429408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8067200">
              <a:off x="4223880" y="424296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3974600">
              <a:off x="4199040" y="4412520"/>
              <a:ext cx="395280" cy="1699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cc"/>
            </a:solidFill>
            <a:ln w="9360">
              <a:solidFill>
                <a:srgbClr val="ff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48280" y="4000320"/>
              <a:ext cx="792000" cy="811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16E6-59D9-440F-9F41-3C2A7638293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ining Phils: generalized cas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Theorem:</a:t>
            </a: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The algorithm of Lehmann and Rabin is deadlock-free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if and only if</a:t>
            </a:r>
            <a:r>
              <a:rPr b="0" lang="en-US" sz="2600" spc="-1" strike="noStrike">
                <a:solidFill>
                  <a:srgbClr val="66ffff"/>
                </a:solidFill>
                <a:latin typeface="Comic Sans MS"/>
              </a:rPr>
              <a:t> all cycles are pairwise disconnected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33"/>
                </a:solidFill>
                <a:latin typeface="Comic Sans MS"/>
              </a:rPr>
              <a:t>There are essentially three ways in which two cycles can be connected:</a:t>
            </a:r>
            <a:endParaRPr b="0" lang="en-US" sz="2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4952880"/>
            <a:ext cx="533520" cy="0"/>
          </a:xfrm>
          <a:prstGeom prst="line">
            <a:avLst/>
          </a:prstGeom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4648320"/>
            <a:ext cx="761760" cy="685800"/>
          </a:xfrm>
          <a:prstGeom prst="hexagon">
            <a:avLst>
              <a:gd name="adj" fmla="val 27769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4648320"/>
            <a:ext cx="762120" cy="685800"/>
          </a:xfrm>
          <a:prstGeom prst="hexagon">
            <a:avLst>
              <a:gd name="adj" fmla="val 27782"/>
              <a:gd name="vf" fmla="val 115470"/>
            </a:avLst>
          </a:prstGeom>
          <a:noFill/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abilistic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809-1810-45BA-AE14-E8D9E2B448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8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0T05:22:19Z</dcterms:modified>
  <cp:revision>146</cp:revision>
  <dc:subject/>
  <dc:title>Concurrency 5</dc:title>
</cp:coreProperties>
</file>