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68200" y="547200"/>
            <a:ext cx="3651480" cy="27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68600"/>
            <a:ext cx="7670880" cy="3286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4D18CB1-A759-4785-92F7-1CA6C005A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89F9873-96A2-407D-A61D-553DDCCE4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68560" y="547560"/>
            <a:ext cx="3651480" cy="27385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7640" y="346860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E9B-3ED2-42F2-9DB3-303BA030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C97-2C58-4A45-BA0A-A428C306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BC9-2061-49A0-BDA2-99D0CD28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F74-1D42-454F-9BC9-F594183F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CA6-1A51-4FCD-9CA6-170BB0AF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1C8-632B-44DF-927F-1264B8F5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E3C-5126-4E98-A0D3-A7CAF8D8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B1E-A71D-4993-8F0C-0B186FBB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2FC-B5CE-4DD3-8F8F-963A2B5D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704-4647-4B14-A3B0-BE708EB0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A36-3B4A-4A30-A3DD-A8AD53A0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D64-35E0-4BC3-8DF4-C79B5A3B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3B36-AB1F-42C9-A96F-BFE69FF94A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7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Originally developed as an intermediate language for the fully distributed implementation of the </a:t>
            </a:r>
            <a:r>
              <a:rPr b="0" lang="en-US" sz="18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-calculus (Herescu and Palamidessi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ff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results of Lecture 4 show that a fully distributed implementation of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must necessarily be randomiz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A two-steps approach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988000" y="2654280"/>
            <a:ext cx="38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6600" y="398952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abilistic asynchron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0040" y="5232240"/>
            <a:ext cx="31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5760" y="2654280"/>
            <a:ext cx="133668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3800" y="3857760"/>
            <a:ext cx="5283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81240" y="5232240"/>
            <a:ext cx="372744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7480" y="3203640"/>
            <a:ext cx="214200" cy="654120"/>
          </a:xfrm>
          <a:prstGeom prst="downArrow">
            <a:avLst>
              <a:gd name="adj1" fmla="val 50000"/>
              <a:gd name="adj2" fmla="val 763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2120" y="4578480"/>
            <a:ext cx="214200" cy="653760"/>
          </a:xfrm>
          <a:prstGeom prst="downArrow">
            <a:avLst>
              <a:gd name="adj1" fmla="val 50000"/>
              <a:gd name="adj2" fmla="val 763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41680" y="3236760"/>
            <a:ext cx="6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[[ 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9880" y="46371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&lt;&lt;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3166920"/>
            <a:ext cx="26096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Advantag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the correctness proof is easier since [[ ]] (which is the difficult part of the implementation)  is between two simila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F4A-7FD9-4D53-84E2-C3729923DF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the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synch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1533240"/>
            <a:ext cx="85629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Syntax: 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based on the asynchronous </a:t>
            </a:r>
            <a:r>
              <a:rPr b="1" lang="en-US" sz="1600" spc="-1" strike="noStrike">
                <a:solidFill>
                  <a:srgbClr val="990099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 of Amadio, Castellani, Sangiorgi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  ::=  x(y) |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efix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   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. inp. guard. choice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x^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output action</a:t>
            </a:r>
            <a:r>
              <a:rPr b="0" lang="en-US" sz="2800" spc="-1" strike="noStrike" baseline="-25000">
                <a:solidFill>
                  <a:srgbClr val="0db10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       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x)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c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recurs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ocedure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8DC-CA13-4D0F-9382-8E5728438A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88640"/>
            <a:ext cx="777708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Based on the </a:t>
            </a: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Probabilistic Automat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of Segala and Lynch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Distinction betwe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nondeterministic behavior (choice of the scheduler)</a:t>
            </a: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 behavior (choice of the proce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3152880"/>
            <a:ext cx="3216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b10d"/>
                </a:solidFill>
                <a:latin typeface="Comic Sans MS"/>
              </a:rPr>
              <a:t>Scheduling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The scheduler chooses the group of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5880" y="52722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18040" y="4416480"/>
            <a:ext cx="3216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Exec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The process chooses</a:t>
            </a:r>
            <a:r>
              <a:rPr b="0" lang="en-US" sz="30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ally the transition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38200" y="3268800"/>
            <a:ext cx="2903760" cy="2393640"/>
            <a:chOff x="1438200" y="3268800"/>
            <a:chExt cx="2903760" cy="2393640"/>
          </a:xfrm>
        </p:grpSpPr>
        <p:grpSp>
          <p:nvGrpSpPr>
            <p:cNvPr id="71" name=""/>
            <p:cNvGrpSpPr/>
            <p:nvPr/>
          </p:nvGrpSpPr>
          <p:grpSpPr>
            <a:xfrm>
              <a:off x="1441440" y="3268800"/>
              <a:ext cx="2900160" cy="2393280"/>
              <a:chOff x="1441440" y="3268800"/>
              <a:chExt cx="2900160" cy="23932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1941480" y="336384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827080" y="336384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27080" y="336384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27080" y="336384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534680" y="336384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33480" y="32688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44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47880" y="4254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55840" y="39654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90720" y="425448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3352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7180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971440" y="453852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9600" y="453852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6220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1628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2724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8616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9080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09800" y="54734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78200" y="547344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39920" y="444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5424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0352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4640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438200" y="3268800"/>
              <a:ext cx="2900160" cy="2393280"/>
              <a:chOff x="1438200" y="3268800"/>
              <a:chExt cx="2900160" cy="239328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1937880" y="336384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24200" y="336384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24200" y="336384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24200" y="336384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531800" y="336384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30240" y="32688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382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4464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526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8748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33028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6856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968200" y="453852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360" y="453852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5896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304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400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8292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792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065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749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36680" y="4443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100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0028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316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flipH="1">
              <a:off x="1941120" y="3363840"/>
              <a:ext cx="88596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7440" y="3363840"/>
              <a:ext cx="95724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27440" y="3363840"/>
              <a:ext cx="142236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27440" y="3363840"/>
              <a:ext cx="40644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35040" y="3363840"/>
              <a:ext cx="1292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33840" y="3268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144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478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620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10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3520" y="3610080"/>
              <a:ext cx="16344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3578400"/>
              <a:ext cx="30780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71800" y="4538520"/>
              <a:ext cx="26208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9600" y="4538520"/>
              <a:ext cx="52416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2200" y="35384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16280" y="38131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27600" y="39225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6160" y="37749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91160" y="362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10160" y="5473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8200" y="5473800"/>
              <a:ext cx="18576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9920" y="4443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4600" y="50166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3520" y="4878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6400" y="48578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440000" y="3270240"/>
            <a:ext cx="2903400" cy="2394000"/>
            <a:chOff x="1440000" y="3270240"/>
            <a:chExt cx="2903400" cy="2394000"/>
          </a:xfrm>
        </p:grpSpPr>
        <p:grpSp>
          <p:nvGrpSpPr>
            <p:cNvPr id="149" name=""/>
            <p:cNvGrpSpPr/>
            <p:nvPr/>
          </p:nvGrpSpPr>
          <p:grpSpPr>
            <a:xfrm>
              <a:off x="1443240" y="3270240"/>
              <a:ext cx="2900160" cy="2394000"/>
              <a:chOff x="1443240" y="3270240"/>
              <a:chExt cx="2900160" cy="239400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1943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28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28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28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536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35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3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49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7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92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35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3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973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81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4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18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29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87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92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11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80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41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56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05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48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440000" y="3270240"/>
              <a:ext cx="2900160" cy="2394000"/>
              <a:chOff x="1440000" y="3270240"/>
              <a:chExt cx="2900160" cy="239400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193968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2600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2600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2600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53360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3204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400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464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544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8928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3208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7036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97000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7816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6076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484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2580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8472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8972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083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767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3848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280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0208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4496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1943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8880" y="3365640"/>
              <a:ext cx="95724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28880" y="3365640"/>
              <a:ext cx="142236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8880" y="3365640"/>
              <a:ext cx="406440" cy="117468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536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35280" y="327024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3240" y="39672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49680" y="42562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396720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92520" y="425628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5320" y="3611520"/>
              <a:ext cx="16344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3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973240" y="4540320"/>
              <a:ext cx="26172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81400" y="4540320"/>
              <a:ext cx="52380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64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18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9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7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2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1160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7964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41720" y="444528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56040" y="5018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8200" y="48596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49360" y="3270240"/>
            <a:ext cx="2903040" cy="2394000"/>
            <a:chOff x="1449360" y="3270240"/>
            <a:chExt cx="2903040" cy="2394000"/>
          </a:xfrm>
        </p:grpSpPr>
        <p:grpSp>
          <p:nvGrpSpPr>
            <p:cNvPr id="227" name=""/>
            <p:cNvGrpSpPr/>
            <p:nvPr/>
          </p:nvGrpSpPr>
          <p:grpSpPr>
            <a:xfrm>
              <a:off x="1452240" y="3270240"/>
              <a:ext cx="2900160" cy="2394000"/>
              <a:chOff x="1452240" y="3270240"/>
              <a:chExt cx="2900160" cy="23940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952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37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37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37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545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44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52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58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6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01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44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82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982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90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73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7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38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96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1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0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89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50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65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14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57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449360" y="3270240"/>
              <a:ext cx="2900160" cy="2394000"/>
              <a:chOff x="1449360" y="3270240"/>
              <a:chExt cx="2900160" cy="239400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94904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3536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3536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3536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54296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4140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493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5580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637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986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4144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7972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97936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8752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7012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420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3516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9408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9908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177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861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14784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6216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1144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5432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1952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38240" y="3365640"/>
              <a:ext cx="95688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38240" y="3365640"/>
              <a:ext cx="142200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8240" y="3365640"/>
              <a:ext cx="406080" cy="11746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45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4640" y="3270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52240" y="3967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8680" y="425628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7000" y="396720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1880" y="4256280"/>
              <a:ext cx="18540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4680" y="3611520"/>
              <a:ext cx="16308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82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982240" y="4540320"/>
              <a:ext cx="261720" cy="10303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90760" y="4540320"/>
              <a:ext cx="52344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73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27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38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6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1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0960" y="547524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89000" y="5475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51080" y="444492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65040" y="50180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1468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57200" y="4859280"/>
              <a:ext cx="290160" cy="4464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F0D-83B1-4D1F-8007-4A4981B4B2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presentation of a group of transi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4" marL="191304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 { --g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&gt;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p</a:t>
            </a:r>
            <a:r>
              <a:rPr b="0" lang="en-US" sz="2400" spc="-1" strike="noStrike" baseline="-40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} 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                          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hoice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.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ar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         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 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272-E9D0-4BC6-8A2F-AB8E95534F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 (continued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18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^z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1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_________________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 | Q 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[z/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]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x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U 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/=x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Re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     q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renormaliz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x) P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q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(x) 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=/= x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EBE-B3B8-4458-BA51-F5ED5402C0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xpressive power of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Example of distributed agreement: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leader election proble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105360" y="3322800"/>
            <a:ext cx="3038400" cy="1595880"/>
            <a:chOff x="3105360" y="3322800"/>
            <a:chExt cx="3038400" cy="1595880"/>
          </a:xfrm>
        </p:grpSpPr>
        <p:sp>
          <p:nvSpPr>
            <p:cNvPr id="311" name=""/>
            <p:cNvSpPr/>
            <p:nvPr/>
          </p:nvSpPr>
          <p:spPr>
            <a:xfrm>
              <a:off x="3468600" y="3975480"/>
              <a:ext cx="261360" cy="27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64080" y="3989520"/>
              <a:ext cx="261360" cy="27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"/>
            <p:cNvCxnSpPr>
              <a:stCxn id="311" idx="7"/>
              <a:endCxn id="312" idx="1"/>
            </p:cNvCxnSpPr>
            <p:nvPr/>
          </p:nvCxnSpPr>
          <p:spPr>
            <a:xfrm flipH="1" rot="16200000">
              <a:off x="4590000" y="311616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12" idx="3"/>
              <a:endCxn id="311" idx="5"/>
            </p:cNvCxnSpPr>
            <p:nvPr/>
          </p:nvCxnSpPr>
          <p:spPr>
            <a:xfrm flipV="1" rot="16200000">
              <a:off x="4589640" y="331344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3105360" y="392436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65040" y="3924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8360" y="33228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4840" y="45198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04E-DA3D-4621-9061-905A5A5E68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ilation in Java     &lt;&lt; &gt;&gt; :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Java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&lt;&lt; P | Q &gt;&gt; =  &lt;&lt; P &gt;&gt;.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&lt;&lt; Q &gt;&gt;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.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omic Sans MS"/>
              </a:rPr>
              <a:t>Compositiona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&lt;&lt; P op Q &gt;&gt; =  &lt;&lt; P &gt;&gt; jop &lt;&lt; Q &gt;&gt;      for all o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ff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annels are one-position buffers with test-and-set (synchronized) methods for input and outpu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The probabilistic input guarded construct is implemented as a while loop in which channels to be tried are selected according to their probability. The loop repeats until an input is successful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35D-F84A-4DE9-A6C5-6C5CDD8989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7T08:56:17Z</dcterms:modified>
  <cp:revision>137</cp:revision>
  <dc:subject/>
  <dc:title>Concurrency 5</dc:title>
</cp:coreProperties>
</file>