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68200" y="547200"/>
            <a:ext cx="3651480" cy="27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68600"/>
            <a:ext cx="7670880" cy="328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7140CA3-7597-47CD-AEA6-27339EF57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430960" y="693576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EAA04B-0AF6-46D0-BF67-7FBD9C882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93576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430960" y="0"/>
            <a:ext cx="415584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68560" y="547560"/>
            <a:ext cx="3651480" cy="27385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7640" y="346860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134-1DC9-405F-9FA9-179DF5D9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0F4-E8DE-4C39-B5AA-3A417FC0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9EE-DFAD-436A-BCE9-C3B5D866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FDC-2455-4A96-A72D-844826F2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E60-6A69-4CB5-9ABC-4CAF8C8D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1A6-4395-47C8-839D-7DF645DD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33F-E9BD-4468-83C0-0949F876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29A-8505-40F1-AC8B-6B4C9AC7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A7A-9FA4-44C5-8959-BA4B2A26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44E-6A70-4148-9B68-14741F79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02D-6558-4711-8F79-0C8E7CD0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5AC-D218-4474-BC66-C4E7076C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A883-6C8E-4A00-AD46-1960DF71E3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tuscia@lix.polytechnique.fr" TargetMode="External"/><Relationship Id="rId2" Type="http://schemas.openxmlformats.org/officeDocument/2006/relationships/hyperlink" Target="http://www.lix.polytechnique.fr/~catuscia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817200"/>
            <a:ext cx="86025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abilistic Methods in Concurrenc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Lecture 7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5600" y="4005000"/>
            <a:ext cx="734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atuscia Palamidessi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atuscia@lix.polytechnique.fr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lix.polytechnique.fr/~catuscia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Page of the course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www.lix.polytechnique.fr/~catuscia/teaching/Pisa/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82486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abilistic asynchronou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alc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240" y="828720"/>
            <a:ext cx="821052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Originally developed as an intermediate language for the fully distributed implementation of the </a:t>
            </a:r>
            <a:r>
              <a:rPr b="0" lang="en-US" sz="1800" spc="-1" strike="noStrike">
                <a:solidFill>
                  <a:srgbClr val="00808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-calculus (Herescu and Palamidessi)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ff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The results of Lecture 4 show that a fully distributed implementation of </a:t>
            </a:r>
            <a:r>
              <a:rPr b="0" lang="en-US" sz="18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3333ff"/>
                </a:solidFill>
                <a:latin typeface="Comic Sans MS"/>
              </a:rPr>
              <a:t> must necessarily be randomized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66ff66"/>
              </a:buClr>
              <a:buFont typeface="Comic Sans MS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A two-steps approach: </a:t>
            </a: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2654280"/>
            <a:ext cx="3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6600" y="398952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stic asynchron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0040" y="5232240"/>
            <a:ext cx="31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5760" y="2654280"/>
            <a:ext cx="133668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3800" y="3857760"/>
            <a:ext cx="5283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81240" y="5232240"/>
            <a:ext cx="3727440" cy="54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7480" y="3203640"/>
            <a:ext cx="214200" cy="654120"/>
          </a:xfrm>
          <a:prstGeom prst="downArrow">
            <a:avLst>
              <a:gd name="adj1" fmla="val 50000"/>
              <a:gd name="adj2" fmla="val 763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4578480"/>
            <a:ext cx="214200" cy="653760"/>
          </a:xfrm>
          <a:prstGeom prst="downArrow">
            <a:avLst>
              <a:gd name="adj1" fmla="val 50000"/>
              <a:gd name="adj2" fmla="val 763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1680" y="3236760"/>
            <a:ext cx="6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[[ 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49880" y="4637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Comic Sans MS"/>
              </a:rPr>
              <a:t>&lt;&lt;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3166920"/>
            <a:ext cx="26096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Comic Sans MS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the correctness proof is easier since [[ ]] (which is the difficult part of the implementation)  is between two simi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33C-2940-467C-81D9-789457D917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Probabilis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synchonou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1533240"/>
            <a:ext cx="85629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Syntax: 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based on the asynchronous </a:t>
            </a:r>
            <a:r>
              <a:rPr b="1" lang="en-US" sz="1600" spc="-1" strike="noStrike">
                <a:solidFill>
                  <a:srgbClr val="990099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990099"/>
                </a:solidFill>
                <a:latin typeface="Comic Sans MS"/>
              </a:rPr>
              <a:t> of Amadio, Castellani, Sangiorgi</a:t>
            </a:r>
            <a:endParaRPr b="0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  ::=  x(y) | 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 ::=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. P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i   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. inp. guard. choice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cc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x^y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output action</a:t>
            </a:r>
            <a:r>
              <a:rPr b="0" lang="en-US" sz="2800" spc="-1" strike="noStrike" baseline="-25000">
                <a:solidFill>
                  <a:srgbClr val="0db1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         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P | P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arallel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   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(x)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new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rec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recurs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db10d"/>
                </a:solidFill>
                <a:latin typeface="Comic Sans MS"/>
              </a:rPr>
              <a:t>procedure name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55E-A899-4021-9560-66EE203B3F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88640"/>
            <a:ext cx="777708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Based on the </a:t>
            </a: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Probabilistic Automata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of Segala and Lynch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Distinction between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nondeterministic behavior (choice of the scheduler)</a:t>
            </a:r>
            <a:r>
              <a:rPr b="0" lang="en-US" sz="18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 behavior (choice of the proc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152880"/>
            <a:ext cx="3216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b10d"/>
                </a:solidFill>
                <a:latin typeface="Comic Sans MS"/>
              </a:rPr>
              <a:t>Scheduling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b10d"/>
                </a:solidFill>
                <a:latin typeface="Comic Sans MS"/>
              </a:rPr>
              <a:t>The scheduler chooses the group of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5880" y="52722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416480"/>
            <a:ext cx="3216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The process chooses</a:t>
            </a:r>
            <a:r>
              <a:rPr b="0" lang="en-US" sz="30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6699"/>
                </a:solidFill>
                <a:latin typeface="Comic Sans MS"/>
              </a:rPr>
              <a:t>probabilistically the transition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38200" y="3268800"/>
            <a:ext cx="2903760" cy="2393640"/>
            <a:chOff x="1438200" y="3268800"/>
            <a:chExt cx="2903760" cy="2393640"/>
          </a:xfrm>
        </p:grpSpPr>
        <p:grpSp>
          <p:nvGrpSpPr>
            <p:cNvPr id="71" name=""/>
            <p:cNvGrpSpPr/>
            <p:nvPr/>
          </p:nvGrpSpPr>
          <p:grpSpPr>
            <a:xfrm>
              <a:off x="1441440" y="3268800"/>
              <a:ext cx="2900160" cy="2393280"/>
              <a:chOff x="1441440" y="3268800"/>
              <a:chExt cx="2900160" cy="2393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1941480" y="3363840"/>
                <a:ext cx="88560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827080" y="3363840"/>
                <a:ext cx="957240" cy="9568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27080" y="3363840"/>
                <a:ext cx="1422720" cy="69660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27080" y="3363840"/>
                <a:ext cx="406440" cy="117432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534680" y="3363840"/>
                <a:ext cx="129204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33480" y="32688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44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7880" y="4254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5840" y="396540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90720" y="4254480"/>
                <a:ext cx="185760" cy="188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3352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7180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971440" y="4538520"/>
                <a:ext cx="26172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9600" y="4538520"/>
                <a:ext cx="523800" cy="10299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6220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1628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2724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8616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080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09800" y="547344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78200" y="5473440"/>
                <a:ext cx="18540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9920" y="444312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5424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0352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4640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38200" y="3268800"/>
              <a:ext cx="2900160" cy="2393280"/>
              <a:chOff x="1438200" y="3268800"/>
              <a:chExt cx="2900160" cy="239328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1937880" y="3363840"/>
                <a:ext cx="88596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24200" y="3363840"/>
                <a:ext cx="957240" cy="9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24200" y="3363840"/>
                <a:ext cx="1422360" cy="69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24200" y="3363840"/>
                <a:ext cx="406080" cy="11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531800" y="3363840"/>
                <a:ext cx="1292400" cy="68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240" y="32688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382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4464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52600" y="396540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87480" y="42544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30280" y="3609720"/>
                <a:ext cx="163440" cy="11880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68560" y="3578040"/>
                <a:ext cx="307800" cy="19188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968200" y="4538520"/>
                <a:ext cx="26172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360" y="4538520"/>
                <a:ext cx="523800" cy="10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8960" y="35384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13040" y="38131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4000" y="39225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82920" y="37749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7920" y="36226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65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4960" y="547344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6680" y="4443480"/>
                <a:ext cx="185760" cy="18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1000" y="5016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4878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3160" y="4857480"/>
                <a:ext cx="290520" cy="4428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H="1">
              <a:off x="1941120" y="3363840"/>
              <a:ext cx="88596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7440" y="3363840"/>
              <a:ext cx="95724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27440" y="3363840"/>
              <a:ext cx="142236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27440" y="3363840"/>
              <a:ext cx="406440" cy="11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5040" y="3363840"/>
              <a:ext cx="1292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68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144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6200" y="39654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1080" y="4254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3520" y="3610080"/>
              <a:ext cx="163440" cy="11880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3578400"/>
              <a:ext cx="307800" cy="1918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71800" y="4538520"/>
              <a:ext cx="26208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9600" y="4538520"/>
              <a:ext cx="52416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2200" y="35384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16280" y="38131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27600" y="39225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6160" y="37749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91160" y="36226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10160" y="547380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78200" y="5473800"/>
              <a:ext cx="18576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9920" y="44434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50166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3520" y="4878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6400" y="48578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40000" y="3270240"/>
            <a:ext cx="2903400" cy="2394000"/>
            <a:chOff x="1440000" y="3270240"/>
            <a:chExt cx="2903400" cy="2394000"/>
          </a:xfrm>
        </p:grpSpPr>
        <p:grpSp>
          <p:nvGrpSpPr>
            <p:cNvPr id="149" name=""/>
            <p:cNvGrpSpPr/>
            <p:nvPr/>
          </p:nvGrpSpPr>
          <p:grpSpPr>
            <a:xfrm>
              <a:off x="1443240" y="3270240"/>
              <a:ext cx="2900160" cy="2394000"/>
              <a:chOff x="1443240" y="3270240"/>
              <a:chExt cx="2900160" cy="23940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1943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28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28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28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536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35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3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49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7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92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35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3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73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81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4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8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29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87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92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11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0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41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56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8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440000" y="3270240"/>
              <a:ext cx="2900160" cy="2394000"/>
              <a:chOff x="1440000" y="3270240"/>
              <a:chExt cx="2900160" cy="239400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193968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2600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600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2600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53360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3204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400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64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5440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928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3208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7036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97000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7816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6076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484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80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8472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8972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83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7676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3848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280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0208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4496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1943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28880" y="3365640"/>
              <a:ext cx="95724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8880" y="3365640"/>
              <a:ext cx="142236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8880" y="3365640"/>
              <a:ext cx="406440" cy="117468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536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35280" y="327024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3240" y="396720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9680" y="4256280"/>
              <a:ext cx="18576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640" y="396720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92520" y="4256280"/>
              <a:ext cx="18576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3611520"/>
              <a:ext cx="16344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3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73240" y="4540320"/>
              <a:ext cx="26172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81400" y="4540320"/>
              <a:ext cx="52380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4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8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9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7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92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1160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9640" y="547560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41720" y="4445280"/>
              <a:ext cx="18576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56040" y="501840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8200" y="4859640"/>
              <a:ext cx="290520" cy="4428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49360" y="3270240"/>
            <a:ext cx="2903040" cy="2394000"/>
            <a:chOff x="1449360" y="3270240"/>
            <a:chExt cx="2903040" cy="2394000"/>
          </a:xfrm>
        </p:grpSpPr>
        <p:grpSp>
          <p:nvGrpSpPr>
            <p:cNvPr id="227" name=""/>
            <p:cNvGrpSpPr/>
            <p:nvPr/>
          </p:nvGrpSpPr>
          <p:grpSpPr>
            <a:xfrm>
              <a:off x="1452240" y="3270240"/>
              <a:ext cx="2900160" cy="2394000"/>
              <a:chOff x="1452240" y="3270240"/>
              <a:chExt cx="2900160" cy="23940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952280" y="3365640"/>
                <a:ext cx="88560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37880" y="3365640"/>
                <a:ext cx="957240" cy="9572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7880" y="3365640"/>
                <a:ext cx="1422720" cy="69696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37880" y="3365640"/>
                <a:ext cx="406440" cy="11746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45480" y="3365640"/>
                <a:ext cx="12920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44280" y="3270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5224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58680" y="4256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6640" y="396720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01520" y="4256280"/>
                <a:ext cx="185760" cy="188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4432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8260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982240" y="4540320"/>
                <a:ext cx="26172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90400" y="4540320"/>
                <a:ext cx="523800" cy="1030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300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3804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9696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160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0600" y="547524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89000" y="5475240"/>
                <a:ext cx="18540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50720" y="4444920"/>
                <a:ext cx="185760" cy="189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6504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1432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66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5720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449360" y="3270240"/>
              <a:ext cx="2900160" cy="2394000"/>
              <a:chOff x="1449360" y="3270240"/>
              <a:chExt cx="2900160" cy="2394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949040" y="3365640"/>
                <a:ext cx="88596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35360" y="3365640"/>
                <a:ext cx="957240" cy="95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35360" y="3365640"/>
                <a:ext cx="1422360" cy="69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35360" y="3365640"/>
                <a:ext cx="406080" cy="11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542960" y="3365640"/>
                <a:ext cx="129240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41400" y="3270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493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5580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63760" y="396720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98640" y="425628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41440" y="3611520"/>
                <a:ext cx="163440" cy="119160"/>
              </a:xfrm>
              <a:custGeom>
                <a:avLst/>
                <a:gdLst/>
                <a:ahLst/>
                <a:rect l="l" t="t" r="r" b="b"/>
                <a:pathLst>
                  <a:path w="103" h="75">
                    <a:moveTo>
                      <a:pt x="0" y="0"/>
                    </a:moveTo>
                    <a:cubicBezTo>
                      <a:pt x="25" y="40"/>
                      <a:pt x="25" y="35"/>
                      <a:pt x="64" y="55"/>
                    </a:cubicBezTo>
                    <a:cubicBezTo>
                      <a:pt x="103" y="75"/>
                      <a:pt x="99" y="73"/>
                      <a:pt x="82" y="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79720" y="3579840"/>
                <a:ext cx="307800" cy="192240"/>
              </a:xfrm>
              <a:custGeom>
                <a:avLst/>
                <a:gdLst/>
                <a:ahLst/>
                <a:rect l="l" t="t" r="r" b="b"/>
                <a:pathLst>
                  <a:path w="194" h="121">
                    <a:moveTo>
                      <a:pt x="0" y="121"/>
                    </a:moveTo>
                    <a:cubicBezTo>
                      <a:pt x="69" y="113"/>
                      <a:pt x="79" y="103"/>
                      <a:pt x="137" y="84"/>
                    </a:cubicBezTo>
                    <a:cubicBezTo>
                      <a:pt x="143" y="78"/>
                      <a:pt x="151" y="73"/>
                      <a:pt x="156" y="66"/>
                    </a:cubicBezTo>
                    <a:cubicBezTo>
                      <a:pt x="161" y="58"/>
                      <a:pt x="159" y="46"/>
                      <a:pt x="165" y="38"/>
                    </a:cubicBezTo>
                    <a:cubicBezTo>
                      <a:pt x="194" y="0"/>
                      <a:pt x="192" y="36"/>
                      <a:pt x="192" y="1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979360" y="4540320"/>
                <a:ext cx="26172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87520" y="4540320"/>
                <a:ext cx="523800" cy="10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70120" y="35402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4200" y="381492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35160" y="39243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4080" y="37767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99080" y="362448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177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86120" y="5475240"/>
                <a:ext cx="1857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47840" y="4445280"/>
                <a:ext cx="185760" cy="18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62160" y="501804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1440" y="4880160"/>
                <a:ext cx="4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4320" y="4859280"/>
                <a:ext cx="290520" cy="44640"/>
              </a:xfrm>
              <a:custGeom>
                <a:avLst/>
                <a:gdLst/>
                <a:ahLst/>
                <a:rect l="l" t="t" r="r" b="b"/>
                <a:pathLst>
                  <a:path w="183" h="28">
                    <a:moveTo>
                      <a:pt x="0" y="28"/>
                    </a:moveTo>
                    <a:cubicBezTo>
                      <a:pt x="40" y="25"/>
                      <a:pt x="79" y="24"/>
                      <a:pt x="119" y="19"/>
                    </a:cubicBezTo>
                    <a:cubicBezTo>
                      <a:pt x="131" y="18"/>
                      <a:pt x="143" y="14"/>
                      <a:pt x="155" y="10"/>
                    </a:cubicBezTo>
                    <a:cubicBezTo>
                      <a:pt x="165" y="7"/>
                      <a:pt x="183" y="0"/>
                      <a:pt x="18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H="1">
              <a:off x="1952280" y="3365640"/>
              <a:ext cx="885600" cy="9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8240" y="3365640"/>
              <a:ext cx="956880" cy="95724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38240" y="3365640"/>
              <a:ext cx="1422000" cy="696960"/>
            </a:xfrm>
            <a:prstGeom prst="line">
              <a:avLst/>
            </a:prstGeom>
            <a:ln w="1908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8240" y="3365640"/>
              <a:ext cx="406080" cy="11746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545480" y="3365640"/>
              <a:ext cx="12920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4640" y="3270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52240" y="3967200"/>
              <a:ext cx="185400" cy="18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8680" y="4256280"/>
              <a:ext cx="185400" cy="18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7000" y="396720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1880" y="4256280"/>
              <a:ext cx="185400" cy="18864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44680" y="3611520"/>
              <a:ext cx="163080" cy="11916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0" y="0"/>
                  </a:moveTo>
                  <a:cubicBezTo>
                    <a:pt x="25" y="40"/>
                    <a:pt x="25" y="35"/>
                    <a:pt x="64" y="55"/>
                  </a:cubicBezTo>
                  <a:cubicBezTo>
                    <a:pt x="103" y="75"/>
                    <a:pt x="99" y="73"/>
                    <a:pt x="8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82600" y="3579840"/>
              <a:ext cx="307800" cy="19224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121"/>
                  </a:moveTo>
                  <a:cubicBezTo>
                    <a:pt x="69" y="113"/>
                    <a:pt x="79" y="103"/>
                    <a:pt x="137" y="84"/>
                  </a:cubicBezTo>
                  <a:cubicBezTo>
                    <a:pt x="143" y="78"/>
                    <a:pt x="151" y="73"/>
                    <a:pt x="156" y="66"/>
                  </a:cubicBezTo>
                  <a:cubicBezTo>
                    <a:pt x="161" y="58"/>
                    <a:pt x="159" y="46"/>
                    <a:pt x="165" y="38"/>
                  </a:cubicBezTo>
                  <a:cubicBezTo>
                    <a:pt x="194" y="0"/>
                    <a:pt x="192" y="36"/>
                    <a:pt x="192" y="11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82240" y="4540320"/>
              <a:ext cx="261720" cy="10303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90760" y="4540320"/>
              <a:ext cx="523440" cy="1030320"/>
            </a:xfrm>
            <a:prstGeom prst="line">
              <a:avLst/>
            </a:prstGeom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3000" y="35402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27080" y="381492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38040" y="39243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6960" y="37767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1600" y="362448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0960" y="5475240"/>
              <a:ext cx="185400" cy="189000"/>
            </a:xfrm>
            <a:prstGeom prst="ellipse">
              <a:avLst/>
            </a:prstGeom>
            <a:solidFill>
              <a:srgbClr val="0db10d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9000" y="547524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1080" y="4444920"/>
              <a:ext cx="185400" cy="1890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65040" y="501804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99"/>
                  </a:solidFill>
                  <a:latin typeface="Comic Sans MS"/>
                </a:rPr>
                <a:t>1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14680" y="4880160"/>
              <a:ext cx="41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db10d"/>
                  </a:solidFill>
                  <a:latin typeface="Comic Sans MS"/>
                </a:rPr>
                <a:t>2/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57200" y="4859280"/>
              <a:ext cx="290160" cy="44640"/>
            </a:xfrm>
            <a:custGeom>
              <a:avLst/>
              <a:gdLst/>
              <a:ahLst/>
              <a:rect l="l" t="t" r="r" b="b"/>
              <a:pathLst>
                <a:path w="183" h="28">
                  <a:moveTo>
                    <a:pt x="0" y="28"/>
                  </a:moveTo>
                  <a:cubicBezTo>
                    <a:pt x="40" y="25"/>
                    <a:pt x="79" y="24"/>
                    <a:pt x="119" y="19"/>
                  </a:cubicBezTo>
                  <a:cubicBezTo>
                    <a:pt x="131" y="18"/>
                    <a:pt x="143" y="14"/>
                    <a:pt x="155" y="10"/>
                  </a:cubicBezTo>
                  <a:cubicBezTo>
                    <a:pt x="165" y="7"/>
                    <a:pt x="183" y="0"/>
                    <a:pt x="183" y="0"/>
                  </a:cubicBezTo>
                </a:path>
              </a:pathLst>
            </a:custGeom>
            <a:noFill/>
            <a:ln w="9360">
              <a:solidFill>
                <a:srgbClr val="0db1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38C-BDE1-410F-B29B-3F0B03CE21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esentation of a group of transition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4" marL="19130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 { --g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&gt;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p</a:t>
            </a:r>
            <a:r>
              <a:rPr b="0" lang="en-US" sz="2400" spc="-1" strike="noStrike" baseline="-40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} 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i                             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1062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hoice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.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Par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         ____________________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 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{--g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20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Q | P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8F1-7244-410F-9C4A-10F7003305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perational semantics o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Rules (continued)</a:t>
            </a: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lvl="2" marL="918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^z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1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    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Com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_________________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 | Q 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[z/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]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’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x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U 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|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Q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=/=x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{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p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Res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___________________     q</a:t>
            </a:r>
            <a:r>
              <a:rPr b="0" lang="en-US" sz="20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 renormalized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x) P { --x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(y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)-&gt;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q</a:t>
            </a:r>
            <a:r>
              <a:rPr b="0" lang="en-US" sz="1800" spc="-1" strike="noStrike" baseline="-40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(x) P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}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x</a:t>
            </a:r>
            <a:r>
              <a:rPr b="0" lang="en-US" sz="1800" spc="-1" strike="noStrike" baseline="-34000">
                <a:solidFill>
                  <a:srgbClr val="009999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=/= x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43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F48-1876-42A6-817C-90DE665212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xpressive power of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Example of distributed agreement: 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the leader election problem</a:t>
            </a:r>
            <a:endParaRPr b="0" lang="en-US" sz="32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105360" y="3322800"/>
            <a:ext cx="3038400" cy="1595880"/>
            <a:chOff x="3105360" y="3322800"/>
            <a:chExt cx="3038400" cy="1595880"/>
          </a:xfrm>
        </p:grpSpPr>
        <p:sp>
          <p:nvSpPr>
            <p:cNvPr id="311" name=""/>
            <p:cNvSpPr/>
            <p:nvPr/>
          </p:nvSpPr>
          <p:spPr>
            <a:xfrm>
              <a:off x="3468600" y="3975480"/>
              <a:ext cx="261360" cy="27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64080" y="3989520"/>
              <a:ext cx="261360" cy="27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3" name=""/>
            <p:cNvCxnSpPr>
              <a:stCxn id="311" idx="7"/>
              <a:endCxn id="312" idx="1"/>
            </p:cNvCxnSpPr>
            <p:nvPr/>
          </p:nvCxnSpPr>
          <p:spPr>
            <a:xfrm flipH="1" rot="16200000">
              <a:off x="4590000" y="311616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2" idx="3"/>
              <a:endCxn id="311" idx="5"/>
            </p:cNvCxnSpPr>
            <p:nvPr/>
          </p:nvCxnSpPr>
          <p:spPr>
            <a:xfrm flipV="1" rot="16200000">
              <a:off x="4589640" y="3313440"/>
              <a:ext cx="14760" cy="1810080"/>
            </a:xfrm>
            <a:prstGeom prst="curvedConnector5">
              <a:avLst>
                <a:gd name="adj1" fmla="val -1877500"/>
                <a:gd name="adj2" fmla="val 49990"/>
                <a:gd name="adj3" fmla="val -18775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3105360" y="3924360"/>
              <a:ext cx="33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65040" y="392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99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8360" y="33228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4840" y="4519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7E0-A971-46D7-84E0-08896ECC27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ation of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Compilation in Java     &lt;&lt; &gt;&gt; :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Comic Sans MS"/>
              </a:rPr>
              <a:t>pa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Java</a:t>
            </a: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Distributed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&lt;&lt; P | Q &gt;&gt; =  &lt;&lt; P &gt;&gt;.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&lt;&lt; Q &gt;&gt;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.start();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omic Sans MS"/>
              </a:rPr>
              <a:t>Compositional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6600"/>
                </a:solidFill>
                <a:latin typeface="Comic Sans MS"/>
              </a:rPr>
              <a:t>&lt;&lt; P op Q &gt;&gt; =  &lt;&lt; P &gt;&gt; jop &lt;&lt; Q &gt;&gt;      for all op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ff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Channels are one-position buffers with test-and-set (synchronized) methods for input and outpu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cc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The probabilistic input guarded construct is implemented as a while loop in which channels to be tried are selected according to their probability. The loop repeats until an input is successful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  methods in Concurr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5E7-17B0-42AF-B3A4-6A889DC74C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sa, 7  Jul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17:22Z</dcterms:created>
  <dc:creator>catuscia</dc:creator>
  <dc:description/>
  <dc:language>en-US</dc:language>
  <cp:lastModifiedBy>catuscia</cp:lastModifiedBy>
  <dcterms:modified xsi:type="dcterms:W3CDTF">2004-07-07T08:56:17Z</dcterms:modified>
  <cp:revision>137</cp:revision>
  <dc:subject/>
  <dc:title>Concurrency 5</dc:title>
</cp:coreProperties>
</file>