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202-512F-4554-B16B-22C6E359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F5E-D1FB-44E8-9BA9-B7E4914E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EF5B-AE93-4E87-A287-015C1B44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84E-4F84-4CED-BC7D-D9EC477A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C90-B5C2-4CED-A16F-E75E5E32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2E7-D35A-4B88-ADD2-147B48C9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DAC-49E4-45D8-895D-11D3C1C9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2AE-E11A-400D-A75A-F240D3EF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C58-E33D-402C-B20D-14F900C4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3F0-895F-4891-BE8A-1507B62B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665-3667-4D4A-B611-1F2A3A22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682-5C29-4FC4-84AA-97163B68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5C25-3AF7-4E20-A088-FE367E7B84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6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rogress statements: 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A tool for verification of probabilistic autom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formal method to analyse probabilistic algorithm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Definition (progress statement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Given sets of states S, T, and a class of adversaries A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–A,p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under any adversary in A, from any state in S, we eventually reach a state in T with probability at least 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Furthermore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unless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F5C-724F-44B4-A439-921B7914AA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851-C6D1-4466-835F-98E158F0F4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: for every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, and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, there exists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 such that,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,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b10d"/>
                </a:solidFill>
                <a:latin typeface="Comic Sans MS"/>
              </a:rPr>
              <a:t>Proposition:</a:t>
            </a: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 The class of fair adversaries is history-insensitiv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of: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Given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, define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.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learl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is still fai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0D8-42F3-40C4-BB47-5B67F33E84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An example of verification using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example we consider is the randomized  algorithm of Lehmann and Rabin for the dining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CAC-8152-4A33-9C8D-2FF6DDA273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573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ning philosophers: th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90560" y="2143080"/>
            <a:ext cx="6810480" cy="224784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6880" y="2874960"/>
            <a:ext cx="183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37600" y="2806560"/>
            <a:ext cx="11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5B5-C9C5-4CA1-951E-4D7FB90557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0520"/>
            <a:ext cx="84866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268-8190-4586-AA82-22E2D16F6B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 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 we can conclud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1D7-B12C-49B2-B15A-B3EBDE22BA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9:58:27Z</dcterms:modified>
  <cp:revision>133</cp:revision>
  <dc:subject/>
  <dc:title>Concurrency 5</dc:title>
</cp:coreProperties>
</file>