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2FF-238B-4B2C-B1D9-B82F09AA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C63-C351-44F3-AB38-E49F0EF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43A-DF0D-4DA4-BC8E-870EB913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D24-FA09-4D40-A9F9-7A827E60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F6C-85E9-4FBA-82EE-900AB51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ADB-7757-4938-98BC-58AB413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AEA-00AA-41F6-B0C0-0F88AB4C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48E-6E78-469A-81F7-39E530FD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D28-48AD-423D-A431-C8E7639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AC6-38F1-4D25-80CB-9E9A100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5CF-485C-4FAC-AAD1-EE78B3C5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69C-5862-4030-AFF4-38AF3EB3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5162-3BB0-40EF-8BF7-0DE47349FC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6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Progress statements: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A tool for verification of probabilistic autom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ogress statement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posed by Lynch and Segala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 formal method to analyse probabilistic algorithm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Definition (progress statement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Given sets of states S, T, and a class of adversaries A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–A,p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under any adversary in A, from any state in S, we eventually reach a state in T with probability at least p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Furthermore, we writ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 unless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f, whenever from a state in S we do not reach a state in T, we remain in S (possibly in a different state of S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EF8-EDC8-4B0D-B644-D3C6937B0F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stat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1800" y="136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ome useful properti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If A is history-insensitive ,  S –A,p-&gt; T, and T –A,q-&gt; U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S –A,pq-&gt; U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 and 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A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, th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–A,p-&gt; 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ere p = min{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S –A,1-&gt; S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If A is history-insensitive and   S –A,p-&gt; T   and   S unless T, and p &gt; 0, th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S –A,1-&gt; 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740-2F85-4BCF-8381-D009CF58E1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tory insensitiv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a class of adversaries A is history-insensitive if: for every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, and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, there exists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 such that, for every fragment of execution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,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b10d"/>
                </a:solidFill>
                <a:latin typeface="Comic Sans MS"/>
              </a:rPr>
              <a:t>Proposition:</a:t>
            </a: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 The class of fair adversaries is history-insensitiv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b10d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of: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Given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, define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 =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ff"/>
                </a:solidFill>
                <a:latin typeface="MS Mincho"/>
              </a:rPr>
              <a:t>ee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).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learl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’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is still fair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0F4-34E1-46A7-9FCC-F4E415CC55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b1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An example of verification using the progress statements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The example we consider is the randomized  algorithm of Lehmann and Rabin for the dining philosopher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We will show that under a fair adversary scheduler we have deadlock-freedom (and livelock-freedom), i.e. if a philosopher gets hungry, then with probability 1 some philosopher (not necessarily the same) will eventually eat.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15F-23AD-4229-85AA-9D29B4E7A4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573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8080"/>
                </a:solidFill>
                <a:uFillTx/>
                <a:latin typeface="Comic Sans MS"/>
              </a:rPr>
              <a:t>description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think  or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2" marL="110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et hungry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flip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ready to tos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wait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aiting for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secon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hecking second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ping first resource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a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pre-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exit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ritical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F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first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dropS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drop second fork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m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move to reminder region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ning philosophers: th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2143080"/>
            <a:ext cx="6810480" cy="224784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6880" y="2874960"/>
            <a:ext cx="183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37600" y="2806560"/>
            <a:ext cx="114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B55-3736-418D-9C3F-E67FC47716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68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0520"/>
            <a:ext cx="84866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Let us introduce the following global (sets of) states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T={F,W,S,D,P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Ea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C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RT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at least one phil is in T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l the others are in T, R or 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Fli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hil is in F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Pr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ne phil is in 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Goo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 least one process is in a ‘’good state’’, i.e. in {W,S}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his second fork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is not the first fork for th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ighbor (i.e. the neighbor is not committed to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We want to show that  Try –A,1-&gt; Eat   for A = fair adv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D7D-B833-49B8-81ED-6579BEC1E9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verification: The dining philosop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We can prove that, for the class of fair adversaries A (omitted in the following notation):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Try  -1-&gt;  RT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T  -1-&gt;  Fli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lip  -1/2-&gt;  Goo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Good  -1/4-&gt;  P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e  -1-&gt;  Ea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Using the properties of progress statements we deriv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-1/8-&gt; Eat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ince we also have   </a:t>
            </a: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Try unless Eat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,   we can conclude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E85-759F-4BCD-AD6C-52FC9EC8F2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6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9:58:27Z</dcterms:modified>
  <cp:revision>133</cp:revision>
  <dc:subject/>
  <dc:title>Concurrency 5</dc:title>
</cp:coreProperties>
</file>