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E8A0-141E-46CC-A98D-CD07D93A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1039-588B-4C1E-AF75-20712051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1D79-EBD2-4B5F-853F-2CD6749C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AC87-67FA-4B98-9C26-9B47D8C6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65B0-49D4-4EC8-9DE9-8031ADB7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E5BA-BCCC-4FBB-AA7B-E5B01B36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660E-7C63-48B0-860C-F4E09CB9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FF7A-0917-4B3D-A833-70431E58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A821-86AC-478A-B937-4FE127F7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08F6-5C2F-4EA5-A887-8DFBADD8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43D9-3D0D-44C6-95C8-60EBF7B9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261D-718D-4612-A15A-35D5B4F5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190B-5924-40AD-AAE2-3B097BA60E2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6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Progress statements: </a:t>
            </a:r>
            <a:br>
              <a:rPr sz="2800"/>
            </a:b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A tool for verification of probabilistic autom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0240" y="828720"/>
            <a:ext cx="82105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Progress statement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roposed by Lynch and Segala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formal method to analyse probabilistic algorithm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Definition (progress statements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Given sets of states S, T, and a class of adversaries A, we writ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 –A,p-&gt;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f, under any adversary in A, from any state in S, we eventually reach a state in T with probability at least p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Furthermore, we writ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 unless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f, whenever from a state in S we do not reach a state in T, we remain in S (possibly in a different state of S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5053-9B32-4AE9-A101-1333539A256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13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1800" y="136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ome useful properti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f A is history-insensitive ,  S –A,p-&gt; T, and T –A,q-&gt; U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S –A,pq-&gt; U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 and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–A,p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ere p = min{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S –A,1-&gt; S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If A is history-insensitive and   S –A,p-&gt; T   and   S unless T, and p &gt; 0, the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S –A,1-&gt;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988C-FFFA-4456-B7B8-372350DB65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story insensitiv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Definition: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a class of adversaries A is history-insensitive if: for every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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, and for every fragment of execution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, there exists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 such that, for every fragment of execution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,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=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db1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b10d"/>
                </a:solidFill>
                <a:latin typeface="Comic Sans MS"/>
              </a:rPr>
              <a:t>Proposition:</a:t>
            </a:r>
            <a:r>
              <a:rPr b="0" lang="en-US" sz="2800" spc="-1" strike="noStrike">
                <a:solidFill>
                  <a:srgbClr val="0db10d"/>
                </a:solidFill>
                <a:latin typeface="Comic Sans MS"/>
              </a:rPr>
              <a:t> The class of fair adversaries is history-insensitiv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b10d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Proof: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Given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, define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=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. 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Clearly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 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is still fair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3761-5F47-442E-A23F-074A98B605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b1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An example of verification using the progress statements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he example we consider is the randomized  algorithm of Lehmann and Rabin for the dining philosopher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We will show that under a fair adversary scheduler we have deadlock-freedom (and livelock-freedom), i.e. if a philosopher gets hungry, then with probability 1 some philosopher (not necessarily the same) will eventually eat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2515-EA48-4BF9-BC15-18FAEA4EBF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0573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Comic Sans MS"/>
              </a:rPr>
              <a:t>State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acti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008080"/>
                </a:solidFill>
                <a:uFillTx/>
                <a:latin typeface="Comic Sans MS"/>
              </a:rPr>
              <a:t>description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think  or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reminder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2" marL="110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et hungry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flip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ready to tos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W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wait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waiting for first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second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checking second resourc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ping first resourc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eat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pre-critical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exit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critical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 first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 second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rem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move to reminder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09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ning philosophers: the algorith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790560" y="2143080"/>
            <a:ext cx="6810480" cy="2247840"/>
          </a:xfrm>
          <a:prstGeom prst="rect">
            <a:avLst/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86880" y="2874960"/>
            <a:ext cx="1839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37600" y="2806560"/>
            <a:ext cx="114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9507-FD91-4CEB-B716-EE0BB58E48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968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0520"/>
            <a:ext cx="848664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Let us introduce the following global (sets of) state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Try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T={F,W,S,D,P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Eat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C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RT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at least one phil is in T,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ll the others are in T, R or E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Flip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F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Pre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ne phil is in P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Good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rocess is in a ‘’good state’’, i.e. in {W,S}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ile his second fork </a:t>
            </a: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is not the first fork for the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neighbor (i.e. the neighbor is not committed to </a:t>
            </a: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We want to show that  Try –A,1-&gt; Eat   for A = fair adv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DFC5-20E5-4446-AE5F-0BB52A7865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We can prove that, for the class of fair adversaries A (omitted in the following notation)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ry  -1-&gt;  RT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T  -1-&gt;  Flip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lip  -1/2-&gt; 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Good  -1/4-&gt; 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e  -1-&gt; 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Using the properties of progress statements we deriv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-1/8-&gt;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ince we also have  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unless Eat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,   we can conclud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6EC1-3A78-4381-958F-523D999CC89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6T09:58:27Z</dcterms:modified>
  <cp:revision>133</cp:revision>
  <dc:subject/>
  <dc:title>Concurrency 5</dc:title>
</cp:coreProperties>
</file>