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811-70B9-412A-90FB-57EF354F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5F4-A3D5-4677-8551-1C781387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323-C1DA-4E8D-84CC-93F05D7B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3BF-5833-447C-85D5-2C9A1B17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172-99E3-4585-AABE-4974A734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592-E96A-45DE-9AB6-76D3167A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8CE-99C8-4A97-B070-D0ADCF06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27B-4E07-4DAE-B51F-158E15C1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E55-435B-4222-B677-8C772FB9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4C9-4D0F-4AFC-BA3B-1FBFA672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DA6-323D-482A-9B4D-B923B8A4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8D5-DECE-4523-A7CD-69D74EB9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1733-8DE8-4B94-A784-CC18A2B91D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5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asics of Measure Theory and Probability Theory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asics of Measure Theory and Continuous Probability The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1520" y="90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ntinuous probabilistic spaces: the need for Measure Theor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ome introductory example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inite sequence of coin tossing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ction, complementation, union and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count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pt of c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easurable spac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as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 generated by a bas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bability measu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onotonicity and continuit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Prakash Panangaden, Stochastic techniques in Concurrency. Lect notes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ction 2.1. and 2.4 (till page 16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694-DB3E-486C-8188-BA8399C1B0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812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Nondeterministic choice and probabilistic choic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Definition of probabilistic automata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adversary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execu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measurable space and the probability measure associated to the execution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example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. Modeling and Verification of Randomized Distributed Re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ime Systems . PhD thesis, Laboratory for Computer Science, Massachusetts Institute of Technology, June 1995. Available as Technical Report MIT/LCS/TR-676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 and Nancy Lynch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Probabilistic simulations for probabilistic processes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Nordic Journal of Computing, 2(2):250--273, 1995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An extended abstract appeared in the Proceedings of CONCUR '94,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LNCS 836: 22--25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488-356D-46BE-BF76-C9F1F57D3D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0:00:13Z</dcterms:modified>
  <cp:revision>126</cp:revision>
  <dc:subject/>
  <dc:title>Concurrency 5</dc:title>
</cp:coreProperties>
</file>