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2E2A-F499-4786-866B-E88917EA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6826-8015-4C69-B99C-B7CFDDBE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F288-1639-44A6-8955-F588D3B2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BAC2-12F7-4179-B18B-32C64560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41C-1092-4A78-AEBD-54471067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55D9-9303-41FC-B643-344A0684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414-D519-4FF7-92FD-FE20B3C2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61E9-DFE4-47F4-A987-4DCEFD7E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8F6D-9B63-42FE-8D05-14E0320B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2DA7-2678-4681-990F-6D1376C3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A54F-FD8C-4571-9825-D9AC2A16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CF3-C9FC-4549-B2E2-7BB853EC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BB63-603C-4E34-BBD1-15DE57693FE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5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asics of Measure Theory and Probability Theory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Basics of Measure Theory and Continuous Probability The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1520" y="905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ntinuous probabilistic spaces: the need for Measure Theor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ome introductory examples: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finite sequence of coin tossing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section, complementation, union and countable un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 count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cept of c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easurable spac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Base,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-field generated by a bas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xamples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bability measure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Monotonicity and continuity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Prakash Panangaden, Stochastic techniques in Concurrency. Lect notes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ction 2.1. and 2.4 (till page 16)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279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08D-0B91-49FA-B7C7-17DC16C3FC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Probabilistic Autom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8120" y="126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Nondeterministic choice and probabilistic choice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Definition of probabilistic automata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adversary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Concept of execution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measurable space and the probability measure associated to the execution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Some examples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. Modeling and Verification of Randomized Distributed Real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Time Systems . PhD thesis, Laboratory for Computer Science, Massachusetts Institute of Technology, June 1995. Available as Technical Report MIT/LCS/TR-676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Roberto Segala and Nancy Lynch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Probabilistic simulations for probabilistic processes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Nordic Journal of Computing, 2(2):250--273, 1995.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An extended abstract appeared in the Proceedings of CONCUR '94,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Comic Sans MS"/>
              </a:rPr>
              <a:t>LNCS 836: 22--25. 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59A7-7018-41C2-9B8D-CB9BAD7333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2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6T00:00:13Z</dcterms:modified>
  <cp:revision>126</cp:revision>
  <dc:subject/>
  <dc:title>Concurrency 5</dc:title>
</cp:coreProperties>
</file>