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FC9-588E-4B35-BE9D-DB248D58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990-CC93-4436-9862-B8E2111A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663-2023-481F-BB52-56758DD6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6E3-2275-4714-81FC-11507F0E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86E-9EF0-433E-86B7-964A3BAA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686-CD45-4E03-A42A-C3EC9F2A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68D-0CC7-4084-82A5-D808A831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460-2CF7-41C8-9113-3CC54580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A1C-71CB-40A0-BC07-20DC7796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ACB-FB27-468D-A5B4-314B5894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232-C002-4722-A02E-A34C1F75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7B6-4A3B-4526-9159-2A16727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772F-C1FD-47BE-A095-1879A001A5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5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asics of Measure Theory and Probability Theory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asics of Measure Theory and Continuous Probability The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152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ntinuous probabilistic spaces: the need for Measure Theor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ome introductory example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inite sequence of coin tossing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ction, complementation, union and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count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pt of c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asurable spac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as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 generated by a bas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bability measu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onotonicity and continuit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Prakash Panangaden, Stochastic techniques in Concurrency. Lect notes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ction 2.1. and 2.4 (till page 16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170-F262-4967-8A82-8453865659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812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Nondeterministic choice and probabilistic choic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Definition of probabilistic automata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adversary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execu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measurable space and the probability measure associated to the execution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example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. Modeling and Verification of Randomized Distributed Re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ime Systems . PhD thesis, Laboratory for Computer Science, Massachusetts Institute of Technology, June 1995. Available as Technical Report MIT/LCS/TR-676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 and Nancy Lynch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Probabilistic simulations for probabilistic processes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Nordic Journal of Computing, 2(2):250--273, 1995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An extended abstract appeared in the Proceedings of CONCUR '94,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LNCS 836: 22--25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8B1-B6EB-4B4B-BA69-6DD017037E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0:00:13Z</dcterms:modified>
  <cp:revision>126</cp:revision>
  <dc:subject/>
  <dc:title>Concurrency 5</dc:title>
</cp:coreProperties>
</file>