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F28-B8EC-43C4-A572-21BDF1FF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0F8-64B0-4347-8FDA-F371E0EF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BBA-C6DF-4FD4-AF55-C971CBF7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182-124E-44B4-AEB4-4F7DD434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624-BD6E-480B-817B-BB1BE7BE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2E7-E410-4C18-90A6-4B1E46C3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69E-8400-4468-8CD8-A804E4B0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AFC-A0E0-4435-8EFB-E58DFC56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68F-E7E9-4E99-B333-933E3363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B82-8D65-4294-B755-E6148C8F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241-2242-4491-AF0D-49C18F10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1F9-B00F-4DE2-AB2B-544BC1F7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DEC5-2542-4343-8D82-CAB48BB3EE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4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lems in distributed systems for which 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only randomized solutions ex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of the algorit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ssumption: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&gt; max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prof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{time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2-3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(M,prof)}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if a committee is enabled then a professor will eventually attend a meeting with probability 1 (W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993366"/>
                </a:solidFill>
                <a:latin typeface="Comic Sans MS"/>
              </a:rPr>
              <a:t> if a professor’s transition from thinking to waiting does not depend on the random draws performed by other professors, then a committee meeting which is enabled infinitely often will eventually be established (SIF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79F-98F4-4370-A20C-335128DB0C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ortance of the assumption o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ssumption 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is an assumption about the degree of synchronism (in the sense of cooperation) of the system. In Distributed Algorithms there are three models of cooperation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Partially 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Comic Sans MS"/>
              </a:rPr>
              <a:t>Synchronous (lockste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is assumption corresponds to (2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Hence this algorithm would not be suitable for implementing the synchronization mechanism of CSP or CCS in a fully distributed setting, since we need an asynchronous cooperation model.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D07-62C1-40CA-AA78-6BE29A35F4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11520" y="1344600"/>
            <a:ext cx="276120" cy="28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37160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770280"/>
            <a:ext cx="446040" cy="22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22400" y="3405240"/>
            <a:ext cx="614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16080" y="3432240"/>
            <a:ext cx="854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03480" y="4052520"/>
            <a:ext cx="888840" cy="19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2543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1700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4922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4560" y="222552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66920" y="140652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456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1970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225900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6280" y="22701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27320" y="121932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6160" y="1714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9720" y="1701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3160" y="2359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7680" y="226224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17800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57680" y="150012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87480" y="22334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9840" y="141444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8748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48040" y="22050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9160" y="22669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41680" y="230652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0240" y="122724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50160" y="17226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9300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26080" y="23670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0680" y="2249640"/>
            <a:ext cx="1094040" cy="7045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8840" y="2165400"/>
            <a:ext cx="1216080" cy="7808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0680" y="148752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30840" y="2220840"/>
            <a:ext cx="13680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53200" y="1401840"/>
            <a:ext cx="168480" cy="141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30840" y="219240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1400" y="219240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9760" y="22543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22654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0" y="12142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92440" y="1709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7800" y="1697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68720" y="235440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6200" y="2251080"/>
            <a:ext cx="109404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24360" y="21668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6200" y="1488960"/>
            <a:ext cx="109404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22264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8720" y="140328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76920" y="21938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27400" y="225576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37160" y="22766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00560" y="1216080"/>
            <a:ext cx="257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77960" y="1711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1880" y="1698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6760" y="23558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66960" y="310824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96760" y="3841920"/>
            <a:ext cx="13680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19120" y="3022560"/>
            <a:ext cx="16848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6760" y="381312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7320" y="381312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5960" y="38750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8840" y="38955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9520" y="283536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360" y="33307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2280" y="331776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4640" y="397512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9880" y="31161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0040" y="384984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2400" y="303048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382104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0600" y="38210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9240" y="392112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390384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22800" y="2843280"/>
            <a:ext cx="258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2360" y="33386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452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7920" y="39830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53240" y="310356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83400" y="3836880"/>
            <a:ext cx="136440" cy="11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05760" y="3017880"/>
            <a:ext cx="16812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3400" y="3808440"/>
            <a:ext cx="169920" cy="139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3960" y="380844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32600" y="388944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37600" y="390996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5800" y="283068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45000" y="33256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90360" y="33130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21280" y="397044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38760" y="3105000"/>
            <a:ext cx="1093680" cy="789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8920" y="3838680"/>
            <a:ext cx="136440" cy="11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1280" y="3019320"/>
            <a:ext cx="16812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68920" y="3809880"/>
            <a:ext cx="16992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29480" y="3809880"/>
            <a:ext cx="169560" cy="1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9960" y="3890880"/>
            <a:ext cx="979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70640" y="3892680"/>
            <a:ext cx="98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1320" y="2832120"/>
            <a:ext cx="25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mic Sans MS"/>
              </a:rPr>
              <a:t>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30520" y="33274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74080" y="3314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07520" y="3971880"/>
            <a:ext cx="969120" cy="26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96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 of Joung and Smolka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livelock in absence of the assumption 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966960" y="387036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4760" y="378612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9880" y="38782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48040" y="37940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53240" y="386568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91400" y="378144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38760" y="3867120"/>
            <a:ext cx="1093680" cy="7048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782880"/>
            <a:ext cx="1216080" cy="7812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73880" y="138276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78640" y="1401840"/>
            <a:ext cx="27612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297324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87840" y="2992320"/>
            <a:ext cx="27612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9260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5240" y="2973240"/>
            <a:ext cx="276480" cy="27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7120" y="4797360"/>
            <a:ext cx="8747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s 3, 5 and  6 are represented with  a filled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The states at the beginning of Line 1, 2 and 8 are represented with a white cir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mic Sans MS"/>
              </a:rPr>
              <a:t>Lines 4 and 7 are never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F17-7F6E-49A0-A4A1-687BF44539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)  The dining philosop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432080"/>
            <a:ext cx="8339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philosopher needs exactly two f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Each fork is shared by exactly two philoso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philosopher can access only one fork at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200" y="1684440"/>
            <a:ext cx="82008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27400" y="3592440"/>
            <a:ext cx="206064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200" y="3919680"/>
            <a:ext cx="4478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27400" y="3919680"/>
            <a:ext cx="44604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71960" y="5335560"/>
            <a:ext cx="447480" cy="40788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543640" y="5041800"/>
            <a:ext cx="0" cy="3384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9640" y="5032440"/>
            <a:ext cx="96840" cy="22680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024360" y="510192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59200" y="5079960"/>
            <a:ext cx="9684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253040" y="3133440"/>
            <a:ext cx="0" cy="33804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00480" y="3124080"/>
            <a:ext cx="95400" cy="227160"/>
          </a:xfrm>
          <a:custGeom>
            <a:avLst/>
            <a:gdLst/>
            <a:ahLst/>
            <a:rect l="l" t="t" r="r" b="b"/>
            <a:pathLst>
              <a:path w="91" h="219">
                <a:moveTo>
                  <a:pt x="88" y="10"/>
                </a:moveTo>
                <a:cubicBezTo>
                  <a:pt x="89" y="87"/>
                  <a:pt x="91" y="165"/>
                  <a:pt x="78" y="192"/>
                </a:cubicBezTo>
                <a:cubicBezTo>
                  <a:pt x="65" y="219"/>
                  <a:pt x="22" y="205"/>
                  <a:pt x="11" y="173"/>
                </a:cubicBezTo>
                <a:cubicBezTo>
                  <a:pt x="0" y="141"/>
                  <a:pt x="11" y="26"/>
                  <a:pt x="11" y="0"/>
                </a:cubicBezTo>
              </a:path>
            </a:pathLst>
          </a:cu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44816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1073600">
            <a:off x="4241520" y="4545720"/>
            <a:ext cx="261720" cy="1112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4467600">
            <a:off x="4180320" y="459792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8067200">
            <a:off x="411228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3974600">
            <a:off x="4168440" y="4399920"/>
            <a:ext cx="2588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4586400"/>
            <a:ext cx="261720" cy="10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1073600">
            <a:off x="4140000" y="4601880"/>
            <a:ext cx="261720" cy="1108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4467600">
            <a:off x="4067640" y="4520160"/>
            <a:ext cx="25704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8067200">
            <a:off x="4062960" y="4486680"/>
            <a:ext cx="257400" cy="112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3974600">
            <a:off x="4046400" y="4597200"/>
            <a:ext cx="257040" cy="1141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7720" y="4336920"/>
            <a:ext cx="528840" cy="5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31A-A164-4E39-88FA-A55EF387D3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280" y="1047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Deadlock freedom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aka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 progress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if there is a hungry philosopher, a philosopher will eventually eat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Starvation freedo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every hungry philosopher will eventually eat (but we won’t consider this property here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Robustness wrt a large class of adversaries: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Adversaries decide who does the next move (schedulers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Fully distributed: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 no centralized control or memory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mic Sans MS"/>
              </a:rPr>
              <a:t>Symmetric: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All philosophers run the same code and are in the same initial stat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The same holds for the fork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395280"/>
            <a:ext cx="8256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18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nded properties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7F0-20D8-4B08-B8D7-9FF927EF51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63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existence of a “deterministic”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Lehman and Rabin have shown that there does not exist a “deterministic” (i.e. non-probabilistic) solution to the dining philosophers, satisfying all properties listed in previous slide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e proof proceeds by proving that for every possible program we can define an adversary (scheduler) which preserves the initial symmetr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  Francez and Rodeh did propose a  “deterministic” solution using CSP. The solution to this apparent contradiction is that CSP cannot be implemented in a fully distributed way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A42-D80D-4C29-94F8-62F73D29F6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Lehmann and Rab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596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Think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andomly choose fork in {left,right}   %commi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fork) then goto 3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if taken(other(fork)) then {release(fork); goto 2}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lse tak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eat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other(fork)) 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release(fork)</a:t>
            </a:r>
            <a:endParaRPr b="0" lang="en-US" sz="2500" spc="-1" strike="noStrike">
              <a:solidFill>
                <a:srgbClr val="3333ff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Comic Sans MS"/>
              </a:rPr>
              <a:t>goto</a:t>
            </a:r>
            <a:r>
              <a:rPr b="0" lang="en-US" sz="29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F61-C2DF-4392-B6EB-0E94B1D3AE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5160" y="279000"/>
            <a:ext cx="86518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ctness of the algorithm of Lehmann and Rab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1120" y="2238480"/>
            <a:ext cx="82630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orem: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ai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adversary, if a philosopher becomes hungry, then a philosopher (not necessarily the same) will eventually eat with probability 1.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why the fairness requirement? Can we write a variant of the algorithm which does not require fairness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4E5-3717-4720-90DE-D68DADC9FF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 The committee coordination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escription of the problem: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In a certain university, professors have organized themselves into committees. Each committee has a fixed membership roster of two or more professors. From time to time a professor may decide to attend a committee meeting. He then starts waiting and continues to wait until a  meeting of a committee in which he is member is established.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Mutual exclusion:</a:t>
            </a: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 No two committees meet simultaneously if they have a common membe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Weak Interaction Fairness (WIF) :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if all professors of a committee are waiting (i.e. the committee meeting is enabled) , then eventually some professor will attend a committee meeting (not necessarily the same).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Strong Interaction Fairness (SIF)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 A committee meetig that is enabled infinitely often will be established infinitely often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831-7261-46DC-B0C7-DA4077DDE0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mmittee coordination 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 for which requirement among WIF and SIF do we have a correspondence with the synchronization mechanisms used in process calculi, like (the theory of) CSP and </a:t>
            </a:r>
            <a:r>
              <a:rPr b="0" lang="en-US" sz="2400" spc="-1" strike="noStrike">
                <a:solidFill>
                  <a:srgbClr val="99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General case equivalent to </a:t>
            </a: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multiway synchronization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, like the mechanism used in (the Theory of) CSP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Binary case equivalent to the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synchronization among two partner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, like in CCS and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AFF-23AF-459A-A02D-9AF4D59728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lgorithm of Joung and Smolk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4120" y="1547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waiting do {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randomly choose a committee M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inc,inc) = n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– 1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lse { wait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time ;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 TEST&amp;OP(C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,no-op,dec) = 0 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hen % a committee meeting is establish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ttend the meeting M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% else try another committee    }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A6A-7CC0-436B-AE1A-B2D8793554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1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5T22:10:50Z</dcterms:modified>
  <cp:revision>121</cp:revision>
  <dc:subject/>
  <dc:title>Concurrency 5</dc:title>
</cp:coreProperties>
</file>