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push.wav" ContentType="audio/x-wav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1.png" ContentType="image/png"/>
  <Override PartName="/ppt/media/image24.png" ContentType="image/png"/>
  <Override PartName="/ppt/media/image8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6EE-EF4B-45B6-9461-020CB7F3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A19-2B05-4A8C-A4E9-9DBA0D7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5B8-C772-4BEB-9648-2A06341A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80C-CF12-42D0-80CA-CEEBCB90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C5B-8316-4809-9CA3-32BFF810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4B6-D043-40B1-8C7B-E0B13216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B5D-C9C5-484B-9084-795CD77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557-A17C-4F2B-805B-0107B8A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DA2-7459-46E8-92CE-31B154AF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913-2290-4EFF-A7C7-54CB192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55D-0117-4266-8721-ABD7536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12B-957A-4F1D-99E7-EE54D37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79F-3690-42F6-A316-AB4ED49396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x.polytechnique.fr/~catuscia/teaching/Pis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.cam.ac.uk/users/rm135/" TargetMode="External"/><Relationship Id="rId2" Type="http://schemas.openxmlformats.org/officeDocument/2006/relationships/hyperlink" Target="http://www.cis.upenn.edu/%7Ebcpierce/" TargetMode="External"/><Relationship Id="rId3" Type="http://schemas.openxmlformats.org/officeDocument/2006/relationships/hyperlink" Target="http://www.cis.upenn.edu/%7Ebcpierce/papers/crchandbook.ps" TargetMode="External"/><Relationship Id="rId4" Type="http://schemas.openxmlformats.org/officeDocument/2006/relationships/image" Target="../media/image1.png"/><Relationship Id="rId5" Type="http://schemas.openxmlformats.org/officeDocument/2006/relationships/hyperlink" Target="file:///../../papers_and_books/intro.ps" TargetMode="External"/><Relationship Id="rId6" Type="http://schemas.openxmlformats.org/officeDocument/2006/relationships/hyperlink" Target="file:///../../papers_and_books/BRICS-RS-99-42.ps" TargetMode="External"/><Relationship Id="rId7" Type="http://schemas.openxmlformats.org/officeDocument/2006/relationships/hyperlink" Target="file:///../../papers_and_books/BRICS-RS-99-42.ps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" y="932040"/>
            <a:ext cx="86421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current Languages for Probabilistic Asynchronous Communicat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3760" y="2776680"/>
            <a:ext cx="73152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Lecture 1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pi-calculus and the asynchronous pi-calculus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NRIA Futurs &amp; LIX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ranc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Names: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ee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oun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cc00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Input and restriction are bind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Exercise: give the formal definition of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lpha convers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ample: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4640" y="1662120"/>
            <a:ext cx="687240" cy="291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152800" y="2392200"/>
            <a:ext cx="649080" cy="23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114640" y="2046240"/>
            <a:ext cx="666720" cy="2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570640" y="3006720"/>
            <a:ext cx="2012760" cy="23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459160" y="3621240"/>
            <a:ext cx="4046400" cy="23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576440" y="4159080"/>
            <a:ext cx="4981680" cy="24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382840" y="5079960"/>
            <a:ext cx="410688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421000" y="5656320"/>
            <a:ext cx="1984320" cy="21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000-0F31-4A77-BEAE-B4F37A1E17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tructural equival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Introduced to simplify the  description of the operational semantic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mr10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then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!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presentations include other equivalences, for instance: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0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,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 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,    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mmi1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sy10"/>
              </a:rPr>
              <a:t>´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(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|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Q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if  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fn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333399"/>
                </a:solidFill>
                <a:latin typeface="cmmi10"/>
              </a:rPr>
              <a:t>P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)    </a:t>
            </a: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(scope extrusion)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F2A-6B35-49B1-A9B5-976D2FBB38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us: operational seman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operational semantics of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 is defined as a labeled transition system. Transitions have the form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Here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P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and  </a:t>
            </a:r>
            <a:r>
              <a:rPr b="0" i="1" lang="en-US" sz="1600" spc="-1" strike="noStrike">
                <a:solidFill>
                  <a:srgbClr val="3333ff"/>
                </a:solidFill>
                <a:latin typeface="cmr10"/>
              </a:rPr>
              <a:t>Q 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are processes and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is an action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re are various operational semantics for the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. We describe here the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late semantics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. Actions are defined as follows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27440" y="2276640"/>
            <a:ext cx="887400" cy="28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75080" y="4081320"/>
            <a:ext cx="384804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1F3-2942-4A18-B5BB-E6E723ED77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late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6000" y="1623960"/>
            <a:ext cx="3162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02080" y="2046240"/>
            <a:ext cx="2560680" cy="292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98120" y="5388120"/>
            <a:ext cx="68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uestions:  1) Why the side condition in Pa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2) Could we write x(z) in L-Com and avoid the substitut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70040" y="2698920"/>
            <a:ext cx="3956040" cy="23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3D9-AB6B-45A5-BAE4-2EF73586BA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us: early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59160" y="2162160"/>
            <a:ext cx="3162240" cy="59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24320" y="2890800"/>
            <a:ext cx="2560680" cy="292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960" y="2928960"/>
            <a:ext cx="4019400" cy="288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54120" y="135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480" y="1009800"/>
            <a:ext cx="415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New kind of action: free input x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dd E-input and replace L-Com by E-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91C-9F86-453E-97E2-68DB20D6B9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late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046240"/>
            <a:ext cx="820908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FF7-05FE-4858-9847-FA39509357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us: early bisimul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77880" y="1522440"/>
            <a:ext cx="773892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806-712B-4195-B1D7-A48906C804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te vs early bisim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Late bisimulation is strictly more discriminating than early bisimulation.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68320" y="2430360"/>
            <a:ext cx="4788000" cy="1203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61960" y="4379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Exercise: write a similar example without using the match operator (i.e. the if-then-else). Hint: use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E9D-A4AA-4F08-B0FC-A02E436C46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u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4160" y="3160800"/>
            <a:ext cx="6324480" cy="119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16000" y="1739880"/>
            <a:ext cx="6107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are 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congru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25360" y="244152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o.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697280"/>
            <a:ext cx="75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re are other equivalences which are defined to be congruences.  In particular  Open bisim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fr. lecture by 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1F9-FD5E-4F35-A19C-29F1906EA9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592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If P | Q is interpreted as the composition of two remote processes P and Q, then the mechanism of synchronous communication seems un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Synchronization combined with choice seems even less realistic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In a distributed system, communication is asynchronous  (exchange of messages). The send takes place independently of the readiness of a receiver, and it is not blocking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asynchnous </a:t>
            </a:r>
            <a:r>
              <a:rPr b="0" lang="en-US" sz="1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-calculus: A calculus for representing asynchnous communication. It was introduced independently by Honda-Tokoro [1991] and by Boudol [1992]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21040" y="1969920"/>
            <a:ext cx="2496960" cy="255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38280" y="2727720"/>
            <a:ext cx="5146200" cy="1048680"/>
            <a:chOff x="1538280" y="2727720"/>
            <a:chExt cx="5146200" cy="1048680"/>
          </a:xfrm>
        </p:grpSpPr>
        <p:grpSp>
          <p:nvGrpSpPr>
            <p:cNvPr id="196" name=""/>
            <p:cNvGrpSpPr/>
            <p:nvPr/>
          </p:nvGrpSpPr>
          <p:grpSpPr>
            <a:xfrm>
              <a:off x="1538280" y="2727720"/>
              <a:ext cx="5146200" cy="1048680"/>
              <a:chOff x="1538280" y="2727720"/>
              <a:chExt cx="5146200" cy="1048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16400" y="2727720"/>
                <a:ext cx="657720" cy="491400"/>
                <a:chOff x="5216400" y="2727720"/>
                <a:chExt cx="657720" cy="491400"/>
              </a:xfrm>
            </p:grpSpPr>
            <p:sp>
              <p:nvSpPr>
                <p:cNvPr id="198" name=""/>
                <p:cNvSpPr/>
                <p:nvPr/>
              </p:nvSpPr>
              <p:spPr>
                <a:xfrm flipV="1">
                  <a:off x="5216400" y="3062880"/>
                  <a:ext cx="65772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0797800">
                  <a:off x="5425200" y="2754000"/>
                  <a:ext cx="26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538280" y="2913120"/>
                <a:ext cx="5146200" cy="863280"/>
                <a:chOff x="1538280" y="2913120"/>
                <a:chExt cx="5146200" cy="8632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38280" y="3201480"/>
                  <a:ext cx="348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" name=""/>
                <p:cNvGrpSpPr/>
                <p:nvPr/>
              </p:nvGrpSpPr>
              <p:grpSpPr>
                <a:xfrm>
                  <a:off x="5216400" y="3139200"/>
                  <a:ext cx="662040" cy="457200"/>
                  <a:chOff x="5216400" y="3139200"/>
                  <a:chExt cx="662040" cy="457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5216400" y="3458160"/>
                    <a:ext cx="662040" cy="13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708600">
                    <a:off x="5517720" y="3162960"/>
                    <a:ext cx="269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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50520" y="2913120"/>
                  <a:ext cx="6339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50520" y="3553920"/>
                  <a:ext cx="62460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1538280" y="3196440"/>
              <a:ext cx="348768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F58-FE0B-405B-AFA7-1EEFBD94D1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125280"/>
            <a:ext cx="791712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ministrativ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3760" y="1201680"/>
            <a:ext cx="802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  <a:ea typeface="Arial"/>
              </a:rPr>
              <a:t>Homepage of the course: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ea typeface="Arial"/>
                <a:hlinkClick r:id="rId1"/>
              </a:rPr>
              <a:t>www.lix.polytechnique.fr/~catuscia/teaching/Pisa/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lid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99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ome copies of the papers/books used as referenc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Exa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Schedule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415200" y="5041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7DA-16B3-453A-98A7-75D6DF4757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synchronou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It differs from the </a:t>
            </a:r>
            <a:r>
              <a:rPr b="1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-calculus for the absence of the output prefix (replaced by output action) and also for the absence of the +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utput 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230480" y="2506680"/>
            <a:ext cx="24476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576440" y="3736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76A-3DED-4C16-AFC9-82D225281B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ynchronous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calculus: O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he operational semantics of the asynchronous 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 are the same as those of the (synchronous) 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-calculus  (</a:t>
            </a:r>
            <a:r>
              <a:rPr b="0" lang="en-US" sz="16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), we only eliminate the rule for + and replace the output rule with the following: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Comic Sans MS"/>
              </a:rPr>
              <a:t>The early and late bisimulations are obtained as usu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interpretation is as follows: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send takes place when the output action is at the top-level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3333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The receive takes place when the output action matches a corresponding input, i.e. when we apply the rule comm or close</a:t>
            </a: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65560" y="2584440"/>
            <a:ext cx="1882800" cy="50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23000" y="4465800"/>
            <a:ext cx="1565280" cy="217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835280" y="5643720"/>
            <a:ext cx="514656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2D9-1913-4F70-91B5-B3C37977B3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of the l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The pi-calculus and the asynch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e pi-calculus hierarchy: encoding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output prefix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Encoding of input guarded choice in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Comic Sans MS"/>
              </a:rPr>
              <a:t>The pi-calculus hierarchy: separation resul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the asynchonous pi-calculu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Comic Sans MS"/>
              </a:rPr>
              <a:t>Separation between the pi-calculus and CCS 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Problems in distributed algorithms for which only randomized solutions exist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Basics of Measure Theory and Probability Theory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Probabilistic Automata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The probabilistic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coding of the pi-calculus into the asynchronous pi-calculus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Other uses of randomization: randomized protocols for anonymity and contract signing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A proof search specification of the pi-calculus (speaker: Dale Miller)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688-B526-460F-87B0-4023D3A1DB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85960" y="1599840"/>
            <a:ext cx="74498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ilner, Parrow, Walker 1989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A concurrent calculus where the communication structure among existing processes can change over time.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mic Sans MS"/>
              </a:rPr>
              <a:t>Link mobility.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21718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8720" y="3467160"/>
            <a:ext cx="1437840" cy="2133720"/>
            <a:chOff x="1998720" y="3467160"/>
            <a:chExt cx="1437840" cy="2133720"/>
          </a:xfrm>
        </p:grpSpPr>
        <p:sp>
          <p:nvSpPr>
            <p:cNvPr id="51" name=""/>
            <p:cNvSpPr/>
            <p:nvPr/>
          </p:nvSpPr>
          <p:spPr>
            <a:xfrm>
              <a:off x="2898720" y="5200920"/>
              <a:ext cx="53784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8720" y="544860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62320" y="5456520"/>
              <a:ext cx="17424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8720" y="5042160"/>
              <a:ext cx="36324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720" y="358308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0240" y="3467160"/>
              <a:ext cx="17424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0240" y="3888000"/>
              <a:ext cx="86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00240" y="39024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41200" y="41054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1960" y="3699000"/>
              <a:ext cx="536400" cy="114624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98720" y="3467160"/>
            <a:ext cx="4962600" cy="2141280"/>
            <a:chOff x="1998720" y="3467160"/>
            <a:chExt cx="4962600" cy="2141280"/>
          </a:xfrm>
        </p:grpSpPr>
        <p:sp>
          <p:nvSpPr>
            <p:cNvPr id="62" name=""/>
            <p:cNvSpPr/>
            <p:nvPr/>
          </p:nvSpPr>
          <p:spPr>
            <a:xfrm>
              <a:off x="4233960" y="520848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3960" y="54561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7560" y="546408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33960" y="504972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8720" y="358272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00240" y="34671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00240" y="388764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0240" y="39020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1560" y="41050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2320" y="3663720"/>
              <a:ext cx="1871640" cy="11890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97720" y="36050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34891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99240" y="3909960"/>
              <a:ext cx="874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99240" y="39243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40560" y="41274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3582720"/>
              <a:ext cx="4235400" cy="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89000" y="3479760"/>
            <a:ext cx="4962240" cy="2133360"/>
            <a:chOff x="1989000" y="3479760"/>
            <a:chExt cx="4962240" cy="2133360"/>
          </a:xfrm>
        </p:grpSpPr>
        <p:sp>
          <p:nvSpPr>
            <p:cNvPr id="79" name=""/>
            <p:cNvSpPr/>
            <p:nvPr/>
          </p:nvSpPr>
          <p:spPr>
            <a:xfrm>
              <a:off x="4887720" y="5213160"/>
              <a:ext cx="538200" cy="247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87720" y="546084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1320" y="5468760"/>
              <a:ext cx="17460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87720" y="5054400"/>
              <a:ext cx="363600" cy="15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9000" y="3595320"/>
              <a:ext cx="36324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520" y="3479760"/>
              <a:ext cx="174600" cy="23148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0520" y="390024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0520" y="3914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41176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7640" y="3617640"/>
              <a:ext cx="363600" cy="696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89520" y="3501720"/>
              <a:ext cx="174600" cy="231840"/>
            </a:xfrm>
            <a:prstGeom prst="su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9520" y="3922560"/>
              <a:ext cx="871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520" y="393696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840" y="41400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66880" y="3710880"/>
              <a:ext cx="1263960" cy="114156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882880" y="4772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17960" y="3583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36D-6B3F-46CA-8C4F-8837A878DE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7"/>
            <a:endCxn id="10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04" name=""/>
          <p:cNvCxnSpPr>
            <a:stCxn id="101" idx="5"/>
            <a:endCxn id="10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66640" y="554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8D6-7F2A-4D39-8FF2-49DFDF4C84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115" idx="0"/>
            <a:endCxn id="116" idx="2"/>
          </p:cNvCxnSpPr>
          <p:nvPr/>
        </p:nvCxnSpPr>
        <p:spPr>
          <a:xfrm flipH="1" flipV="1" rot="5400000">
            <a:off x="3352320" y="4214160"/>
            <a:ext cx="986760" cy="102780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88680" y="407196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5" idx="7"/>
            <a:endCxn id="116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20" name=""/>
          <p:cNvCxnSpPr>
            <a:stCxn id="116" idx="5"/>
            <a:endCxn id="118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33920" y="5310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5003640"/>
            <a:ext cx="1439640" cy="1189080"/>
          </a:xfrm>
          <a:custGeom>
            <a:avLst/>
            <a:gdLst/>
            <a:ahLst/>
            <a:rect l="l" t="t" r="r" b="b"/>
            <a:pathLst>
              <a:path w="907" h="749">
                <a:moveTo>
                  <a:pt x="129" y="556"/>
                </a:moveTo>
                <a:cubicBezTo>
                  <a:pt x="72" y="467"/>
                  <a:pt x="0" y="282"/>
                  <a:pt x="32" y="193"/>
                </a:cubicBezTo>
                <a:cubicBezTo>
                  <a:pt x="64" y="104"/>
                  <a:pt x="217" y="48"/>
                  <a:pt x="322" y="24"/>
                </a:cubicBezTo>
                <a:cubicBezTo>
                  <a:pt x="427" y="0"/>
                  <a:pt x="576" y="12"/>
                  <a:pt x="661" y="48"/>
                </a:cubicBezTo>
                <a:cubicBezTo>
                  <a:pt x="746" y="84"/>
                  <a:pt x="794" y="168"/>
                  <a:pt x="830" y="241"/>
                </a:cubicBezTo>
                <a:cubicBezTo>
                  <a:pt x="866" y="314"/>
                  <a:pt x="907" y="406"/>
                  <a:pt x="879" y="483"/>
                </a:cubicBezTo>
                <a:cubicBezTo>
                  <a:pt x="851" y="560"/>
                  <a:pt x="746" y="661"/>
                  <a:pt x="661" y="701"/>
                </a:cubicBezTo>
                <a:cubicBezTo>
                  <a:pt x="576" y="741"/>
                  <a:pt x="460" y="749"/>
                  <a:pt x="371" y="725"/>
                </a:cubicBezTo>
                <a:cubicBezTo>
                  <a:pt x="282" y="701"/>
                  <a:pt x="186" y="645"/>
                  <a:pt x="129" y="556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621-1CEF-4409-9F1F-621939DA87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lculus: scope extrus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4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private channel name can be communicated and its scope can be extended to include the recipien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Channel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the name can be used to communicat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Privacy: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no one else can interfe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n example of link mobility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868200" y="47354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4920" y="47354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7"/>
          </p:cNvCxnSpPr>
          <p:nvPr/>
        </p:nvCxnSpPr>
        <p:spPr>
          <a:xfrm>
            <a:off x="4635000" y="4235400"/>
            <a:ext cx="1019880" cy="1023120"/>
          </a:xfrm>
          <a:prstGeom prst="curvedConnector2">
            <a:avLst/>
          </a:prstGeom>
          <a:ln w="28440">
            <a:solidFill>
              <a:srgbClr val="990033"/>
            </a:solidFill>
            <a:prstDash val="dash"/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5384160" y="42242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3471480" y="5344920"/>
            <a:ext cx="1948320" cy="1080"/>
          </a:xfrm>
          <a:prstGeom prst="straightConnector1">
            <a:avLst/>
          </a:prstGeom>
          <a:ln w="28440">
            <a:solidFill>
              <a:srgbClr val="990033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4369680" y="53452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9392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9240" y="4111560"/>
            <a:ext cx="276120" cy="247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8000" y="5221440"/>
            <a:ext cx="276480" cy="24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7"/>
            <a:endCxn id="131" idx="3"/>
          </p:cNvCxnSpPr>
          <p:nvPr/>
        </p:nvCxnSpPr>
        <p:spPr>
          <a:xfrm flipV="1">
            <a:off x="3430440" y="4322160"/>
            <a:ext cx="9691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138" name=""/>
          <p:cNvCxnSpPr>
            <a:stCxn id="131" idx="5"/>
            <a:endCxn id="132" idx="1"/>
          </p:cNvCxnSpPr>
          <p:nvPr/>
        </p:nvCxnSpPr>
        <p:spPr>
          <a:xfrm>
            <a:off x="4595400" y="4322520"/>
            <a:ext cx="862920" cy="935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697000" y="51800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42960" y="3662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3920" y="52722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5080" y="3390840"/>
            <a:ext cx="3878280" cy="2573280"/>
          </a:xfrm>
          <a:custGeom>
            <a:avLst/>
            <a:gdLst/>
            <a:ahLst/>
            <a:rect l="l" t="t" r="r" b="b"/>
            <a:pathLst>
              <a:path w="2427" h="1802">
                <a:moveTo>
                  <a:pt x="109" y="1589"/>
                </a:moveTo>
                <a:cubicBezTo>
                  <a:pt x="4" y="1460"/>
                  <a:pt x="0" y="1185"/>
                  <a:pt x="36" y="1008"/>
                </a:cubicBezTo>
                <a:cubicBezTo>
                  <a:pt x="72" y="831"/>
                  <a:pt x="201" y="665"/>
                  <a:pt x="326" y="524"/>
                </a:cubicBezTo>
                <a:cubicBezTo>
                  <a:pt x="451" y="383"/>
                  <a:pt x="609" y="246"/>
                  <a:pt x="786" y="161"/>
                </a:cubicBezTo>
                <a:cubicBezTo>
                  <a:pt x="963" y="76"/>
                  <a:pt x="1210" y="0"/>
                  <a:pt x="1391" y="16"/>
                </a:cubicBezTo>
                <a:cubicBezTo>
                  <a:pt x="1572" y="32"/>
                  <a:pt x="1742" y="153"/>
                  <a:pt x="1875" y="258"/>
                </a:cubicBezTo>
                <a:cubicBezTo>
                  <a:pt x="2008" y="363"/>
                  <a:pt x="2112" y="484"/>
                  <a:pt x="2189" y="645"/>
                </a:cubicBezTo>
                <a:cubicBezTo>
                  <a:pt x="2266" y="806"/>
                  <a:pt x="2322" y="1061"/>
                  <a:pt x="2334" y="1226"/>
                </a:cubicBezTo>
                <a:cubicBezTo>
                  <a:pt x="2346" y="1391"/>
                  <a:pt x="2427" y="1552"/>
                  <a:pt x="2262" y="1637"/>
                </a:cubicBezTo>
                <a:cubicBezTo>
                  <a:pt x="2097" y="1722"/>
                  <a:pt x="1608" y="1710"/>
                  <a:pt x="1342" y="1734"/>
                </a:cubicBezTo>
                <a:cubicBezTo>
                  <a:pt x="1076" y="1758"/>
                  <a:pt x="875" y="1802"/>
                  <a:pt x="665" y="1782"/>
                </a:cubicBezTo>
                <a:cubicBezTo>
                  <a:pt x="455" y="1762"/>
                  <a:pt x="214" y="1718"/>
                  <a:pt x="109" y="1589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46360" y="3473280"/>
            <a:ext cx="2341440" cy="2362320"/>
          </a:xfrm>
          <a:custGeom>
            <a:avLst/>
            <a:gdLst/>
            <a:ahLst/>
            <a:rect l="l" t="t" r="r" b="b"/>
            <a:pathLst>
              <a:path w="1475" h="1488">
                <a:moveTo>
                  <a:pt x="197" y="1472"/>
                </a:moveTo>
                <a:cubicBezTo>
                  <a:pt x="112" y="1456"/>
                  <a:pt x="56" y="1428"/>
                  <a:pt x="28" y="1327"/>
                </a:cubicBezTo>
                <a:cubicBezTo>
                  <a:pt x="0" y="1226"/>
                  <a:pt x="4" y="1012"/>
                  <a:pt x="28" y="867"/>
                </a:cubicBezTo>
                <a:cubicBezTo>
                  <a:pt x="52" y="722"/>
                  <a:pt x="60" y="585"/>
                  <a:pt x="173" y="456"/>
                </a:cubicBezTo>
                <a:cubicBezTo>
                  <a:pt x="286" y="327"/>
                  <a:pt x="540" y="166"/>
                  <a:pt x="705" y="93"/>
                </a:cubicBezTo>
                <a:cubicBezTo>
                  <a:pt x="870" y="20"/>
                  <a:pt x="1048" y="0"/>
                  <a:pt x="1165" y="20"/>
                </a:cubicBezTo>
                <a:cubicBezTo>
                  <a:pt x="1282" y="40"/>
                  <a:pt x="1359" y="129"/>
                  <a:pt x="1407" y="214"/>
                </a:cubicBezTo>
                <a:cubicBezTo>
                  <a:pt x="1455" y="299"/>
                  <a:pt x="1475" y="419"/>
                  <a:pt x="1455" y="528"/>
                </a:cubicBezTo>
                <a:cubicBezTo>
                  <a:pt x="1435" y="637"/>
                  <a:pt x="1379" y="750"/>
                  <a:pt x="1286" y="867"/>
                </a:cubicBezTo>
                <a:cubicBezTo>
                  <a:pt x="1193" y="984"/>
                  <a:pt x="1023" y="1137"/>
                  <a:pt x="898" y="1230"/>
                </a:cubicBezTo>
                <a:cubicBezTo>
                  <a:pt x="773" y="1323"/>
                  <a:pt x="653" y="1380"/>
                  <a:pt x="536" y="1424"/>
                </a:cubicBezTo>
                <a:cubicBezTo>
                  <a:pt x="419" y="1468"/>
                  <a:pt x="282" y="1488"/>
                  <a:pt x="197" y="1472"/>
                </a:cubicBezTo>
                <a:close/>
              </a:path>
            </a:pathLst>
          </a:custGeom>
          <a:noFill/>
          <a:ln w="28440">
            <a:solidFill>
              <a:srgbClr val="cc00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D40-8C5E-49B0-9CE5-175F4E14C4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lculus: some suggested 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188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Robin Milner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ommunicating and mobile systems: the pi-calculu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1999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Benjamin Pierce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Foundational Calculi for Programming Languag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hapter in the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CRC Handbook of Computer Science and Engineering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, 1996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Davide Sangiorgi and David Walker. </a:t>
            </a:r>
            <a:r>
              <a:rPr b="0" i="1" lang="en-US" sz="2000" spc="-1" strike="noStrike">
                <a:solidFill>
                  <a:srgbClr val="006699"/>
                </a:solidFill>
                <a:latin typeface="Comic Sans MS"/>
              </a:rPr>
              <a:t>The pi-calculus. A Theory of Mobile Processes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. Cambridge University Press, 200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Joachim Parrow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An Introduction to the pi-Calculus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. In Handbook of Process Algebra, ed. Bergstra, Ponse, Smolka, pages 479-543, Elsevier 2001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RICS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 RS 99-42</a:t>
            </a: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BB4-5803-4DA6-8F7A-C8E91E1F57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calculus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23960"/>
            <a:ext cx="8410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Similar to CCS with value passing, but values are channel names, and recursion is replaced by replication ( ! )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4" marL="217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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ction prefixes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input, output, silent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x, y are channel nam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ac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refix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um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striction,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eplica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720" y="2584440"/>
            <a:ext cx="316872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22360" y="3774960"/>
            <a:ext cx="230508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BAC-9E45-42DA-977B-7CE6BAB3F4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8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1:44:42Z</dcterms:modified>
  <cp:revision>61</cp:revision>
  <dc:subject/>
  <dc:title>Concurrency 5</dc:title>
</cp:coreProperties>
</file>