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push.wav" ContentType="audio/x-wav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1.png" ContentType="image/png"/>
  <Override PartName="/ppt/media/image24.png" ContentType="image/png"/>
  <Override PartName="/ppt/media/image8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B26-A1BB-4BEA-8747-0F6D725A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D40-1B5D-45FE-B52C-1F487D64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30E-597A-4904-B1A2-78C2CA0A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77C-42C5-4DA6-932F-FBE513A8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7CA-1B18-4320-9B75-1D24FB27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88F-9566-4A9B-A922-3328BBF3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61E-5EA6-4C85-BD44-459BBC8B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FB1-A83E-4AB3-B396-F20B043B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51F-0756-4059-A730-7FCB322B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19D-BB19-4007-A1F0-9047B73E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1ED-6C6A-4F4A-AA01-C47D4367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A2A-37DE-47D4-B25E-02DBCF52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F4E6-4DD4-4A1E-9499-F35121B982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teaching/Pis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.cam.ac.uk/users/rm135/" TargetMode="External"/><Relationship Id="rId2" Type="http://schemas.openxmlformats.org/officeDocument/2006/relationships/hyperlink" Target="http://www.cis.upenn.edu/%7Ebcpierce/" TargetMode="External"/><Relationship Id="rId3" Type="http://schemas.openxmlformats.org/officeDocument/2006/relationships/hyperlink" Target="http://www.cis.upenn.edu/%7Ebcpierce/papers/crchandbook.ps" TargetMode="External"/><Relationship Id="rId4" Type="http://schemas.openxmlformats.org/officeDocument/2006/relationships/image" Target="../media/image1.png"/><Relationship Id="rId5" Type="http://schemas.openxmlformats.org/officeDocument/2006/relationships/hyperlink" Target="file:///../../papers_and_books/intro.ps" TargetMode="External"/><Relationship Id="rId6" Type="http://schemas.openxmlformats.org/officeDocument/2006/relationships/hyperlink" Target="file:///../../papers_and_books/BRICS-RS-99-42.ps" TargetMode="External"/><Relationship Id="rId7" Type="http://schemas.openxmlformats.org/officeDocument/2006/relationships/hyperlink" Target="file:///../../papers_and_books/BRICS-RS-99-42.ps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932040"/>
            <a:ext cx="86421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oncurrent Languages for Probabilistic Asynchronous Communicat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3760" y="277668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Lecture 1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pi-calculus and the asynchronous pi-calculus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&amp;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nc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459160" y="3621240"/>
            <a:ext cx="4046400" cy="23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576440" y="4159080"/>
            <a:ext cx="4981680" cy="246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382840" y="5079960"/>
            <a:ext cx="410688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2421000" y="5656320"/>
            <a:ext cx="19843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170-5DE8-43EF-A30D-ED0848DECC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B20-8527-4281-A861-67CF7271F0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operational semantics of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an actio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re are various operational semantics for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. We describe here the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late semantics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. Actions are defined as follows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27440" y="2276640"/>
            <a:ext cx="887400" cy="28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75080" y="4081320"/>
            <a:ext cx="384804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5CF-30D4-4BC3-968E-780ABFEFA7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46000" y="1623960"/>
            <a:ext cx="31626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02080" y="2046240"/>
            <a:ext cx="256068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98120" y="5388120"/>
            <a:ext cx="68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uestions:  1) Why the side condition in Pa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) Could we write x(z) in L-Com and avoid the substitu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70040" y="2698920"/>
            <a:ext cx="3956040" cy="23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F74-EABD-4BCC-8F7B-E878F951BF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59160" y="2162160"/>
            <a:ext cx="3162240" cy="59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24320" y="2890800"/>
            <a:ext cx="2560680" cy="292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960" y="2928960"/>
            <a:ext cx="4019400" cy="288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4120" y="1355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480" y="1009800"/>
            <a:ext cx="415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New kind of action: free input x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dd E-input and replace L-Com by E-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494-3B4D-4CF8-93A0-3F577E461D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820908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5D0-6C93-49CC-8BF3-5882CF28FC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920-E5CB-4E7A-9D8F-813133205D3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8320" y="2430360"/>
            <a:ext cx="4788000" cy="1203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61960" y="4379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ercise: write a similar example without using the match operator (i.e. the if-then-else). Hint: us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549-0026-4CCE-BA3A-FE4BD1267DB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u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4160" y="3160800"/>
            <a:ext cx="6324480" cy="119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16000" y="1739880"/>
            <a:ext cx="6107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are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congru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5360" y="244152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69728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re are other equivalences which are defined to be congruences.  In particular  Open bisim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fr. lecture by 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EB8-9388-43E8-B898-1803FEEC75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592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f P | Q is interpreted as the composition of two remote processes P and Q, then the mechanism of synchronous communication seems un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Synchronization combined with choice seems even less 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In a distributed system, communication is asynchronous  (exchange of messages). The send takes place independently of the readiness of a receiver, and it is not blocking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asynchnous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: A calculus for representing asynchnous communication. It was introduced independently by Honda-Tokoro [1991] and by Boudol [1992]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21040" y="1969920"/>
            <a:ext cx="2496960" cy="255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38280" y="2727720"/>
            <a:ext cx="5146200" cy="1048680"/>
            <a:chOff x="1538280" y="2727720"/>
            <a:chExt cx="5146200" cy="1048680"/>
          </a:xfrm>
        </p:grpSpPr>
        <p:grpSp>
          <p:nvGrpSpPr>
            <p:cNvPr id="196" name=""/>
            <p:cNvGrpSpPr/>
            <p:nvPr/>
          </p:nvGrpSpPr>
          <p:grpSpPr>
            <a:xfrm>
              <a:off x="1538280" y="2727720"/>
              <a:ext cx="5146200" cy="1048680"/>
              <a:chOff x="1538280" y="2727720"/>
              <a:chExt cx="5146200" cy="1048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16400" y="2727720"/>
                <a:ext cx="657720" cy="491400"/>
                <a:chOff x="5216400" y="2727720"/>
                <a:chExt cx="657720" cy="49140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216400" y="3062880"/>
                  <a:ext cx="65772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797800">
                  <a:off x="5425200" y="2754000"/>
                  <a:ext cx="26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38280" y="2913120"/>
                <a:ext cx="5146200" cy="863280"/>
                <a:chOff x="1538280" y="2913120"/>
                <a:chExt cx="5146200" cy="86328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8280" y="3201480"/>
                  <a:ext cx="348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" name=""/>
                <p:cNvGrpSpPr/>
                <p:nvPr/>
              </p:nvGrpSpPr>
              <p:grpSpPr>
                <a:xfrm>
                  <a:off x="5216400" y="3139200"/>
                  <a:ext cx="662040" cy="457200"/>
                  <a:chOff x="5216400" y="3139200"/>
                  <a:chExt cx="662040" cy="457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5216400" y="3458160"/>
                    <a:ext cx="662040" cy="13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708600">
                    <a:off x="5517720" y="3162960"/>
                    <a:ext cx="269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50520" y="2913120"/>
                  <a:ext cx="6339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50520" y="3553920"/>
                  <a:ext cx="62460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1538280" y="3196440"/>
              <a:ext cx="348768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231-D040-4BE3-AD6F-CBE798D866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ministrati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3760" y="1201680"/>
            <a:ext cx="802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  <a:ea typeface="Arial"/>
              </a:rPr>
              <a:t>Homepage of the course: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ea typeface="Arial"/>
                <a:hlinkClick r:id="rId1"/>
              </a:rPr>
              <a:t>www.lix.polytechnique.fr/~catuscia/teaching/Pisa/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lid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ome copies of the papers/books used as referenc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Exa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Schedule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415200" y="5041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429-9DB5-4F34-A309-3F5297273B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It differs from the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-calculus for the absence of the output prefix (replaced by output action) and also for the absence of the 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output 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30480" y="2506680"/>
            <a:ext cx="244764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76440" y="3736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BBE-19C9-4815-8EA2-DA9E6A4B7E3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ynchronous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calculus: O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he operational semantics of the asynchronous 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 are the same as those of the (synchronous)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, we only eliminate the rule for + and replace the output rule with the following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The early and late bisimulations are obtained as usu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interpretation is as follows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send takes place when the output action is at the top-level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receive takes place when the output action matches a corresponding input, i.e. when we apply the rule comm or clo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65560" y="2584440"/>
            <a:ext cx="1882800" cy="50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23000" y="4465800"/>
            <a:ext cx="1565280" cy="217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835280" y="5643720"/>
            <a:ext cx="514656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685-9FAD-4AF9-A5EF-36B6879672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 of the l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The pi-calculus and the asynch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 pi-calculus hierarchy: encoding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output prefix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input guarded choice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omic Sans MS"/>
              </a:rPr>
              <a:t>The pi-calculus hierarchy: separation resul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CC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Problems in distributed algorithms for which only randomized solutions exis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Basics of Measure Theory and Probability Theory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obabilistic Automata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The probabilistic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coding of the pi-calculus into the asynchr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ther uses of randomization: randomized protocols for anonymity and contract signing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A proof search specification of the pi-calculus (speaker: Dale Miller)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AD7-E50E-48AA-8603-8C4B42D4CE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1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2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79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7E3-040E-4DF2-93A7-2832716B9D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7"/>
            <a:endCxn id="10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4" name=""/>
          <p:cNvCxnSpPr>
            <a:stCxn id="101" idx="5"/>
            <a:endCxn id="10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091-0748-4B64-ABE5-F92AFB9D60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5" idx="0"/>
            <a:endCxn id="116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5" idx="7"/>
            <a:endCxn id="116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0" name=""/>
          <p:cNvCxnSpPr>
            <a:stCxn id="116" idx="5"/>
            <a:endCxn id="118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3B8-D17E-47E2-8D05-30C309B3A6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7"/>
            <a:endCxn id="13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1" idx="5"/>
            <a:endCxn id="13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08F-45F4-4634-87E8-97710CB953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culus: some suggested 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Robin Milner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ommunicating and mobile systems: the pi-calculu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1999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Pierc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Foundational Calculi for Programming Languag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hapter in the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RC Handbook of Computer Science and Engineering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, 1996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Davide Sangiorgi and David Walker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The pi-calculus. A Theory of Mobile Process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200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Joachim Parrow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An Introduction to the pi-Calculus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. In Handbook of Process Algebra, ed. Bergstra, Ponse, Smolka, pages 479-543, Elsevier 200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RIC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 RS 99-42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D20-BA6A-4A1A-A1CC-46B4F90AE1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7F9-D346-47F4-AD5C-AA808F41B6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1:44:42Z</dcterms:modified>
  <cp:revision>61</cp:revision>
  <dc:subject/>
  <dc:title>Concurrency 5</dc:title>
</cp:coreProperties>
</file>