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E0A-3577-4BE8-BAB6-786288B6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080-EC50-4649-8CA7-C9D80964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9710-2BEF-423A-A8AB-1C48CCA0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987-D185-4C7D-8D66-6937F243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2B7E-BA97-4244-8E44-9C25632C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6271-3D68-4A9A-BBA4-6A062B9F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07E3-0B2D-4539-9FF9-5EF323B2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AA65-C27A-49E7-9814-26604034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2EDE-1F58-495A-97EB-AD342048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562C-E639-4FDF-9554-13D57ED1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5CEE-81AA-4C93-ADEE-B6A09893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9F60-E1A5-4044-B610-60EC4EAF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06A1-650B-4DDC-96A5-046289C0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8656-4DFC-4BE6-AC76-31B0FEAF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7355-E8EE-4E34-8E9C-766230FD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B158-7990-4651-B0C7-91B206E3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CCE8-310F-483C-AFB8-7C9BA422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991D-CA4F-4A15-B500-F960ED54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89BE-D768-474F-85CA-0187946A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D553-1324-42FD-BD31-29AE761A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B36-6F89-4A80-AE64-05819A15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41C0-EC64-47CB-ABF9-2BADE09E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ED1E-C82F-4310-BD1A-FE0D55BC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2EBC-338B-4AC0-911B-B708854D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7760" y="6619680"/>
            <a:ext cx="21812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3440" y="6619680"/>
            <a:ext cx="284796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7400" y="6619680"/>
            <a:ext cx="21528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7BAC-52B3-4AB3-A5E4-47A99A073F97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2463-6D73-42B3-A9E6-F5DE13DB24EA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b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8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Encoding the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 into </a:t>
            </a:r>
            <a:br>
              <a:rPr sz="3200"/>
            </a:b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the probabilistic asynchronous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 Each cycle can be considered separately. On each of  them the classic algorithm is deadlock-free. Some additional care must be taken for the arcs that are not part of the cycle.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Only 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By analysis of the three possible cases. Actually they are all similar. We  illustrate the first case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76520" y="4495680"/>
            <a:ext cx="3047400" cy="1028880"/>
            <a:chOff x="1676520" y="4495680"/>
            <a:chExt cx="3047400" cy="1028880"/>
          </a:xfrm>
        </p:grpSpPr>
        <p:sp>
          <p:nvSpPr>
            <p:cNvPr id="232" name=""/>
            <p:cNvSpPr/>
            <p:nvPr/>
          </p:nvSpPr>
          <p:spPr>
            <a:xfrm>
              <a:off x="167652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19160" y="5029200"/>
              <a:ext cx="799920" cy="1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8128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867280" y="541008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8006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96840" y="51879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t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55000" y="4552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com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742840" y="525780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60020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1617480" y="519336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05704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2F0-9E3C-4B76-B741-985F23954B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The initial situation has probability p &gt; 0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The scheduler forces the processes to loo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Hence the system has a deadlock (livelock) with probability 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Note that this scheduler is 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not fair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. However we can define even a fair scheduler which induces an infinite loop with probability &gt; 0. The idea is to have a scheduler that “gives up” after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 attempts when the process keep choosing the “wrong” fork, but that increases (by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) its “stubborness” at every round.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With a suitable choice of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and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 f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we have that the probability of a loop is   p/4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7FB-ED82-4108-84A7-68CED2E86B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Solution for the Generalized DP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060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As we have seen, the algorithm of Lehmann and Rabin does not work on general graphs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However, it is easy to modify the algorithm so that it works in general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The idea is to reduce the problem to the pairwise disconnected cycles case: 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Each fork is initially associated with one token. Each phil needs to acquire a token in order to participate to the competition. After this initial phase, the algorithm is the same as the Lehmann &amp; Rabin’s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The competing phils determine a graph in which all cycles are pairwise disconnected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9966ff"/>
                </a:solidFill>
                <a:latin typeface="Comic Sans MS"/>
              </a:rPr>
              <a:t>Proof: By case analysis. To have a situation with two connected cycles we would need a node with two tokens.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BC74-3599-4105-B6DC-D058897DCEB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06600" y="2033280"/>
            <a:ext cx="5037120" cy="3882600"/>
            <a:chOff x="606600" y="2033280"/>
            <a:chExt cx="5037120" cy="3882600"/>
          </a:xfrm>
        </p:grpSpPr>
        <p:sp>
          <p:nvSpPr>
            <p:cNvPr id="274" name=""/>
            <p:cNvSpPr/>
            <p:nvPr/>
          </p:nvSpPr>
          <p:spPr>
            <a:xfrm>
              <a:off x="2649600" y="382428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580000" y="442548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99000" y="43923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22640" y="242892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59040" y="448920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122640" y="448920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959040" y="242892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22640" y="242892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5104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95880" y="51782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9588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82920" y="517680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59040" y="44892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35400" y="40464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121200" y="572256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51360" y="572292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87240" y="43920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6600" y="43592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122640" y="20332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9560" y="20336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19600" y="40320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1073600">
              <a:off x="3071880" y="418464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4467600">
              <a:off x="2976840" y="426348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8067200">
              <a:off x="287388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74600">
              <a:off x="2958840" y="39600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90800" y="42433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1073600">
              <a:off x="2919600" y="426816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4467600">
              <a:off x="2806560" y="414468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8067200">
              <a:off x="280080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3974600">
              <a:off x="2774520" y="4263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24120" y="385128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033960" y="1698480"/>
            <a:ext cx="2624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Reduction to the classic case: each fork is initially associated with a token. Each phil needs to acquire a token in order to participate to the competition. The competing phils determine a set of subgraphs in which each subgraph contains at most one cy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01560" y="2039760"/>
            <a:ext cx="5037120" cy="3882960"/>
            <a:chOff x="601560" y="2039760"/>
            <a:chExt cx="5037120" cy="3882960"/>
          </a:xfrm>
        </p:grpSpPr>
        <p:sp>
          <p:nvSpPr>
            <p:cNvPr id="307" name=""/>
            <p:cNvSpPr/>
            <p:nvPr/>
          </p:nvSpPr>
          <p:spPr>
            <a:xfrm>
              <a:off x="2644560" y="38304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576760" y="443196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94320" y="43988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17600" y="243504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54000" y="449568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117600" y="449568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954000" y="243504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17600" y="243504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4600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90840" y="518436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9084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77880" y="51829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54000" y="449568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30360" y="40525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116160" y="57290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6320" y="572904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82560" y="43988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1560" y="43653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117600" y="203976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44520" y="20397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14560" y="40384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1073600">
              <a:off x="3066480" y="41907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4467600">
              <a:off x="2971440" y="4269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8067200">
              <a:off x="286812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3974600">
              <a:off x="2954160" y="39664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86120" y="42494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1073600">
              <a:off x="2914200" y="42750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4467600">
              <a:off x="2801520" y="41511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8067200">
              <a:off x="279504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3974600">
              <a:off x="2770200" y="42696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19440" y="385740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F56-C700-4666-8EC8-71156A1728D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[[ ]] : 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66ffff"/>
                </a:solidFill>
                <a:latin typeface="Comic Sans MS"/>
              </a:rPr>
              <a:t>pa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Fully distributed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[[ P | Q ]]  =  [[ P ]]  |  [[ Q ]]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Unifor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[[ P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]]   =  [[ P ]]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Correct wrt a notion of probabilistic testing semantic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P must O     iff     [[ P ]] must [[ O ]] with prob 1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D070-E961-44A9-B8B6-19882333A1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0600" y="95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Every mixed choice is translated into a parallel comp. of processes corresponding to the branches, plus a lock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es compete for acquiring both its own lock and the lock of the partner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 which succeeds first, establishes the communication. The other alternatives are discarded 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4005360" y="4057560"/>
            <a:ext cx="1001520" cy="231840"/>
          </a:xfrm>
          <a:custGeom>
            <a:avLst/>
            <a:gdLst>
              <a:gd name="textAreaLeft" fmla="*/ 124920 w 1001520"/>
              <a:gd name="textAreaRight" fmla="*/ 876600 w 1001520"/>
              <a:gd name="textAreaTop" fmla="*/ 57960 h 231840"/>
              <a:gd name="textAreaBottom" fmla="*/ 173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78080" y="375300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17880" y="375300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277720" y="405756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89160" y="40068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17880" y="3701880"/>
            <a:ext cx="88920" cy="1018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3240" y="453564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6800" y="35686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74760" y="445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84960" y="3873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00840" y="380376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40640" y="380376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000480" y="410832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11920" y="40575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40640" y="37530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9600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78600" y="35067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960" y="40561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42120" y="400680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57200" y="34383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57200" y="46371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1840" y="39355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44600" y="5600880"/>
            <a:ext cx="716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00080" y="533556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The problem is reduced to a generalized dining philosophers problem where each fork (lock) can be adjacent to more than two philosop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467080" y="4586400"/>
            <a:ext cx="50616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7816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278080" y="405720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78600" y="46371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978520" y="410796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67520" y="4637160"/>
            <a:ext cx="52848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15720" y="46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3080" y="426888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06520" y="471024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468792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274F-566E-42BC-8F0F-A42CD915C5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Dining Philosophers: classic case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2480" y="1550520"/>
            <a:ext cx="806616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898720" y="2289240"/>
            <a:ext cx="3476160" cy="3482640"/>
            <a:chOff x="2898720" y="2289240"/>
            <a:chExt cx="3476160" cy="3482640"/>
          </a:xfrm>
        </p:grpSpPr>
        <p:sp>
          <p:nvSpPr>
            <p:cNvPr id="125" name=""/>
            <p:cNvSpPr/>
            <p:nvPr/>
          </p:nvSpPr>
          <p:spPr>
            <a:xfrm>
              <a:off x="3237120" y="2911680"/>
              <a:ext cx="2741040" cy="2127600"/>
            </a:xfrm>
            <a:prstGeom prst="triangle">
              <a:avLst>
                <a:gd name="adj" fmla="val 50000"/>
              </a:avLst>
            </a:prstGeom>
            <a:solidFill>
              <a:srgbClr val="00004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83800" y="33465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37120" y="3346560"/>
              <a:ext cx="59508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61400" y="52293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317640" y="483912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47080" y="4827240"/>
              <a:ext cx="12780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968560" y="491904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98720" y="4906800"/>
              <a:ext cx="127800" cy="30168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601880" y="230076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31320" y="2289240"/>
              <a:ext cx="12816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51040" y="40489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1073600">
              <a:off x="4585680" y="4181400"/>
              <a:ext cx="349920" cy="146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4467600">
              <a:off x="4505760" y="424800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8067200">
              <a:off x="44136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3974600">
              <a:off x="4489560" y="39855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25840" y="42325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1073600">
              <a:off x="4450680" y="425376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4467600">
              <a:off x="4354920" y="414468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8067200">
              <a:off x="43488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3974600">
              <a:off x="4326480" y="42483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49800" y="3901680"/>
              <a:ext cx="702000" cy="703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B4C-219E-4F04-B9A6-8221BB743B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4720" y="1333080"/>
            <a:ext cx="83059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{release(firstfork); goto 2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867-83D7-4E18-B250-8893F61F52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Wrt to our encoding goal, the algorithm of Lehmann and Rabin has two problem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It only works for certain kinds of graph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t works only for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fair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eduler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Problem 2 however can be solved by replacing the busy waiting in step 3 with suspension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[Duflot, Friburg, Picaronny 2002] – see also Herescu’s PhD thesi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279-AC05-431E-AD6F-B75C3630E4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3800" y="1452600"/>
            <a:ext cx="836784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f taken(first_fork) then wa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504720" y="1461960"/>
            <a:ext cx="836784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0120" y="123840"/>
            <a:ext cx="777888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Modified so to avoid the need for fair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732960" y="133200"/>
            <a:ext cx="75502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142-9DE3-496A-82E1-CDF0E6EA44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75560" y="1262160"/>
            <a:ext cx="83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fork can be shared by more than two philosophers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035080" y="2176200"/>
            <a:ext cx="5037120" cy="3882600"/>
            <a:chOff x="2035080" y="2176200"/>
            <a:chExt cx="5037120" cy="3882600"/>
          </a:xfrm>
        </p:grpSpPr>
        <p:sp>
          <p:nvSpPr>
            <p:cNvPr id="157" name=""/>
            <p:cNvSpPr/>
            <p:nvPr/>
          </p:nvSpPr>
          <p:spPr>
            <a:xfrm>
              <a:off x="4078080" y="396720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008480" y="45684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27480" y="45352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51120" y="257184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87520" y="463212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551120" y="463212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387520" y="257184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51120" y="257184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7952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5321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11400" y="531972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87520" y="463212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63880" y="418932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549680" y="58654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79840" y="58658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15720" y="453492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5080" y="450216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551120" y="217620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78040" y="21765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8080" y="417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1073600">
              <a:off x="4500360" y="432756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4467600">
              <a:off x="4405320" y="44064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8067200">
              <a:off x="430236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974600">
              <a:off x="4387320" y="41029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19280" y="438624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1073600">
              <a:off x="4348080" y="4411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4467600">
              <a:off x="4235040" y="428760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8067200">
              <a:off x="422928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3974600">
              <a:off x="4203000" y="44060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2600" y="399420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030400" y="2182680"/>
            <a:ext cx="5037120" cy="3882960"/>
            <a:chOff x="2030400" y="2182680"/>
            <a:chExt cx="5037120" cy="3882960"/>
          </a:xfrm>
        </p:grpSpPr>
        <p:sp>
          <p:nvSpPr>
            <p:cNvPr id="189" name=""/>
            <p:cNvSpPr/>
            <p:nvPr/>
          </p:nvSpPr>
          <p:spPr>
            <a:xfrm>
              <a:off x="4073400" y="39733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005600" y="457488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160" y="45417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46440" y="257796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82840" y="4638600"/>
              <a:ext cx="21636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546440" y="463860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382840" y="257796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46440" y="257796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7484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9680" y="532728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1968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06720" y="53258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82840" y="46386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59200" y="41954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545000" y="58719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75160" y="58719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111400" y="45417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30400" y="450828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546440" y="218268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73360" y="21826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41814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1073600">
              <a:off x="4495320" y="43336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4467600">
              <a:off x="4400280" y="44128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067200">
              <a:off x="429696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3974600">
              <a:off x="4383000" y="41094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14960" y="43923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1073600">
              <a:off x="4343040" y="44179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4467600">
              <a:off x="4230360" y="42940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067200">
              <a:off x="422388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3974600">
              <a:off x="4199040" y="44125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48280" y="400032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A74-CF63-4E24-8BD6-E2E29B1F83F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The algorithm of Lehmann and Rabin is deadlock-free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if and only if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 all cycles are pairwise disconnected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33"/>
                </a:solidFill>
                <a:latin typeface="Comic Sans MS"/>
              </a:rPr>
              <a:t>There are essentially three ways in which two cycles can be connected: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4952880"/>
            <a:ext cx="533520" cy="0"/>
          </a:xfrm>
          <a:prstGeom prst="line">
            <a:avLst/>
          </a:prstGeom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A2D-C902-4797-92D3-9F6FA20023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0T05:22:19Z</dcterms:modified>
  <cp:revision>146</cp:revision>
  <dc:subject/>
  <dc:title>Concurrency 5</dc:title>
</cp:coreProperties>
</file>