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3DA-14FD-4B52-9EDD-E3ED97F1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F69-00B6-49BC-BABE-9DACC17F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507-0B9F-4EF5-8B68-3627ADF3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38C-3FAB-4279-AD27-4949B252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EA2E-00AE-4BCF-A055-5ACCE101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F27B-2BAF-459D-B7EB-FC6514B4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43AB-F65B-4323-BD8E-8161101C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5C8C-8D9B-4AAE-98D7-1E24AEC2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9AB7-E312-46ED-8C75-1F31B104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916E-F917-4D21-BC63-183E3CD4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EC84-1172-4C45-894B-91C5C8CE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6F8-6549-451C-BC38-58817BB0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669E-C7F4-4974-960C-468E9BBF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3AA6-F403-4092-B9BB-7D47CF57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37DE-540C-4A9E-B835-FD0BBDCB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3A07-9D2B-402E-A5E5-CFAB63E4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0F87-B70B-41F4-957E-67D33DD1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932-40EA-418B-846B-17F0A298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B67-1785-45F8-993C-049D2890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EC1-C504-4529-A9B5-5C7FEE1F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AF0-DD31-4E01-98D9-C77EAA59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5A9-EB8A-48A1-93ED-1237BD7A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2F9-5AB2-4C86-84D3-A5C7610E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05C-BF03-407A-B2F2-9F5A06D2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619680"/>
            <a:ext cx="21812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3440" y="6619680"/>
            <a:ext cx="28479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7400" y="6619680"/>
            <a:ext cx="21528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7947-F637-4FCF-BA4C-F528DCF3B33F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5C6E-67F3-48DE-B2E7-A7D31079FE17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b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8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Encoding the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 into </a:t>
            </a:r>
            <a:br>
              <a:rPr sz="3200"/>
            </a:b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the probabilistic asynchronous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Only 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32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AE0-6EEB-495E-A3B6-3181BB7843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) its “stubborness” at every round.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With a suitable choice of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and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 f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75A-1C38-472A-8A47-4D75363DAF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Solution for the Generalized DP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However, it is easy to modify the algorithm so that it works in general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966ff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715-6250-4098-A96E-E9CBA49AD8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6600" y="2033280"/>
            <a:ext cx="5037120" cy="3882600"/>
            <a:chOff x="606600" y="2033280"/>
            <a:chExt cx="5037120" cy="3882600"/>
          </a:xfrm>
        </p:grpSpPr>
        <p:sp>
          <p:nvSpPr>
            <p:cNvPr id="274" name=""/>
            <p:cNvSpPr/>
            <p:nvPr/>
          </p:nvSpPr>
          <p:spPr>
            <a:xfrm>
              <a:off x="2649600" y="382428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580000" y="442548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99000" y="43923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2640" y="242892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9040" y="448920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122640" y="448920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959040" y="242892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22640" y="242892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104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95880" y="51782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588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2920" y="517680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59040" y="44892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35400" y="40464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121200" y="572256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51360" y="572292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87240" y="43920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6600" y="43592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122640" y="20332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560" y="20336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19600" y="40320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073600">
              <a:off x="3071880" y="418464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467600">
              <a:off x="2976840" y="42634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067200">
              <a:off x="287388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74600">
              <a:off x="2958840" y="39600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90800" y="42433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1073600">
              <a:off x="2919600" y="42681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467600">
              <a:off x="2806560" y="414468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8067200">
              <a:off x="280080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3974600">
              <a:off x="2774520" y="4263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24120" y="385128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033960" y="1698480"/>
            <a:ext cx="262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Reduction to the classic case: each fork is initially associated with a token. Each phil needs to acquire a token in order to participate to the competition. The competing phils determine a set of subgraphs in which each subgraph contains at most one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560" y="2039760"/>
            <a:ext cx="5037120" cy="3882960"/>
            <a:chOff x="601560" y="2039760"/>
            <a:chExt cx="5037120" cy="3882960"/>
          </a:xfrm>
        </p:grpSpPr>
        <p:sp>
          <p:nvSpPr>
            <p:cNvPr id="307" name=""/>
            <p:cNvSpPr/>
            <p:nvPr/>
          </p:nvSpPr>
          <p:spPr>
            <a:xfrm>
              <a:off x="2644560" y="38304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576760" y="443196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94320" y="43988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17600" y="243504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4000" y="449568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117600" y="449568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954000" y="243504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17600" y="243504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4600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90840" y="518436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9084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77880" y="51829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54000" y="449568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30360" y="40525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116160" y="57290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6320" y="572904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82560" y="43988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560" y="43653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117600" y="203976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44520" y="20397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14560" y="40384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073600">
              <a:off x="3066480" y="41907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467600">
              <a:off x="2971440" y="4269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8067200">
              <a:off x="286812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3974600">
              <a:off x="2954160" y="39664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6120" y="42494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1073600">
              <a:off x="2914200" y="42750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467600">
              <a:off x="2801520" y="41511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8067200">
              <a:off x="279504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3974600">
              <a:off x="2770200" y="42696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9440" y="385740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B00-480C-4129-A7C5-0CEA8A454F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66ffff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BCD-2548-4EB7-B3A9-840232109C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Every mixed choice is translated into a parallel comp. of processes corresponding to the branches, plus a lock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2C0-374A-45D4-8EF7-24FBCA0B25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Dining Philosophers: classic case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2480" y="1550520"/>
            <a:ext cx="80661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8720" y="2289240"/>
            <a:ext cx="3476160" cy="3482640"/>
            <a:chOff x="2898720" y="2289240"/>
            <a:chExt cx="3476160" cy="3482640"/>
          </a:xfrm>
        </p:grpSpPr>
        <p:sp>
          <p:nvSpPr>
            <p:cNvPr id="125" name=""/>
            <p:cNvSpPr/>
            <p:nvPr/>
          </p:nvSpPr>
          <p:spPr>
            <a:xfrm>
              <a:off x="3237120" y="2911680"/>
              <a:ext cx="2741040" cy="2127600"/>
            </a:xfrm>
            <a:prstGeom prst="triangle">
              <a:avLst>
                <a:gd name="adj" fmla="val 50000"/>
              </a:avLst>
            </a:prstGeom>
            <a:solidFill>
              <a:srgbClr val="00004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3800" y="33465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7120" y="3346560"/>
              <a:ext cx="59508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61400" y="52293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317640" y="483912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7080" y="4827240"/>
              <a:ext cx="12780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68560" y="491904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98720" y="4906800"/>
              <a:ext cx="127800" cy="30168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601880" y="230076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31320" y="2289240"/>
              <a:ext cx="12816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51040" y="40489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1073600">
              <a:off x="4585680" y="4181400"/>
              <a:ext cx="349920" cy="146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4467600">
              <a:off x="4505760" y="424800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8067200">
              <a:off x="44136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3974600">
              <a:off x="4489560" y="39855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5840" y="42325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1073600">
              <a:off x="4450680" y="425376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4467600">
              <a:off x="4354920" y="414468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067200">
              <a:off x="43488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3974600">
              <a:off x="4326480" y="42483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49800" y="3901680"/>
              <a:ext cx="702000" cy="703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D08-0CA0-4383-84D2-CC702A5506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1333080"/>
            <a:ext cx="8305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{release(firstfork); goto 2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0DB-8FEB-49EA-9635-6302C52F95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roblem 2 however can be solved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3E3-E395-4812-BA2C-94595ADE4D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3800" y="1452600"/>
            <a:ext cx="836784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 taken(first_fork) then wa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04720" y="1461960"/>
            <a:ext cx="83678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0120" y="123840"/>
            <a:ext cx="77788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Modified so to avoid the need for fai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732960" y="133200"/>
            <a:ext cx="75502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42B-FC43-45BE-B349-BBDC06AB4F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75560" y="126216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fork can be shared by more than two philosophers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57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89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0B6-D591-4B28-A0F1-04E80ED6E54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The algorithm of Lehmann and Rabin is deadlock-free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f and only if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 all cycles are pairwise disconnected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33"/>
                </a:solidFill>
                <a:latin typeface="Comic Sans MS"/>
              </a:rPr>
              <a:t>There are essentially three ways in which two cycles can be connected: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4952880"/>
            <a:ext cx="533520" cy="0"/>
          </a:xfrm>
          <a:prstGeom prst="line">
            <a:avLst/>
          </a:prstGeom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98F-C6D9-425A-A922-EE54B17007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0T05:22:19Z</dcterms:modified>
  <cp:revision>146</cp:revision>
  <dc:subject/>
  <dc:title>Concurrency 5</dc:title>
</cp:coreProperties>
</file>