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CC41-F02A-4BD8-A179-F9169F56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504D-384D-43EF-AC96-5A1A49E3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E528-63FC-4197-A0A1-B92CD453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6B97-4474-4634-8694-617A95A1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57D4-8EA5-467B-AF12-CC7860B5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BFC8-6F1E-4C00-B50D-A450C0B6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3E78-FC93-48A5-BC7C-2E279A3D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D3AE-7AEB-4A27-AE4D-E1809FF4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1347-BEE5-4ADF-BB67-B7508040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FA1-8CBE-4C64-AB2B-F61D2629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BE39-68F3-4B98-978D-A56737BA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F030-FA3E-496B-AF41-74DF29B9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2941-AD3B-41CF-91B6-BB347CF15EF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6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Progress statements: </a:t>
            </a:r>
            <a:br>
              <a:rPr sz="2800"/>
            </a:b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A tool for verification of probabilistic autom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0240" y="828720"/>
            <a:ext cx="82105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Progress statement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roposed by Lynch and Segala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formal method to analyse probabilistic algorithm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Definition (progress statements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Given sets of states S, T, and a class of adversaries A, we writ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 –A,p-&gt;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f, under any adversary in A, from any state in S, we eventually reach a state in T with probability at least p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Furthermore, we writ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 unless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f, whenever from a state in S we do not reach a state in T, we remain in S (possibly in a different state of S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1472-2AAC-4BED-B9A0-0F75609F840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13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1800" y="136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ome useful properti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f A is history-insensitive ,  S –A,p-&gt; T, and T –A,q-&gt; U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S –A,pq-&gt; U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 and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–A,p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ere p = min{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S –A,1-&gt; S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If A is history-insensitive and   S –A,p-&gt; T   and   S unless T, and p &gt; 0, the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S –A,1-&gt;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6A49-EC64-4061-AC26-6EAC9EA737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story insensitiv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Definition: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a class of adversaries A is history-insensitive if: for every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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, and for every fragment of execution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, there exists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 such that, for every fragment of execution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,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=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db1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b10d"/>
                </a:solidFill>
                <a:latin typeface="Comic Sans MS"/>
              </a:rPr>
              <a:t>Proposition:</a:t>
            </a:r>
            <a:r>
              <a:rPr b="0" lang="en-US" sz="2800" spc="-1" strike="noStrike">
                <a:solidFill>
                  <a:srgbClr val="0db10d"/>
                </a:solidFill>
                <a:latin typeface="Comic Sans MS"/>
              </a:rPr>
              <a:t> The class of fair adversaries is history-insensitiv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b10d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Proof: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Given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, define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=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. 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Clearly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 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is still fair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441C-39DD-4324-AF76-4BD82063D3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b1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An example of verification using the progress statements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he example we consider is the randomized  algorithm of Lehmann and Rabin for the dining philosopher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We will show that under a fair adversary scheduler we have deadlock-freedom (and livelock-freedom), i.e. if a philosopher gets hungry, then with probability 1 some philosopher (not necessarily the same) will eventually eat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F918-F973-4C4A-85A6-F0D80EC58E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0573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Comic Sans MS"/>
              </a:rPr>
              <a:t>State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acti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008080"/>
                </a:solidFill>
                <a:uFillTx/>
                <a:latin typeface="Comic Sans MS"/>
              </a:rPr>
              <a:t>description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think  or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reminder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2" marL="110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et hungry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flip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ready to tos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W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wait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waiting for first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second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checking second resourc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ping first resourc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eat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pre-critical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exit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critical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 first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 second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rem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move to reminder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09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ning philosophers: the algorith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790560" y="2143080"/>
            <a:ext cx="6810480" cy="2247840"/>
          </a:xfrm>
          <a:prstGeom prst="rect">
            <a:avLst/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86880" y="2874960"/>
            <a:ext cx="1839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37600" y="2806560"/>
            <a:ext cx="114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8436-925F-4635-B40B-C587B19246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968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0520"/>
            <a:ext cx="848664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Let us introduce the following global (sets of) state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Try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T={F,W,S,D,P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Eat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C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RT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at least one phil is in T,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ll the others are in T, R or E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Flip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F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Pre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ne phil is in P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Good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rocess is in a ‘’good state’’, i.e. in {W,S}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ile his second fork </a:t>
            </a: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is not the first fork for the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neighbor (i.e. the neighbor is not committed to </a:t>
            </a: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We want to show that  Try –A,1-&gt; Eat   for A = fair adv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C8F5-B7CF-4964-AA28-463A99EEE1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We can prove that, for the class of fair adversaries A (omitted in the following notation)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ry  -1-&gt;  RT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T  -1-&gt;  Flip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lip  -1/2-&gt; 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Good  -1/4-&gt; 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e  -1-&gt; 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Using the properties of progress statements we deriv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-1/8-&gt;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ince we also have  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unless Eat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,   we can conclud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A296-E134-4393-88B1-0FD030B509B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6T09:58:27Z</dcterms:modified>
  <cp:revision>133</cp:revision>
  <dc:subject/>
  <dc:title>Concurrency 5</dc:title>
</cp:coreProperties>
</file>