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37C8-A09E-470D-8972-D993C5E79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3593-8417-4BD2-982A-5F90456B6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0ED3-1BC3-4CAF-9BF6-020A00159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C039-7E5F-4D9E-B1A8-A2B118883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F0C4-B36E-48BD-A9D9-F656691CA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ADD2-1DAE-4891-AA16-BDD15E03E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720E-64EF-4E2E-9449-BA7EADCE1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1FF0-B70E-47D8-A71A-A354219DA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2402-746F-4F3D-8F62-57063AF8E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D529-9315-4B8E-9BE4-8ADD1904D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F03F-75F1-4448-95B7-79BFD46A4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741A-53EE-44D0-9181-15C10503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7569F-4C6A-4D22-9BC1-40DA0049CE7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atuscia@lix.polytechnique.fr" TargetMode="External"/><Relationship Id="rId2" Type="http://schemas.openxmlformats.org/officeDocument/2006/relationships/hyperlink" Target="http://www.lix.polytechnique.fr/~catuscia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9600" y="817200"/>
            <a:ext cx="8602560" cy="29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obabilistic Methods in Concurrency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cc0066"/>
                </a:solidFill>
                <a:latin typeface="Comic Sans MS"/>
              </a:rPr>
              <a:t>Lecture 5</a:t>
            </a:r>
            <a:br>
              <a:rPr sz="36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Basics of Measure Theory and Probability Theory</a:t>
            </a:r>
            <a:br>
              <a:rPr sz="2400"/>
            </a:b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Probabilistic Automat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85600" y="4005000"/>
            <a:ext cx="73436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Catuscia Palamidessi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catuscia@lix.polytechnique.fr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www.lix.polytechnique.fr/~catuscia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Page of the course: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www.lix.polytechnique.fr/~catuscia/teaching/Pisa/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61440" y="0"/>
            <a:ext cx="824868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Basics of Measure Theory and Continuous Probability Theor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71520" y="905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-28008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Continuous probabilistic spaces: the need for Measure Theory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Some introductory examples: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2" marL="11199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finite sequence of coin tossing,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tersection, complementation, union and countable unio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hy countabl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ncept of con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Measurable space,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-field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Base,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-field generated by a bas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Examples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Probability measur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Monotonicity and continuity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27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279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Prakash Panangaden, Stochastic techniques in Concurrency. Lect notes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.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27920" indent="0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Section 2.1. and 2.4 (till page 16)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279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2EE2-2AD7-4795-8442-C1283DCCD2C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Comic Sans MS"/>
              </a:rPr>
              <a:t>Probabilistic Automat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38120" y="1266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Nondeterministic choice and probabilistic choice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Definition of probabilistic automata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Concept of adversary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Concept of execution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The measurable space and the probability measure associated to the executions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Some examples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Roberto Segala. Modeling and Verification of Randomized Distributed Real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Time Systems . PhD thesis, Laboratory for Computer Science, Massachusetts Institute of Technology, June 1995. Available as Technical Report MIT/LCS/TR-676. 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Roberto Segala and Nancy Lynch.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Probabilistic simulations for probabilistic processes.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Nordic Journal of Computing, 2(2):250--273, 1995.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An extended abstract appeared in the Proceedings of CONCUR '94,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LNCS 836: 22--25. 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B704-4ACE-4EF6-A82F-549E41E8631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23:17:22Z</dcterms:created>
  <dc:creator>catuscia</dc:creator>
  <dc:description/>
  <dc:language>en-US</dc:language>
  <cp:lastModifiedBy>catuscia</cp:lastModifiedBy>
  <dcterms:modified xsi:type="dcterms:W3CDTF">2004-07-06T00:00:13Z</dcterms:modified>
  <cp:revision>126</cp:revision>
  <dc:subject/>
  <dc:title>Concurrency 5</dc:title>
</cp:coreProperties>
</file>