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D39E-24C6-48C3-A5C5-ED9FFF59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D553-D5F2-480D-8930-8ED2F4FC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1934-3D93-4948-8ECF-593A5C26C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7B47-D397-4B45-BF61-EB45B08C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4967-3B45-436E-847B-934D7031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ABA4-A0AF-42D6-8BDD-F4450306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729E-C3B9-49EF-AD5E-B7F24DA8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242A-85FC-4BA9-A002-46BB00F5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D525-0EB6-4EC4-95EE-09A23193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3C3F-D68B-4E3A-BD3E-6103C8C1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1FC2-8D5C-4F76-80BE-BCEEE6A6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F34A-86C7-4FE1-AF68-ABA51405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1959-D1C4-43D6-A3FF-65319235EA8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5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Basics of Measure Theory and Probability Theory</a:t>
            </a:r>
            <a:br>
              <a:rPr sz="2400"/>
            </a:b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Probabilistic Autom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82486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Basics of Measure Theory and Continuous Probability Theo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71520" y="905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ontinuous probabilistic spaces: the need for Measure Theory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Some introductory examples: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finite sequence of coin tossing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section, complementation, union and countable un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y countab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cept of con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Measurable space,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-field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Base,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-field generated by a bas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Examples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robability measu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Monotonicity and continuity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Prakash Panangaden, Stochastic techniques in Concurrency. Lect notes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ction 2.1. and 2.4 (till page 16)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218E-C656-4329-B99A-8C25705F4B7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Probabilistic Automa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38120" y="126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Nondeterministic choice and probabilistic choice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Definition of probabilistic automata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Concept of adversary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Concept of execution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The measurable space and the probability measure associated to the executions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Some examples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Roberto Segala. Modeling and Verification of Randomized Distributed Real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Time Systems . PhD thesis, Laboratory for Computer Science, Massachusetts Institute of Technology, June 1995. Available as Technical Report MIT/LCS/TR-676.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Roberto Segala and Nancy Lynch.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Probabilistic simulations for probabilistic processes.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Nordic Journal of Computing, 2(2):250--273, 1995.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An extended abstract appeared in the Proceedings of CONCUR '94,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LNCS 836: 22--25.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7B78-3C1E-48FB-8427-86E4AFEC9D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6T00:00:13Z</dcterms:modified>
  <cp:revision>126</cp:revision>
  <dc:subject/>
  <dc:title>Concurrency 5</dc:title>
</cp:coreProperties>
</file>