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162C-0E42-4B68-AAFF-4A3976741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0C47-9595-4204-9E0C-BEBD138A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5E0E-BFA5-4F2E-96EF-2C0626E06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653A-D55E-4A45-A1F2-2846DC8CB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FEE7-C037-4F04-8FE9-3977F459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1D07-7A18-4A16-8D37-74AFC077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D45D-27C0-4136-BFE7-A010E7F2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BD96-7018-4581-94E0-23DECDC6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D263-011C-471C-9D08-701BEFA8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A082-7DCD-4F1B-8B3A-BC1351A8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D20E-7A0E-46BF-97AD-40551735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7698-1DAB-4EA5-B63A-954DB9B7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ADFC-CFF4-4136-907A-4364D4050C7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Lecture 5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Basics of Measure Theory and Probability Theory</a:t>
            </a:r>
            <a:br>
              <a:rPr sz="2400"/>
            </a:b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Probabilistic Autom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www.lix.polytechnique.fr/~catuscia/teaching/Pisa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824868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Basics of Measure Theory and Continuous Probability Theo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71520" y="905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Continuous probabilistic spaces: the need for Measure Theory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Some introductory examples: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finite sequence of coin tossing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section, complementation, union and countable un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y countab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cept of con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Measurable space,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-field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Base,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-field generated by a bas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Examples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Probability measur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Monotonicity and continuity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Prakash Panangaden, Stochastic techniques in Concurrency. Lect notes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Section 2.1. and 2.4 (till page 16)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09BC-E8CB-4D33-A322-DEF34CE5C75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Probabilistic Automa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38120" y="126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Nondeterministic choice and probabilistic choice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Definition of probabilistic automata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Concept of adversary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Concept of execution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The measurable space and the probability measure associated to the executions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Some examples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Roberto Segala. Modeling and Verification of Randomized Distributed Real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Time Systems . PhD thesis, Laboratory for Computer Science, Massachusetts Institute of Technology, June 1995. Available as Technical Report MIT/LCS/TR-676.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Roberto Segala and Nancy Lynch.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Probabilistic simulations for probabilistic processes.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Nordic Journal of Computing, 2(2):250--273, 1995.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An extended abstract appeared in the Proceedings of CONCUR '94,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LNCS 836: 22--25.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B4A0-CDA5-4305-A707-3993B9BE0C2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6T00:00:13Z</dcterms:modified>
  <cp:revision>126</cp:revision>
  <dc:subject/>
  <dc:title>Concurrency 5</dc:title>
</cp:coreProperties>
</file>