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3EA4-BDBF-48E2-AC04-7312445F1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3380-252E-4021-922F-2AE15128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4D32-4320-4688-AF0B-A8DA8C677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A367-5BC8-4ACB-906D-21CB7B041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FF69-1802-4963-9E21-EA222606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15B5-AF00-4F70-AEA8-CFA2C082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D3E5-05C6-4960-9EAF-28C3CC51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EABD-FE9E-412A-ADA1-8EF008D8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0A9C-FF19-4A9A-8708-5140A08F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6D52-55CB-4A49-B324-02F6AD76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8D0A-4007-439A-8528-4090A86F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C7BB-9287-469C-9E41-8BDDD084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1E75-FA2C-4A0F-9608-5B15084E5A4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4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Problems in distributed systems for which </a:t>
            </a:r>
            <a:br>
              <a:rPr sz="2400"/>
            </a:b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only randomized solutions exi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of the algorit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Assumption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&gt; ma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prof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{time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-3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(M,prof)}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mic Sans MS"/>
              </a:rPr>
              <a:t>Theorem: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if a committee is enabled then a professor will eventually attend a meeting with probability 1 (WIF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Comic Sans MS"/>
              </a:rPr>
              <a:t>Theorem:</a:t>
            </a:r>
            <a:r>
              <a:rPr b="0" lang="en-US" sz="2400" spc="-1" strike="noStrike">
                <a:solidFill>
                  <a:srgbClr val="993366"/>
                </a:solidFill>
                <a:latin typeface="Comic Sans MS"/>
              </a:rPr>
              <a:t> if a professor’s transition from thinking to waiting does not depend on the random draws performed by other professors, then a committee meeting which is enabled infinitely often will eventually be established (SIF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A56A-43CD-4A28-8B75-040CB086CE9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mportance of the assumption o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he assumption on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is an assumption about the degree of synchronism (in the sense of cooperation) of the system. In Distributed Algorithms there are three models of cooperation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Comic Sans MS"/>
              </a:rPr>
              <a:t>Partially synchronou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Comic Sans MS"/>
              </a:rPr>
              <a:t>Asynchronou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Comic Sans MS"/>
              </a:rPr>
              <a:t>Synchronous (lockstep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his assumption corresponds to (2)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Hence this algorithm would not be suitable for implementing the synchronization mechanism of CSP or CCS in a fully distributed setting, since we need an asynchronous cooperation model.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3594-CE31-47AB-BC1B-A6E2A5E0641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11520" y="1344600"/>
            <a:ext cx="276120" cy="285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1371600"/>
            <a:ext cx="276120" cy="27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76360" y="3770280"/>
            <a:ext cx="446040" cy="227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22400" y="3405240"/>
            <a:ext cx="614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16080" y="3432240"/>
            <a:ext cx="8542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03480" y="4052520"/>
            <a:ext cx="888840" cy="19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225432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52560" y="217008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49220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44560" y="2225520"/>
            <a:ext cx="13644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66920" y="1406520"/>
            <a:ext cx="168120" cy="14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44560" y="219708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219708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3120" y="225900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46280" y="227016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27320" y="1219320"/>
            <a:ext cx="258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6160" y="17146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49720" y="170172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83160" y="23590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57680" y="226224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217800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57680" y="150012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87480" y="2233440"/>
            <a:ext cx="13680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09840" y="1414440"/>
            <a:ext cx="168480" cy="141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87480" y="220500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48040" y="220500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89160" y="226692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41680" y="230652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0240" y="122724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50160" y="172260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93000" y="17096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26080" y="236700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0680" y="2249640"/>
            <a:ext cx="1094040" cy="7045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38840" y="2165400"/>
            <a:ext cx="1216080" cy="78084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00680" y="1487520"/>
            <a:ext cx="109404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30840" y="2220840"/>
            <a:ext cx="13680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53200" y="1401840"/>
            <a:ext cx="168480" cy="141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30840" y="219240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91400" y="219240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9760" y="225432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51640" y="226548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13600" y="121428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92440" y="17096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7800" y="16970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68720" y="235440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86200" y="2251080"/>
            <a:ext cx="109404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24360" y="216684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86200" y="1488960"/>
            <a:ext cx="109404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16360" y="2222640"/>
            <a:ext cx="13680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38720" y="1403280"/>
            <a:ext cx="168480" cy="141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219384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76920" y="219384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27400" y="225576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37160" y="227664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00560" y="1216080"/>
            <a:ext cx="2574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77960" y="17114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21880" y="16984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6760" y="23558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66960" y="310824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96760" y="3841920"/>
            <a:ext cx="13680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19120" y="3022560"/>
            <a:ext cx="168480" cy="141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96760" y="381312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57320" y="381312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5960" y="387504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8840" y="389556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9520" y="283536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8360" y="333072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02280" y="331776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34640" y="397512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09880" y="311616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40040" y="3849840"/>
            <a:ext cx="13644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2400" y="3030480"/>
            <a:ext cx="168120" cy="141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40040" y="382104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0600" y="382104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9240" y="392112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41760" y="390384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22800" y="2843280"/>
            <a:ext cx="258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2360" y="33386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45200" y="33256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77920" y="39830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53240" y="310356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683400" y="3836880"/>
            <a:ext cx="13644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05760" y="3017880"/>
            <a:ext cx="168120" cy="14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83400" y="380844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743960" y="3808440"/>
            <a:ext cx="16956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32600" y="388944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37600" y="390996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165800" y="283068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45000" y="33256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290360" y="33130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21280" y="39704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38760" y="310500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68920" y="3838680"/>
            <a:ext cx="13644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91280" y="3019320"/>
            <a:ext cx="168120" cy="141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68920" y="380988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829480" y="3809880"/>
            <a:ext cx="16956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79960" y="389088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70640" y="389268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51320" y="283212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30520" y="33274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74080" y="33148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07520" y="39718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96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gorithm of Joung and Smolka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livelock in absence of the assumption o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966960" y="387036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04760" y="378612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09880" y="387828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48040" y="379404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53240" y="386568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91400" y="378144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38760" y="386712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76920" y="378288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73880" y="1382760"/>
            <a:ext cx="276120" cy="27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478640" y="1401840"/>
            <a:ext cx="276120" cy="27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2973240"/>
            <a:ext cx="27612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87840" y="2992320"/>
            <a:ext cx="27612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92600" y="2973240"/>
            <a:ext cx="27648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45240" y="2973240"/>
            <a:ext cx="27648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7120" y="4797360"/>
            <a:ext cx="87476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states at the beginning of Lines 3, 5 and  6 are represented with  a filled circ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states at the beginning of Line 1, 2 and 8 are represented with a white circ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Lines 4 and 7 are never reac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3FB6-D392-4042-8D8D-6C565DB91AC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1)  The dining philosoph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432080"/>
            <a:ext cx="833940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Each philosopher needs exactly two f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Each fork is shared by exactly two philosop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philosopher can access only one fork at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5200" y="1684440"/>
            <a:ext cx="8200800" cy="47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27400" y="3592440"/>
            <a:ext cx="2060640" cy="1600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200" y="3919680"/>
            <a:ext cx="44784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27400" y="3919680"/>
            <a:ext cx="44604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71960" y="5335560"/>
            <a:ext cx="44748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5543640" y="5041800"/>
            <a:ext cx="0" cy="3384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89640" y="5032440"/>
            <a:ext cx="96840" cy="22680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024360" y="5101920"/>
            <a:ext cx="0" cy="3380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59200" y="5079960"/>
            <a:ext cx="96840" cy="2271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253040" y="3133440"/>
            <a:ext cx="0" cy="3380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00480" y="3124080"/>
            <a:ext cx="95400" cy="2271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4448160"/>
            <a:ext cx="261720" cy="1112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1073600">
            <a:off x="4241520" y="4545720"/>
            <a:ext cx="261720" cy="1112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4467600">
            <a:off x="4180320" y="4597920"/>
            <a:ext cx="2570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8067200">
            <a:off x="4112280" y="4486680"/>
            <a:ext cx="25740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3974600">
            <a:off x="4168440" y="4399920"/>
            <a:ext cx="2588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21280" y="4586400"/>
            <a:ext cx="261720" cy="1094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1073600">
            <a:off x="4140000" y="4601880"/>
            <a:ext cx="261720" cy="1108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4467600">
            <a:off x="4067640" y="4520160"/>
            <a:ext cx="2570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8067200">
            <a:off x="4062960" y="4486680"/>
            <a:ext cx="25740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3974600">
            <a:off x="4046400" y="4597200"/>
            <a:ext cx="257040" cy="1141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87720" y="4336920"/>
            <a:ext cx="528840" cy="52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84CE-ED10-4E0B-8E1F-BA421F15848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9280" y="104760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Deadlock freedom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(aka</a:t>
            </a: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 progress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)</a:t>
            </a: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if there is a hungry philosopher, a philosopher will eventually ea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Starvation freedom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every hungry philosopher will eventually eat (but we won’t consider this property here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Robustness wrt a large class of adversaries: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 Adversaries decide who does the next move (schedulers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Comic Sans MS"/>
              </a:rPr>
              <a:t>Fully distributed: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</a:rPr>
              <a:t> no centralized control or memory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Comic Sans MS"/>
              </a:rPr>
              <a:t>Symmetric: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omic Sans MS"/>
              </a:rPr>
              <a:t>All philosophers run the same code and are in the same initial state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omic Sans MS"/>
              </a:rPr>
              <a:t>The same holds for the forks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577800" y="395280"/>
            <a:ext cx="8256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1880" indent="-343080" algn="ct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tended properties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1A23-734E-4F6B-85F2-F181B90C338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6308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n-existence of a “deterministic” solu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1480" y="13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Lehman and Rabin have shown that there does not exist a “deterministic” (i.e. non-probabilistic) solution to the dining philosophers, satisfying all properties listed in previous slide.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The proof proceeds by proving that for every possible program we can define an adversary (scheduler) which preserves the initial symmetr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Comic Sans MS"/>
              </a:rPr>
              <a:t>Note: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  Francez and Rodeh did propose a  “deterministic” solution using CSP. The solution to this apparent contradiction is that CSP cannot be implemented in a fully distributed wa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8C0C-A66F-48A1-B862-DD89798371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lgorithm of Lehmann and Rab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5960" y="15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Think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randomly choose fork in {left,right}   %commit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if taken(fork) then goto 3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                      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else take(fork)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if taken(other(fork)) then {release(fork); goto 2}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                                 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else take(other(fork)) 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eat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release(other(fork)) 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release(fork)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goto</a:t>
            </a:r>
            <a:r>
              <a:rPr b="0" lang="en-US" sz="29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23EF-62DC-47D4-BB7C-6F8ADF946E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5160" y="279000"/>
            <a:ext cx="86518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rrectness of the algorithm of Lehmann and Rab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1120" y="2238480"/>
            <a:ext cx="826308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heorem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for every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fair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adversary, if a philosopher becomes hungry, then a philosopher (not necessarily the same) will eventually eat with probability 1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Question: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  why the fairness requirement? Can we write a variant of the algorithm which does not require fairness?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6A44-CA34-42F1-B925-75434A12F0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 The committee coordination 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188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Description of the problem: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In a certain university, professors have organized themselves into committees. Each committee has a fixed membership roster of two or more professors. From time to time a professor may decide to attend a committee meeting. He then starts waiting and continues to wait until a  meeting of a committee in which he is member is established.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Requirements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Mutual exclusion:</a:t>
            </a: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 No two committees meet simultaneously if they have a common member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Weak Interaction Fairness (WIF) :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 if all professors of a committee are waiting (i.e. the committee meeting is enabled) , then eventually some professor will attend a committee meeting (not necessarily the same).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or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Strong Interaction Fairness (SIF):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 A committee meetig that is enabled infinitely often will be established infinitely often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A1DF-4234-4E2F-A668-0263E840A8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committee coordination proble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Comic Sans MS"/>
              </a:rPr>
              <a:t>Question:</a:t>
            </a: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 for which requirement among WIF and SIF do we have a correspondence with the synchronization mechanisms used in process calculi, like (the theory of) CSP and </a:t>
            </a:r>
            <a:r>
              <a:rPr b="0" lang="en-US" sz="2400" spc="-1" strike="noStrike">
                <a:solidFill>
                  <a:srgbClr val="9900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?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General case equivalent to </a:t>
            </a: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multiway synchronization</a:t>
            </a: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, like the mechanism used in (the Theory of) CSP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Binary case equivalent to the 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synchronization among two partners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, like in CCS and 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95EB-BBD4-40F6-BC00-1495A1758A5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lgorithm of Joung and Smolk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4120" y="1547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ile waiting do {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andomly choose a committee M ;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f TEST&amp;OP(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inc,inc) = n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 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hen % a committee meeting is established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tend the meeting M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else { wait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time ;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f TEST&amp;OP(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no-op,dec) = 0 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hen % a committee meeting is established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tend the meeting M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% else try another committee    }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B7B5-9A21-4D8A-8FE4-FD98EAFF3CC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5T22:10:50Z</dcterms:modified>
  <cp:revision>121</cp:revision>
  <dc:subject/>
  <dc:title>Concurrency 5</dc:title>
</cp:coreProperties>
</file>