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F10-FF18-4303-BCAB-A24A0BC3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CD1-992E-4E7E-9388-C94E7C5A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98B-EE13-46FE-BAD6-0D5949FF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DDE-44BC-4C63-9E48-BD9BB9B7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936-B159-4859-9F82-17E4130B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81D-3C75-4A08-AA6D-0355220A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4BB-A673-4DC9-93E1-37F33DB6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700-DD80-49F4-AD07-109A3A7D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33A-F15E-403E-965B-0385A1C8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F13-92FA-4760-8E9C-90CC3997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D80-81C9-441E-8143-725CA304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95A-4096-44A8-9EBB-678DCF01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2D78-C213-498E-8869-3FDFC7D4E7C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4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lems in distributed systems for which 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only randomized solutions ex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of the algorit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ssumption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&gt; ma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ro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{tim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M,prof)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if a committee is enabled then a professor will eventually attend a meeting with probability 1 (W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 if a professor’s transition from thinking to waiting does not depend on the random draws performed by other professors, then a committee meeting which is enabled infinitely often will eventually be established (S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A40-0ABD-4EDE-AE87-8F7BB3DE3B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ortance of the assumption o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ssumption 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is an assumption about the degree of synchronism (in the sense of cooperation) of the system. In Distributed Algorithms there are three models of coopera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Partially 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Synchronous (lock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assumption corresponds to (2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Hence this algorithm would not be suitable for implementing the synchronization mechanism of CSP or CCS in a fully distributed setting, since we need an asynchronous cooperation model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A09-D0D1-4701-97E9-E8891F87B5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11520" y="1344600"/>
            <a:ext cx="276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37160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770280"/>
            <a:ext cx="44604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2400" y="3405240"/>
            <a:ext cx="614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6080" y="3432240"/>
            <a:ext cx="85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03480" y="4052520"/>
            <a:ext cx="888840" cy="19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2543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1700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4922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4560" y="222552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6920" y="140652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456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25900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2701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7320" y="121932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160" y="1714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9720" y="1701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3160" y="2359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7680" y="226224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17800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57680" y="150012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7480" y="22334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9840" y="141444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8748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804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9160" y="22669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1680" y="230652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0240" y="122724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0160" y="17226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300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6080" y="23670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0680" y="2249640"/>
            <a:ext cx="1094040" cy="70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8840" y="2165400"/>
            <a:ext cx="1216080" cy="780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0680" y="148752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22208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53200" y="1401840"/>
            <a:ext cx="168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30840" y="21924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1400" y="219240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9760" y="22543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2654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0" y="12142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244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7800" y="1697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8720" y="23544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6200" y="2251080"/>
            <a:ext cx="109404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4360" y="21668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148896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2264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720" y="140328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7692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7400" y="225576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37160" y="22766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00560" y="1216080"/>
            <a:ext cx="257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77960" y="1711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1880" y="1698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6760" y="23558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66960" y="310824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6760" y="384192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9120" y="302256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6760" y="381312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7320" y="381312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960" y="38750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8840" y="38955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9520" y="283536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360" y="3330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2280" y="331776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4640" y="39751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9880" y="31161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384984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2400" y="303048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38210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0600" y="38210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9240" y="39211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39038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2800" y="284328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2360" y="3338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52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7920" y="3983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240" y="31035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83400" y="383688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05760" y="301788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3400" y="38084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3960" y="380844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32600" y="38894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37600" y="39099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5800" y="28306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450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90360" y="3313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21280" y="3970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38760" y="31050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8920" y="383868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1280" y="301932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8920" y="38098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29480" y="380988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9960" y="389088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0640" y="38926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1320" y="283212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30520" y="3327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74080" y="3314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07520" y="3971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96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of Joung and Smolka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livelock in absence of the assumption 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387036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4760" y="378612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38782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8040" y="37940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3240" y="38656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1400" y="37814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38760" y="38671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7828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3880" y="138276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78640" y="140184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297324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7840" y="299232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9260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524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20" y="4797360"/>
            <a:ext cx="8747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s 3, 5 and  6 are represented with  a filled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 1, 2 and 8 are represented with a white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Lines 4 and 7 are never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A1D-0AA7-4F37-8BCD-350ECD6D3C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)  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F8D-8A0E-4983-B2E3-C20FB33B8D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1047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Starvation freedo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Robustness wrt a large class of adversaries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Adversaries decide who does the next move (scheduler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Fully distributed: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 no centralized control or memory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mic Sans MS"/>
              </a:rPr>
              <a:t>Symmetric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All philosophers run the same code and are in the same initial stat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 same holds for the fork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5BC-FB34-4608-A46A-0E5E948D04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Francez and Rodeh did propose a  “deterministic” solution using CSP. The solu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7FAA-BD5E-487E-9753-109983CF1F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andomly choose fork in {left,right}   %commi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fork) then goto 3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other(fork)) then {release(fork); goto 2}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9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3F7-0FED-41DB-9678-A7B828538F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65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120" y="2238480"/>
            <a:ext cx="826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3F7-3906-4923-BF77-855C528358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The committee coordination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escription of the problem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In a certain university, professors have organized themselves into committees. Each committee has a fixed membership roster of two or more professors. From time to time a professor may decide to attend a committee meeting. He then starts waiting and continues to wait until a  meeting of a committee in which he is member is established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Mutual exclusion:</a:t>
            </a: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 No two committees meet simultaneously if they have a common memb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Weak Interaction Fairness (WIF) :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if all professors of a committee are waiting (i.e. the committee meeting is enabled) , then eventually some professor will attend a committee meeting (not necessarily the same).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Strong Interaction Fairness (SIF)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 A committee meetig that is enabled infinitely often will be established infinitely often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E39-6E7C-4DF6-832F-2C820559D7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ittee coordination 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 for which requirement among WIF and SIF do we have a correspondence with the synchronization mechanisms used in process calculi, like (the theory of) CSP and </a:t>
            </a: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eneral case equivalent to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multiway synchronization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, like the mechanism used in (the Theory of) CS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Binary case equivalent to the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synchronization among two partner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, like in CCS and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0FE-B024-4EA8-9EBE-27DB883391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Joung and Smolk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waiting do {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andomly choose a committee M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inc,inc) = n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 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lse { wai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time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no-op,dec) = 0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% else try another committee    }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243-62C8-4036-A26F-62D4E61B96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2:10:50Z</dcterms:modified>
  <cp:revision>121</cp:revision>
  <dc:subject/>
  <dc:title>Concurrency 5</dc:title>
</cp:coreProperties>
</file>