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push.wav" ContentType="audio/x-wav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2.png" ContentType="image/png"/>
  <Override PartName="/ppt/media/suction.wav" ContentType="audio/x-wav"/>
  <Override PartName="/ppt/media/image25.png" ContentType="image/png"/>
  <Override PartName="/ppt/media/image1.png" ContentType="image/png"/>
  <Override PartName="/ppt/media/image24.png" ContentType="image/png"/>
  <Override PartName="/ppt/media/image8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A02C-B26C-41C5-A391-4382B8E8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D1B6-B842-4185-95E6-D4E10A80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362D-A956-40CD-B28B-81234941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8C23-C0E5-42CB-8961-CBA0B8114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AC9F-7198-44FC-BD5C-CFBA5D24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C60F-C17C-480D-A8E3-BFA3B4BD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6A82-CB07-462F-B2F2-902E44B6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F9D3-FD61-425A-9139-C2F9F3DA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6882-C6DC-4B7A-BB08-5BDC4930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EAD4-8F53-4594-BA10-6FCFFFB3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4955-B68D-4B80-89A8-12C2C056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95EE-6908-4444-8400-E94E2499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F7FD-70C4-4E5B-873A-BC754AC67C2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ix.polytechnique.fr/~catuscia/teaching/Pisa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.cam.ac.uk/users/rm135/" TargetMode="External"/><Relationship Id="rId2" Type="http://schemas.openxmlformats.org/officeDocument/2006/relationships/hyperlink" Target="http://www.cis.upenn.edu/%7Ebcpierce/" TargetMode="External"/><Relationship Id="rId3" Type="http://schemas.openxmlformats.org/officeDocument/2006/relationships/hyperlink" Target="http://www.cis.upenn.edu/%7Ebcpierce/papers/crchandbook.ps" TargetMode="External"/><Relationship Id="rId4" Type="http://schemas.openxmlformats.org/officeDocument/2006/relationships/image" Target="../media/image1.png"/><Relationship Id="rId5" Type="http://schemas.openxmlformats.org/officeDocument/2006/relationships/hyperlink" Target="file:///../../papers_and_books/intro.ps" TargetMode="External"/><Relationship Id="rId6" Type="http://schemas.openxmlformats.org/officeDocument/2006/relationships/hyperlink" Target="file:///../../papers_and_books/BRICS-RS-99-42.ps" TargetMode="External"/><Relationship Id="rId7" Type="http://schemas.openxmlformats.org/officeDocument/2006/relationships/hyperlink" Target="file:///../../papers_and_books/BRICS-RS-99-42.ps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000" y="932040"/>
            <a:ext cx="8642160" cy="14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rse 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oncurrent Languages for Probabilistic Asynchronous Communicat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3760" y="2776680"/>
            <a:ext cx="73152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Lecture 1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he pi-calculus and the asynchronous pi-calculus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NRIA Futurs &amp; LIX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Franc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Names: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ree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Bound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cc00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Input and restriction are bind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Exercise: give the formal definition of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lpha conversion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4640" y="1662120"/>
            <a:ext cx="687240" cy="291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152800" y="2392200"/>
            <a:ext cx="649080" cy="233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2114640" y="2046240"/>
            <a:ext cx="666720" cy="230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570640" y="3006720"/>
            <a:ext cx="2012760" cy="237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2459160" y="3621240"/>
            <a:ext cx="4046400" cy="236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1576440" y="4159080"/>
            <a:ext cx="4981680" cy="246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2382840" y="5079960"/>
            <a:ext cx="4106880" cy="247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2421000" y="5656320"/>
            <a:ext cx="1984320" cy="21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BD7E-2BC5-4184-B3BF-E0E2F468E73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: structural equival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1520" y="15858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Introduced to simplify the  description of the operational semantic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mr10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         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then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Some presentations include other equivalences, for instance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,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 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(scope extrusion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9984-D045-435B-90F9-ADEB31B2120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lculus: operational semanti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operational semantics of the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 is defined as a labeled transition system. Transitions have the form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Here  </a:t>
            </a:r>
            <a:r>
              <a:rPr b="0" i="1" lang="en-US" sz="1600" spc="-1" strike="noStrike">
                <a:solidFill>
                  <a:srgbClr val="3333ff"/>
                </a:solidFill>
                <a:latin typeface="cmr10"/>
              </a:rPr>
              <a:t>P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 and  </a:t>
            </a:r>
            <a:r>
              <a:rPr b="0" i="1" lang="en-US" sz="1600" spc="-1" strike="noStrike">
                <a:solidFill>
                  <a:srgbClr val="3333ff"/>
                </a:solidFill>
                <a:latin typeface="cmr10"/>
              </a:rPr>
              <a:t>Q 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are processes and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is an action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re are various operational semantics for the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. We describe here the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late semantics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. Actions are defined as follows: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727440" y="2276640"/>
            <a:ext cx="887400" cy="284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75080" y="4081320"/>
            <a:ext cx="3848040" cy="159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EF01-2BD7-4089-9516-3BE11936D66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us: late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46000" y="1623960"/>
            <a:ext cx="3162600" cy="593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02080" y="2046240"/>
            <a:ext cx="2560680" cy="2924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98120" y="5388120"/>
            <a:ext cx="68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uestions:  1) Why the side condition in Par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2) Could we write x(z) in L-Com and avoid the substitution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770040" y="2698920"/>
            <a:ext cx="3956040" cy="231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7C49-C174-48FC-9E64-D15708846C9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us: early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459160" y="2162160"/>
            <a:ext cx="3162240" cy="593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224320" y="2890800"/>
            <a:ext cx="2560680" cy="2924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15960" y="2928960"/>
            <a:ext cx="4019400" cy="2886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54120" y="1355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7480" y="1009800"/>
            <a:ext cx="415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New kind of action: free input x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Add E-input and replace L-Com by E-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56F0-82F0-45D2-B855-C13A70C37A7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late bisimul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2046240"/>
            <a:ext cx="8209080" cy="29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CAA8-0498-4E75-AA40-2CA7AD3BD49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early bisimul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77880" y="1522440"/>
            <a:ext cx="773892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2D5F-0F01-4FFD-9E85-28F97F52BD0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te vs early bisimu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Late bisimulation is strictly more discriminating than early bisimulation.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Example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68320" y="2430360"/>
            <a:ext cx="4788000" cy="12034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61960" y="43797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ercise: write a similar example without using the match operator (i.e. the if-then-else). Hint: use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BFA4-82ED-4BE4-B6B7-2E648D3368E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gru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24160" y="3160800"/>
            <a:ext cx="6324480" cy="1193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116000" y="1739880"/>
            <a:ext cx="6107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Question: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are 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,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congrue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25360" y="2441520"/>
            <a:ext cx="34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Answer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No.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Examp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4697280"/>
            <a:ext cx="752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There are other equivalences which are defined to be congruences.  In particular  Open bisimul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Cfr. lecture by D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821C-9A49-4344-94D4-479D2AD027C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synchronou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5920" y="13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If P | Q is interpreted as the composition of two remote processes P and Q, then the mechanism of synchronous communication seems unrealistic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Synchronization combined with choice seems even less realistic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In a distributed system, communication is asynchronous  (exchange of messages). The send takes place independently of the readiness of a receiver, and it is not blocking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asynchnous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: A calculus for representing asynchnous communication. It was introduced independently by Honda-Tokoro [1991] and by Boudol [1992]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921040" y="1969920"/>
            <a:ext cx="2496960" cy="25560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1538280" y="2727720"/>
            <a:ext cx="5146200" cy="1048680"/>
            <a:chOff x="1538280" y="2727720"/>
            <a:chExt cx="5146200" cy="1048680"/>
          </a:xfrm>
        </p:grpSpPr>
        <p:grpSp>
          <p:nvGrpSpPr>
            <p:cNvPr id="196" name=""/>
            <p:cNvGrpSpPr/>
            <p:nvPr/>
          </p:nvGrpSpPr>
          <p:grpSpPr>
            <a:xfrm>
              <a:off x="1538280" y="2727720"/>
              <a:ext cx="5146200" cy="1048680"/>
              <a:chOff x="1538280" y="2727720"/>
              <a:chExt cx="5146200" cy="104868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5216400" y="2727720"/>
                <a:ext cx="657720" cy="491400"/>
                <a:chOff x="5216400" y="2727720"/>
                <a:chExt cx="657720" cy="491400"/>
              </a:xfrm>
            </p:grpSpPr>
            <p:sp>
              <p:nvSpPr>
                <p:cNvPr id="198" name=""/>
                <p:cNvSpPr/>
                <p:nvPr/>
              </p:nvSpPr>
              <p:spPr>
                <a:xfrm flipV="1">
                  <a:off x="5216400" y="3062880"/>
                  <a:ext cx="657720" cy="156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0797800">
                  <a:off x="5425200" y="2754000"/>
                  <a:ext cx="269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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1538280" y="2913120"/>
                <a:ext cx="5146200" cy="863280"/>
                <a:chOff x="1538280" y="2913120"/>
                <a:chExt cx="5146200" cy="863280"/>
              </a:xfrm>
            </p:grpSpPr>
            <p:pic>
              <p:nvPicPr>
                <p:cNvPr id="20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38280" y="3201480"/>
                  <a:ext cx="348768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02" name=""/>
                <p:cNvGrpSpPr/>
                <p:nvPr/>
              </p:nvGrpSpPr>
              <p:grpSpPr>
                <a:xfrm>
                  <a:off x="5216400" y="3139200"/>
                  <a:ext cx="662040" cy="457200"/>
                  <a:chOff x="5216400" y="3139200"/>
                  <a:chExt cx="662040" cy="4572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5216400" y="3458160"/>
                    <a:ext cx="662040" cy="13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rot="708600">
                    <a:off x="5517720" y="3162960"/>
                    <a:ext cx="2692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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0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050520" y="2913120"/>
                  <a:ext cx="63396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50520" y="3553920"/>
                  <a:ext cx="62460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207" name="" descr=""/>
            <p:cNvPicPr/>
            <p:nvPr/>
          </p:nvPicPr>
          <p:blipFill>
            <a:blip r:embed="rId5"/>
            <a:stretch/>
          </p:blipFill>
          <p:spPr>
            <a:xfrm>
              <a:off x="1538280" y="3196440"/>
              <a:ext cx="3487680" cy="22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2388-10CF-401A-9BB1-3B8516518FA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1880" y="125280"/>
            <a:ext cx="791712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ministrativi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3760" y="1201680"/>
            <a:ext cx="8026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  <a:ea typeface="Arial"/>
              </a:rPr>
              <a:t>Homepage of the course: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ea typeface="Arial"/>
                <a:hlinkClick r:id="rId1"/>
              </a:rPr>
              <a:t>www.lix.polytechnique.fr/~catuscia/teaching/Pisa/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99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Slid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99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Some copies of the papers/books used as referenc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Exam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Schedule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6415200" y="50418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E909-C7CA-430E-8FB5-969EFDCA4E0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synchronou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: synta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7440" y="1623960"/>
            <a:ext cx="8410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It differs from the 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-calculus for the absence of the output prefix (replaced by output action) and also for the absence of the +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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output 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230480" y="2506680"/>
            <a:ext cx="2447640" cy="365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576440" y="3736800"/>
            <a:ext cx="2095560" cy="209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B1DA-5229-42ED-9661-D5E1D1DEEC4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synchronous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calculus: OS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The operational semantics of the asynchronous  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-calculus (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) are the same as those of the (synchronous) 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-calculus  (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), we only eliminate the rule for + and replace the output rule with the following: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The early and late bisimulations are obtained as usual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interpretation is as follows: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33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The send takes place when the output action is at the top-level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33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The receive takes place when the output action matches a corresponding input, i.e. when we apply the rule comm or close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265560" y="2584440"/>
            <a:ext cx="1882800" cy="501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723000" y="4465800"/>
            <a:ext cx="1565280" cy="217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835280" y="5643720"/>
            <a:ext cx="5146560" cy="24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AEE8-99F9-411D-85C3-580B5215F64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an of the l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1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Comic Sans MS"/>
              </a:rPr>
              <a:t>The pi-calculus and the asynchonous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The pi-calculus hierarchy: encoding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Encoding of output prefix in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Encoding of input guarded choice in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00"/>
                </a:solidFill>
                <a:latin typeface="Comic Sans MS"/>
              </a:rPr>
              <a:t>The pi-calculus hierarchy: separation result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omic Sans MS"/>
              </a:rPr>
              <a:t>Separation between the pi-calculus and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omic Sans MS"/>
              </a:rPr>
              <a:t>Separation between the pi-calculus and CC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Problems in distributed algorithms for which only randomized solutions exist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Basics of Measure Theory and Probability Theory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Probabilistic Automata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The probabilistic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Encoding of the pi-calculus into the asynchronous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Other uses of randomization: randomized protocols for anonymity and contract signing.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Comic Sans MS"/>
              </a:rPr>
              <a:t>A proof search specification of the pi-calculus (speaker: Dale Miller)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A085-F11B-41A1-B632-3EE4130A9E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85960" y="1599840"/>
            <a:ext cx="7449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Milner, Parrow, Walker 1989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A concurrent calculus where the communication structure among existing processes can change over time.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mic Sans MS"/>
              </a:rPr>
              <a:t>Link mobility.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4" marL="21718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98720" y="3467160"/>
            <a:ext cx="1437840" cy="2133720"/>
            <a:chOff x="1998720" y="3467160"/>
            <a:chExt cx="1437840" cy="2133720"/>
          </a:xfrm>
        </p:grpSpPr>
        <p:sp>
          <p:nvSpPr>
            <p:cNvPr id="51" name=""/>
            <p:cNvSpPr/>
            <p:nvPr/>
          </p:nvSpPr>
          <p:spPr>
            <a:xfrm>
              <a:off x="2898720" y="5200920"/>
              <a:ext cx="53784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8720" y="544860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62320" y="545652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98720" y="5042160"/>
              <a:ext cx="36324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720" y="358308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00240" y="3467160"/>
              <a:ext cx="17424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00240" y="3888000"/>
              <a:ext cx="8676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00240" y="3902400"/>
              <a:ext cx="17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41200" y="410544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61960" y="3699000"/>
              <a:ext cx="536400" cy="114624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998720" y="3467160"/>
            <a:ext cx="4962600" cy="2141280"/>
            <a:chOff x="1998720" y="3467160"/>
            <a:chExt cx="4962600" cy="2141280"/>
          </a:xfrm>
        </p:grpSpPr>
        <p:sp>
          <p:nvSpPr>
            <p:cNvPr id="62" name=""/>
            <p:cNvSpPr/>
            <p:nvPr/>
          </p:nvSpPr>
          <p:spPr>
            <a:xfrm>
              <a:off x="4233960" y="520848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33960" y="54561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97560" y="546408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33960" y="504972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98720" y="358272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00240" y="34671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00240" y="388764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00240" y="39020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41560" y="41050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62320" y="3663720"/>
              <a:ext cx="1871640" cy="118908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97720" y="36050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34891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99240" y="390996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99240" y="39243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40560" y="41274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62320" y="3582720"/>
              <a:ext cx="4235400" cy="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989000" y="3479760"/>
            <a:ext cx="4962240" cy="2133360"/>
            <a:chOff x="1989000" y="3479760"/>
            <a:chExt cx="4962240" cy="2133360"/>
          </a:xfrm>
        </p:grpSpPr>
        <p:sp>
          <p:nvSpPr>
            <p:cNvPr id="79" name=""/>
            <p:cNvSpPr/>
            <p:nvPr/>
          </p:nvSpPr>
          <p:spPr>
            <a:xfrm>
              <a:off x="4887720" y="521316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87720" y="546084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51320" y="54687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87720" y="505440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89000" y="359532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90520" y="34797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90520" y="390024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90520" y="39146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1840" y="41176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87640" y="36176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89520" y="35017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89520" y="392256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89520" y="39369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30840" y="41400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366880" y="3710880"/>
              <a:ext cx="1263960" cy="114156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882880" y="4772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17960" y="3583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54DA-5D9A-4247-BD93-ACEB87442D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0" idx="7"/>
            <a:endCxn id="101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04" name=""/>
          <p:cNvCxnSpPr>
            <a:stCxn id="101" idx="5"/>
            <a:endCxn id="102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66640" y="554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E815-3C40-464C-B457-AF98EE643F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>
            <a:stCxn id="115" idx="0"/>
            <a:endCxn id="116" idx="2"/>
          </p:cNvCxnSpPr>
          <p:nvPr/>
        </p:nvCxnSpPr>
        <p:spPr>
          <a:xfrm flipH="1" flipV="1" rot="5400000">
            <a:off x="3352320" y="4214160"/>
            <a:ext cx="986760" cy="102780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388680" y="407196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5" idx="7"/>
            <a:endCxn id="116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20" name=""/>
          <p:cNvCxnSpPr>
            <a:stCxn id="116" idx="5"/>
            <a:endCxn id="118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8023-7812-4548-831D-70136DFFB2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5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31" idx="6"/>
            <a:endCxn id="132" idx="7"/>
          </p:cNvCxnSpPr>
          <p:nvPr/>
        </p:nvCxnSpPr>
        <p:spPr>
          <a:xfrm>
            <a:off x="4635000" y="4235400"/>
            <a:ext cx="1019880" cy="102312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5384160" y="422424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/>
          <p:nvPr/>
        </p:nvCxnSpPr>
        <p:spPr>
          <a:xfrm>
            <a:off x="3471480" y="5344920"/>
            <a:ext cx="1948320" cy="1080"/>
          </a:xfrm>
          <a:prstGeom prst="straightConnector1">
            <a:avLst/>
          </a:prstGeom>
          <a:ln w="28440">
            <a:solidFill>
              <a:srgbClr val="990033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4369680" y="534528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6" idx="7"/>
            <a:endCxn id="131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38" name=""/>
          <p:cNvCxnSpPr>
            <a:stCxn id="131" idx="5"/>
            <a:endCxn id="132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33920" y="527220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75080" y="3390840"/>
            <a:ext cx="3878280" cy="2573280"/>
          </a:xfrm>
          <a:custGeom>
            <a:avLst/>
            <a:gdLst/>
            <a:ahLst/>
            <a:rect l="l" t="t" r="r" b="b"/>
            <a:pathLst>
              <a:path w="2427" h="1802">
                <a:moveTo>
                  <a:pt x="109" y="1589"/>
                </a:moveTo>
                <a:cubicBezTo>
                  <a:pt x="4" y="1460"/>
                  <a:pt x="0" y="1185"/>
                  <a:pt x="36" y="1008"/>
                </a:cubicBezTo>
                <a:cubicBezTo>
                  <a:pt x="72" y="831"/>
                  <a:pt x="201" y="665"/>
                  <a:pt x="326" y="524"/>
                </a:cubicBezTo>
                <a:cubicBezTo>
                  <a:pt x="451" y="383"/>
                  <a:pt x="609" y="246"/>
                  <a:pt x="786" y="161"/>
                </a:cubicBezTo>
                <a:cubicBezTo>
                  <a:pt x="963" y="76"/>
                  <a:pt x="1210" y="0"/>
                  <a:pt x="1391" y="16"/>
                </a:cubicBezTo>
                <a:cubicBezTo>
                  <a:pt x="1572" y="32"/>
                  <a:pt x="1742" y="153"/>
                  <a:pt x="1875" y="258"/>
                </a:cubicBezTo>
                <a:cubicBezTo>
                  <a:pt x="2008" y="363"/>
                  <a:pt x="2112" y="484"/>
                  <a:pt x="2189" y="645"/>
                </a:cubicBezTo>
                <a:cubicBezTo>
                  <a:pt x="2266" y="806"/>
                  <a:pt x="2322" y="1061"/>
                  <a:pt x="2334" y="1226"/>
                </a:cubicBezTo>
                <a:cubicBezTo>
                  <a:pt x="2346" y="1391"/>
                  <a:pt x="2427" y="1552"/>
                  <a:pt x="2262" y="1637"/>
                </a:cubicBezTo>
                <a:cubicBezTo>
                  <a:pt x="2097" y="1722"/>
                  <a:pt x="1608" y="1710"/>
                  <a:pt x="1342" y="1734"/>
                </a:cubicBezTo>
                <a:cubicBezTo>
                  <a:pt x="1076" y="1758"/>
                  <a:pt x="875" y="1802"/>
                  <a:pt x="665" y="1782"/>
                </a:cubicBezTo>
                <a:cubicBezTo>
                  <a:pt x="455" y="1762"/>
                  <a:pt x="214" y="1718"/>
                  <a:pt x="109" y="1589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DA25-67CC-48EC-AA16-B9F6DD8F7E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7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alculus: some suggested bibliograp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1880" y="15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Robin Milner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Communicating and mobile systems: the pi-calculu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ambridge University Press, 1999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Benjamin Pierce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Foundational Calculi for Programming Language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hapter in the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CRC Handbook of Computer Science and Engineering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, 1996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Davide Sangiorgi and David Walker.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The pi-calculus. A Theory of Mobile Processe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ambridge University Press, 200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Joachim Parrow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An Introduction to the pi-Calculus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. In Handbook of Process Algebra, ed. Bergstra, Ponse, Smolka, pages 479-543, Elsevier 2001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BRICS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 RS 99-42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135E-541B-41A4-BD9E-FD3161B28CD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7440" y="1623960"/>
            <a:ext cx="8410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Similar to CCS with value passing, but values are channel names, and recursion is replaced by replication ( ! 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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out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u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93720" y="2584440"/>
            <a:ext cx="3168720" cy="365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422360" y="3774960"/>
            <a:ext cx="2305080" cy="21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7B9-4B96-4C42-98B4-9113E3A10BA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5T21:44:42Z</dcterms:modified>
  <cp:revision>61</cp:revision>
  <dc:subject/>
  <dc:title>Concurrency 5</dc:title>
</cp:coreProperties>
</file>