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538600" y="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088800" y="498240"/>
            <a:ext cx="359892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538600" y="6313320"/>
            <a:ext cx="4236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EE78-6376-445D-9B58-166AFE6D1D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89160" y="498600"/>
            <a:ext cx="3598920" cy="2492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302840" y="3155760"/>
            <a:ext cx="7169400" cy="29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7A6-952F-4577-92E3-EA104A3A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954-E0C1-47F7-964D-CFDE437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48C-C2EA-44EF-8563-8D67DB10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75212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20840"/>
            <a:ext cx="2711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A28-F1F3-4BF5-BBC8-2ACE7608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B83-4F5E-4E76-8681-55C464EF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69-3B3C-4A10-B244-0A03439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EE9-B310-4A26-89AB-EDC80560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967-DC7A-4BF6-931E-4CB733F1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15560"/>
            <a:ext cx="9906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C0B-5DD4-443C-A857-0A09A10F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E01-2700-4B71-A15D-0408830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2084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E78-3751-42DE-BFE9-28E9E1E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752120"/>
            <a:ext cx="4108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20840"/>
            <a:ext cx="8420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D3F-2A88-4ABE-99A3-AE7B096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08640"/>
            <a:ext cx="42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PRI 3 Dec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30864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uscia Palamid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83120" y="6524280"/>
            <a:ext cx="20638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950D-3FD0-4097-9951-F248C97FD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18080" y="31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Why Probability and Nondeterminism?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Concurrency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heduling within parallel 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known behavior of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der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vironment may be stochas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cesses may flip c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94F-4007-4824-AFB3-502359123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7360" y="1483920"/>
            <a:ext cx="96710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ample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 of objects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fiel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ubset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atisf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lusion of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mp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losure under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Comic Sans MS"/>
              </a:rPr>
              <a:t>Closure under countable interse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easure 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</a:t>
            </a:r>
            <a:r>
              <a:rPr b="0" lang="it-IT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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or each countable collectio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pairwise disjoint sets of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Sub-)probability mea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= 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Sigma-field generated b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malles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-field that includes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447920"/>
            <a:ext cx="4133880" cy="2376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27760" y="7620120"/>
            <a:ext cx="397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0680" y="1773360"/>
            <a:ext cx="372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xample: set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78240" y="2492280"/>
            <a:ext cx="3849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udy probabilitie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ts of exec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hich sets can I meas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8D0-BF91-47E1-934E-885B390B4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Measure Theor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hy not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ip a fair coin infinitely many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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orem: there is no probability measure 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0 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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AC4-6CE3-46E5-98E4-D40B2A734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4581360"/>
            <a:ext cx="912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4653000"/>
            <a:ext cx="92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measure on cones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extends uniquely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98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 a measure on th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field generated by c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1000" y="3772080"/>
            <a:ext cx="4111560" cy="2450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763800"/>
            <a:ext cx="2857680" cy="1128960"/>
          </a:xfrm>
          <a:custGeom>
            <a:avLst/>
            <a:gdLst/>
            <a:ahLst/>
            <a:rect l="l" t="t" r="r" b="b"/>
            <a:pathLst>
              <a:path w="1662" h="711">
                <a:moveTo>
                  <a:pt x="0" y="424"/>
                </a:moveTo>
                <a:lnTo>
                  <a:pt x="395" y="0"/>
                </a:lnTo>
                <a:lnTo>
                  <a:pt x="1662" y="0"/>
                </a:lnTo>
                <a:lnTo>
                  <a:pt x="1662" y="711"/>
                </a:lnTo>
                <a:lnTo>
                  <a:pt x="366" y="711"/>
                </a:lnTo>
                <a:lnTo>
                  <a:pt x="0" y="424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0640" y="5013360"/>
            <a:ext cx="1767240" cy="647640"/>
          </a:xfrm>
          <a:custGeom>
            <a:avLst/>
            <a:gdLst/>
            <a:ahLst/>
            <a:rect l="l" t="t" r="r" b="b"/>
            <a:pathLst>
              <a:path w="1027" h="408">
                <a:moveTo>
                  <a:pt x="0" y="181"/>
                </a:moveTo>
                <a:lnTo>
                  <a:pt x="272" y="0"/>
                </a:lnTo>
                <a:lnTo>
                  <a:pt x="1027" y="10"/>
                </a:lnTo>
                <a:lnTo>
                  <a:pt x="1027" y="408"/>
                </a:lnTo>
                <a:lnTo>
                  <a:pt x="181" y="408"/>
                </a:lnTo>
                <a:lnTo>
                  <a:pt x="0" y="181"/>
                </a:lnTo>
                <a:close/>
              </a:path>
            </a:pathLst>
          </a:custGeom>
          <a:solidFill>
            <a:srgbClr val="ffcc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320" y="3821040"/>
            <a:ext cx="4012560" cy="2387880"/>
            <a:chOff x="382320" y="3821040"/>
            <a:chExt cx="4012560" cy="2387880"/>
          </a:xfrm>
        </p:grpSpPr>
        <p:sp>
          <p:nvSpPr>
            <p:cNvPr id="293" name=""/>
            <p:cNvSpPr/>
            <p:nvPr/>
          </p:nvSpPr>
          <p:spPr>
            <a:xfrm>
              <a:off x="539280" y="4121280"/>
              <a:ext cx="180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320" y="46893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6000" y="4152960"/>
              <a:ext cx="543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7560" y="532116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072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4430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72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7200" y="57038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2600" y="382104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2600" y="50418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28640" y="4451400"/>
              <a:ext cx="882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640" y="4908600"/>
              <a:ext cx="825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85680" y="4093920"/>
              <a:ext cx="77040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85680" y="4348080"/>
              <a:ext cx="7704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41120" y="5314680"/>
              <a:ext cx="770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1120" y="5568840"/>
              <a:ext cx="77004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1640" y="404352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1640" y="526428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2200" y="436572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960" y="520380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9240" y="388476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83240" y="5680080"/>
              <a:ext cx="48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40280" y="399420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40280" y="5213520"/>
              <a:ext cx="614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18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6240" y="40752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90040" y="42782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23520" y="52880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6240" y="5570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1160" y="447840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7680" y="5111640"/>
              <a:ext cx="44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4480" y="4802040"/>
              <a:ext cx="61920" cy="257400"/>
            </a:xfrm>
            <a:custGeom>
              <a:avLst/>
              <a:gdLst/>
              <a:ahLst/>
              <a:rect l="l" t="t" r="r" b="b"/>
              <a:pathLst>
                <a:path w="54" h="243">
                  <a:moveTo>
                    <a:pt x="7" y="0"/>
                  </a:moveTo>
                  <a:cubicBezTo>
                    <a:pt x="15" y="20"/>
                    <a:pt x="54" y="83"/>
                    <a:pt x="53" y="123"/>
                  </a:cubicBezTo>
                  <a:cubicBezTo>
                    <a:pt x="52" y="163"/>
                    <a:pt x="11" y="218"/>
                    <a:pt x="0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76840" y="4284720"/>
              <a:ext cx="460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06000" y="5518080"/>
              <a:ext cx="53280" cy="1317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3" y="0"/>
                  </a:moveTo>
                  <a:cubicBezTo>
                    <a:pt x="9" y="10"/>
                    <a:pt x="41" y="42"/>
                    <a:pt x="41" y="63"/>
                  </a:cubicBezTo>
                  <a:cubicBezTo>
                    <a:pt x="41" y="84"/>
                    <a:pt x="9" y="111"/>
                    <a:pt x="0" y="1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ones and Measur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320" y="1412640"/>
            <a:ext cx="631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e of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t of executions with prefix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present event “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easure of a c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duct edges of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264280" y="1989000"/>
            <a:ext cx="4290480" cy="2448000"/>
            <a:chOff x="5264280" y="1989000"/>
            <a:chExt cx="4290480" cy="2448000"/>
          </a:xfrm>
        </p:grpSpPr>
        <p:sp>
          <p:nvSpPr>
            <p:cNvPr id="329" name=""/>
            <p:cNvSpPr/>
            <p:nvPr/>
          </p:nvSpPr>
          <p:spPr>
            <a:xfrm>
              <a:off x="5264280" y="1989000"/>
              <a:ext cx="4290480" cy="2448000"/>
            </a:xfrm>
            <a:custGeom>
              <a:avLst/>
              <a:gdLst/>
              <a:ahLst/>
              <a:rect l="l" t="t" r="r" b="b"/>
              <a:pathLst>
                <a:path w="2495" h="1542">
                  <a:moveTo>
                    <a:pt x="2404" y="1542"/>
                  </a:moveTo>
                  <a:lnTo>
                    <a:pt x="0" y="771"/>
                  </a:lnTo>
                  <a:lnTo>
                    <a:pt x="2404" y="0"/>
                  </a:lnTo>
                  <a:lnTo>
                    <a:pt x="2495" y="181"/>
                  </a:lnTo>
                  <a:lnTo>
                    <a:pt x="2404" y="408"/>
                  </a:lnTo>
                  <a:lnTo>
                    <a:pt x="2495" y="635"/>
                  </a:lnTo>
                  <a:lnTo>
                    <a:pt x="2359" y="862"/>
                  </a:lnTo>
                  <a:lnTo>
                    <a:pt x="2449" y="1134"/>
                  </a:lnTo>
                  <a:lnTo>
                    <a:pt x="2359" y="1315"/>
                  </a:lnTo>
                  <a:lnTo>
                    <a:pt x="2404" y="1542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00160" y="2636640"/>
              <a:ext cx="2154600" cy="1152360"/>
            </a:xfrm>
            <a:custGeom>
              <a:avLst/>
              <a:gdLst/>
              <a:ahLst/>
              <a:rect l="l" t="t" r="r" b="b"/>
              <a:pathLst>
                <a:path w="1253" h="726">
                  <a:moveTo>
                    <a:pt x="1207" y="726"/>
                  </a:moveTo>
                  <a:lnTo>
                    <a:pt x="0" y="365"/>
                  </a:lnTo>
                  <a:lnTo>
                    <a:pt x="1162" y="0"/>
                  </a:lnTo>
                  <a:lnTo>
                    <a:pt x="1253" y="227"/>
                  </a:lnTo>
                  <a:lnTo>
                    <a:pt x="1117" y="454"/>
                  </a:lnTo>
                  <a:lnTo>
                    <a:pt x="1207" y="72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64280" y="3127320"/>
              <a:ext cx="2135880" cy="241200"/>
            </a:xfrm>
            <a:custGeom>
              <a:avLst/>
              <a:gdLst/>
              <a:ahLst/>
              <a:rect l="l" t="t" r="r" b="b"/>
              <a:pathLst>
                <a:path w="1242" h="152">
                  <a:moveTo>
                    <a:pt x="0" y="54"/>
                  </a:moveTo>
                  <a:cubicBezTo>
                    <a:pt x="68" y="61"/>
                    <a:pt x="295" y="107"/>
                    <a:pt x="408" y="99"/>
                  </a:cubicBezTo>
                  <a:cubicBezTo>
                    <a:pt x="521" y="91"/>
                    <a:pt x="597" y="0"/>
                    <a:pt x="680" y="8"/>
                  </a:cubicBezTo>
                  <a:cubicBezTo>
                    <a:pt x="763" y="16"/>
                    <a:pt x="813" y="138"/>
                    <a:pt x="907" y="145"/>
                  </a:cubicBezTo>
                  <a:cubicBezTo>
                    <a:pt x="1001" y="152"/>
                    <a:pt x="1172" y="71"/>
                    <a:pt x="1242" y="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4480" y="2923920"/>
              <a:ext cx="547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46400" y="2781000"/>
              <a:ext cx="405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741240" y="4437000"/>
            <a:ext cx="882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960" y="4910040"/>
            <a:ext cx="8254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936800" y="5316480"/>
            <a:ext cx="7700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711-948E-46E4-953E-DCF1C9D9A0BA}" type="slidenum">
              <a:t>12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s of Even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48392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ntually 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le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ion of cones where action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ccurs n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at mo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ment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+1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exact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previous two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ccurs infinitel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an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section of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ction a occurs at least n times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r all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ecution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ccurs an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nothing is scheduled af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t consisting of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tersected complement of cones that extend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D14-AF69-4DC4-B618-6EAC14BF2D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44720" y="2666880"/>
            <a:ext cx="647532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8760" y="3962520"/>
            <a:ext cx="647532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Schedulers - Resolution of nondeterminism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8916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Schedu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nction        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(E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H) </a:t>
            </a:r>
            <a:r>
              <a:rPr b="0" i="1" lang="en-US" sz="2400" spc="-1" strike="noStrike">
                <a:solidFill>
                  <a:srgbClr val="ff0000"/>
                </a:solidFill>
                <a:latin typeface="Geneva CE"/>
              </a:rPr>
              <a:t>x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robabilistic executio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generated by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from state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0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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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 i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,a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89C-827B-4C5A-A6DC-3675EF7C5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25480" y="5105520"/>
            <a:ext cx="4705200" cy="1066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1523880"/>
            <a:ext cx="7446960" cy="1224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0440" y="1577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:: = 0  |  P|P  |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P + P |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  X  |  let X = P in X |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19000" y="46530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548640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62040" y="2997360"/>
            <a:ext cx="3192120" cy="1431720"/>
            <a:chOff x="662040" y="2997360"/>
            <a:chExt cx="3192120" cy="1431720"/>
          </a:xfrm>
        </p:grpSpPr>
        <p:sp>
          <p:nvSpPr>
            <p:cNvPr id="350" name=""/>
            <p:cNvSpPr/>
            <p:nvPr/>
          </p:nvSpPr>
          <p:spPr>
            <a:xfrm>
              <a:off x="878400" y="3421080"/>
              <a:ext cx="2495880" cy="1008000"/>
            </a:xfrm>
            <a:prstGeom prst="rect">
              <a:avLst/>
            </a:prstGeom>
            <a:solidFill>
              <a:srgbClr val="ff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040" y="3373560"/>
              <a:ext cx="2889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P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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560" y="2997360"/>
              <a:ext cx="30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f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91800" y="3906720"/>
              <a:ext cx="231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0440" y="3830760"/>
              <a:ext cx="3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23200" y="5638680"/>
            <a:ext cx="328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1-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13000" y="556272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352680"/>
            <a:ext cx="255888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21160" y="34243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terminist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3957480"/>
            <a:ext cx="231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9625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73960" y="40384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+ 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33526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ADA-FE53-41FC-9EB5-9D622BEE6E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08403 -0.00024 E">
                                      <p:cBhvr>
                                        <p:cTn id="331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95360" y="3429000"/>
            <a:ext cx="536580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imes New Roman"/>
              </a:rPr>
              <a:t>Probabilistic CC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800" y="297180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0240" y="403848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752480"/>
            <a:ext cx="2559240" cy="11430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360" y="1824120"/>
            <a:ext cx="28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240" y="1295280"/>
            <a:ext cx="30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5480" y="2357280"/>
            <a:ext cx="231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8520" y="23623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960" y="4191120"/>
            <a:ext cx="168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60320" y="411480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8160" y="24382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|Q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50960" y="17524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3560" y="3581280"/>
            <a:ext cx="18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65120" y="3581280"/>
            <a:ext cx="115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98040" y="3583080"/>
            <a:ext cx="896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600" y="4191120"/>
            <a:ext cx="143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15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21920" y="3429000"/>
            <a:ext cx="316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1752480"/>
            <a:ext cx="4787640" cy="121932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79720" y="1295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7400" y="2362320"/>
            <a:ext cx="27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51520" y="2514600"/>
            <a:ext cx="16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84800" y="2438280"/>
            <a:ext cx="28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40320" y="1905120"/>
            <a:ext cx="255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13480" y="1981080"/>
            <a:ext cx="790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1880" y="2514600"/>
            <a:ext cx="678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034960" y="1828800"/>
            <a:ext cx="82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23560" y="251460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5360" y="5105520"/>
            <a:ext cx="5365800" cy="121896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4724280"/>
            <a:ext cx="34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0240" y="579132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88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888640" y="5791320"/>
            <a:ext cx="33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560" y="533412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 let X = P in X / X 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1520" y="5181480"/>
            <a:ext cx="37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30920" y="5867280"/>
            <a:ext cx="4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8320" y="2133720"/>
            <a:ext cx="126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, 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69320" y="5867280"/>
            <a:ext cx="35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840" y="5867280"/>
            <a:ext cx="159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X = 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66F-CFB1-4B2A-BB8C-9DE4B13F8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Bisimulation Re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" y="1557000"/>
            <a:ext cx="95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e have the following objec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should extend the corresponding relations in the non probabilistic ca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Keep definitions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ere are the key differenc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C56-59D7-47AC-AC93-1B809B145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ong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00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9264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984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11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30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09" idx="3"/>
              <a:endCxn id="418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35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73720" y="416556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458-D43E-46E7-BCF6-F106C06A9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ong Bisimulation on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35680" y="2128680"/>
            <a:ext cx="4705200" cy="229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73720" y="419112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800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51000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2640" y="40384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76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76920" y="398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95240" y="3800160"/>
            <a:ext cx="3447360" cy="1822320"/>
            <a:chOff x="795240" y="3800160"/>
            <a:chExt cx="3447360" cy="1822320"/>
          </a:xfrm>
        </p:grpSpPr>
        <p:sp>
          <p:nvSpPr>
            <p:cNvPr id="475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55" idx="3"/>
              <a:endCxn id="464" idx="1"/>
            </p:cNvCxnSpPr>
            <p:nvPr/>
          </p:nvCxnSpPr>
          <p:spPr>
            <a:xfrm>
              <a:off x="1439640" y="3800160"/>
              <a:ext cx="2672640" cy="1080"/>
            </a:xfrm>
            <a:prstGeom prst="curvedConnector2">
              <a:avLst/>
            </a:prstGeom>
            <a:ln w="19080">
              <a:solidFill>
                <a:srgbClr val="d60093"/>
              </a:solidFill>
              <a:prstDash val="sysDot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0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9372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9372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797-CC28-4039-8FFC-7E7DA91D96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1616040"/>
            <a:ext cx="439416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4280" y="1700280"/>
            <a:ext cx="856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067-73C9-4AD4-929D-F2B3D34D2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obabilistic Bisimul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99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se two Probabilistic Automata are not bisimi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t they satisfy the same formulas of a logic PC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logic observes probability bounds on reachability propert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similar if we match transitions with convex combinations of transi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382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7168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31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8096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415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18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9600" y="3745080"/>
            <a:ext cx="567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577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050840" y="2449440"/>
            <a:ext cx="1486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628280" y="2449440"/>
            <a:ext cx="908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88880" y="2449440"/>
            <a:ext cx="330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9360" y="2449440"/>
            <a:ext cx="247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912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4120" y="3059280"/>
            <a:ext cx="247680" cy="75960"/>
          </a:xfrm>
          <a:custGeom>
            <a:avLst/>
            <a:gdLst/>
            <a:ahLst/>
            <a:rect l="l" t="t" r="r" b="b"/>
            <a:pathLst>
              <a:path w="144" h="48">
                <a:moveTo>
                  <a:pt x="0" y="0"/>
                </a:moveTo>
                <a:cubicBezTo>
                  <a:pt x="36" y="24"/>
                  <a:pt x="72" y="48"/>
                  <a:pt x="96" y="48"/>
                </a:cubicBezTo>
                <a:cubicBezTo>
                  <a:pt x="120" y="48"/>
                  <a:pt x="132" y="2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32280" y="2982960"/>
            <a:ext cx="1648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853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06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84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7104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39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96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3480" y="1916280"/>
            <a:ext cx="387972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77240" y="206856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8652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851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62960" y="3745080"/>
            <a:ext cx="566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56040" y="2449440"/>
            <a:ext cx="1485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334200" y="2449440"/>
            <a:ext cx="90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07360" y="244944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07360" y="2449440"/>
            <a:ext cx="1320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6432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0"/>
                </a:moveTo>
                <a:cubicBezTo>
                  <a:pt x="16" y="20"/>
                  <a:pt x="32" y="40"/>
                  <a:pt x="48" y="48"/>
                </a:cubicBezTo>
                <a:cubicBezTo>
                  <a:pt x="64" y="56"/>
                  <a:pt x="88" y="48"/>
                  <a:pt x="9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37480" y="2982960"/>
            <a:ext cx="1652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cubicBezTo>
                  <a:pt x="16" y="52"/>
                  <a:pt x="32" y="56"/>
                  <a:pt x="48" y="48"/>
                </a:cubicBezTo>
                <a:cubicBezTo>
                  <a:pt x="64" y="40"/>
                  <a:pt x="80" y="20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052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858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8916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3287880"/>
            <a:ext cx="372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864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68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193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420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02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0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8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81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92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591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494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190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2728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054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46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564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259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420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0336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328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02720" y="4125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0640" y="4125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479800" y="412596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6760" y="3141720"/>
            <a:ext cx="1092240" cy="13669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08120" y="2924280"/>
            <a:ext cx="10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9200" y="3716280"/>
            <a:ext cx="1195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it-IT" sz="2800" spc="-1" strike="noStrike" baseline="3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15000" y="3044880"/>
            <a:ext cx="777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2D-A101-44AF-8826-C6591CAC4F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030640" y="4745160"/>
            <a:ext cx="4757760" cy="13478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30640" y="2133720"/>
            <a:ext cx="471024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eak Bisimulation on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3040" y="1447560"/>
            <a:ext cx="7759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3978360"/>
            <a:ext cx="4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867520" y="380376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866800" y="2584440"/>
            <a:ext cx="52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64320" y="2022480"/>
            <a:ext cx="28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08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09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14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39760" y="4797360"/>
            <a:ext cx="5041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18480" y="4668840"/>
            <a:ext cx="98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481-3339-44F1-AB93-FF13CFF7B7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eak bisimulation 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680" y="3581280"/>
            <a:ext cx="4540320" cy="25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83800" y="35100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284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284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6560" y="4392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66560" y="53434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38360" y="4052880"/>
            <a:ext cx="342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81080" y="4052880"/>
            <a:ext cx="4129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012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65280" y="493560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21280" y="43243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53467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2640" y="487692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9520" y="3984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4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24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6708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95240" y="3687840"/>
            <a:ext cx="3447360" cy="1934640"/>
            <a:chOff x="795240" y="3687840"/>
            <a:chExt cx="3447360" cy="1934640"/>
          </a:xfrm>
        </p:grpSpPr>
        <p:sp>
          <p:nvSpPr>
            <p:cNvPr id="641" name=""/>
            <p:cNvSpPr/>
            <p:nvPr/>
          </p:nvSpPr>
          <p:spPr>
            <a:xfrm>
              <a:off x="1730520" y="43732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5240" y="4228920"/>
              <a:ext cx="3430800" cy="50436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46000" y="5262480"/>
              <a:ext cx="2496600" cy="36000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0720" y="5117760"/>
              <a:ext cx="3430440" cy="504720"/>
            </a:xfrm>
            <a:custGeom>
              <a:avLst/>
              <a:gdLst/>
              <a:ahLst/>
              <a:rect l="l" t="t" r="r" b="b"/>
              <a:pathLst>
                <a:path w="1452" h="185">
                  <a:moveTo>
                    <a:pt x="0" y="149"/>
                  </a:moveTo>
                  <a:cubicBezTo>
                    <a:pt x="57" y="128"/>
                    <a:pt x="213" y="50"/>
                    <a:pt x="343" y="26"/>
                  </a:cubicBezTo>
                  <a:cubicBezTo>
                    <a:pt x="473" y="2"/>
                    <a:pt x="883" y="0"/>
                    <a:pt x="1068" y="26"/>
                  </a:cubicBezTo>
                  <a:cubicBezTo>
                    <a:pt x="1253" y="52"/>
                    <a:pt x="1372" y="152"/>
                    <a:pt x="1452" y="18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06080" y="3687840"/>
              <a:ext cx="2888640" cy="896760"/>
            </a:xfrm>
            <a:custGeom>
              <a:avLst/>
              <a:gdLst/>
              <a:ahLst/>
              <a:rect l="l" t="t" r="r" b="b"/>
              <a:pathLst>
                <a:path w="1680" h="565">
                  <a:moveTo>
                    <a:pt x="0" y="67"/>
                  </a:moveTo>
                  <a:cubicBezTo>
                    <a:pt x="92" y="56"/>
                    <a:pt x="370" y="0"/>
                    <a:pt x="554" y="0"/>
                  </a:cubicBezTo>
                  <a:cubicBezTo>
                    <a:pt x="738" y="0"/>
                    <a:pt x="1053" y="150"/>
                    <a:pt x="1241" y="244"/>
                  </a:cubicBezTo>
                  <a:cubicBezTo>
                    <a:pt x="1429" y="338"/>
                    <a:pt x="1589" y="498"/>
                    <a:pt x="1680" y="565"/>
                  </a:cubicBezTo>
                </a:path>
              </a:pathLst>
            </a:custGeom>
            <a:noFill/>
            <a:ln w="19080">
              <a:solidFill>
                <a:srgbClr val="d60093"/>
              </a:solidFill>
              <a:prstDash val="sysDot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892080" y="4280040"/>
            <a:ext cx="41292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0"/>
                </a:moveTo>
                <a:cubicBezTo>
                  <a:pt x="32" y="24"/>
                  <a:pt x="64" y="48"/>
                  <a:pt x="96" y="48"/>
                </a:cubicBezTo>
                <a:cubicBezTo>
                  <a:pt x="128" y="48"/>
                  <a:pt x="176" y="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35680" y="2133720"/>
            <a:ext cx="4705200" cy="229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47920"/>
            <a:ext cx="7759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bisimulation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 </a:t>
            </a: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d60093"/>
                </a:solidFill>
                <a:latin typeface="Times New Roman"/>
              </a:rPr>
              <a:t> 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30920" y="3803760"/>
            <a:ext cx="33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67160" y="3803760"/>
            <a:ext cx="55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30200" y="25844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884440" y="258444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02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064800" y="314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46880" y="2590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1960" y="3780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2385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18440" y="324180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5440" y="2022480"/>
            <a:ext cx="30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 a,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3720" y="2971800"/>
            <a:ext cx="26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238800" y="4084560"/>
            <a:ext cx="2597040" cy="220320"/>
            <a:chOff x="6238800" y="4084560"/>
            <a:chExt cx="2597040" cy="220320"/>
          </a:xfrm>
        </p:grpSpPr>
        <p:grpSp>
          <p:nvGrpSpPr>
            <p:cNvPr id="662" name=""/>
            <p:cNvGrpSpPr/>
            <p:nvPr/>
          </p:nvGrpSpPr>
          <p:grpSpPr>
            <a:xfrm>
              <a:off x="6238800" y="4160520"/>
              <a:ext cx="2558880" cy="76320"/>
              <a:chOff x="6238800" y="4160520"/>
              <a:chExt cx="2558880" cy="7632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16052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8800" y="4236840"/>
                <a:ext cx="255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736120" y="4084560"/>
              <a:ext cx="97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737560" y="4195080"/>
              <a:ext cx="9828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22328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304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93720" y="51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4648320"/>
            <a:ext cx="4705200" cy="1452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35680" y="548640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35680" y="51055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35680" y="4648320"/>
            <a:ext cx="47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8640" y="2743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52000" y="4572000"/>
            <a:ext cx="14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LS89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8B2-A260-49DF-8752-E07833854C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285920" y="5734080"/>
            <a:ext cx="6319800" cy="503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25720" y="1628640"/>
            <a:ext cx="3900600" cy="8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Weak Transi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41240" y="2707920"/>
            <a:ext cx="8420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is a probabilistic execution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xec*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57920" y="1628640"/>
            <a:ext cx="3448080" cy="648000"/>
            <a:chOff x="3157920" y="1628640"/>
            <a:chExt cx="3448080" cy="648000"/>
          </a:xfrm>
        </p:grpSpPr>
        <p:sp>
          <p:nvSpPr>
            <p:cNvPr id="681" name=""/>
            <p:cNvSpPr/>
            <p:nvPr/>
          </p:nvSpPr>
          <p:spPr>
            <a:xfrm>
              <a:off x="3157920" y="17002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00640" y="1700280"/>
              <a:ext cx="405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75680" y="1628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618000" y="1947960"/>
              <a:ext cx="2596680" cy="220320"/>
              <a:chOff x="3618000" y="1947960"/>
              <a:chExt cx="2596680" cy="22032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3618000" y="2023920"/>
                <a:ext cx="2558520" cy="76320"/>
                <a:chOff x="3618000" y="2023920"/>
                <a:chExt cx="2558520" cy="763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618000" y="202392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8000" y="2100240"/>
                  <a:ext cx="255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6114960" y="1947960"/>
                <a:ext cx="975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116400" y="2058480"/>
                <a:ext cx="9828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910400" y="3452760"/>
            <a:ext cx="198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is fin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03560" y="4037040"/>
            <a:ext cx="227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s trace is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16880" y="4629240"/>
            <a:ext cx="2571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starts fro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84120" y="5213520"/>
            <a:ext cx="2237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it leads t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5920" y="580536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it-IT" sz="9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sta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66480" y="5702400"/>
            <a:ext cx="96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CB1-26D5-47BC-AEE8-4BC7B8F11E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the probabilistic CCS is an extension of CCS (to define what this means is part of the exerci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ve that probabilistic bisimulation is an extension of bi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Write the Lehmann-Rabin algorithm in probabilistic CCS (without using guarded cho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4E1-0297-49BB-8226-4980A0F592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2800" y="2413080"/>
            <a:ext cx="702000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1240" y="155736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52080" y="2421000"/>
            <a:ext cx="5703120" cy="2283480"/>
            <a:chOff x="2152080" y="2421000"/>
            <a:chExt cx="5703120" cy="2283480"/>
          </a:xfrm>
        </p:grpSpPr>
        <p:sp>
          <p:nvSpPr>
            <p:cNvPr id="71" name=""/>
            <p:cNvSpPr/>
            <p:nvPr/>
          </p:nvSpPr>
          <p:spPr>
            <a:xfrm>
              <a:off x="5691960" y="4249800"/>
              <a:ext cx="911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08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440" y="251316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9120" y="32864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2280" y="2482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6244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52280" y="39308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72920" y="2816280"/>
              <a:ext cx="222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4240" y="281628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72920" y="3044880"/>
              <a:ext cx="8251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0960" y="373068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28520" y="2968560"/>
              <a:ext cx="10731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4240" y="4264200"/>
              <a:ext cx="21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65000" y="2436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9880" y="3106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0360" y="3792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8280" y="2954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75480" y="242100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49360" y="31212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440" y="325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2400" spc="-1" strike="noStrike">
                  <a:solidFill>
                    <a:srgbClr val="efdc51"/>
                  </a:solidFill>
                  <a:latin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10880" y="4924440"/>
            <a:ext cx="68616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xecution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efdc51"/>
                </a:solidFill>
                <a:latin typeface="Times New Roman"/>
              </a:rPr>
              <a:t>ch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coffee</a:t>
            </a:r>
            <a:r>
              <a:rPr b="0" i="1" lang="it-IT" sz="32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5480" y="5533920"/>
            <a:ext cx="425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race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n n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2760" y="2820960"/>
            <a:ext cx="226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6520" y="4268880"/>
            <a:ext cx="218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8280" y="31179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A3C-6631-4B9E-96EE-8299CF69E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76200" y="1616040"/>
            <a:ext cx="4525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663560"/>
            <a:ext cx="864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,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E , H ,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4960" y="2349360"/>
            <a:ext cx="44348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nsitio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c(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nal (hidden)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xternal actions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tial state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4960" y="22734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4960" y="2806560"/>
            <a:ext cx="412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360" y="22734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4360" y="37972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6560" y="22734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6560" y="4483080"/>
            <a:ext cx="16509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6320" y="227340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6320" y="5168880"/>
            <a:ext cx="2311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5720" y="22734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854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CBB-1E83-4623-9E69-F4398E7EE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1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554-9859-4247-8F1F-CDE66C5CB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8400" y="1905120"/>
            <a:ext cx="7800480" cy="3311280"/>
            <a:chOff x="1238400" y="1905120"/>
            <a:chExt cx="7800480" cy="3311280"/>
          </a:xfrm>
        </p:grpSpPr>
        <p:sp>
          <p:nvSpPr>
            <p:cNvPr id="139" name=""/>
            <p:cNvSpPr/>
            <p:nvPr/>
          </p:nvSpPr>
          <p:spPr>
            <a:xfrm>
              <a:off x="1238400" y="1905120"/>
              <a:ext cx="7800480" cy="3311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56640" y="317664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136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8120" y="4243320"/>
              <a:ext cx="451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42920" y="2185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it-IT" sz="3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7800" y="2443320"/>
              <a:ext cx="1733400" cy="0"/>
            </a:xfrm>
            <a:prstGeom prst="line">
              <a:avLst/>
            </a:prstGeom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5800" y="2265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5800" y="42814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0960" y="21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0960" y="262404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80960" y="399240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0960" y="452916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3800" y="204804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96280" y="1949400"/>
              <a:ext cx="3893400" cy="1395360"/>
            </a:xfrm>
            <a:custGeom>
              <a:avLst/>
              <a:gdLst/>
              <a:ahLst/>
              <a:rect l="l" t="t" r="r" b="b"/>
              <a:pathLst>
                <a:path w="2264" h="879">
                  <a:moveTo>
                    <a:pt x="0" y="879"/>
                  </a:moveTo>
                  <a:cubicBezTo>
                    <a:pt x="196" y="749"/>
                    <a:pt x="802" y="196"/>
                    <a:pt x="1179" y="98"/>
                  </a:cubicBezTo>
                  <a:cubicBezTo>
                    <a:pt x="1556" y="0"/>
                    <a:pt x="2038" y="250"/>
                    <a:pt x="2264" y="29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6280" y="2265480"/>
              <a:ext cx="3876120" cy="2171520"/>
            </a:xfrm>
            <a:custGeom>
              <a:avLst/>
              <a:gdLst/>
              <a:ahLst/>
              <a:rect l="l" t="t" r="r" b="b"/>
              <a:pathLst>
                <a:path w="2254" h="1368">
                  <a:moveTo>
                    <a:pt x="0" y="680"/>
                  </a:moveTo>
                  <a:cubicBezTo>
                    <a:pt x="224" y="586"/>
                    <a:pt x="971" y="0"/>
                    <a:pt x="1347" y="115"/>
                  </a:cubicBezTo>
                  <a:cubicBezTo>
                    <a:pt x="1723" y="230"/>
                    <a:pt x="2065" y="1107"/>
                    <a:pt x="2254" y="1368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6280" y="3632040"/>
              <a:ext cx="3900600" cy="1552680"/>
            </a:xfrm>
            <a:custGeom>
              <a:avLst/>
              <a:gdLst/>
              <a:ahLst/>
              <a:rect l="l" t="t" r="r" b="b"/>
              <a:pathLst>
                <a:path w="2268" h="978">
                  <a:moveTo>
                    <a:pt x="0" y="0"/>
                  </a:moveTo>
                  <a:cubicBezTo>
                    <a:pt x="196" y="143"/>
                    <a:pt x="796" y="736"/>
                    <a:pt x="1174" y="857"/>
                  </a:cubicBezTo>
                  <a:cubicBezTo>
                    <a:pt x="1552" y="978"/>
                    <a:pt x="2040" y="753"/>
                    <a:pt x="2268" y="726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6280" y="2768760"/>
              <a:ext cx="3900600" cy="1965240"/>
            </a:xfrm>
            <a:custGeom>
              <a:avLst/>
              <a:gdLst/>
              <a:ahLst/>
              <a:rect l="l" t="t" r="r" b="b"/>
              <a:pathLst>
                <a:path w="2268" h="1238">
                  <a:moveTo>
                    <a:pt x="0" y="544"/>
                  </a:moveTo>
                  <a:cubicBezTo>
                    <a:pt x="229" y="645"/>
                    <a:pt x="998" y="1238"/>
                    <a:pt x="1376" y="1147"/>
                  </a:cubicBezTo>
                  <a:cubicBezTo>
                    <a:pt x="1754" y="1056"/>
                    <a:pt x="2082" y="239"/>
                    <a:pt x="2268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53000" y="4275000"/>
              <a:ext cx="18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4137120"/>
              <a:ext cx="180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3320" y="2481120"/>
              <a:ext cx="15768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cubicBezTo>
                    <a:pt x="14" y="4"/>
                    <a:pt x="76" y="10"/>
                    <a:pt x="84" y="27"/>
                  </a:cubicBezTo>
                  <a:cubicBezTo>
                    <a:pt x="92" y="44"/>
                    <a:pt x="54" y="88"/>
                    <a:pt x="46" y="10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8520" y="4254480"/>
              <a:ext cx="12204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45" y="0"/>
                  </a:moveTo>
                  <a:cubicBezTo>
                    <a:pt x="48" y="14"/>
                    <a:pt x="71" y="61"/>
                    <a:pt x="64" y="86"/>
                  </a:cubicBezTo>
                  <a:cubicBezTo>
                    <a:pt x="57" y="111"/>
                    <a:pt x="13" y="139"/>
                    <a:pt x="0" y="15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F24-FE59-42C7-B15A-77D2ADD99F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9600" y="1916280"/>
            <a:ext cx="7801200" cy="30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Automat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8200" y="1916280"/>
            <a:ext cx="7189200" cy="2969280"/>
            <a:chOff x="1528200" y="1916280"/>
            <a:chExt cx="7189200" cy="2969280"/>
          </a:xfrm>
        </p:grpSpPr>
        <p:sp>
          <p:nvSpPr>
            <p:cNvPr id="163" name=""/>
            <p:cNvSpPr/>
            <p:nvPr/>
          </p:nvSpPr>
          <p:spPr>
            <a:xfrm>
              <a:off x="1528200" y="304488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6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648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292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2920" y="41119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4480" y="2054520"/>
              <a:ext cx="5029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31840" y="2387880"/>
              <a:ext cx="14029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31840" y="3454560"/>
              <a:ext cx="140292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0120" y="2311560"/>
              <a:ext cx="18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120" y="2311560"/>
              <a:ext cx="1981080" cy="19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12920" y="4445280"/>
              <a:ext cx="181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012920" y="2463840"/>
              <a:ext cx="1815480" cy="198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9360" y="2311560"/>
              <a:ext cx="17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360" y="2082960"/>
              <a:ext cx="164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78880" y="4218120"/>
              <a:ext cx="163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2240" y="2373480"/>
              <a:ext cx="6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49680" y="3821400"/>
              <a:ext cx="92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un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1240" y="19162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61240" y="4430880"/>
              <a:ext cx="59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fl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4400" y="19162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46960" y="3745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4520" y="26020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16840" y="4430880"/>
              <a:ext cx="57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85360" y="191628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it-IT" sz="2400" spc="-1" strike="noStrike">
                  <a:solidFill>
                    <a:srgbClr val="ff0000"/>
                  </a:solidFill>
                  <a:latin typeface="Times New Roman"/>
                </a:rPr>
                <a:t>b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65400" y="5300640"/>
            <a:ext cx="68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What is the probability of beep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001-E6D3-44ED-A50E-4F09A6FA7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5320" y="3933720"/>
            <a:ext cx="811548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5320" y="1557360"/>
            <a:ext cx="8115480" cy="215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5720" y="16462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74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5080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0800" y="30402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2360" y="167652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8360" y="18604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8360" y="1860480"/>
            <a:ext cx="1981080" cy="131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37240" y="1860480"/>
            <a:ext cx="17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3600" y="1711080"/>
            <a:ext cx="1645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87"/>
                </a:moveTo>
                <a:arcTo wR="10800" hR="10800" stAng="-35996" swAng="5435996"/>
                <a:lnTo>
                  <a:pt x="10800" y="10800"/>
                </a:lnTo>
                <a:close/>
              </a:path>
              <a:path fill="none" w="21600" h="21600">
                <a:moveTo>
                  <a:pt x="21599" y="10687"/>
                </a:moveTo>
                <a:arcTo wR="10800" hR="10800" stAng="-35996" swAng="543599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81920" y="14889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29600" y="2614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3280" y="54180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9192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83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360" y="547848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9560" y="411480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38320" y="5664240"/>
            <a:ext cx="1362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78360" y="571500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978360" y="4401720"/>
            <a:ext cx="1815840" cy="13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54800" y="4299120"/>
            <a:ext cx="173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0" y="5564160"/>
            <a:ext cx="1645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45240" y="564048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26320" y="568944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6800" y="452268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81920" y="57355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0800" y="38815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7960" y="414972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7960" y="2997360"/>
            <a:ext cx="241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ff0000"/>
                </a:solidFill>
                <a:latin typeface="Times New Roman"/>
              </a:rPr>
              <a:t>bee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0120" y="14860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905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3600" y="147312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880" y="1460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9160" y="19080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960" y="1860480"/>
            <a:ext cx="187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6040" y="1860480"/>
            <a:ext cx="17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06640" y="5661000"/>
            <a:ext cx="14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008600" y="4397400"/>
            <a:ext cx="17938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8560" y="4300560"/>
            <a:ext cx="1716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9280" y="1623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747280" y="407196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8CA-A2D7-4013-A44C-BAD8618F9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fd7"/>
            </a:gs>
            <a:gs pos="100000">
              <a:srgbClr val="ff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39880" y="1969920"/>
            <a:ext cx="6164280" cy="36720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xample: Probabilistic Execu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86760" y="34034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3320" y="2565360"/>
            <a:ext cx="637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20520" y="4317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148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71480" y="29462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7148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1480" y="485136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70120" y="20318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0120" y="3860640"/>
            <a:ext cx="5029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308320" y="2974680"/>
            <a:ext cx="13208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8320" y="3660840"/>
            <a:ext cx="12380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41720" y="2441520"/>
            <a:ext cx="1155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720" y="2822400"/>
            <a:ext cx="1155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24160" y="4270320"/>
            <a:ext cx="11559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4651200"/>
            <a:ext cx="115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5480" y="23652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5480" y="4194000"/>
            <a:ext cx="1403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73480" y="288432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3720" y="410364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unf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07240" y="219852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89680" y="4865760"/>
            <a:ext cx="59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23800" y="23511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3800" y="4179960"/>
            <a:ext cx="75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b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5160" y="2473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5160" y="277812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302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5160" y="47592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8960" y="31590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407340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3500280"/>
            <a:ext cx="93600" cy="385920"/>
          </a:xfrm>
          <a:custGeom>
            <a:avLst/>
            <a:gdLst/>
            <a:ahLst/>
            <a:rect l="l" t="t" r="r" b="b"/>
            <a:pathLst>
              <a:path w="54" h="243">
                <a:moveTo>
                  <a:pt x="7" y="0"/>
                </a:moveTo>
                <a:cubicBezTo>
                  <a:pt x="15" y="20"/>
                  <a:pt x="54" y="83"/>
                  <a:pt x="53" y="123"/>
                </a:cubicBezTo>
                <a:cubicBezTo>
                  <a:pt x="52" y="163"/>
                  <a:pt x="11" y="218"/>
                  <a:pt x="0" y="24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29000" y="2727360"/>
            <a:ext cx="6984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3640" y="4573440"/>
            <a:ext cx="79200" cy="196920"/>
          </a:xfrm>
          <a:custGeom>
            <a:avLst/>
            <a:gdLst/>
            <a:ahLst/>
            <a:rect l="l" t="t" r="r" b="b"/>
            <a:pathLst>
              <a:path w="41" h="124">
                <a:moveTo>
                  <a:pt x="3" y="0"/>
                </a:moveTo>
                <a:cubicBezTo>
                  <a:pt x="9" y="10"/>
                  <a:pt x="41" y="42"/>
                  <a:pt x="41" y="63"/>
                </a:cubicBezTo>
                <a:cubicBezTo>
                  <a:pt x="41" y="84"/>
                  <a:pt x="9" y="111"/>
                  <a:pt x="0" y="1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4200" y="22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000" y="4076640"/>
            <a:ext cx="125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62880" y="2492280"/>
            <a:ext cx="390600" cy="86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462520" y="3357720"/>
            <a:ext cx="390600" cy="86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22640" y="3213000"/>
            <a:ext cx="14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95320" y="1196640"/>
            <a:ext cx="600876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95320" y="3789360"/>
            <a:ext cx="631980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09760" y="2957400"/>
            <a:ext cx="1360440" cy="70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0800" y="2412720"/>
            <a:ext cx="1168560" cy="4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4200" y="235728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5320" y="3668760"/>
            <a:ext cx="1214280" cy="9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46480" y="4252680"/>
            <a:ext cx="11527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4200" y="4189320"/>
            <a:ext cx="140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5320" y="1197000"/>
            <a:ext cx="8893080" cy="5184720"/>
          </a:xfrm>
          <a:custGeom>
            <a:avLst/>
            <a:gdLst/>
            <a:ahLst/>
            <a:rect l="l" t="t" r="r" b="b"/>
            <a:pathLst>
              <a:path w="5171" h="3266">
                <a:moveTo>
                  <a:pt x="0" y="1633"/>
                </a:moveTo>
                <a:lnTo>
                  <a:pt x="3493" y="0"/>
                </a:lnTo>
                <a:lnTo>
                  <a:pt x="5171" y="0"/>
                </a:lnTo>
                <a:lnTo>
                  <a:pt x="5171" y="3266"/>
                </a:lnTo>
                <a:lnTo>
                  <a:pt x="3674" y="3266"/>
                </a:lnTo>
                <a:lnTo>
                  <a:pt x="0" y="1633"/>
                </a:lnTo>
                <a:close/>
              </a:path>
            </a:pathLst>
          </a:cu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755e46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44D-5ABD-45B5-B59A-CD7E34B461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7:04:53Z</dcterms:created>
  <dc:creator>Roberto Segala</dc:creator>
  <dc:description/>
  <dc:language>en-US</dc:language>
  <cp:lastModifiedBy>Catuscia Palamidessi</cp:lastModifiedBy>
  <cp:lastPrinted>2007-12-03T08:33:30Z</cp:lastPrinted>
  <dcterms:modified xsi:type="dcterms:W3CDTF">2007-12-03T09:02:10Z</dcterms:modified>
  <cp:revision>160</cp:revision>
  <dc:subject/>
  <dc:title>Probabilitic Automata  and Compositionality</dc:title>
</cp:coreProperties>
</file>