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9777413" cy="6645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777600" cy="664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2372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538600" y="0"/>
            <a:ext cx="423684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3088800" y="498240"/>
            <a:ext cx="3598920" cy="24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302840" y="3155760"/>
            <a:ext cx="7169400" cy="29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6313320"/>
            <a:ext cx="42372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538600" y="6313320"/>
            <a:ext cx="423684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56A1-0A66-4F89-9213-8F8E0F575CF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3089160" y="498600"/>
            <a:ext cx="3598920" cy="249228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1302840" y="3155760"/>
            <a:ext cx="7169400" cy="29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u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CB35-C1EF-4F0B-9966-353AA97C7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0208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7944-A339-4343-95BE-19F16B55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7521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0208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0208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82A4-3E3C-4037-8990-2991EE2F2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7521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7521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0208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0208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0208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D415-2CB4-4751-99EA-C644D1E91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7521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9EFD-C818-4A4F-AF78-1BF6EDF7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9C7D-309D-4BC5-AE26-F4FD9C6B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7521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5078-930F-4D2F-9299-8B288DEB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8DA7-812D-4B01-AF67-4D5A118B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115560"/>
            <a:ext cx="9906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4833-761D-44CB-A88D-DD1033EC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7521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0208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622B-05E3-4D38-9FAD-629DCB2F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7521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0208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17EA-68CB-4C08-9A93-7B9FCCEB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7521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0208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9995-1062-49AD-A06A-A487D3E3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7521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1240" y="6308640"/>
            <a:ext cx="429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PRI 3 Dec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76760" y="6308640"/>
            <a:ext cx="2146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atuscia Palamides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83120" y="6524280"/>
            <a:ext cx="20638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B905-3F74-4708-84FC-6A2199831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341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0864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618080" y="3114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Times New Roman"/>
              </a:rPr>
              <a:t>Why Probability and Nondeterminism?</a:t>
            </a:r>
            <a:br>
              <a:rPr sz="4000"/>
            </a:br>
            <a:r>
              <a:rPr b="0" lang="it-IT" sz="4000" spc="-1" strike="noStrike">
                <a:solidFill>
                  <a:srgbClr val="ff0000"/>
                </a:solidFill>
                <a:latin typeface="Times New Roman"/>
              </a:rPr>
              <a:t>Concurrency Theory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cheduling within parallel composi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Unknown behavior of the environ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Underspecif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Probabi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nvironment may be stochast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rocesses may flip coi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8964-DA85-4D3C-94FA-F2D87B15D1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117360" y="1483920"/>
            <a:ext cx="96710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Sample s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et of objects </a:t>
            </a:r>
            <a:r>
              <a:rPr b="0" lang="it-IT" sz="18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Sigma-field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fiel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ubset </a:t>
            </a:r>
            <a:r>
              <a:rPr b="0" i="1" lang="it-IT" sz="1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it-IT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satisfy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nclusion of</a:t>
            </a:r>
            <a:r>
              <a:rPr b="0" lang="it-IT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losure under comple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losure under countable un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Comic Sans MS"/>
              </a:rPr>
              <a:t>Closure under countable intersec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Measure on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unction </a:t>
            </a:r>
            <a:r>
              <a:rPr b="0" lang="it-IT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from </a:t>
            </a:r>
            <a:r>
              <a:rPr b="0" i="1" lang="it-IT" sz="1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to </a:t>
            </a:r>
            <a:r>
              <a:rPr b="0" lang="it-IT" sz="1800" spc="-1" strike="noStrike">
                <a:solidFill>
                  <a:srgbClr val="ff0000"/>
                </a:solidFill>
                <a:latin typeface="Symbol"/>
                <a:ea typeface="Symbol"/>
              </a:rPr>
              <a:t></a:t>
            </a:r>
            <a:r>
              <a:rPr b="0" lang="it-IT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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For each countable collection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of pairwise disjoint sets of 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(Sub-)probability meas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asure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uch that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) = 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)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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Sigma-field generated by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it-IT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malles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-field that includes </a:t>
            </a:r>
            <a:r>
              <a:rPr b="0" i="1" lang="it-IT" sz="1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"/>
          <p:cNvSpPr/>
          <p:nvPr/>
        </p:nvSpPr>
        <p:spPr>
          <a:xfrm>
            <a:off x="5257800" y="1447920"/>
            <a:ext cx="4133880" cy="237636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Measure Theory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27760" y="7620120"/>
            <a:ext cx="397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70680" y="1773360"/>
            <a:ext cx="3726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Example: set of exec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78240" y="2492280"/>
            <a:ext cx="384912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tudy probabilities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ets of exec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which sets can I measu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ABF5-C4F4-44EA-AF05-8A4FD3AB43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7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</a:rPr>
              <a:t>Measure Theory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Why not 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it-IT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it-IT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lip a fair coin infinitely many tim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,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= 0 for eac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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co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orem: there is no probability measure on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uch that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= 0 for eac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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E0C2-7B15-4123-AD85-5A00A76B88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28760" y="4581360"/>
            <a:ext cx="9126360" cy="1511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8760" y="4653000"/>
            <a:ext cx="92059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87480" indent="-987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he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87480" indent="-987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 measure on cones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extends uniquely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87480" indent="-987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o a measure on the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-field generated by c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1000" y="3772080"/>
            <a:ext cx="4111560" cy="24508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00200" y="3763800"/>
            <a:ext cx="2857680" cy="1128960"/>
          </a:xfrm>
          <a:custGeom>
            <a:avLst/>
            <a:gdLst/>
            <a:ahLst/>
            <a:rect l="l" t="t" r="r" b="b"/>
            <a:pathLst>
              <a:path w="1662" h="711">
                <a:moveTo>
                  <a:pt x="0" y="424"/>
                </a:moveTo>
                <a:lnTo>
                  <a:pt x="395" y="0"/>
                </a:lnTo>
                <a:lnTo>
                  <a:pt x="1662" y="0"/>
                </a:lnTo>
                <a:lnTo>
                  <a:pt x="1662" y="711"/>
                </a:lnTo>
                <a:lnTo>
                  <a:pt x="366" y="711"/>
                </a:lnTo>
                <a:lnTo>
                  <a:pt x="0" y="424"/>
                </a:lnTo>
                <a:close/>
              </a:path>
            </a:pathLst>
          </a:custGeom>
          <a:solidFill>
            <a:srgbClr val="ffcc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690640" y="5013360"/>
            <a:ext cx="1767240" cy="647640"/>
          </a:xfrm>
          <a:custGeom>
            <a:avLst/>
            <a:gdLst/>
            <a:ahLst/>
            <a:rect l="l" t="t" r="r" b="b"/>
            <a:pathLst>
              <a:path w="1027" h="408">
                <a:moveTo>
                  <a:pt x="0" y="181"/>
                </a:moveTo>
                <a:lnTo>
                  <a:pt x="272" y="0"/>
                </a:lnTo>
                <a:lnTo>
                  <a:pt x="1027" y="10"/>
                </a:lnTo>
                <a:lnTo>
                  <a:pt x="1027" y="408"/>
                </a:lnTo>
                <a:lnTo>
                  <a:pt x="181" y="408"/>
                </a:lnTo>
                <a:lnTo>
                  <a:pt x="0" y="181"/>
                </a:lnTo>
                <a:close/>
              </a:path>
            </a:pathLst>
          </a:custGeom>
          <a:solidFill>
            <a:srgbClr val="ffcc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82320" y="3821040"/>
            <a:ext cx="4012560" cy="2387880"/>
            <a:chOff x="382320" y="3821040"/>
            <a:chExt cx="4012560" cy="2387880"/>
          </a:xfrm>
        </p:grpSpPr>
        <p:sp>
          <p:nvSpPr>
            <p:cNvPr id="293" name=""/>
            <p:cNvSpPr/>
            <p:nvPr/>
          </p:nvSpPr>
          <p:spPr>
            <a:xfrm>
              <a:off x="539280" y="4121280"/>
              <a:ext cx="180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2320" y="468936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566000" y="4152960"/>
              <a:ext cx="5436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37560" y="532116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07200" y="382104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07200" y="443088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07200" y="504180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707200" y="570384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972600" y="382104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72600" y="504180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728640" y="4451400"/>
              <a:ext cx="8820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8640" y="4908600"/>
              <a:ext cx="8251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1885680" y="4093920"/>
              <a:ext cx="77040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85680" y="4348080"/>
              <a:ext cx="770400" cy="2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1941120" y="5314680"/>
              <a:ext cx="77004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41120" y="5568840"/>
              <a:ext cx="770040" cy="3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41640" y="4043520"/>
              <a:ext cx="93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41640" y="5264280"/>
              <a:ext cx="93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2200" y="4365720"/>
              <a:ext cx="51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</a:rPr>
                <a:t>f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2960" y="520380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800" spc="-1" strike="noStrike">
                  <a:solidFill>
                    <a:srgbClr val="ff0000"/>
                  </a:solidFill>
                  <a:latin typeface="Times New Roman"/>
                </a:rPr>
                <a:t>unf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929240" y="3884760"/>
              <a:ext cx="48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8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83240" y="5680080"/>
              <a:ext cx="48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8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40280" y="3994200"/>
              <a:ext cx="614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800" spc="-1" strike="noStrike">
                  <a:solidFill>
                    <a:srgbClr val="ff0000"/>
                  </a:solidFill>
                  <a:latin typeface="Times New Roman"/>
                </a:rPr>
                <a:t>bee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40280" y="5213520"/>
              <a:ext cx="614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800" spc="-1" strike="noStrike">
                  <a:solidFill>
                    <a:srgbClr val="ff0000"/>
                  </a:solidFill>
                  <a:latin typeface="Times New Roman"/>
                </a:rPr>
                <a:t>bee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06240" y="4075200"/>
              <a:ext cx="442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390040" y="4278240"/>
              <a:ext cx="442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23520" y="5288040"/>
              <a:ext cx="442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2/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6240" y="5570640"/>
              <a:ext cx="442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1/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71160" y="4478400"/>
              <a:ext cx="442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37680" y="5111640"/>
              <a:ext cx="442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24480" y="4802040"/>
              <a:ext cx="61920" cy="257400"/>
            </a:xfrm>
            <a:custGeom>
              <a:avLst/>
              <a:gdLst/>
              <a:ahLst/>
              <a:rect l="l" t="t" r="r" b="b"/>
              <a:pathLst>
                <a:path w="54" h="243">
                  <a:moveTo>
                    <a:pt x="7" y="0"/>
                  </a:moveTo>
                  <a:cubicBezTo>
                    <a:pt x="15" y="20"/>
                    <a:pt x="54" y="83"/>
                    <a:pt x="53" y="123"/>
                  </a:cubicBezTo>
                  <a:cubicBezTo>
                    <a:pt x="52" y="163"/>
                    <a:pt x="11" y="218"/>
                    <a:pt x="0" y="24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076840" y="4284720"/>
              <a:ext cx="46080" cy="131760"/>
            </a:xfrm>
            <a:custGeom>
              <a:avLst/>
              <a:gdLst/>
              <a:ahLst/>
              <a:rect l="l" t="t" r="r" b="b"/>
              <a:pathLst>
                <a:path w="41" h="124">
                  <a:moveTo>
                    <a:pt x="3" y="0"/>
                  </a:moveTo>
                  <a:cubicBezTo>
                    <a:pt x="9" y="10"/>
                    <a:pt x="41" y="42"/>
                    <a:pt x="41" y="63"/>
                  </a:cubicBezTo>
                  <a:cubicBezTo>
                    <a:pt x="41" y="84"/>
                    <a:pt x="9" y="111"/>
                    <a:pt x="0" y="12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106000" y="5518080"/>
              <a:ext cx="53280" cy="131760"/>
            </a:xfrm>
            <a:custGeom>
              <a:avLst/>
              <a:gdLst/>
              <a:ahLst/>
              <a:rect l="l" t="t" r="r" b="b"/>
              <a:pathLst>
                <a:path w="41" h="124">
                  <a:moveTo>
                    <a:pt x="3" y="0"/>
                  </a:moveTo>
                  <a:cubicBezTo>
                    <a:pt x="9" y="10"/>
                    <a:pt x="41" y="42"/>
                    <a:pt x="41" y="63"/>
                  </a:cubicBezTo>
                  <a:cubicBezTo>
                    <a:pt x="41" y="84"/>
                    <a:pt x="9" y="111"/>
                    <a:pt x="0" y="12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Cones and Measur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93320" y="1412640"/>
            <a:ext cx="63198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Cone of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et of executions with prefix 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epresent event “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occur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Measure of a c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oduct edges of 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5264280" y="1989000"/>
            <a:ext cx="4290480" cy="2448000"/>
            <a:chOff x="5264280" y="1989000"/>
            <a:chExt cx="4290480" cy="2448000"/>
          </a:xfrm>
        </p:grpSpPr>
        <p:sp>
          <p:nvSpPr>
            <p:cNvPr id="329" name=""/>
            <p:cNvSpPr/>
            <p:nvPr/>
          </p:nvSpPr>
          <p:spPr>
            <a:xfrm>
              <a:off x="5264280" y="1989000"/>
              <a:ext cx="4290480" cy="2448000"/>
            </a:xfrm>
            <a:custGeom>
              <a:avLst/>
              <a:gdLst/>
              <a:ahLst/>
              <a:rect l="l" t="t" r="r" b="b"/>
              <a:pathLst>
                <a:path w="2495" h="1542">
                  <a:moveTo>
                    <a:pt x="2404" y="1542"/>
                  </a:moveTo>
                  <a:lnTo>
                    <a:pt x="0" y="771"/>
                  </a:lnTo>
                  <a:lnTo>
                    <a:pt x="2404" y="0"/>
                  </a:lnTo>
                  <a:lnTo>
                    <a:pt x="2495" y="181"/>
                  </a:lnTo>
                  <a:lnTo>
                    <a:pt x="2404" y="408"/>
                  </a:lnTo>
                  <a:lnTo>
                    <a:pt x="2495" y="635"/>
                  </a:lnTo>
                  <a:lnTo>
                    <a:pt x="2359" y="862"/>
                  </a:lnTo>
                  <a:lnTo>
                    <a:pt x="2449" y="1134"/>
                  </a:lnTo>
                  <a:lnTo>
                    <a:pt x="2359" y="1315"/>
                  </a:lnTo>
                  <a:lnTo>
                    <a:pt x="2404" y="1542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400160" y="2636640"/>
              <a:ext cx="2154600" cy="1152360"/>
            </a:xfrm>
            <a:custGeom>
              <a:avLst/>
              <a:gdLst/>
              <a:ahLst/>
              <a:rect l="l" t="t" r="r" b="b"/>
              <a:pathLst>
                <a:path w="1253" h="726">
                  <a:moveTo>
                    <a:pt x="1207" y="726"/>
                  </a:moveTo>
                  <a:lnTo>
                    <a:pt x="0" y="365"/>
                  </a:lnTo>
                  <a:lnTo>
                    <a:pt x="1162" y="0"/>
                  </a:lnTo>
                  <a:lnTo>
                    <a:pt x="1253" y="227"/>
                  </a:lnTo>
                  <a:lnTo>
                    <a:pt x="1117" y="454"/>
                  </a:lnTo>
                  <a:lnTo>
                    <a:pt x="1207" y="726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64280" y="3127320"/>
              <a:ext cx="2135880" cy="241200"/>
            </a:xfrm>
            <a:custGeom>
              <a:avLst/>
              <a:gdLst/>
              <a:ahLst/>
              <a:rect l="l" t="t" r="r" b="b"/>
              <a:pathLst>
                <a:path w="1242" h="152">
                  <a:moveTo>
                    <a:pt x="0" y="54"/>
                  </a:moveTo>
                  <a:cubicBezTo>
                    <a:pt x="68" y="61"/>
                    <a:pt x="295" y="107"/>
                    <a:pt x="408" y="99"/>
                  </a:cubicBezTo>
                  <a:cubicBezTo>
                    <a:pt x="521" y="91"/>
                    <a:pt x="597" y="0"/>
                    <a:pt x="680" y="8"/>
                  </a:cubicBezTo>
                  <a:cubicBezTo>
                    <a:pt x="763" y="16"/>
                    <a:pt x="813" y="138"/>
                    <a:pt x="907" y="145"/>
                  </a:cubicBezTo>
                  <a:cubicBezTo>
                    <a:pt x="1001" y="152"/>
                    <a:pt x="1172" y="71"/>
                    <a:pt x="1242" y="5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394480" y="2923920"/>
              <a:ext cx="54720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lang="it-IT" sz="28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46400" y="2781000"/>
              <a:ext cx="405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 flipV="1">
            <a:off x="741240" y="4437000"/>
            <a:ext cx="8827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3960" y="4910040"/>
            <a:ext cx="8254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1936800" y="5316480"/>
            <a:ext cx="770040" cy="254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DC08-6D20-4F6C-A7EB-E0802C1916F1}" type="slidenum">
              <a:t>12</a:t>
            </a:fld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Examples of Event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62040" y="1483920"/>
            <a:ext cx="8578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ventually action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ccu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nion of cones where action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occurs o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ction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ccurs at least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n ti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nion of cones where action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occurs n tim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ction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ccurs at most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n ti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mplement of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action a occurs at least n+1 tim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ction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ccurs exactly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n ti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tersection of previous two ev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ction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ccurs infinitely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many ti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tersection of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action a occurs at least n times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or all 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xecution 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occurs and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nothing is scheduled af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t consisting of 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on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intersected complement of cones that extend 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B176-870E-4B7C-9758-E6CC6D0A4F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3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3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3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844720" y="2666880"/>
            <a:ext cx="6475320" cy="505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8760" y="3962520"/>
            <a:ext cx="6475320" cy="216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Schedulers - Resolution of nondeterminism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89164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Schedul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unction         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exec*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Q </a:t>
            </a:r>
            <a:r>
              <a:rPr b="0" i="1" lang="en-US" sz="2400" spc="-1" strike="noStrike">
                <a:solidFill>
                  <a:srgbClr val="ff0000"/>
                </a:solidFill>
                <a:latin typeface="Geneva CE"/>
              </a:rPr>
              <a:t>x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(E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H) </a:t>
            </a:r>
            <a:r>
              <a:rPr b="0" i="1" lang="en-US" sz="2400" spc="-1" strike="noStrike">
                <a:solidFill>
                  <a:srgbClr val="ff0000"/>
                </a:solidFill>
                <a:latin typeface="Geneva CE"/>
              </a:rPr>
              <a:t>x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is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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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q,a,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then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stat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Probabilistic execution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generated by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from state 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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= 0   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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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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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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=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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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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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  i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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q,a,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4338-4F4A-4037-BE8B-37D40D75AA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825480" y="5105520"/>
            <a:ext cx="4705200" cy="106668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68520" y="1523880"/>
            <a:ext cx="7446960" cy="12240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Times New Roman"/>
              </a:rPr>
              <a:t>Probabilistic CC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20440" y="15775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 :: = 0  |  P|P  |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| P + P |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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P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|  X  |  let X = P in X |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>
            <a:off x="819000" y="4653000"/>
            <a:ext cx="34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stic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5486400"/>
            <a:ext cx="3962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662040" y="2997360"/>
            <a:ext cx="3192120" cy="1431720"/>
            <a:chOff x="662040" y="2997360"/>
            <a:chExt cx="3192120" cy="1431720"/>
          </a:xfrm>
        </p:grpSpPr>
        <p:sp>
          <p:nvSpPr>
            <p:cNvPr id="350" name=""/>
            <p:cNvSpPr/>
            <p:nvPr/>
          </p:nvSpPr>
          <p:spPr>
            <a:xfrm>
              <a:off x="878400" y="3421080"/>
              <a:ext cx="2495880" cy="1008000"/>
            </a:xfrm>
            <a:prstGeom prst="rect">
              <a:avLst/>
            </a:prstGeom>
            <a:solidFill>
              <a:srgbClr val="ff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2040" y="3373560"/>
              <a:ext cx="2889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P </a:t>
              </a:r>
              <a:r>
                <a:rPr b="0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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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99560" y="2997360"/>
              <a:ext cx="30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efi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91800" y="3906720"/>
              <a:ext cx="231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00440" y="3830760"/>
              <a:ext cx="32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123200" y="5638680"/>
            <a:ext cx="328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(1-p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13000" y="5562720"/>
            <a:ext cx="281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486400" y="3352680"/>
            <a:ext cx="2558880" cy="11430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21160" y="3424320"/>
            <a:ext cx="28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86400" y="28954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deterministic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651640" y="3957480"/>
            <a:ext cx="231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629400" y="396252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673960" y="403848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+ Q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77120" y="335268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CBD8-30D6-46A7-8F23-424C50626A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7037E-006 L -0.08403 -0.00024 E">
                                      <p:cBhvr>
                                        <p:cTn id="331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95360" y="3429000"/>
            <a:ext cx="5365800" cy="121932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Times New Roman"/>
              </a:rPr>
              <a:t>Probabilistic CC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77800" y="2971800"/>
            <a:ext cx="34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60240" y="4038480"/>
            <a:ext cx="470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60240" y="1752480"/>
            <a:ext cx="2559240" cy="11430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95360" y="1824120"/>
            <a:ext cx="28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0240" y="1295280"/>
            <a:ext cx="30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le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25480" y="2357280"/>
            <a:ext cx="231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8520" y="236232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52960" y="4191120"/>
            <a:ext cx="168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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60320" y="4114800"/>
            <a:ext cx="281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8160" y="243828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|Q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650960" y="175248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3560" y="3581280"/>
            <a:ext cx="18716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65120" y="3581280"/>
            <a:ext cx="1156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98040" y="3583080"/>
            <a:ext cx="896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45600" y="4191120"/>
            <a:ext cx="1437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715920" y="3429000"/>
            <a:ext cx="316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21920" y="3429000"/>
            <a:ext cx="316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1752480"/>
            <a:ext cx="4787640" cy="121932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79720" y="1295280"/>
            <a:ext cx="34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127400" y="2362320"/>
            <a:ext cx="27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51520" y="2514600"/>
            <a:ext cx="1686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84800" y="2438280"/>
            <a:ext cx="281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540320" y="1905120"/>
            <a:ext cx="255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613480" y="1981080"/>
            <a:ext cx="7905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861880" y="2514600"/>
            <a:ext cx="6789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034960" y="1828800"/>
            <a:ext cx="825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523560" y="2514600"/>
            <a:ext cx="356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95360" y="5105520"/>
            <a:ext cx="5365800" cy="121896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7800" y="4724280"/>
            <a:ext cx="34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60240" y="5791320"/>
            <a:ext cx="470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58880" y="5867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2888640" y="5791320"/>
            <a:ext cx="330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63560" y="5334120"/>
            <a:ext cx="37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[ let X = P in X / X ]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81520" y="5181480"/>
            <a:ext cx="372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30920" y="5867280"/>
            <a:ext cx="400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98320" y="2133720"/>
            <a:ext cx="12675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 , 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69320" y="5867280"/>
            <a:ext cx="356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840" y="5867280"/>
            <a:ext cx="1590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X = P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52B5-D030-443E-9A9B-18C3FD07BB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Bisimulation Relation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7000" y="1557000"/>
            <a:ext cx="95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We have the following objecti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They should extend the corresponding relations in the non probabilistic cas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Keep definitions simp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Where are the key difference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FC52-03FB-41EE-B7B7-AACAEF3321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trong Bisimulation on 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43040" y="1447920"/>
            <a:ext cx="8007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rong bisimulation betwe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ation </a:t>
            </a: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 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uch th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"/>
          <p:cNvSpPr/>
          <p:nvPr/>
        </p:nvSpPr>
        <p:spPr>
          <a:xfrm>
            <a:off x="247680" y="3581280"/>
            <a:ext cx="4540320" cy="252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83800" y="35100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0284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0284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6656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36656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738360" y="4052880"/>
            <a:ext cx="3427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081080" y="4052880"/>
            <a:ext cx="4129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012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56528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121280" y="351000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1280" y="43243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292640" y="40384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21280" y="53467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92640" y="4876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3984480"/>
            <a:ext cx="3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21120" y="398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43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76920" y="398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24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6708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95240" y="3800160"/>
            <a:ext cx="3447360" cy="1822320"/>
            <a:chOff x="795240" y="3800160"/>
            <a:chExt cx="3447360" cy="1822320"/>
          </a:xfrm>
        </p:grpSpPr>
        <p:sp>
          <p:nvSpPr>
            <p:cNvPr id="430" name=""/>
            <p:cNvSpPr/>
            <p:nvPr/>
          </p:nvSpPr>
          <p:spPr>
            <a:xfrm>
              <a:off x="1730520" y="43732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95240" y="4228920"/>
              <a:ext cx="3430800" cy="50436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46000" y="52624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10720" y="5117760"/>
              <a:ext cx="3430440" cy="50472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4" name=""/>
            <p:cNvCxnSpPr>
              <a:stCxn id="409" idx="3"/>
              <a:endCxn id="418" idx="1"/>
            </p:cNvCxnSpPr>
            <p:nvPr/>
          </p:nvCxnSpPr>
          <p:spPr>
            <a:xfrm>
              <a:off x="1439640" y="3800160"/>
              <a:ext cx="2672640" cy="1080"/>
            </a:xfrm>
            <a:prstGeom prst="curvedConnector2">
              <a:avLst/>
            </a:prstGeom>
            <a:ln w="19080">
              <a:solidFill>
                <a:srgbClr val="d60093"/>
              </a:solidFill>
              <a:prstDash val="sysDot"/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435" name=""/>
          <p:cNvSpPr/>
          <p:nvPr/>
        </p:nvSpPr>
        <p:spPr>
          <a:xfrm>
            <a:off x="5035680" y="2133720"/>
            <a:ext cx="4705200" cy="2290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273720" y="4165560"/>
            <a:ext cx="264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830920" y="3803760"/>
            <a:ext cx="33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867520" y="3803760"/>
            <a:ext cx="47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30200" y="258444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866800" y="2584440"/>
            <a:ext cx="52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0102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90648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346880" y="25909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311960" y="37800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486400" y="323856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9118440" y="324180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64320" y="2022480"/>
            <a:ext cx="286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, a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273720" y="2971800"/>
            <a:ext cx="264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898640" y="27432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DEFE-A259-4C4C-A420-35197599DB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Strong Bisimulation on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Probabilistic Automata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35680" y="2128680"/>
            <a:ext cx="4705200" cy="2291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73720" y="4191120"/>
            <a:ext cx="264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743040" y="1447560"/>
            <a:ext cx="8007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rong bisimulation betwe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ation </a:t>
            </a: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 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uch th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"/>
          <p:cNvSpPr/>
          <p:nvPr/>
        </p:nvSpPr>
        <p:spPr>
          <a:xfrm>
            <a:off x="247680" y="3581280"/>
            <a:ext cx="4540320" cy="252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83800" y="35100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284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0284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36656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36656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738360" y="4052880"/>
            <a:ext cx="3427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081080" y="4052880"/>
            <a:ext cx="4129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012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56528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21280" y="351000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21280" y="43243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292640" y="40384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21280" y="53467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292640" y="4876920"/>
            <a:ext cx="0" cy="63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63760" y="397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9643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976920" y="398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2724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56708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795240" y="3800160"/>
            <a:ext cx="3447360" cy="1822320"/>
            <a:chOff x="795240" y="3800160"/>
            <a:chExt cx="3447360" cy="1822320"/>
          </a:xfrm>
        </p:grpSpPr>
        <p:sp>
          <p:nvSpPr>
            <p:cNvPr id="475" name=""/>
            <p:cNvSpPr/>
            <p:nvPr/>
          </p:nvSpPr>
          <p:spPr>
            <a:xfrm>
              <a:off x="1730520" y="43732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95240" y="4228920"/>
              <a:ext cx="3430800" cy="50436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746000" y="52624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10720" y="5117760"/>
              <a:ext cx="3430440" cy="50472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9" name=""/>
            <p:cNvCxnSpPr>
              <a:stCxn id="455" idx="3"/>
              <a:endCxn id="464" idx="1"/>
            </p:cNvCxnSpPr>
            <p:nvPr/>
          </p:nvCxnSpPr>
          <p:spPr>
            <a:xfrm>
              <a:off x="1439640" y="3800160"/>
              <a:ext cx="2672640" cy="1080"/>
            </a:xfrm>
            <a:prstGeom prst="curvedConnector2">
              <a:avLst/>
            </a:prstGeom>
            <a:ln w="19080">
              <a:solidFill>
                <a:srgbClr val="d60093"/>
              </a:solidFill>
              <a:prstDash val="sysDot"/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480" name=""/>
          <p:cNvSpPr/>
          <p:nvPr/>
        </p:nvSpPr>
        <p:spPr>
          <a:xfrm>
            <a:off x="892080" y="4280040"/>
            <a:ext cx="412920" cy="75960"/>
          </a:xfrm>
          <a:custGeom>
            <a:avLst/>
            <a:gdLst/>
            <a:ahLst/>
            <a:rect l="l" t="t" r="r" b="b"/>
            <a:pathLst>
              <a:path w="192" h="48">
                <a:moveTo>
                  <a:pt x="0" y="0"/>
                </a:moveTo>
                <a:cubicBezTo>
                  <a:pt x="32" y="24"/>
                  <a:pt x="64" y="48"/>
                  <a:pt x="96" y="48"/>
                </a:cubicBezTo>
                <a:cubicBezTo>
                  <a:pt x="128" y="48"/>
                  <a:pt x="176" y="8"/>
                  <a:pt x="19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23280" y="511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3040" y="511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035680" y="4648320"/>
            <a:ext cx="4705200" cy="1452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035680" y="5486400"/>
            <a:ext cx="47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C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830920" y="3803760"/>
            <a:ext cx="33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867160" y="3803760"/>
            <a:ext cx="551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830200" y="258444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884440" y="2584440"/>
            <a:ext cx="41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0102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0648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346880" y="25909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311960" y="37800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486400" y="323856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9118440" y="324180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25440" y="2022480"/>
            <a:ext cx="30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, a, </a:t>
            </a: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273720" y="2971800"/>
            <a:ext cx="264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293720" y="5105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293720" y="4114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35680" y="5105520"/>
            <a:ext cx="47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035680" y="4648320"/>
            <a:ext cx="47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898640" y="27432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352000" y="4572000"/>
            <a:ext cx="14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LS89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27D3-059E-4D1F-A0E4-2ABC050811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07960" y="1616040"/>
            <a:ext cx="439416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4280" y="1700280"/>
            <a:ext cx="856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, 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E , H ,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64960" y="2349360"/>
            <a:ext cx="4434840" cy="38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ransition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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nternal (hidden)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xternal actions: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nitial state: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14960" y="227340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14960" y="2806560"/>
            <a:ext cx="412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4360" y="22734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4360" y="3797280"/>
            <a:ext cx="10731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76560" y="2273400"/>
            <a:ext cx="0" cy="2209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76560" y="4483080"/>
            <a:ext cx="16509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16320" y="2273400"/>
            <a:ext cx="0" cy="28954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16320" y="5168880"/>
            <a:ext cx="2311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55720" y="2273400"/>
            <a:ext cx="0" cy="3581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5720" y="5854680"/>
            <a:ext cx="29718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46D6-2929-44B8-94BA-147FD667FE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robabilistic Bisimulation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95360" y="1483920"/>
            <a:ext cx="8997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se two Probabilistic Automata are not bisimil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et they satisfy the same formulas of a logic PCT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logic observes probability bounds on reachability properti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similar if we match transitions with convex combinations of transi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638280" y="1916280"/>
            <a:ext cx="3879720" cy="3047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371680" y="206856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03160" y="3745080"/>
            <a:ext cx="567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380960" y="3745080"/>
            <a:ext cx="567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041560" y="374508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01800" y="3745080"/>
            <a:ext cx="567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79600" y="3745080"/>
            <a:ext cx="567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857760" y="374508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1050840" y="2449440"/>
            <a:ext cx="14860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1628280" y="2449440"/>
            <a:ext cx="9082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2288880" y="2449440"/>
            <a:ext cx="3301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619360" y="2449440"/>
            <a:ext cx="247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701800" y="2449440"/>
            <a:ext cx="7430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701800" y="2449440"/>
            <a:ext cx="13208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59120" y="2982960"/>
            <a:ext cx="164880" cy="88920"/>
          </a:xfrm>
          <a:custGeom>
            <a:avLst/>
            <a:gdLst/>
            <a:ahLst/>
            <a:rect l="l" t="t" r="r" b="b"/>
            <a:pathLst>
              <a:path w="96" h="56">
                <a:moveTo>
                  <a:pt x="0" y="0"/>
                </a:moveTo>
                <a:cubicBezTo>
                  <a:pt x="16" y="20"/>
                  <a:pt x="32" y="40"/>
                  <a:pt x="48" y="48"/>
                </a:cubicBezTo>
                <a:cubicBezTo>
                  <a:pt x="64" y="56"/>
                  <a:pt x="88" y="48"/>
                  <a:pt x="96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54120" y="3059280"/>
            <a:ext cx="247680" cy="75960"/>
          </a:xfrm>
          <a:custGeom>
            <a:avLst/>
            <a:gdLst/>
            <a:ahLst/>
            <a:rect l="l" t="t" r="r" b="b"/>
            <a:pathLst>
              <a:path w="144" h="48">
                <a:moveTo>
                  <a:pt x="0" y="0"/>
                </a:moveTo>
                <a:cubicBezTo>
                  <a:pt x="36" y="24"/>
                  <a:pt x="72" y="48"/>
                  <a:pt x="96" y="48"/>
                </a:cubicBezTo>
                <a:cubicBezTo>
                  <a:pt x="120" y="48"/>
                  <a:pt x="132" y="24"/>
                  <a:pt x="1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032280" y="2982960"/>
            <a:ext cx="164880" cy="88920"/>
          </a:xfrm>
          <a:custGeom>
            <a:avLst/>
            <a:gdLst/>
            <a:ahLst/>
            <a:rect l="l" t="t" r="r" b="b"/>
            <a:pathLst>
              <a:path w="96" h="56">
                <a:moveTo>
                  <a:pt x="0" y="48"/>
                </a:moveTo>
                <a:cubicBezTo>
                  <a:pt x="16" y="52"/>
                  <a:pt x="32" y="56"/>
                  <a:pt x="48" y="48"/>
                </a:cubicBezTo>
                <a:cubicBezTo>
                  <a:pt x="64" y="40"/>
                  <a:pt x="80" y="20"/>
                  <a:pt x="9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8532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48068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05848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47104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88396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29652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43480" y="1916280"/>
            <a:ext cx="3879720" cy="3047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077240" y="206856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508720" y="374508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86520" y="374508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985160" y="374508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562960" y="374508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5756040" y="2449440"/>
            <a:ext cx="14857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6334200" y="2449440"/>
            <a:ext cx="9079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407360" y="2449440"/>
            <a:ext cx="7430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407360" y="2449440"/>
            <a:ext cx="13208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664320" y="2982960"/>
            <a:ext cx="165240" cy="88920"/>
          </a:xfrm>
          <a:custGeom>
            <a:avLst/>
            <a:gdLst/>
            <a:ahLst/>
            <a:rect l="l" t="t" r="r" b="b"/>
            <a:pathLst>
              <a:path w="96" h="56">
                <a:moveTo>
                  <a:pt x="0" y="0"/>
                </a:moveTo>
                <a:cubicBezTo>
                  <a:pt x="16" y="20"/>
                  <a:pt x="32" y="40"/>
                  <a:pt x="48" y="48"/>
                </a:cubicBezTo>
                <a:cubicBezTo>
                  <a:pt x="64" y="56"/>
                  <a:pt x="88" y="48"/>
                  <a:pt x="96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737480" y="2982960"/>
            <a:ext cx="165240" cy="88920"/>
          </a:xfrm>
          <a:custGeom>
            <a:avLst/>
            <a:gdLst/>
            <a:ahLst/>
            <a:rect l="l" t="t" r="r" b="b"/>
            <a:pathLst>
              <a:path w="96" h="56">
                <a:moveTo>
                  <a:pt x="0" y="48"/>
                </a:moveTo>
                <a:cubicBezTo>
                  <a:pt x="16" y="52"/>
                  <a:pt x="32" y="56"/>
                  <a:pt x="48" y="48"/>
                </a:cubicBezTo>
                <a:cubicBezTo>
                  <a:pt x="64" y="40"/>
                  <a:pt x="80" y="20"/>
                  <a:pt x="9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69052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18588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58916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00208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628640" y="2602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206800" y="2602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619360" y="2602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334200" y="2602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324560" y="2602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5084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20720" y="41259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2864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298160" y="412596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8924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959120" y="41259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94948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619000" y="412596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2728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97160" y="41259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10544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74600" y="412596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5640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25920" y="41259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33420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003360" y="412596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23284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902720" y="41259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81064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479800" y="412596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066760" y="3141720"/>
            <a:ext cx="1092240" cy="13669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08120" y="2924280"/>
            <a:ext cx="1069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~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09200" y="3716280"/>
            <a:ext cx="11959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~</a:t>
            </a:r>
            <a:r>
              <a:rPr b="0" lang="it-IT" sz="2800" spc="-1" strike="noStrike" baseline="30000">
                <a:solidFill>
                  <a:srgbClr val="0000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4815000" y="3044880"/>
            <a:ext cx="777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D717-97B4-4931-AA7E-6A55754569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5030640" y="4745160"/>
            <a:ext cx="4757760" cy="134784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30640" y="2133720"/>
            <a:ext cx="4710240" cy="2290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eak Bisimulation on 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43040" y="1447560"/>
            <a:ext cx="77594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ak bisimulation betwe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ation </a:t>
            </a: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 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ch th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"/>
          <p:cNvSpPr/>
          <p:nvPr/>
        </p:nvSpPr>
        <p:spPr>
          <a:xfrm>
            <a:off x="247680" y="3581280"/>
            <a:ext cx="4540320" cy="252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83800" y="35100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0284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284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6656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36656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738360" y="4052880"/>
            <a:ext cx="3427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081080" y="4052880"/>
            <a:ext cx="4129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012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56528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21280" y="43243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121280" y="53467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292640" y="4876920"/>
            <a:ext cx="0" cy="63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79520" y="39844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219320" y="3978360"/>
            <a:ext cx="4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9643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724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6708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830920" y="3803760"/>
            <a:ext cx="33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867520" y="3803760"/>
            <a:ext cx="47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830200" y="258444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866800" y="2584440"/>
            <a:ext cx="52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102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0648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346880" y="25909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311960" y="37800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486400" y="323856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9118440" y="324180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764320" y="2022480"/>
            <a:ext cx="286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, a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273720" y="2971800"/>
            <a:ext cx="264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6238800" y="4084560"/>
            <a:ext cx="2597040" cy="220320"/>
            <a:chOff x="6238800" y="4084560"/>
            <a:chExt cx="2597040" cy="220320"/>
          </a:xfrm>
        </p:grpSpPr>
        <p:grpSp>
          <p:nvGrpSpPr>
            <p:cNvPr id="608" name=""/>
            <p:cNvGrpSpPr/>
            <p:nvPr/>
          </p:nvGrpSpPr>
          <p:grpSpPr>
            <a:xfrm>
              <a:off x="6238800" y="4160520"/>
              <a:ext cx="2558880" cy="76320"/>
              <a:chOff x="6238800" y="4160520"/>
              <a:chExt cx="2558880" cy="76320"/>
            </a:xfrm>
          </p:grpSpPr>
          <p:sp>
            <p:nvSpPr>
              <p:cNvPr id="609" name=""/>
              <p:cNvSpPr/>
              <p:nvPr/>
            </p:nvSpPr>
            <p:spPr>
              <a:xfrm>
                <a:off x="6238800" y="4160520"/>
                <a:ext cx="255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238800" y="4236840"/>
                <a:ext cx="255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8736120" y="4084560"/>
              <a:ext cx="9756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8737560" y="4195080"/>
              <a:ext cx="9828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795240" y="3687840"/>
            <a:ext cx="3447360" cy="1934640"/>
            <a:chOff x="795240" y="3687840"/>
            <a:chExt cx="3447360" cy="1934640"/>
          </a:xfrm>
        </p:grpSpPr>
        <p:sp>
          <p:nvSpPr>
            <p:cNvPr id="614" name=""/>
            <p:cNvSpPr/>
            <p:nvPr/>
          </p:nvSpPr>
          <p:spPr>
            <a:xfrm>
              <a:off x="1730520" y="43732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95240" y="4228920"/>
              <a:ext cx="3430800" cy="50436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46000" y="52624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10720" y="5117760"/>
              <a:ext cx="3430440" cy="50472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306080" y="3687840"/>
              <a:ext cx="2888640" cy="896760"/>
            </a:xfrm>
            <a:custGeom>
              <a:avLst/>
              <a:gdLst/>
              <a:ahLst/>
              <a:rect l="l" t="t" r="r" b="b"/>
              <a:pathLst>
                <a:path w="1680" h="565">
                  <a:moveTo>
                    <a:pt x="0" y="67"/>
                  </a:moveTo>
                  <a:cubicBezTo>
                    <a:pt x="92" y="56"/>
                    <a:pt x="370" y="0"/>
                    <a:pt x="554" y="0"/>
                  </a:cubicBezTo>
                  <a:cubicBezTo>
                    <a:pt x="738" y="0"/>
                    <a:pt x="1053" y="150"/>
                    <a:pt x="1241" y="244"/>
                  </a:cubicBezTo>
                  <a:cubicBezTo>
                    <a:pt x="1429" y="338"/>
                    <a:pt x="1589" y="498"/>
                    <a:pt x="1680" y="56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1898640" y="27432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739760" y="4797360"/>
            <a:ext cx="5041800" cy="12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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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trac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fsta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sta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918480" y="4668840"/>
            <a:ext cx="981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BF2A-1D8A-403F-844B-7D17C05558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Weak bisimulation on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Probabilistic Automata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47680" y="3581280"/>
            <a:ext cx="4540320" cy="252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83800" y="35100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0284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0284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6656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36656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738360" y="4052880"/>
            <a:ext cx="3427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081080" y="4052880"/>
            <a:ext cx="4129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0012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56528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21280" y="43243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21280" y="53467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292640" y="4876920"/>
            <a:ext cx="0" cy="63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79520" y="39844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9643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724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56708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95240" y="3687840"/>
            <a:ext cx="3447360" cy="1934640"/>
            <a:chOff x="795240" y="3687840"/>
            <a:chExt cx="3447360" cy="1934640"/>
          </a:xfrm>
        </p:grpSpPr>
        <p:sp>
          <p:nvSpPr>
            <p:cNvPr id="641" name=""/>
            <p:cNvSpPr/>
            <p:nvPr/>
          </p:nvSpPr>
          <p:spPr>
            <a:xfrm>
              <a:off x="1730520" y="43732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95240" y="4228920"/>
              <a:ext cx="3430800" cy="50436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746000" y="52624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10720" y="5117760"/>
              <a:ext cx="3430440" cy="50472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06080" y="3687840"/>
              <a:ext cx="2888640" cy="896760"/>
            </a:xfrm>
            <a:custGeom>
              <a:avLst/>
              <a:gdLst/>
              <a:ahLst/>
              <a:rect l="l" t="t" r="r" b="b"/>
              <a:pathLst>
                <a:path w="1680" h="565">
                  <a:moveTo>
                    <a:pt x="0" y="67"/>
                  </a:moveTo>
                  <a:cubicBezTo>
                    <a:pt x="92" y="56"/>
                    <a:pt x="370" y="0"/>
                    <a:pt x="554" y="0"/>
                  </a:cubicBezTo>
                  <a:cubicBezTo>
                    <a:pt x="738" y="0"/>
                    <a:pt x="1053" y="150"/>
                    <a:pt x="1241" y="244"/>
                  </a:cubicBezTo>
                  <a:cubicBezTo>
                    <a:pt x="1429" y="338"/>
                    <a:pt x="1589" y="498"/>
                    <a:pt x="1680" y="56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892080" y="4280040"/>
            <a:ext cx="412920" cy="75960"/>
          </a:xfrm>
          <a:custGeom>
            <a:avLst/>
            <a:gdLst/>
            <a:ahLst/>
            <a:rect l="l" t="t" r="r" b="b"/>
            <a:pathLst>
              <a:path w="192" h="48">
                <a:moveTo>
                  <a:pt x="0" y="0"/>
                </a:moveTo>
                <a:cubicBezTo>
                  <a:pt x="32" y="24"/>
                  <a:pt x="64" y="48"/>
                  <a:pt x="96" y="48"/>
                </a:cubicBezTo>
                <a:cubicBezTo>
                  <a:pt x="128" y="48"/>
                  <a:pt x="176" y="8"/>
                  <a:pt x="19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35680" y="2133720"/>
            <a:ext cx="4705200" cy="2290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43040" y="1447920"/>
            <a:ext cx="77594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ak bisimulation betwe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ation </a:t>
            </a: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 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uch th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830920" y="3803760"/>
            <a:ext cx="33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867160" y="3803760"/>
            <a:ext cx="551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830200" y="258444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8884440" y="2584440"/>
            <a:ext cx="41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102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90648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46880" y="25909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311960" y="37800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486400" y="323856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118440" y="324180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725440" y="2022480"/>
            <a:ext cx="30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, a, </a:t>
            </a: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273720" y="2971800"/>
            <a:ext cx="264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6238800" y="4084560"/>
            <a:ext cx="2597040" cy="220320"/>
            <a:chOff x="6238800" y="4084560"/>
            <a:chExt cx="2597040" cy="220320"/>
          </a:xfrm>
        </p:grpSpPr>
        <p:grpSp>
          <p:nvGrpSpPr>
            <p:cNvPr id="662" name=""/>
            <p:cNvGrpSpPr/>
            <p:nvPr/>
          </p:nvGrpSpPr>
          <p:grpSpPr>
            <a:xfrm>
              <a:off x="6238800" y="4160520"/>
              <a:ext cx="2558880" cy="76320"/>
              <a:chOff x="6238800" y="4160520"/>
              <a:chExt cx="2558880" cy="76320"/>
            </a:xfrm>
          </p:grpSpPr>
          <p:sp>
            <p:nvSpPr>
              <p:cNvPr id="663" name=""/>
              <p:cNvSpPr/>
              <p:nvPr/>
            </p:nvSpPr>
            <p:spPr>
              <a:xfrm>
                <a:off x="6238800" y="4160520"/>
                <a:ext cx="255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238800" y="4236840"/>
                <a:ext cx="255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8736120" y="4084560"/>
              <a:ext cx="9756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8737560" y="4195080"/>
              <a:ext cx="9828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1223280" y="511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3040" y="511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293720" y="511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035680" y="4648320"/>
            <a:ext cx="4705200" cy="1452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035680" y="5486400"/>
            <a:ext cx="47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C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035680" y="5105520"/>
            <a:ext cx="47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35680" y="4648320"/>
            <a:ext cx="47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98640" y="27432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352000" y="4572000"/>
            <a:ext cx="14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LS89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3922-CD91-4A41-923A-15AE6F4C6C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1285920" y="5734080"/>
            <a:ext cx="6319800" cy="5032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925720" y="1628640"/>
            <a:ext cx="3900600" cy="865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Weak Transi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741240" y="2707920"/>
            <a:ext cx="842040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here is a probabilistic execution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uch th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xec*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 =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trac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stat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stat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157920" y="1628640"/>
            <a:ext cx="3448080" cy="648000"/>
            <a:chOff x="3157920" y="1628640"/>
            <a:chExt cx="3448080" cy="648000"/>
          </a:xfrm>
        </p:grpSpPr>
        <p:sp>
          <p:nvSpPr>
            <p:cNvPr id="681" name=""/>
            <p:cNvSpPr/>
            <p:nvPr/>
          </p:nvSpPr>
          <p:spPr>
            <a:xfrm>
              <a:off x="3157920" y="1700280"/>
              <a:ext cx="38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200640" y="1700280"/>
              <a:ext cx="405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675680" y="162864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4" name=""/>
            <p:cNvGrpSpPr/>
            <p:nvPr/>
          </p:nvGrpSpPr>
          <p:grpSpPr>
            <a:xfrm>
              <a:off x="3618000" y="1947960"/>
              <a:ext cx="2596680" cy="220320"/>
              <a:chOff x="3618000" y="1947960"/>
              <a:chExt cx="2596680" cy="220320"/>
            </a:xfrm>
          </p:grpSpPr>
          <p:grpSp>
            <p:nvGrpSpPr>
              <p:cNvPr id="685" name=""/>
              <p:cNvGrpSpPr/>
              <p:nvPr/>
            </p:nvGrpSpPr>
            <p:grpSpPr>
              <a:xfrm>
                <a:off x="3618000" y="2023920"/>
                <a:ext cx="2558520" cy="76320"/>
                <a:chOff x="3618000" y="2023920"/>
                <a:chExt cx="2558520" cy="763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618000" y="2023920"/>
                  <a:ext cx="2558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618000" y="2100240"/>
                  <a:ext cx="2558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8" name=""/>
              <p:cNvSpPr/>
              <p:nvPr/>
            </p:nvSpPr>
            <p:spPr>
              <a:xfrm>
                <a:off x="6114960" y="1947960"/>
                <a:ext cx="9756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6116400" y="2058480"/>
                <a:ext cx="98280" cy="10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0" name=""/>
          <p:cNvSpPr/>
          <p:nvPr/>
        </p:nvSpPr>
        <p:spPr>
          <a:xfrm>
            <a:off x="4910400" y="3452760"/>
            <a:ext cx="198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it is fini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903560" y="4037040"/>
            <a:ext cx="22755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its trace is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916880" y="4629240"/>
            <a:ext cx="2571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it starts from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84120" y="5213520"/>
            <a:ext cx="22370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it leads to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285920" y="5805360"/>
            <a:ext cx="63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9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ff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</a:t>
            </a:r>
            <a:r>
              <a:rPr b="0" lang="it-IT" sz="9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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trac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fsta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sta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266480" y="5702400"/>
            <a:ext cx="9691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AE4A-76EE-480A-ABB1-627EB89639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ove that the probabilistic CCS is an extension of CCS (to define what this means is part of the exercis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ove that probabilistic bisimulation is an extension of bisimul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Write the Lehmann-Rabin algorithm in probabilistic CCS (without using guarded choic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F137-ADF6-4587-B849-AED1A26BB42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12800" y="2413080"/>
            <a:ext cx="7020000" cy="237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Example: 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1240" y="1557360"/>
            <a:ext cx="842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, 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E , H ,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152080" y="2421000"/>
            <a:ext cx="5703120" cy="2283480"/>
            <a:chOff x="2152080" y="2421000"/>
            <a:chExt cx="5703120" cy="2283480"/>
          </a:xfrm>
        </p:grpSpPr>
        <p:sp>
          <p:nvSpPr>
            <p:cNvPr id="71" name=""/>
            <p:cNvSpPr/>
            <p:nvPr/>
          </p:nvSpPr>
          <p:spPr>
            <a:xfrm>
              <a:off x="5691960" y="4249800"/>
              <a:ext cx="911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coff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52080" y="251316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62440" y="251316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309120" y="328644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52280" y="24829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62440" y="393084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52280" y="393084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72920" y="2816280"/>
              <a:ext cx="222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14240" y="2816280"/>
              <a:ext cx="214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72920" y="3044880"/>
              <a:ext cx="8251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10960" y="3730680"/>
              <a:ext cx="99036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3728520" y="2968560"/>
              <a:ext cx="107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14240" y="4264200"/>
              <a:ext cx="214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65000" y="243684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39880" y="31068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60360" y="37926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78280" y="29545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75480" y="2421000"/>
              <a:ext cx="75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cho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49360" y="312120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32440" y="3259440"/>
              <a:ext cx="46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it-IT" sz="2400" spc="-1" strike="noStrike">
                  <a:solidFill>
                    <a:srgbClr val="efdc51"/>
                  </a:solidFill>
                  <a:latin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010880" y="4924440"/>
            <a:ext cx="686160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Execution: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efdc51"/>
                </a:solidFill>
                <a:latin typeface="Times New Roman"/>
              </a:rPr>
              <a:t>ch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ff0000"/>
                </a:solidFill>
                <a:latin typeface="Times New Roman"/>
              </a:rPr>
              <a:t>coffee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05480" y="5533920"/>
            <a:ext cx="4251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Trace: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it-IT" sz="3200" spc="-1" strike="noStrike">
                <a:solidFill>
                  <a:srgbClr val="ff0000"/>
                </a:solidFill>
                <a:latin typeface="Times New Roman"/>
              </a:rPr>
              <a:t>n n coff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52760" y="2820960"/>
            <a:ext cx="2260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86520" y="4268880"/>
            <a:ext cx="2184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48280" y="311796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815E-672B-4CAB-BD7A-3553FD4A86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76200" y="1616040"/>
            <a:ext cx="4525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Probabilistic 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6200" y="1663560"/>
            <a:ext cx="864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, 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E , H ,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64960" y="2349360"/>
            <a:ext cx="4434840" cy="38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ransition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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isc(</a:t>
            </a:r>
            <a:r>
              <a:rPr b="0" i="1" lang="it-IT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nternal (hidden)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xternal actions: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nitial state: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14960" y="227340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14960" y="2806560"/>
            <a:ext cx="412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4360" y="22734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4360" y="3797280"/>
            <a:ext cx="10731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76560" y="2273400"/>
            <a:ext cx="0" cy="2209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76560" y="4483080"/>
            <a:ext cx="16509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16320" y="2273400"/>
            <a:ext cx="0" cy="28954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16320" y="5168880"/>
            <a:ext cx="2311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55720" y="2273400"/>
            <a:ext cx="0" cy="3581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5720" y="5854680"/>
            <a:ext cx="29718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0A2F-616F-4ED0-AD98-56B525D7E5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09600" y="1916280"/>
            <a:ext cx="7801200" cy="30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ample: Probabilistic 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8200" y="1916280"/>
            <a:ext cx="7189200" cy="2969280"/>
            <a:chOff x="1528200" y="1916280"/>
            <a:chExt cx="7189200" cy="2969280"/>
          </a:xfrm>
        </p:grpSpPr>
        <p:sp>
          <p:nvSpPr>
            <p:cNvPr id="113" name=""/>
            <p:cNvSpPr/>
            <p:nvPr/>
          </p:nvSpPr>
          <p:spPr>
            <a:xfrm>
              <a:off x="1528200" y="304488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6480" y="20545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6480" y="41119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02920" y="20545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02920" y="41119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14480" y="20545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2031840" y="2387880"/>
              <a:ext cx="14029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31840" y="3454560"/>
              <a:ext cx="140292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30120" y="2311560"/>
              <a:ext cx="189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30120" y="2311560"/>
              <a:ext cx="1981080" cy="19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12920" y="4445280"/>
              <a:ext cx="181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012920" y="2463840"/>
              <a:ext cx="1815480" cy="198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89360" y="2311560"/>
              <a:ext cx="173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95360" y="2082960"/>
              <a:ext cx="1645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78880" y="4218120"/>
              <a:ext cx="163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62240" y="2373480"/>
              <a:ext cx="62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fa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49680" y="3821400"/>
              <a:ext cx="928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unfa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61240" y="1916280"/>
              <a:ext cx="59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61240" y="4430880"/>
              <a:ext cx="59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34400" y="19162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46960" y="37450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64520" y="26020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2/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16840" y="44308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85360" y="1916280"/>
              <a:ext cx="75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bee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86FF-63E1-4E3F-AC80-B5062DF44A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ample: Probabilistic 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238400" y="1905120"/>
            <a:ext cx="7800480" cy="3311280"/>
            <a:chOff x="1238400" y="1905120"/>
            <a:chExt cx="7800480" cy="3311280"/>
          </a:xfrm>
        </p:grpSpPr>
        <p:sp>
          <p:nvSpPr>
            <p:cNvPr id="139" name=""/>
            <p:cNvSpPr/>
            <p:nvPr/>
          </p:nvSpPr>
          <p:spPr>
            <a:xfrm>
              <a:off x="1238400" y="1905120"/>
              <a:ext cx="7800480" cy="33112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56640" y="317664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31360" y="21859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it-IT" sz="32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28120" y="4243320"/>
              <a:ext cx="45108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it-IT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42920" y="21859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it-IT" sz="32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17800" y="2443320"/>
              <a:ext cx="1733400" cy="0"/>
            </a:xfrm>
            <a:prstGeom prst="line">
              <a:avLst/>
            </a:prstGeom>
            <a:ln w="0">
              <a:solidFill>
                <a:srgbClr val="000000"/>
              </a:solidFill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85800" y="2265480"/>
              <a:ext cx="59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5800" y="4281480"/>
              <a:ext cx="59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80960" y="219240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80960" y="262404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80960" y="399240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2/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80960" y="452916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13800" y="2048040"/>
              <a:ext cx="75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bee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96280" y="1949400"/>
              <a:ext cx="3893400" cy="1395360"/>
            </a:xfrm>
            <a:custGeom>
              <a:avLst/>
              <a:gdLst/>
              <a:ahLst/>
              <a:rect l="l" t="t" r="r" b="b"/>
              <a:pathLst>
                <a:path w="2264" h="879">
                  <a:moveTo>
                    <a:pt x="0" y="879"/>
                  </a:moveTo>
                  <a:cubicBezTo>
                    <a:pt x="196" y="749"/>
                    <a:pt x="802" y="196"/>
                    <a:pt x="1179" y="98"/>
                  </a:cubicBezTo>
                  <a:cubicBezTo>
                    <a:pt x="1556" y="0"/>
                    <a:pt x="2038" y="250"/>
                    <a:pt x="2264" y="290"/>
                  </a:cubicBezTo>
                </a:path>
              </a:pathLst>
            </a:custGeom>
            <a:noFill/>
            <a:ln w="0">
              <a:solidFill>
                <a:srgbClr val="000000"/>
              </a:solidFill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96280" y="2265480"/>
              <a:ext cx="3876120" cy="2171520"/>
            </a:xfrm>
            <a:custGeom>
              <a:avLst/>
              <a:gdLst/>
              <a:ahLst/>
              <a:rect l="l" t="t" r="r" b="b"/>
              <a:pathLst>
                <a:path w="2254" h="1368">
                  <a:moveTo>
                    <a:pt x="0" y="680"/>
                  </a:moveTo>
                  <a:cubicBezTo>
                    <a:pt x="224" y="586"/>
                    <a:pt x="971" y="0"/>
                    <a:pt x="1347" y="115"/>
                  </a:cubicBezTo>
                  <a:cubicBezTo>
                    <a:pt x="1723" y="230"/>
                    <a:pt x="2065" y="1107"/>
                    <a:pt x="2254" y="1368"/>
                  </a:cubicBezTo>
                </a:path>
              </a:pathLst>
            </a:custGeom>
            <a:noFill/>
            <a:ln w="0">
              <a:solidFill>
                <a:srgbClr val="000000"/>
              </a:solidFill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96280" y="3632040"/>
              <a:ext cx="3900600" cy="1552680"/>
            </a:xfrm>
            <a:custGeom>
              <a:avLst/>
              <a:gdLst/>
              <a:ahLst/>
              <a:rect l="l" t="t" r="r" b="b"/>
              <a:pathLst>
                <a:path w="2268" h="978">
                  <a:moveTo>
                    <a:pt x="0" y="0"/>
                  </a:moveTo>
                  <a:cubicBezTo>
                    <a:pt x="196" y="143"/>
                    <a:pt x="796" y="736"/>
                    <a:pt x="1174" y="857"/>
                  </a:cubicBezTo>
                  <a:cubicBezTo>
                    <a:pt x="1552" y="978"/>
                    <a:pt x="2040" y="753"/>
                    <a:pt x="2268" y="726"/>
                  </a:cubicBezTo>
                </a:path>
              </a:pathLst>
            </a:custGeom>
            <a:noFill/>
            <a:ln w="0">
              <a:solidFill>
                <a:srgbClr val="000000"/>
              </a:solidFill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96280" y="2768760"/>
              <a:ext cx="3900600" cy="1965240"/>
            </a:xfrm>
            <a:custGeom>
              <a:avLst/>
              <a:gdLst/>
              <a:ahLst/>
              <a:rect l="l" t="t" r="r" b="b"/>
              <a:pathLst>
                <a:path w="2268" h="1238">
                  <a:moveTo>
                    <a:pt x="0" y="544"/>
                  </a:moveTo>
                  <a:cubicBezTo>
                    <a:pt x="229" y="645"/>
                    <a:pt x="998" y="1238"/>
                    <a:pt x="1376" y="1147"/>
                  </a:cubicBezTo>
                  <a:cubicBezTo>
                    <a:pt x="1754" y="1056"/>
                    <a:pt x="2082" y="239"/>
                    <a:pt x="2268" y="0"/>
                  </a:cubicBezTo>
                </a:path>
              </a:pathLst>
            </a:custGeom>
            <a:noFill/>
            <a:ln w="0">
              <a:solidFill>
                <a:srgbClr val="000000"/>
              </a:solidFill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53000" y="4275000"/>
              <a:ext cx="1803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32520" y="4137120"/>
              <a:ext cx="1803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43320" y="2481120"/>
              <a:ext cx="157680" cy="165240"/>
            </a:xfrm>
            <a:custGeom>
              <a:avLst/>
              <a:gdLst/>
              <a:ahLst/>
              <a:rect l="l" t="t" r="r" b="b"/>
              <a:pathLst>
                <a:path w="92" h="104">
                  <a:moveTo>
                    <a:pt x="0" y="0"/>
                  </a:moveTo>
                  <a:cubicBezTo>
                    <a:pt x="14" y="4"/>
                    <a:pt x="76" y="10"/>
                    <a:pt x="84" y="27"/>
                  </a:cubicBezTo>
                  <a:cubicBezTo>
                    <a:pt x="92" y="44"/>
                    <a:pt x="54" y="88"/>
                    <a:pt x="46" y="104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88520" y="4254480"/>
              <a:ext cx="122040" cy="243000"/>
            </a:xfrm>
            <a:custGeom>
              <a:avLst/>
              <a:gdLst/>
              <a:ahLst/>
              <a:rect l="l" t="t" r="r" b="b"/>
              <a:pathLst>
                <a:path w="71" h="153">
                  <a:moveTo>
                    <a:pt x="45" y="0"/>
                  </a:moveTo>
                  <a:cubicBezTo>
                    <a:pt x="48" y="14"/>
                    <a:pt x="71" y="61"/>
                    <a:pt x="64" y="86"/>
                  </a:cubicBezTo>
                  <a:cubicBezTo>
                    <a:pt x="57" y="111"/>
                    <a:pt x="13" y="139"/>
                    <a:pt x="0" y="15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DFF4-DD4A-4394-B725-A93F84874B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09600" y="1916280"/>
            <a:ext cx="7801200" cy="30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ample: Probabilistic 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528200" y="1916280"/>
            <a:ext cx="7189200" cy="2969280"/>
            <a:chOff x="1528200" y="1916280"/>
            <a:chExt cx="7189200" cy="2969280"/>
          </a:xfrm>
        </p:grpSpPr>
        <p:sp>
          <p:nvSpPr>
            <p:cNvPr id="163" name=""/>
            <p:cNvSpPr/>
            <p:nvPr/>
          </p:nvSpPr>
          <p:spPr>
            <a:xfrm>
              <a:off x="1528200" y="304488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26480" y="20545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26480" y="41119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02920" y="20545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02920" y="41119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14480" y="20545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2031840" y="2387880"/>
              <a:ext cx="14029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031840" y="3454560"/>
              <a:ext cx="140292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30120" y="2311560"/>
              <a:ext cx="189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30120" y="2311560"/>
              <a:ext cx="1981080" cy="19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12920" y="4445280"/>
              <a:ext cx="181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012920" y="2463840"/>
              <a:ext cx="1815480" cy="198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89360" y="2311560"/>
              <a:ext cx="173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360" y="2082960"/>
              <a:ext cx="1645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78880" y="4218120"/>
              <a:ext cx="163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62240" y="2373480"/>
              <a:ext cx="62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fa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49680" y="3821400"/>
              <a:ext cx="928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unfa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61240" y="1916280"/>
              <a:ext cx="59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61240" y="4430880"/>
              <a:ext cx="59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234400" y="19162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46960" y="37450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64520" y="26020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2/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16840" y="44308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85360" y="1916280"/>
              <a:ext cx="75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bee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1265400" y="5300640"/>
            <a:ext cx="6832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What is the probability of beep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BFEB-4F3B-49E7-B1BC-B69C13D380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95320" y="3933720"/>
            <a:ext cx="8115480" cy="223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95320" y="1557360"/>
            <a:ext cx="8115480" cy="215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ample: Probabilistic Execution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75720" y="164628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74360" y="167652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50800" y="167652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50800" y="304020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62360" y="167652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78360" y="1860480"/>
            <a:ext cx="1898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78360" y="1860480"/>
            <a:ext cx="1981080" cy="1316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37240" y="1860480"/>
            <a:ext cx="1733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43600" y="1711080"/>
            <a:ext cx="164520" cy="30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87"/>
                </a:moveTo>
                <a:arcTo wR="10800" hR="10800" stAng="-35996" swAng="5435996"/>
                <a:lnTo>
                  <a:pt x="10800" y="10800"/>
                </a:lnTo>
                <a:close/>
              </a:path>
              <a:path fill="none" w="21600" h="21600">
                <a:moveTo>
                  <a:pt x="21599" y="10687"/>
                </a:moveTo>
                <a:arcTo wR="10800" hR="10800" stAng="-35996" swAng="5435996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81920" y="148896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29600" y="261468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93280" y="541800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91920" y="547848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68360" y="411480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68360" y="547848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179560" y="411480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038320" y="5664240"/>
            <a:ext cx="136224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78360" y="5715000"/>
            <a:ext cx="1815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978360" y="4401720"/>
            <a:ext cx="1815840" cy="131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54800" y="4299120"/>
            <a:ext cx="173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43600" y="5564160"/>
            <a:ext cx="16452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6400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64004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45240" y="5640480"/>
            <a:ext cx="92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unf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26320" y="5689440"/>
            <a:ext cx="59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fl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46800" y="452268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281920" y="573552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0800" y="3881520"/>
            <a:ext cx="75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b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47960" y="4149720"/>
            <a:ext cx="2414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ff0000"/>
                </a:solidFill>
                <a:latin typeface="Times New Roman"/>
              </a:rPr>
              <a:t>beep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= 2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47960" y="2997360"/>
            <a:ext cx="2414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ff0000"/>
                </a:solidFill>
                <a:latin typeface="Times New Roman"/>
              </a:rPr>
              <a:t>beep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= 1/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10120" y="1486080"/>
            <a:ext cx="62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1905120"/>
            <a:ext cx="156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33600" y="1473120"/>
            <a:ext cx="75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b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38880" y="1460520"/>
            <a:ext cx="59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fl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19160" y="1908000"/>
            <a:ext cx="163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17960" y="1860480"/>
            <a:ext cx="187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566040" y="1860480"/>
            <a:ext cx="17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06640" y="5661000"/>
            <a:ext cx="14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008600" y="4397400"/>
            <a:ext cx="179388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78560" y="4300560"/>
            <a:ext cx="1716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729280" y="162396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747280" y="407196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1351-F20A-43A1-B5A2-EACFEA682B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739880" y="1969920"/>
            <a:ext cx="6164280" cy="36720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Example: Probabilistic Execution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86760" y="340344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13320" y="2565360"/>
            <a:ext cx="637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20520" y="431784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71480" y="203184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271480" y="294624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71480" y="386064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71480" y="485136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70120" y="203184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170120" y="386064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308320" y="2974680"/>
            <a:ext cx="132084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308320" y="3660840"/>
            <a:ext cx="123804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041720" y="2441520"/>
            <a:ext cx="1155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41720" y="2822400"/>
            <a:ext cx="11556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124160" y="4270320"/>
            <a:ext cx="115596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24160" y="4651200"/>
            <a:ext cx="115596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75480" y="2365200"/>
            <a:ext cx="140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75480" y="4194000"/>
            <a:ext cx="140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73480" y="2884320"/>
            <a:ext cx="62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043720" y="4103640"/>
            <a:ext cx="92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unf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07240" y="2198520"/>
            <a:ext cx="59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fl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89680" y="4865760"/>
            <a:ext cx="59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fl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23800" y="2351160"/>
            <a:ext cx="75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b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23800" y="4179960"/>
            <a:ext cx="75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b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15160" y="247320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15160" y="277812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15160" y="430200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15160" y="475920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98960" y="315900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98960" y="407340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00280" y="3500280"/>
            <a:ext cx="93600" cy="385920"/>
          </a:xfrm>
          <a:custGeom>
            <a:avLst/>
            <a:gdLst/>
            <a:ahLst/>
            <a:rect l="l" t="t" r="r" b="b"/>
            <a:pathLst>
              <a:path w="54" h="243">
                <a:moveTo>
                  <a:pt x="7" y="0"/>
                </a:moveTo>
                <a:cubicBezTo>
                  <a:pt x="15" y="20"/>
                  <a:pt x="54" y="83"/>
                  <a:pt x="53" y="123"/>
                </a:cubicBezTo>
                <a:cubicBezTo>
                  <a:pt x="52" y="163"/>
                  <a:pt x="11" y="218"/>
                  <a:pt x="0" y="243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29000" y="2727360"/>
            <a:ext cx="69840" cy="196920"/>
          </a:xfrm>
          <a:custGeom>
            <a:avLst/>
            <a:gdLst/>
            <a:ahLst/>
            <a:rect l="l" t="t" r="r" b="b"/>
            <a:pathLst>
              <a:path w="41" h="124">
                <a:moveTo>
                  <a:pt x="3" y="0"/>
                </a:moveTo>
                <a:cubicBezTo>
                  <a:pt x="9" y="10"/>
                  <a:pt x="41" y="42"/>
                  <a:pt x="41" y="63"/>
                </a:cubicBezTo>
                <a:cubicBezTo>
                  <a:pt x="41" y="84"/>
                  <a:pt x="9" y="111"/>
                  <a:pt x="0" y="12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73640" y="4573440"/>
            <a:ext cx="79200" cy="196920"/>
          </a:xfrm>
          <a:custGeom>
            <a:avLst/>
            <a:gdLst/>
            <a:ahLst/>
            <a:rect l="l" t="t" r="r" b="b"/>
            <a:pathLst>
              <a:path w="41" h="124">
                <a:moveTo>
                  <a:pt x="3" y="0"/>
                </a:moveTo>
                <a:cubicBezTo>
                  <a:pt x="9" y="10"/>
                  <a:pt x="41" y="42"/>
                  <a:pt x="41" y="63"/>
                </a:cubicBezTo>
                <a:cubicBezTo>
                  <a:pt x="41" y="84"/>
                  <a:pt x="9" y="111"/>
                  <a:pt x="0" y="12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504200" y="2276640"/>
            <a:ext cx="1253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24000" y="4076640"/>
            <a:ext cx="1253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/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462880" y="2492280"/>
            <a:ext cx="390600" cy="86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8462520" y="3357720"/>
            <a:ext cx="390600" cy="86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522640" y="3213000"/>
            <a:ext cx="14004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895320" y="1196640"/>
            <a:ext cx="6008760" cy="259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95320" y="3789360"/>
            <a:ext cx="6319800" cy="259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309760" y="2957400"/>
            <a:ext cx="1360440" cy="70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060800" y="2412720"/>
            <a:ext cx="1168560" cy="407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794200" y="2357280"/>
            <a:ext cx="140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35320" y="3668760"/>
            <a:ext cx="1214280" cy="91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146480" y="4252680"/>
            <a:ext cx="115272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94200" y="4189320"/>
            <a:ext cx="140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95320" y="1197000"/>
            <a:ext cx="8893080" cy="5184720"/>
          </a:xfrm>
          <a:custGeom>
            <a:avLst/>
            <a:gdLst/>
            <a:ahLst/>
            <a:rect l="l" t="t" r="r" b="b"/>
            <a:pathLst>
              <a:path w="5171" h="3266">
                <a:moveTo>
                  <a:pt x="0" y="1633"/>
                </a:moveTo>
                <a:lnTo>
                  <a:pt x="3493" y="0"/>
                </a:lnTo>
                <a:lnTo>
                  <a:pt x="5171" y="0"/>
                </a:lnTo>
                <a:lnTo>
                  <a:pt x="5171" y="3266"/>
                </a:lnTo>
                <a:lnTo>
                  <a:pt x="3674" y="3266"/>
                </a:lnTo>
                <a:lnTo>
                  <a:pt x="0" y="1633"/>
                </a:lnTo>
                <a:close/>
              </a:path>
            </a:pathLst>
          </a:custGeom>
          <a:gradFill rotWithShape="0">
            <a:gsLst>
              <a:gs pos="0">
                <a:srgbClr val="ffcc99">
                  <a:alpha val="50196"/>
                </a:srgbClr>
              </a:gs>
              <a:gs pos="100000">
                <a:srgbClr val="755e46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B115-B1F7-436C-9B86-43EDB43732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07:04:53Z</dcterms:created>
  <dc:creator>Roberto Segala</dc:creator>
  <dc:description/>
  <dc:language>en-US</dc:language>
  <cp:lastModifiedBy>Catuscia Palamidessi</cp:lastModifiedBy>
  <cp:lastPrinted>2007-12-03T08:33:30Z</cp:lastPrinted>
  <dcterms:modified xsi:type="dcterms:W3CDTF">2007-12-03T09:02:10Z</dcterms:modified>
  <cp:revision>160</cp:revision>
  <dc:subject/>
  <dc:title>Probabilitic Automata  and Compositionality</dc:title>
</cp:coreProperties>
</file>